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DD8-9EAB-4E78-B701-911B057D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158-3D5A-4939-8DF6-CCA6A74B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702-578B-4589-93A3-98B281C9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C00-F4CD-4DDD-963C-4346AD7C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A019-EFB5-4ABE-BFE7-FEE4DD6C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1F05-51AE-4B4A-BDF2-A7A68152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4AC7-6F81-472A-BE7B-833BF9CB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5FEA-D648-4FAD-8394-8F058E31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7F54-A540-412F-A4BC-E32F62E1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90BE-03ED-4B63-A020-CDD22B97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DC81-236F-4939-9AAC-A3BAC05A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FF1-1893-4215-BD9D-B4C3BBEB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C65D-2682-4DD3-9D2E-FBFC329A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F7C8-500D-48FB-B480-D6C08372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9D98-4AEA-49DF-AC76-78377812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A175-4632-4229-81F1-EA93256A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4497-32F4-4B44-B49D-1790CF13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7090-B09E-428F-A5F6-6833B122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1DE0-B20B-493B-9648-953D8629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74C68-37AC-4F5D-BF3F-18216937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B665-4857-43B2-B4AF-BB0CAF47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6820-0BD5-4650-9F11-34455B56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954-6D00-4973-9CA9-CE983623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EA99-EB9D-48B6-A127-69F5BF62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AD02-BFA5-4C6F-9A08-B3B9F7E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112D-63F5-42FA-86E2-24FE5770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C7FA2-7411-4DC2-A598-E020195F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C07C6-E48C-4EA2-889D-B04CFBEA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0245-B294-4161-99AB-311DC6C9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74B5-5AAF-4240-AC04-5D2B3A53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6C462-C016-4589-B1A3-C4EFF523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C87B-075B-463D-A3DA-071A7D35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3BED7-5D97-47AF-8A4F-E89CC088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38E-D6E9-4F62-BF25-E6FFD75D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43BF8-CC8C-45A3-9E79-00342B5B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C080-4FE9-4514-8BE3-63AB2FC2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A2039-1552-4480-A5EC-A5C7E7DF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215C8-AFE9-4474-B520-93328BFC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45860-D862-4FD6-937F-2E2E289B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B64BE-03A9-4074-A018-89FA1775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80FDA-2263-4223-A441-1A2BF108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4C5F-52AF-413B-92DC-07C08C26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54E1-68ED-4E2F-8A25-2AE8E1D0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C82D0-1D20-4678-B4DA-47CA5209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6F7-03B4-4D1D-A82F-2A0C9753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C3AAB-6EC6-4F8D-8462-3C2F21A3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1E1E2-98E5-446D-AB5D-3CA66BF0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66C6C-50B0-4012-AFA0-4BFAFA3F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265E-8720-4EAE-92DB-ECF4A3EE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E260D-D0A5-4DF2-9919-B30C72BA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99435-88E7-4FBB-842B-61EC48A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22BC7-5B0E-4D72-9C34-BF1FB831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096F7-1080-4054-B32E-C9B8332E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5AF24-D73C-44DB-9A33-CA13C5D4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00C33-877F-4DE4-9C9A-386331CA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404-7F7C-4097-B0FD-A63C387D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B2D8D-23A0-40F2-872A-033FDAA3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795-0742-41E8-9B3E-31CB3846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DAA-7BD0-4553-ADA5-82F1D9E8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64C-345F-4A39-8F72-530148D5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11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DA0E-6821-4836-AE87-6169675B50D1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11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B117-DFA2-42DB-8CB1-053E414F8B57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11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4F77-1CB7-4170-9AB9-09D5D1A16A1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11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15BF-65D0-486D-90C5-5DED252F1334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11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51515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C925-157B-4B8A-BE47-1CE1B32E88D0}" type="slidenum">
              <a:rPr b="0" lang="zh-CN" sz="1400" spc="-1" strike="noStrike">
                <a:solidFill>
                  <a:srgbClr val="151515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987480" y="5267160"/>
            <a:ext cx="7172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1515"/>
                </a:solidFill>
                <a:latin typeface="Arial"/>
                <a:ea typeface="宋体"/>
              </a:rPr>
              <a:t>书页</a:t>
            </a:r>
            <a:r>
              <a:rPr b="1" lang="en-US" sz="4000" spc="-1" strike="noStrike">
                <a:solidFill>
                  <a:srgbClr val="151515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151515"/>
                </a:solidFill>
                <a:latin typeface="Arial"/>
                <a:ea typeface="宋体"/>
              </a:rPr>
              <a:t>素材在线下载</a:t>
            </a:r>
            <a:endParaRPr b="0" lang="en-US" sz="40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1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51515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5151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5151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5151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标题</a:t>
            </a:r>
            <a:endParaRPr b="1" lang="en-US" sz="40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464000" y="1600200"/>
            <a:ext cx="42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内容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87160" y="271080"/>
            <a:ext cx="811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标题</a:t>
            </a:r>
            <a:endParaRPr b="1" lang="en-US" sz="40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149440" y="1600200"/>
            <a:ext cx="353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内容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151515"/>
              </a:solidFill>
              <a:latin typeface="Arial"/>
              <a:ea typeface="宋体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15960" y="1301760"/>
            <a:ext cx="80168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内容</a:t>
            </a:r>
            <a:endParaRPr b="0" lang="en-US" sz="2400" spc="-1" strike="noStrike">
              <a:solidFill>
                <a:srgbClr val="15151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5"/>
                </a:solidFill>
                <a:latin typeface="Arial"/>
                <a:ea typeface="宋体"/>
              </a:rPr>
              <a:t>使用规范说明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51515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515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标题</a:t>
            </a:r>
            <a:endParaRPr b="1" lang="en-US" sz="40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69960" y="2874960"/>
            <a:ext cx="801684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内容</a:t>
            </a:r>
            <a:endParaRPr b="0" lang="en-US" sz="24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2987640" y="6237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515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151515"/>
                </a:solidFill>
                <a:latin typeface="Arial"/>
              </a:rPr>
              <a:t>素材</a:t>
            </a:r>
            <a:r>
              <a:rPr b="0" lang="zh-CN" sz="1800" spc="-1" strike="noStrike">
                <a:solidFill>
                  <a:srgbClr val="151515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151515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2:05:06Z</dcterms:modified>
  <cp:revision>82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a406000000000001024140</vt:lpwstr>
  </property>
</Properties>
</file>