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58E-F264-48C4-B7DB-9272F505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E61-9F7E-4CCB-AA27-F71C8980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1B8-A18A-41AA-AB91-282C0502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07F-F715-4135-9AFE-F79A2AC2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60B9-866D-4263-88F2-93839F77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74E2-F6E9-4F6A-B823-C8925C4D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0F7F-E878-4515-8239-76EDDA67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011B-8065-4A43-A358-282E49D3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3E97-C932-4AD3-BBA7-D40893B0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AC5D-6B8F-4E89-8B08-7CA250FD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2320-64AD-4B0F-9449-4EB7DEF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BA7-1C90-4C9E-9180-758AA5E2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3A8A-BCAE-4EFB-803D-30ECC32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C717-BE7E-4E14-B5D9-9674FFC3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8CDA-0D0E-414D-8A35-A4326A87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CAA3-BC97-40FF-A56D-30506122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F6E0-355F-4A89-A6F1-CFCEDD80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D65-692B-4346-9D04-BED04D99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820-EFDD-4083-B1D8-DAD32F2F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DA2-5991-4B67-AE77-506090A5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A16-4283-4D81-8AB7-97F5D130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928-DF48-448C-9D8F-62B5956E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186-6FE2-4CCE-AB21-7F836C8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4C8-ED4D-4545-9C3B-221DDC0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E8DD-16FC-4C19-BD33-83B408111535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924F-62D2-4FD8-8DFC-06F4FD486C2F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9144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二节  西南边陲的特色旅游区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1" lang="zh-CN" sz="4400" spc="-1" strike="noStrike">
                <a:solidFill>
                  <a:srgbClr val="ffffff"/>
                </a:solidFill>
                <a:latin typeface="华文细黑"/>
                <a:ea typeface="华文细黑"/>
              </a:rPr>
              <a:t>XXXX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5943600"/>
            <a:ext cx="5638680" cy="642600"/>
          </a:xfrm>
          <a:prstGeom prst="rect">
            <a:avLst/>
          </a:prstGeom>
          <a:solidFill>
            <a:srgbClr val="cec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黑体"/>
                <a:ea typeface="黑体"/>
              </a:rPr>
              <a:t>XX</a:t>
            </a:r>
            <a:r>
              <a:rPr b="1" lang="zh-CN" sz="3600" spc="-1" strike="noStrike">
                <a:solidFill>
                  <a:srgbClr val="2a3d7a"/>
                </a:solidFill>
                <a:latin typeface="黑体"/>
                <a:ea typeface="黑体"/>
              </a:rPr>
              <a:t>市</a:t>
            </a:r>
            <a:r>
              <a:rPr b="1" lang="zh-CN" sz="3600" spc="-1" strike="noStrike">
                <a:solidFill>
                  <a:srgbClr val="2a3d7a"/>
                </a:solidFill>
                <a:latin typeface="黑体"/>
                <a:ea typeface="黑体"/>
              </a:rPr>
              <a:t>XX</a:t>
            </a:r>
            <a:r>
              <a:rPr b="1" lang="zh-CN" sz="3600" spc="-1" strike="noStrike">
                <a:solidFill>
                  <a:srgbClr val="2a3d7a"/>
                </a:solidFill>
                <a:latin typeface="黑体"/>
                <a:ea typeface="黑体"/>
              </a:rPr>
              <a:t>中学    </a:t>
            </a:r>
            <a:r>
              <a:rPr b="1" lang="zh-CN" sz="3600" spc="-1" strike="noStrike">
                <a:solidFill>
                  <a:srgbClr val="2a3d7a"/>
                </a:solidFill>
                <a:latin typeface="黑体"/>
                <a:ea typeface="黑体"/>
              </a:rPr>
              <a:t>XX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0720" y="228600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87710"/>
                </a:solidFill>
                <a:latin typeface="Times New Roman"/>
                <a:ea typeface="华文楷体"/>
              </a:rPr>
              <a:t>有人说旅游业这个新崛起的动力火车带动了多个部门的发展，给西双版纳的经济插上了腾飞的翅膀，你知道它带动了哪些部门吗？为什么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106668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讨论：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533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1ea61"/>
                </a:solidFill>
                <a:latin typeface="Times New Roman"/>
                <a:ea typeface="华文楷体"/>
              </a:rPr>
              <a:t>到此结束，谢谢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267080" y="685800"/>
            <a:ext cx="1371600" cy="457200"/>
          </a:xfrm>
          <a:prstGeom prst="flowChartProcess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30c"/>
                </a:solidFill>
                <a:latin typeface="Times New Roman"/>
              </a:rPr>
              <a:t>视频导入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1447920"/>
            <a:ext cx="2514600" cy="457200"/>
          </a:xfrm>
          <a:prstGeom prst="flowChartInputOutpu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30c"/>
                </a:solidFill>
                <a:latin typeface="Times New Roman"/>
              </a:rPr>
              <a:t>归纳资源类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2286000"/>
            <a:ext cx="2590560" cy="533520"/>
          </a:xfrm>
          <a:prstGeom prst="flowChartInputOutpu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30c"/>
                </a:solidFill>
                <a:latin typeface="Times New Roman"/>
              </a:rPr>
              <a:t>学生展示课件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386160"/>
            <a:ext cx="3733920" cy="457200"/>
          </a:xfrm>
          <a:prstGeom prst="flowChartInputOutpu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30c"/>
                </a:solidFill>
                <a:latin typeface="Times New Roman"/>
              </a:rPr>
              <a:t>讨论旅游资源的成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00440"/>
            <a:ext cx="5791320" cy="428760"/>
          </a:xfrm>
          <a:prstGeom prst="flowChartInputOutpu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30c"/>
                </a:solidFill>
                <a:latin typeface="Times New Roman"/>
              </a:rPr>
              <a:t>讨论旅游业带动了哪些部门的发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157560"/>
            <a:ext cx="3048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15756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315756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3386160"/>
            <a:ext cx="1524240" cy="457200"/>
          </a:xfrm>
          <a:prstGeom prst="flowChartProcess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30c"/>
                </a:solidFill>
                <a:latin typeface="Times New Roman"/>
              </a:rPr>
              <a:t>教师指导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2819520"/>
            <a:ext cx="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84336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477120" y="384300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4071960"/>
            <a:ext cx="3048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1148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419720"/>
            <a:ext cx="3048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4197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4648320"/>
            <a:ext cx="1371600" cy="380880"/>
          </a:xfrm>
          <a:prstGeom prst="flowChartProcess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30c"/>
                </a:solidFill>
                <a:latin typeface="Times New Roman"/>
              </a:rPr>
              <a:t>教师点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502920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5257800"/>
            <a:ext cx="3048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477120" y="502884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1430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905120"/>
            <a:ext cx="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5562720"/>
            <a:ext cx="1295280" cy="380880"/>
          </a:xfrm>
          <a:prstGeom prst="flowChartProcess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30c"/>
                </a:solidFill>
                <a:latin typeface="Times New Roman"/>
              </a:rPr>
              <a:t>归纳总结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6248520"/>
            <a:ext cx="1218960" cy="380880"/>
          </a:xfrm>
          <a:prstGeom prst="flowChartAlternateProcess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30c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28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教学流程示意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1ea6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800600"/>
            <a:ext cx="8686800" cy="20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7710"/>
                </a:solidFill>
                <a:latin typeface="Times New Roman"/>
              </a:rPr>
              <a:t>情感、态度和价值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通过让学生了解西双版纳的旅游资源优势，激发学生的爱国主义情感，增强对环境、资源的保护意识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90720"/>
            <a:ext cx="868680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7710"/>
                </a:solidFill>
                <a:latin typeface="Times New Roman"/>
              </a:rPr>
              <a:t>知识目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、认识西双版纳的旅游资源优势及其与地理环境的关系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28600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、分析西双版纳旅游业迅速崛起的原因，以及旅游业对西双版纳经济的带动作用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048120"/>
            <a:ext cx="868680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7710"/>
                </a:solidFill>
                <a:latin typeface="Times New Roman"/>
              </a:rPr>
              <a:t>能力目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、通过让学生制作课件，培养学生收集、组织资料、语言表达及与他人合作的能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、学会从地理的角度分析一些现象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、逐步培养学生获取图上信息的能力与综合分析能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1760" y="3962520"/>
            <a:ext cx="647676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雨林植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雨林动物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民族风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边境风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0"/>
            <a:ext cx="5638680" cy="3352680"/>
          </a:xfrm>
          <a:prstGeom prst="cloudCallout">
            <a:avLst>
              <a:gd name="adj1" fmla="val -68833"/>
              <a:gd name="adj2" fmla="val 6439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52389"/>
                </a:solidFill>
                <a:latin typeface="Times New Roman"/>
              </a:rPr>
              <a:t>你看到了什么，听到了什么，联想到了什么地方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2286000"/>
            <a:ext cx="77724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同学们，你们能介绍一下西双版纳吗？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 rot="20945400">
            <a:off x="837720" y="1066320"/>
            <a:ext cx="19814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066680" y="6480"/>
            <a:ext cx="73915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920" y="0"/>
            <a:ext cx="1033560" cy="68580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5238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d52389"/>
                </a:solidFill>
                <a:latin typeface="Times New Roman"/>
              </a:rPr>
              <a:t>景洪市年内各月气温和降水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28080" y="762120"/>
            <a:ext cx="1277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热带季风气候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7816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雨林植物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44792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纬度位置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海陆位置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1752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气候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03600">
            <a:off x="2590920" y="1523880"/>
            <a:ext cx="380880" cy="990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雨林动物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2362320"/>
            <a:ext cx="457200" cy="121896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8288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1828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7816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雨林植物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44792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纬度位置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海陆位置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1828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气候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03600">
            <a:off x="2437920" y="1600200"/>
            <a:ext cx="381240" cy="990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3733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雨林动物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251460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19051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19051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8160" y="37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民族风情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085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边境风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08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相对位置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3809880"/>
            <a:ext cx="1143000" cy="45720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50292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51460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8116200">
            <a:off x="5311080" y="28411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5638680"/>
            <a:ext cx="990360" cy="53352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683" y="1400"/>
                </a:lnTo>
                <a:lnTo>
                  <a:pt x="1400" y="140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683" y="20200"/>
                </a:lnTo>
                <a:lnTo>
                  <a:pt x="38683" y="140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83" y="2020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83" h="21600">
                <a:moveTo>
                  <a:pt x="13035" y="10800"/>
                </a:moveTo>
                <a:lnTo>
                  <a:pt x="27048" y="3794"/>
                </a:lnTo>
                <a:lnTo>
                  <a:pt x="27048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762120"/>
            <a:ext cx="8686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华文新魏"/>
              </a:rPr>
              <a:t>二、蓬勃发展的旅游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7200" y="1371600"/>
            <a:ext cx="7086600" cy="5065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6400800"/>
            <a:ext cx="815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52389"/>
                </a:solidFill>
                <a:latin typeface="华文宋体"/>
                <a:ea typeface="华文宋体"/>
              </a:rPr>
              <a:t>1991~2001</a:t>
            </a:r>
            <a:r>
              <a:rPr b="1" lang="zh-CN" sz="2400" spc="-1" strike="noStrike">
                <a:solidFill>
                  <a:srgbClr val="d52389"/>
                </a:solidFill>
                <a:latin typeface="华文宋体"/>
                <a:ea typeface="华文宋体"/>
              </a:rPr>
              <a:t>年西双版纳旅游收入在国内生产总值中占的比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西南边陲 特色旅游区</cp:keywords>
  <dc:language>en-US</dc:language>
  <cp:lastModifiedBy/>
  <cp:revision>0</cp:revision>
  <dc:subject/>
  <dc:title/>
</cp:coreProperties>
</file>