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wmf" ContentType="image/x-wmf"/>
  <Override PartName="/ppt/media/image4.png" ContentType="image/png"/>
  <Override PartName="/ppt/media/image9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7.jpeg" ContentType="image/jpeg"/>
  <Override PartName="/ppt/media/image21.wmf" ContentType="image/x-wmf"/>
  <Override PartName="/ppt/media/image19.wmf" ContentType="image/x-wmf"/>
  <Override PartName="/ppt/media/image8.jpeg" ContentType="image/jpeg"/>
  <Override PartName="/ppt/media/image20.wmf" ContentType="image/x-wmf"/>
  <Override PartName="/ppt/media/image18.wmf" ContentType="image/x-wmf"/>
  <Override PartName="/ppt/media/image1.png" ContentType="image/png"/>
  <Override PartName="/ppt/media/image3.jpeg" ContentType="image/jpe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jpeg" ContentType="image/jpeg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42945-8EB6-4666-A924-84B932B98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C2DAB-A74D-4280-A1E4-3650FEC62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F5D48-8332-4F37-A915-60BC15B8C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EFC28-9739-42DC-A9F1-6C4118877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D1558-D835-4273-AC71-1DF227C6D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E8371-6E75-4D1A-98EA-59F7EEC10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46C9D-A875-40F7-B1A2-A1F776A74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F8B10-C997-4009-8393-A81CF30B1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0279A-4530-47F9-B07E-BA0935C30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F9886-DD20-473E-9002-63710B904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F69A0-71E4-49A0-987A-A0F59DF2F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355A1-CB3C-4145-A65F-171C43A94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28C5B-7EFB-4D41-BCAD-2E0E9A00C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22AA9-923E-430E-AC4B-CA7937EA7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6CAAA-2493-4B06-8D2C-33A91BA14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BD379-5B4E-4733-AF95-AECF78756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F9C0D-2AD5-4DF3-AE19-A45F2E350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EC051-F6AB-41C6-B8AB-E7F0D824B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259B6-8EC8-4753-905A-F746DF6F4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7FD71-A0B2-467F-A5E0-8D69373AC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72757-CBEC-4F4B-A2C3-0922C6B6D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02C62-CD8F-4209-A45C-05E0DBB5A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F7B8F-7430-4F7C-B96A-0F7A95E92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A3C26-7C74-4488-BA65-1B06F3C09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D1DA5-9F3F-4672-8A79-74F647A41FCF}" type="slidenum">
              <a:rPr b="0" lang="zh-CN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6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47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BBF40-0C99-453C-A12A-A6AE115D1CF2}" type="slidenum">
              <a:rPr b="0" lang="zh-CN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08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C:\WINDOWS\Desktop\dd.mpg" TargetMode="External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5.wmf"/><Relationship Id="rId9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1294920"/>
            <a:ext cx="464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402000"/>
                </a:solidFill>
                <a:latin typeface="Times New Roman"/>
              </a:rPr>
              <a:t>数字图书馆</a:t>
            </a:r>
            <a:endParaRPr b="0" lang="en-US" sz="5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971440" y="2742840"/>
            <a:ext cx="5791320" cy="83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02000"/>
                </a:solidFill>
                <a:latin typeface="Times New Roman"/>
              </a:rPr>
              <a:t>文档信息化处理系统</a:t>
            </a:r>
            <a:endParaRPr b="0" lang="en-US" sz="44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727720" y="5354640"/>
            <a:ext cx="252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2000"/>
                </a:solidFill>
                <a:latin typeface="Times New Roman"/>
              </a:rPr>
              <a:t>XXXXXXX</a:t>
            </a:r>
            <a:r>
              <a:rPr b="1" lang="zh-CN" sz="2400" spc="-1" strike="noStrike">
                <a:solidFill>
                  <a:srgbClr val="402000"/>
                </a:solidFill>
                <a:latin typeface="Times New Roman"/>
              </a:rPr>
              <a:t>有限公司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402000"/>
                </a:solidFill>
                <a:latin typeface="Times New Roman"/>
              </a:rPr>
              <a:t>信息的入口</a:t>
            </a:r>
            <a:r>
              <a:rPr b="0" lang="zh-CN" sz="4000" spc="-1" strike="noStrike">
                <a:solidFill>
                  <a:srgbClr val="402000"/>
                </a:solidFill>
                <a:latin typeface="Times New Roman"/>
              </a:rPr>
              <a:t>:</a:t>
            </a:r>
            <a:r>
              <a:rPr b="0" lang="zh-CN" sz="4000" spc="-1" strike="noStrike">
                <a:solidFill>
                  <a:srgbClr val="402000"/>
                </a:solidFill>
                <a:latin typeface="Times New Roman"/>
              </a:rPr>
              <a:t>高速扫描</a:t>
            </a: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15680" y="1676520"/>
            <a:ext cx="5723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图象扫描</a:t>
            </a: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:</a:t>
            </a: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自动连续进纸</a:t>
            </a: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扫描速度</a:t>
            </a: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(15-180</a:t>
            </a: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页</a:t>
            </a: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/</a:t>
            </a: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分钟</a:t>
            </a: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保持原件效果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图像去噪处理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523880" y="3962520"/>
            <a:ext cx="2362320" cy="180504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4800600" y="3962520"/>
            <a:ext cx="2857680" cy="17827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402000"/>
                </a:solidFill>
                <a:latin typeface="Times New Roman"/>
              </a:rPr>
              <a:t>图象压缩技术</a:t>
            </a: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60120" y="33526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黑白图象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760120" y="47242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彩色图象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93280" y="3352680"/>
            <a:ext cx="97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JBIG2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116960" y="4724280"/>
            <a:ext cx="165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WAVELET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143000" y="2209680"/>
            <a:ext cx="7162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DCIB   </a:t>
            </a: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算法的特点</a:t>
            </a: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:    </a:t>
            </a: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空间域分割 </a:t>
            </a: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+ </a:t>
            </a: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频率域编码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221840" y="4038480"/>
            <a:ext cx="90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DCIB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133720" y="35812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562720" y="31240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867280" y="4495680"/>
            <a:ext cx="152640" cy="914400"/>
          </a:xfrm>
          <a:custGeom>
            <a:avLst/>
            <a:gdLst>
              <a:gd name="textAreaLeft" fmla="*/ 97560 w 152640"/>
              <a:gd name="textAreaRight" fmla="*/ 153000 w 15264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868720" y="3048120"/>
            <a:ext cx="89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TEXT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68360" y="3733920"/>
            <a:ext cx="152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HALFTONE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300720" y="441972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2000"/>
                </a:solidFill>
                <a:latin typeface="Times New Roman"/>
              </a:rPr>
              <a:t>高频信号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300720" y="510552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2000"/>
                </a:solidFill>
                <a:latin typeface="Times New Roman"/>
              </a:rPr>
              <a:t>低频信号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402000"/>
                </a:solidFill>
                <a:latin typeface="Times New Roman"/>
              </a:rPr>
              <a:t>图象压缩技术比较</a:t>
            </a:r>
            <a:r>
              <a:rPr b="0" lang="zh-CN" sz="4000" spc="-1" strike="noStrike">
                <a:solidFill>
                  <a:srgbClr val="402000"/>
                </a:solidFill>
                <a:latin typeface="Times New Roman"/>
              </a:rPr>
              <a:t>:</a:t>
            </a: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838080" y="2590920"/>
          <a:ext cx="4038840" cy="365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590920"/>
                    <a:ext cx="4038840" cy="365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5" name=""/>
          <p:cNvGraphicFramePr/>
          <p:nvPr/>
        </p:nvGraphicFramePr>
        <p:xfrm>
          <a:off x="5029200" y="2514600"/>
          <a:ext cx="3805200" cy="3886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29200" y="2514600"/>
                    <a:ext cx="380520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" name=""/>
          <p:cNvSpPr/>
          <p:nvPr/>
        </p:nvSpPr>
        <p:spPr>
          <a:xfrm>
            <a:off x="1427760" y="1981080"/>
            <a:ext cx="107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黑白图像</a:t>
            </a: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389920" y="2057400"/>
            <a:ext cx="107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彩色图像</a:t>
            </a: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402000"/>
                </a:solidFill>
                <a:latin typeface="Times New Roman"/>
              </a:rPr>
              <a:t>图象压缩文件大小比较</a:t>
            </a: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552680" y="1620720"/>
            <a:ext cx="2192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各厂家的压缩文件比较</a:t>
            </a: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A4</a:t>
            </a: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纸 </a:t>
            </a: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1200</a:t>
            </a: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字以上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1584360" y="2374920"/>
          <a:ext cx="6645240" cy="3970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84360" y="2374920"/>
                    <a:ext cx="6645240" cy="397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402000"/>
                </a:solidFill>
                <a:latin typeface="Times New Roman"/>
              </a:rPr>
              <a:t>图书的格式</a:t>
            </a: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739880" y="4419720"/>
            <a:ext cx="136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PDF</a:t>
            </a: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特点：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124080" y="4419720"/>
            <a:ext cx="5639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支持排版格式</a:t>
            </a: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支持对象定义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支持图书发布控制</a:t>
            </a: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支持安全加密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在线浏览的优化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图文混排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1523880" y="1981080"/>
          <a:ext cx="6019920" cy="215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981080"/>
                    <a:ext cx="6019920" cy="215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402000"/>
                </a:solidFill>
                <a:latin typeface="Times New Roman"/>
              </a:rPr>
              <a:t>图书的阅读</a:t>
            </a: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754280" y="1752480"/>
            <a:ext cx="20095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XXXX</a:t>
            </a: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的特点</a:t>
            </a: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支持图文及多媒体对象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支持全文检索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支持页、目录等管理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支持各种操作及控制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可以集成多种技术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402000"/>
                </a:solidFill>
                <a:latin typeface="Times New Roman"/>
              </a:rPr>
              <a:t>自动化的加工过程</a:t>
            </a: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16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43000" y="2209680"/>
            <a:ext cx="5029200" cy="351000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6676920" y="269064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2000"/>
                </a:solidFill>
                <a:latin typeface="Times New Roman"/>
              </a:rPr>
              <a:t>加工实景拍摄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402000"/>
                </a:solidFill>
                <a:latin typeface="Times New Roman"/>
              </a:rPr>
              <a:t>系统结构的开放性</a:t>
            </a: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676160" y="16765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2000"/>
                </a:solidFill>
                <a:latin typeface="Times New Roman"/>
              </a:rPr>
              <a:t>和已有系统的连接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2743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联机编目系统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2743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查询检索系统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2743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业务管理系统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274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2000"/>
                </a:solidFill>
                <a:latin typeface="Times New Roman"/>
              </a:rPr>
              <a:t>各种技术的嵌入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2743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zh-CN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OCR</a:t>
            </a: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识别模块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2743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数字水印功能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2743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加盖时间戳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274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2000"/>
                </a:solidFill>
                <a:latin typeface="Times New Roman"/>
              </a:rPr>
              <a:t>第三方功能的嵌入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2743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00"/>
                </a:solidFill>
                <a:latin typeface="Times New Roman"/>
              </a:rPr>
              <a:t>安全控制</a:t>
            </a: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3505320" y="2209680"/>
          <a:ext cx="5207040" cy="428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209680"/>
                    <a:ext cx="5207040" cy="428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8" name=""/>
          <p:cNvSpPr/>
          <p:nvPr/>
        </p:nvSpPr>
        <p:spPr>
          <a:xfrm>
            <a:off x="1473120" y="4114800"/>
            <a:ext cx="1436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操作权限控制</a:t>
            </a: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阅读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修改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打印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下载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555920" y="1905120"/>
            <a:ext cx="1643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信息安全</a:t>
            </a: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认证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电子签名（水印）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存取权限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加密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90360" y="761760"/>
            <a:ext cx="5715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402000"/>
                </a:solidFill>
                <a:latin typeface="Times New Roman"/>
              </a:rPr>
              <a:t>版权保护</a:t>
            </a:r>
            <a:r>
              <a:rPr b="0" lang="zh-CN" sz="4000" spc="-1" strike="noStrike">
                <a:solidFill>
                  <a:srgbClr val="402000"/>
                </a:solidFill>
                <a:latin typeface="Times New Roman"/>
              </a:rPr>
              <a:t>:</a:t>
            </a:r>
            <a:r>
              <a:rPr b="0" lang="zh-CN" sz="4000" spc="-1" strike="noStrike">
                <a:solidFill>
                  <a:srgbClr val="402000"/>
                </a:solidFill>
                <a:latin typeface="Times New Roman"/>
              </a:rPr>
              <a:t>加密与绑定</a:t>
            </a: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200400" y="4419720"/>
          <a:ext cx="647640" cy="80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0400" y="4419720"/>
                    <a:ext cx="647640" cy="80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3" name=""/>
          <p:cNvSpPr/>
          <p:nvPr/>
        </p:nvSpPr>
        <p:spPr>
          <a:xfrm flipH="1">
            <a:off x="3580920" y="2514600"/>
            <a:ext cx="1143000" cy="182880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05120" y="4724280"/>
            <a:ext cx="114300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3809880" y="2514600"/>
            <a:ext cx="1067040" cy="175248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267080" y="205740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WEB SEL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1295280" y="4495680"/>
          <a:ext cx="538200" cy="893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95280" y="4495680"/>
                    <a:ext cx="538200" cy="89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8153280" y="4495680"/>
          <a:ext cx="584280" cy="970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153280" y="4495680"/>
                    <a:ext cx="584280" cy="97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" name=""/>
          <p:cNvGraphicFramePr/>
          <p:nvPr/>
        </p:nvGraphicFramePr>
        <p:xfrm>
          <a:off x="6248520" y="4419720"/>
          <a:ext cx="647640" cy="8046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248520" y="4419720"/>
                    <a:ext cx="647640" cy="80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"/>
          <p:cNvSpPr/>
          <p:nvPr/>
        </p:nvSpPr>
        <p:spPr>
          <a:xfrm flipH="1">
            <a:off x="7010280" y="4800600"/>
            <a:ext cx="99072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105520" y="2590920"/>
            <a:ext cx="1066680" cy="175248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H="1" flipV="1">
            <a:off x="5257440" y="2514600"/>
            <a:ext cx="1066680" cy="175248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905840" y="4952880"/>
            <a:ext cx="1023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USER 1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CPU-id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HD-id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011360" y="5105520"/>
            <a:ext cx="1023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USER 2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CPU-id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HD-id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906200" y="3935520"/>
            <a:ext cx="134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WEB BUY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583080" y="271944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2000"/>
                </a:solidFill>
                <a:latin typeface="Times New Roman"/>
              </a:rPr>
              <a:t>下载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2560" y="378612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2000"/>
                </a:solidFill>
                <a:latin typeface="Times New Roman"/>
              </a:rPr>
              <a:t>注册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478560" y="371016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2000"/>
                </a:solidFill>
                <a:latin typeface="Times New Roman"/>
              </a:rPr>
              <a:t>注册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00000" y="4594680"/>
            <a:ext cx="256248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772" y="4873"/>
                </a:moveTo>
                <a:arcTo wR="10800" hR="10800" stAng="-8803030" swAng="9065777"/>
                <a:lnTo>
                  <a:pt x="10800" y="10800"/>
                </a:lnTo>
                <a:close/>
              </a:path>
              <a:path fill="none" w="21600" h="21600">
                <a:moveTo>
                  <a:pt x="1772" y="4873"/>
                </a:moveTo>
                <a:arcTo wR="10800" hR="10800" stAng="-8803030" swAng="9065777"/>
              </a:path>
            </a:pathLst>
          </a:custGeom>
          <a:noFill/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802040" y="470052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2000"/>
                </a:solidFill>
                <a:latin typeface="Times New Roman"/>
              </a:rPr>
              <a:t>拷贝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497960" y="1752480"/>
            <a:ext cx="155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XXX (XX)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402000"/>
                </a:solidFill>
                <a:latin typeface="Times New Roman"/>
              </a:rPr>
              <a:t>内容</a:t>
            </a: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980720" y="1981080"/>
            <a:ext cx="5410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2000"/>
                </a:solidFill>
                <a:latin typeface="Times New Roman"/>
              </a:rPr>
              <a:t>公司简介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2000"/>
                </a:solidFill>
                <a:latin typeface="Times New Roman"/>
              </a:rPr>
              <a:t>产品系统的介绍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2000"/>
                </a:solidFill>
                <a:latin typeface="Times New Roman"/>
              </a:rPr>
              <a:t>技术介绍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2000"/>
                </a:solidFill>
                <a:latin typeface="Times New Roman"/>
              </a:rPr>
              <a:t>商务模式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402000"/>
                </a:solidFill>
                <a:latin typeface="Times New Roman"/>
              </a:rPr>
              <a:t>数字图书馆文档加工系统</a:t>
            </a: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1523880" y="1981080"/>
          <a:ext cx="6705720" cy="436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981080"/>
                    <a:ext cx="6705720" cy="436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402000"/>
                </a:solidFill>
                <a:latin typeface="Times New Roman"/>
              </a:rPr>
              <a:t>未来图书的商务与服务模式</a:t>
            </a: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2209680" y="2057400"/>
          <a:ext cx="5562720" cy="4379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2057400"/>
                    <a:ext cx="5562720" cy="437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402000"/>
                </a:solidFill>
                <a:latin typeface="Times New Roman"/>
              </a:rPr>
              <a:t>XXX</a:t>
            </a:r>
            <a:r>
              <a:rPr b="0" lang="zh-CN" sz="4000" spc="-1" strike="noStrike">
                <a:solidFill>
                  <a:srgbClr val="402000"/>
                </a:solidFill>
                <a:latin typeface="Times New Roman"/>
              </a:rPr>
              <a:t>的图书网站</a:t>
            </a: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647720" y="350532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2000"/>
                </a:solidFill>
                <a:latin typeface="Times New Roman"/>
              </a:rPr>
              <a:t>XXX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2000"/>
                </a:solidFill>
                <a:latin typeface="Times New Roman"/>
              </a:rPr>
              <a:t>电子商务平台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659040" y="373392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596480" y="3505320"/>
            <a:ext cx="1303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2000"/>
                </a:solidFill>
                <a:latin typeface="Times New Roman"/>
              </a:rPr>
              <a:t>多家出版社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2000"/>
                </a:solidFill>
                <a:latin typeface="Times New Roman"/>
              </a:rPr>
              <a:t>联合</a:t>
            </a:r>
            <a:r>
              <a:rPr b="0" lang="zh-CN" sz="2800" spc="-1" strike="noStrike">
                <a:solidFill>
                  <a:srgbClr val="402000"/>
                </a:solidFill>
                <a:latin typeface="Times New Roman"/>
              </a:rPr>
              <a:t>/</a:t>
            </a:r>
            <a:r>
              <a:rPr b="0" lang="zh-CN" sz="2800" spc="-1" strike="noStrike">
                <a:solidFill>
                  <a:srgbClr val="402000"/>
                </a:solidFill>
                <a:latin typeface="Times New Roman"/>
              </a:rPr>
              <a:t>同盟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402240" y="373392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44200" y="3505320"/>
            <a:ext cx="1034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2000"/>
                </a:solidFill>
                <a:latin typeface="Times New Roman"/>
              </a:rPr>
              <a:t>电子图书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2000"/>
                </a:solidFill>
                <a:latin typeface="Times New Roman"/>
              </a:rPr>
              <a:t>销售中心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402000"/>
                </a:solidFill>
                <a:latin typeface="Times New Roman"/>
              </a:rPr>
              <a:t>XXX</a:t>
            </a:r>
            <a:r>
              <a:rPr b="0" lang="zh-CN" sz="4000" spc="-1" strike="noStrike">
                <a:solidFill>
                  <a:srgbClr val="402000"/>
                </a:solidFill>
                <a:latin typeface="Times New Roman"/>
              </a:rPr>
              <a:t>的全面解决方案</a:t>
            </a: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211480" y="2057400"/>
            <a:ext cx="3838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在线业务：</a:t>
            </a: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电子商务服务提供商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(internet)</a:t>
            </a: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网上电子图书销售中心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网上传播和出版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B2C   B2B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211480" y="3962520"/>
            <a:ext cx="3838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离线业务：</a:t>
            </a: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文档信息化及加工处理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信息的管理查询和检索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无纸办公自动化管理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档案自动化管理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光盘信息管理系统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133720" y="3048120"/>
            <a:ext cx="304560" cy="838080"/>
          </a:xfrm>
          <a:prstGeom prst="upDownArrow">
            <a:avLst>
              <a:gd name="adj1" fmla="val 50000"/>
              <a:gd name="adj2" fmla="val 54780"/>
            </a:avLst>
          </a:prstGeom>
          <a:noFill/>
          <a:ln cap="sq"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402000"/>
                </a:solidFill>
                <a:latin typeface="Times New Roman"/>
              </a:rPr>
              <a:t>办公自动化应用</a:t>
            </a: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003840" y="2286000"/>
            <a:ext cx="34725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政府：公文、文件、档案、材料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工商：企业档案、申报材料、检查记录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税务：企业情况、纳税登记、发票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银行：企业及个人证件、印鉴、支票、单据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司法：企业原始材料、卷宗、证词、案例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文物：书画、真迹、图片、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出版：图书、手稿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企业：档案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402000"/>
                </a:solidFill>
                <a:latin typeface="Times New Roman"/>
              </a:rPr>
              <a:t>XXX</a:t>
            </a:r>
            <a:r>
              <a:rPr b="0" lang="zh-CN" sz="4000" spc="-1" strike="noStrike">
                <a:solidFill>
                  <a:srgbClr val="402000"/>
                </a:solidFill>
                <a:latin typeface="Times New Roman"/>
              </a:rPr>
              <a:t>提供的服务模式</a:t>
            </a: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800600" y="3352680"/>
            <a:ext cx="1600200" cy="1447920"/>
          </a:xfrm>
          <a:prstGeom prst="ellipse">
            <a:avLst/>
          </a:prstGeom>
          <a:noFill/>
          <a:ln cap="sq"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657600" y="2362320"/>
            <a:ext cx="3886200" cy="3352680"/>
          </a:xfrm>
          <a:prstGeom prst="ellipse">
            <a:avLst/>
          </a:prstGeom>
          <a:noFill/>
          <a:ln cap="sq"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590920" y="1600200"/>
            <a:ext cx="5867280" cy="5029200"/>
          </a:xfrm>
          <a:prstGeom prst="ellipse">
            <a:avLst/>
          </a:prstGeom>
          <a:noFill/>
          <a:ln cap="sq"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122440" y="484992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2000"/>
                </a:solidFill>
                <a:latin typeface="Times New Roman"/>
              </a:rPr>
              <a:t>全自动信息加工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094360" y="2639880"/>
            <a:ext cx="86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2000"/>
                </a:solidFill>
                <a:latin typeface="Times New Roman"/>
              </a:rPr>
              <a:t>集多功能于一体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2000"/>
                </a:solidFill>
                <a:latin typeface="Times New Roman"/>
              </a:rPr>
              <a:t>的浏览平台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18240" y="365760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2000"/>
                </a:solidFill>
                <a:latin typeface="Times New Roman"/>
              </a:rPr>
              <a:t>安全控制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2000"/>
                </a:solidFill>
                <a:latin typeface="Times New Roman"/>
              </a:rPr>
              <a:t>版权保护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585480" y="373392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2000"/>
                </a:solidFill>
                <a:latin typeface="Times New Roman"/>
              </a:rPr>
              <a:t>方便的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2000"/>
                </a:solidFill>
                <a:latin typeface="Times New Roman"/>
              </a:rPr>
              <a:t>查询检索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157720" y="3733920"/>
            <a:ext cx="790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2000"/>
                </a:solidFill>
                <a:latin typeface="Times New Roman"/>
              </a:rPr>
              <a:t>扫描压缩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2000"/>
                </a:solidFill>
                <a:latin typeface="Times New Roman"/>
              </a:rPr>
              <a:t>识别加密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863240" y="175248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2000"/>
                </a:solidFill>
                <a:latin typeface="Times New Roman"/>
              </a:rPr>
              <a:t>图书馆信息数字化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2000"/>
                </a:solidFill>
                <a:latin typeface="Times New Roman"/>
              </a:rPr>
              <a:t>和电子化管理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608280" y="5410080"/>
            <a:ext cx="942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2000"/>
                </a:solidFill>
                <a:latin typeface="Times New Roman"/>
              </a:rPr>
              <a:t>企业的文档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2000"/>
                </a:solidFill>
                <a:latin typeface="Times New Roman"/>
              </a:rPr>
              <a:t>信息化处理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100320" y="281952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2000"/>
                </a:solidFill>
                <a:latin typeface="Times New Roman"/>
              </a:rPr>
              <a:t>网上传播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443720" y="457200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2000"/>
                </a:solidFill>
                <a:latin typeface="Times New Roman"/>
              </a:rPr>
              <a:t>电子发行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795760" y="411480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2000"/>
                </a:solidFill>
                <a:latin typeface="Times New Roman"/>
              </a:rPr>
              <a:t>网上销售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241040" y="2514600"/>
            <a:ext cx="73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B2C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C2B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388520" y="1905120"/>
            <a:ext cx="912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技术核心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产品功能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服务模式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072120" y="5638680"/>
            <a:ext cx="790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2000"/>
                </a:solidFill>
                <a:latin typeface="Times New Roman"/>
              </a:rPr>
              <a:t>档案票据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2000"/>
                </a:solidFill>
                <a:latin typeface="Times New Roman"/>
              </a:rPr>
              <a:t>原件保存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402000"/>
                </a:solidFill>
                <a:latin typeface="Times New Roman"/>
              </a:rPr>
              <a:t>问题</a:t>
            </a:r>
            <a:r>
              <a:rPr b="0" lang="zh-CN" sz="4000" spc="-1" strike="noStrike">
                <a:solidFill>
                  <a:srgbClr val="402000"/>
                </a:solidFill>
                <a:latin typeface="Times New Roman"/>
              </a:rPr>
              <a:t>:</a:t>
            </a: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2209680" y="2209320"/>
            <a:ext cx="45720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2000"/>
                </a:solidFill>
                <a:latin typeface="Times New Roman"/>
              </a:rPr>
              <a:t>版权</a:t>
            </a:r>
            <a:r>
              <a:rPr b="0" lang="zh-CN" sz="2800" spc="-1" strike="noStrike">
                <a:solidFill>
                  <a:srgbClr val="402000"/>
                </a:solidFill>
                <a:latin typeface="Times New Roman"/>
              </a:rPr>
              <a:t>/</a:t>
            </a:r>
            <a:r>
              <a:rPr b="0" lang="zh-CN" sz="2800" spc="-1" strike="noStrike">
                <a:solidFill>
                  <a:srgbClr val="402000"/>
                </a:solidFill>
                <a:latin typeface="Times New Roman"/>
              </a:rPr>
              <a:t>授权的法律问题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2000"/>
                </a:solidFill>
                <a:latin typeface="Times New Roman"/>
              </a:rPr>
              <a:t>图书价值的重新评估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2000"/>
                </a:solidFill>
                <a:latin typeface="Times New Roman"/>
              </a:rPr>
              <a:t>支付</a:t>
            </a:r>
            <a:r>
              <a:rPr b="0" lang="zh-CN" sz="2800" spc="-1" strike="noStrike">
                <a:solidFill>
                  <a:srgbClr val="402000"/>
                </a:solidFill>
                <a:latin typeface="Times New Roman"/>
              </a:rPr>
              <a:t>/</a:t>
            </a:r>
            <a:r>
              <a:rPr b="0" lang="zh-CN" sz="2800" spc="-1" strike="noStrike">
                <a:solidFill>
                  <a:srgbClr val="402000"/>
                </a:solidFill>
                <a:latin typeface="Times New Roman"/>
              </a:rPr>
              <a:t>资金流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402000"/>
                </a:solidFill>
                <a:latin typeface="Times New Roman"/>
              </a:rPr>
              <a:t>市场的预测</a:t>
            </a: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1752480" y="2286000"/>
          <a:ext cx="6097680" cy="406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286000"/>
                    <a:ext cx="609768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dissolv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402000"/>
                </a:solidFill>
                <a:latin typeface="Times New Roman"/>
              </a:rPr>
              <a:t>结束</a:t>
            </a: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743200" y="2057400"/>
            <a:ext cx="3787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2000"/>
                </a:solidFill>
                <a:latin typeface="Times New Roman"/>
              </a:rPr>
              <a:t>THANK YOU</a:t>
            </a:r>
            <a:endParaRPr b="0" lang="en-US" sz="48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3505320" y="3048120"/>
            <a:ext cx="2293920" cy="124776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3032640" y="4648320"/>
            <a:ext cx="278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欢迎访问</a:t>
            </a: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XXX</a:t>
            </a: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的图书网站</a:t>
            </a: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402000"/>
                </a:solidFill>
                <a:latin typeface="Times New Roman"/>
              </a:rPr>
              <a:t>建设数字图书馆的意义</a:t>
            </a: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2000"/>
                </a:solidFill>
                <a:latin typeface="Times New Roman"/>
              </a:rPr>
              <a:t>知识经济的基础建设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2000"/>
                </a:solidFill>
                <a:latin typeface="Times New Roman"/>
              </a:rPr>
              <a:t>带动相关信息资源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2000"/>
                </a:solidFill>
                <a:latin typeface="Times New Roman"/>
              </a:rPr>
              <a:t>全球文化科技竞争的焦点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2000"/>
                </a:solidFill>
                <a:latin typeface="Times New Roman"/>
              </a:rPr>
              <a:t>可观的效益前景</a:t>
            </a:r>
            <a:r>
              <a:rPr b="0" lang="zh-CN" sz="3200" spc="-1" strike="noStrike">
                <a:solidFill>
                  <a:srgbClr val="402000"/>
                </a:solidFill>
                <a:latin typeface="Times New Roman"/>
              </a:rPr>
              <a:t>--</a:t>
            </a:r>
            <a:r>
              <a:rPr b="0" lang="zh-CN" sz="3200" spc="-1" strike="noStrike">
                <a:solidFill>
                  <a:srgbClr val="402000"/>
                </a:solidFill>
                <a:latin typeface="Times New Roman"/>
              </a:rPr>
              <a:t>信息增值和知识创新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402000"/>
                </a:solidFill>
                <a:latin typeface="Times New Roman"/>
              </a:rPr>
              <a:t>数字方舟公司的使命</a:t>
            </a: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131200" y="2133720"/>
            <a:ext cx="371448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2000"/>
                </a:solidFill>
                <a:latin typeface="Times New Roman"/>
              </a:rPr>
              <a:t>电子商务服务提供商</a:t>
            </a:r>
            <a:r>
              <a:rPr b="0" lang="zh-CN" sz="3200" spc="-1" strike="noStrike">
                <a:solidFill>
                  <a:srgbClr val="402000"/>
                </a:solidFill>
                <a:latin typeface="Times New Roman"/>
              </a:rPr>
              <a:t>(ECSP)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402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402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2000"/>
                </a:solidFill>
                <a:latin typeface="Times New Roman"/>
                <a:ea typeface="宋体"/>
              </a:rPr>
              <a:t>电子商务平台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402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2000"/>
                </a:solidFill>
                <a:latin typeface="Times New Roman"/>
                <a:ea typeface="宋体"/>
              </a:rPr>
              <a:t>电子商务软件包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402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2000"/>
                </a:solidFill>
                <a:latin typeface="Times New Roman"/>
                <a:ea typeface="宋体"/>
              </a:rPr>
              <a:t>中小企业解决系统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402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2000"/>
                </a:solidFill>
                <a:latin typeface="Times New Roman"/>
                <a:ea typeface="宋体"/>
              </a:rPr>
              <a:t>证券平台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402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2000"/>
                </a:solidFill>
                <a:latin typeface="Times New Roman"/>
                <a:ea typeface="宋体"/>
              </a:rPr>
              <a:t>数字图书馆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402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2000"/>
                </a:solidFill>
                <a:latin typeface="Times New Roman"/>
                <a:ea typeface="宋体"/>
              </a:rPr>
              <a:t>数字城市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402000"/>
                </a:solidFill>
                <a:latin typeface="Times New Roman"/>
              </a:rPr>
              <a:t>信息数据化的意义</a:t>
            </a: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668680" y="46483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信息数据化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668680" y="39625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信息的移植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668680" y="32767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信息的增值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370840" y="4419720"/>
            <a:ext cx="1643760" cy="825480"/>
          </a:xfrm>
          <a:prstGeom prst="rect">
            <a:avLst/>
          </a:prstGeom>
          <a:noFill/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数字图书馆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文档信息加工系统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888080" y="3886200"/>
            <a:ext cx="2631960" cy="459720"/>
          </a:xfrm>
          <a:prstGeom prst="rect">
            <a:avLst/>
          </a:prstGeom>
          <a:noFill/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网络化传播和管理 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82000" y="3352680"/>
            <a:ext cx="1643760" cy="459720"/>
          </a:xfrm>
          <a:prstGeom prst="rect">
            <a:avLst/>
          </a:prstGeom>
          <a:noFill/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电子商务电子政务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114800" y="3581280"/>
            <a:ext cx="533520" cy="228600"/>
          </a:xfrm>
          <a:prstGeom prst="rightArrow">
            <a:avLst>
              <a:gd name="adj1" fmla="val 50000"/>
              <a:gd name="adj2" fmla="val 5834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114800" y="4191120"/>
            <a:ext cx="533520" cy="228600"/>
          </a:xfrm>
          <a:prstGeom prst="rightArrow">
            <a:avLst>
              <a:gd name="adj1" fmla="val 50000"/>
              <a:gd name="adj2" fmla="val 5834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114800" y="4800600"/>
            <a:ext cx="533520" cy="228600"/>
          </a:xfrm>
          <a:prstGeom prst="rightArrow">
            <a:avLst>
              <a:gd name="adj1" fmla="val 50000"/>
              <a:gd name="adj2" fmla="val 5834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204920" y="2235240"/>
            <a:ext cx="193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2000"/>
                </a:solidFill>
                <a:latin typeface="Times New Roman"/>
              </a:rPr>
              <a:t>ECSP</a:t>
            </a:r>
            <a:r>
              <a:rPr b="0" lang="zh-CN" sz="2800" spc="-1" strike="noStrike">
                <a:solidFill>
                  <a:srgbClr val="402000"/>
                </a:solidFill>
                <a:latin typeface="Times New Roman"/>
              </a:rPr>
              <a:t>的目标</a:t>
            </a:r>
            <a:r>
              <a:rPr b="0" lang="zh-CN" sz="2800" spc="-1" strike="noStrike">
                <a:solidFill>
                  <a:srgbClr val="402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402000"/>
                </a:solidFill>
                <a:latin typeface="Times New Roman"/>
              </a:rPr>
              <a:t>Digiark </a:t>
            </a:r>
            <a:r>
              <a:rPr b="0" lang="zh-CN" sz="4000" spc="-1" strike="noStrike">
                <a:solidFill>
                  <a:srgbClr val="402000"/>
                </a:solidFill>
                <a:latin typeface="Times New Roman"/>
              </a:rPr>
              <a:t>的文档信息化系统</a:t>
            </a: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90720" y="1828440"/>
            <a:ext cx="76960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2000"/>
                </a:solidFill>
                <a:latin typeface="Times New Roman"/>
              </a:rPr>
              <a:t>一套集成最新技术的商业实现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2000"/>
                </a:solidFill>
                <a:latin typeface="Times New Roman"/>
              </a:rPr>
              <a:t>自动化加工过程</a:t>
            </a:r>
            <a:r>
              <a:rPr b="0" lang="zh-CN" sz="2800" spc="-1" strike="noStrike">
                <a:solidFill>
                  <a:srgbClr val="402000"/>
                </a:solidFill>
                <a:latin typeface="Times New Roman"/>
              </a:rPr>
              <a:t>,</a:t>
            </a:r>
            <a:r>
              <a:rPr b="0" lang="zh-CN" sz="2800" spc="-1" strike="noStrike">
                <a:solidFill>
                  <a:srgbClr val="402000"/>
                </a:solidFill>
                <a:latin typeface="Times New Roman"/>
              </a:rPr>
              <a:t>解决海量图书的数据化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2000"/>
                </a:solidFill>
                <a:latin typeface="Times New Roman"/>
              </a:rPr>
              <a:t>实现安全控制和版权保护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2000"/>
                </a:solidFill>
                <a:latin typeface="Times New Roman"/>
              </a:rPr>
              <a:t>可以基于</a:t>
            </a:r>
            <a:r>
              <a:rPr b="0" lang="zh-CN" sz="2800" spc="-1" strike="noStrike">
                <a:solidFill>
                  <a:srgbClr val="402000"/>
                </a:solidFill>
                <a:latin typeface="Times New Roman"/>
              </a:rPr>
              <a:t>internet</a:t>
            </a:r>
            <a:r>
              <a:rPr b="0" lang="zh-CN" sz="2800" spc="-1" strike="noStrike">
                <a:solidFill>
                  <a:srgbClr val="402000"/>
                </a:solidFill>
                <a:latin typeface="Times New Roman"/>
              </a:rPr>
              <a:t>的商务模式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2000"/>
                </a:solidFill>
                <a:latin typeface="Times New Roman"/>
              </a:rPr>
              <a:t>良好的开放性</a:t>
            </a:r>
            <a:r>
              <a:rPr b="0" lang="zh-CN" sz="2800" spc="-1" strike="noStrike">
                <a:solidFill>
                  <a:srgbClr val="402000"/>
                </a:solidFill>
                <a:latin typeface="Times New Roman"/>
              </a:rPr>
              <a:t>,</a:t>
            </a:r>
            <a:r>
              <a:rPr b="0" lang="zh-CN" sz="2800" spc="-1" strike="noStrike">
                <a:solidFill>
                  <a:srgbClr val="402000"/>
                </a:solidFill>
                <a:latin typeface="Times New Roman"/>
              </a:rPr>
              <a:t>和已有系统的集成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402000"/>
                </a:solidFill>
                <a:latin typeface="Times New Roman"/>
              </a:rPr>
              <a:t>适应中国国情</a:t>
            </a:r>
            <a:r>
              <a:rPr b="0" lang="zh-CN" sz="4000" spc="-1" strike="noStrike">
                <a:solidFill>
                  <a:srgbClr val="402000"/>
                </a:solidFill>
                <a:latin typeface="Times New Roman"/>
              </a:rPr>
              <a:t>--</a:t>
            </a:r>
            <a:r>
              <a:rPr b="0" lang="zh-CN" sz="4000" spc="-1" strike="noStrike">
                <a:solidFill>
                  <a:srgbClr val="402000"/>
                </a:solidFill>
                <a:latin typeface="Times New Roman"/>
              </a:rPr>
              <a:t>图像技术</a:t>
            </a: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257800" y="1828800"/>
            <a:ext cx="3352680" cy="25020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1495080" y="3733920"/>
            <a:ext cx="1460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特点</a:t>
            </a: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象形文字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简繁多码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版式的保存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原件的法律效应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86640" y="2209680"/>
            <a:ext cx="174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形式</a:t>
            </a: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:</a:t>
            </a: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图象</a:t>
            </a: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/</a:t>
            </a: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文本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3657600" y="3276720"/>
            <a:ext cx="2590920" cy="24159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402000"/>
                </a:solidFill>
                <a:latin typeface="Times New Roman"/>
              </a:rPr>
              <a:t>信息的深加工</a:t>
            </a:r>
            <a:r>
              <a:rPr b="0" lang="zh-CN" sz="4000" spc="-1" strike="noStrike">
                <a:solidFill>
                  <a:srgbClr val="402000"/>
                </a:solidFill>
                <a:latin typeface="Times New Roman"/>
              </a:rPr>
              <a:t>:</a:t>
            </a:r>
            <a:r>
              <a:rPr b="0" lang="zh-CN" sz="4000" spc="-1" strike="noStrike">
                <a:solidFill>
                  <a:srgbClr val="402000"/>
                </a:solidFill>
                <a:latin typeface="Times New Roman"/>
              </a:rPr>
              <a:t>识别和检索</a:t>
            </a: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762120" y="1776240"/>
          <a:ext cx="7086600" cy="5081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776240"/>
                    <a:ext cx="7086600" cy="508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" name=""/>
          <p:cNvSpPr/>
          <p:nvPr/>
        </p:nvSpPr>
        <p:spPr>
          <a:xfrm>
            <a:off x="7391520" y="4114800"/>
            <a:ext cx="228600" cy="1371600"/>
          </a:xfrm>
          <a:custGeom>
            <a:avLst/>
            <a:gdLst>
              <a:gd name="textAreaLeft" fmla="*/ 0 w 228600"/>
              <a:gd name="textAreaRight" fmla="*/ 8244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04440" y="449568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2000"/>
                </a:solidFill>
                <a:latin typeface="Times New Roman"/>
              </a:rPr>
              <a:t>网络发布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2000"/>
                </a:solidFill>
                <a:latin typeface="Times New Roman"/>
              </a:rPr>
              <a:t>和传播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402000"/>
                </a:solidFill>
                <a:latin typeface="Times New Roman"/>
              </a:rPr>
              <a:t>文档信息化处理流程</a:t>
            </a: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914400" y="2743200"/>
          <a:ext cx="8077320" cy="3144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2743200"/>
                    <a:ext cx="8077320" cy="314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>文档 信息化 数字 图书馆</cp:keywords>
  <dc:language>en-US</dc:language>
  <cp:lastModifiedBy/>
  <cp:revision>0</cp:revision>
  <dc:subject/>
  <dc:title/>
</cp:coreProperties>
</file>