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AD5-531E-467E-8A25-F0436EE7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77D-F510-4C64-AE89-99C75AFA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6D3-9AF9-4F8A-9E24-5F7CB014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C5E-3DC1-47D6-A1D6-34C6AA2D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2E1F-A598-4D5A-92CD-A3402E6D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805F-2A3F-4693-87F3-6FB07915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A1F1-4C94-4E96-AD1A-1D6B4078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768A-7D11-4E20-8432-5D1F1FD7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16E6-6DD4-4971-A563-99F95F8B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41FE-28E1-425A-B47D-7AAD1EDA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78AC-AC85-4762-A1C5-C57A5787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1E6-6E4C-41E7-BDD7-FEA8BC89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8C7F-499B-4594-B492-4B568C2B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F12C-5072-4C92-8064-D7C6C44D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851A-6DFE-4C62-85DA-16BA60D2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F46B-5F55-420F-BFA3-46DC7C81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6E88-C7A5-43DF-AE0B-0DD64A38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360-FA5F-4676-8025-4E7649B5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F94-C87C-45B7-9261-8D8E59E2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A1E-A9D1-4A56-BC4F-ACC5D21E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84F-03DB-41C1-938C-7E097A84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9EF-1C63-48DB-AB43-A227D9B4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24F-69F2-41EA-8317-567F7F8B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4C3-D62C-47E1-8266-8EFF612C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56BD-8279-4F57-A254-A9F6B4ED1A0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6829-CF98-4407-A711-A255640A42A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160020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网络教学支撑平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520" y="3962520"/>
            <a:ext cx="81536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大学现代教育技术研究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XXX     X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8144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830592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99"/>
                </a:solidFill>
                <a:latin typeface="Tahoma"/>
              </a:rPr>
              <a:t>四、基于网络教学平台的教与学活动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03364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3124080"/>
          <a:ext cx="8915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24080"/>
                    <a:ext cx="8915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505520" y="21607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二）基于网络教学平台的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8144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80010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333399"/>
                </a:solidFill>
                <a:latin typeface="Tahoma"/>
              </a:rPr>
              <a:t>四、基于网络教学平台的教与学活动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3194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2666880"/>
          <a:ext cx="914400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914400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581480" y="19321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三）基于网络教学平台的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8144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304920" y="1562040"/>
            <a:ext cx="9448920" cy="5295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52498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网络教务管理系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4304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1143000"/>
          <a:ext cx="792468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792468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41832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资源管理系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05120" y="19051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70909"/>
                </a:solidFill>
                <a:latin typeface="Tahoma"/>
                <a:ea typeface="方正舒体"/>
              </a:rPr>
              <a:t>感谢大家支持！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25909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50972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网络教学支撑平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2017440"/>
            <a:ext cx="849780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一、网络教学平台的基本功能要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二、比较有影响的网络教学平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三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网络教学平台的设计基本思想及功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四、基于网络教学平台的教与学活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848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一、网络教学平台的基本功能要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制作与发布课程材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师生交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在线评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电子图书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人资料（电子笔记本、邮件、安排等）管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学习空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管理（教师与学生信息管理、课程管理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等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64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三、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XX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的设计基本思想及功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X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设计基本思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体化管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完全开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简化交互式教学设计的复杂性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支持多种教学策略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49552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743200" y="0"/>
          <a:ext cx="52135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0"/>
                    <a:ext cx="52135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57200" y="2133720"/>
            <a:ext cx="1523880" cy="38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XX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三、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XX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的设计基本思想及功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体系结构与功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、网上教学支持系统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线发布网上课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活动设计和管理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评价、学生管理系统、学习管理工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习与探索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笔记本 、书签 、搜索工具 、学习记录 、学生工作区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讨论和协作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同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异步讨论园地 、课程电子邮箱 、协同工作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三、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XX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的设计基本思想及功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体系结构与功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、网上课程开发系统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素材的组织生成、搜集与利用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②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采用多媒体教学内容表示，支持网络多媒体课件开发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③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教学逻辑的设计，能自动生成课程描述和课程内容结构图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④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课程存储与发布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⑤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课程内容预览与播放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⑥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提供针对具体学科的网络课程模板和向导，支持网络课程的快速生成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⑦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作业与试卷生成，支持网上某些课程的自动测试自动判题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⑧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视频流媒体课件的制作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三、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XX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的设计基本思想及功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体系结构与功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、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网上教务管理系统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教务管理系统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注册认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学籍管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教师档案管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行政公文管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信息查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数据统计与分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教学评价管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专业与课程管理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专业管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课程管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、）；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系统管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、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网上教学资源管理系统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751"/>
              </a:spcBef>
              <a:spcAft>
                <a:spcPts val="75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资源服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系统管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资源管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f5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990720"/>
            <a:ext cx="768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四、基于网络教学平台的教与学活动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用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11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类用户：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学生、教师、管理员（系统管理员、教务管理员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网络 教学 平台</cp:keywords>
  <dc:language>en-US</dc:language>
  <cp:lastModifiedBy/>
  <cp:revision>0</cp:revision>
  <dc:subject/>
  <dc:title/>
</cp:coreProperties>
</file>