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F568-6F68-41A4-8B51-99516BDE3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36FF-B7A6-438F-803B-4268D2C9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F38A-3D0B-4468-985C-F9F598B01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7EA2-281E-44A3-A818-397663EDA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F3DB2-D21F-4E11-94D1-27E10665D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48D50-A72D-4541-8CCA-911FFF265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27B36-5DF0-41C1-B040-C1E3265A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F21A7-A96B-44C6-B4DA-367D61E7C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FDFC0-7E55-4763-8BA2-C02E2AC2F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8B604-28EF-41ED-99D9-6AB7AE4BB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37B52-7979-473D-A024-42B99335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930A-73DD-4E3B-A7AE-9D4E102E6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9203C-1D9C-4C54-9241-DA4C2492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5758A-D82C-4462-8269-22EA75D7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8DBA7-8DD8-4FAF-9712-63EC1E9DE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18B70-A286-466C-ACAD-66FBAD5AF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C99B2-9A56-409C-8F42-3D6B2D5FB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809E-A0EA-4B12-932B-8F8ED43C2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C9E4-353C-4286-9780-A42382092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15B3-5A4B-43F4-A4DA-FE5172444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062E-A4FD-4C43-A5DB-30E22156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A15A-B29C-49A9-B923-B0706039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7AA3-1F4C-4D5A-8C2A-C1974496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432E-35D8-4F2D-8A35-F8336D1B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1C50-C541-4419-8A56-99B7A0C8FD2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9F1E5-59C0-458B-9BC6-DEBD94A4F4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30C92-F4BB-4BCD-99F3-9E14E0D1ADF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48D7B-BD8B-4B98-B81F-379C8FD2AC2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6519960"/>
            <a:ext cx="6696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48000" y="206280"/>
            <a:ext cx="532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唯美图片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0F4EA-5E22-47CF-B3B4-41B89ACA910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/>
  <dc:description>幻灯片之家：www.eeppt.com;</dc:description>
  <cp:keywords>幻灯片之家：www.eeppt.com</cp:keywords>
  <dc:language>en-US</dc:language>
  <cp:lastModifiedBy/>
  <dcterms:modified xsi:type="dcterms:W3CDTF">2015-07-21T02:20:52Z</dcterms:modified>
  <cp:revision>4</cp:revision>
  <dc:subject/>
  <dc:title>幻灯片之家：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