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3F8-24D0-4043-9BFF-516D48A2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4A2-993C-4428-9D2B-E7982058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05C-61DF-4C6A-A227-B886D5BC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D4B-B10E-4029-AE54-98D829DF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A0C8-D745-4067-95CB-279B5C7C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340D-96E4-486B-A234-A3E73D90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ECF6-6E01-4A90-A119-38D842B7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DA23-594F-43F2-A904-8800B974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F260-6FDD-469E-99B3-9D1C9BB0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785A-B7FB-4F60-B4B2-8B4697E6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8BF4-E0E5-4D38-BD37-171164E2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C4B-DF0F-4FCE-9EEC-0E1865C7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A24F-4B1A-46BB-AADF-7BC2EF16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3E65-37C4-496F-B034-42B03D5F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3BDA-9673-4907-AEFC-CC3C0300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859C-3123-4003-8DAD-D45BECFE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FE52-DC2E-4F54-A696-7BE2D810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76FD-B737-41D7-856D-92F76ED0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8F47-8861-49A8-94C9-48BC31C7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475A-EB7C-4A28-B75B-A62751B8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0F5C-D945-479C-A0C5-C5148A41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08B-440C-4034-B1FF-D7D6C0A6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4096-5F4E-4D63-80F2-695FB1F5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74F-9C07-4A3C-9C6D-7A86B140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85D1-D373-46B3-A9F6-8E76686B2003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3406-9BBB-4144-B6EA-7BB323AC3558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小波包分解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证明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187280" y="2492280"/>
                <a:ext cx="7417080" cy="30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由小波包的双尺度关系式，两边作</m:t>
                        </m:r>
                        <m:r>
                          <m:rPr>
                            <m:lit/>
                            <m:nor/>
                          </m:rPr>
                          <m:t xml:space="preserve">Fourier</m:t>
                        </m:r>
                        <m:r>
                          <m:rPr>
                            <m:lit/>
                            <m:nor/>
                          </m:rPr>
                          <m:t xml:space="preserve">变换：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ψ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ψ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ψ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ψ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ψ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ψ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递推下去即可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定理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85960" y="2287440"/>
                <a:ext cx="7907040" cy="28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由正交尺度函数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生成的小波包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满足：</m:t>
                        </m:r>
                      </m:e>
                      <m:e>
                        <m:r>
                          <m:t xml:space="preserve">（</m:t>
                        </m:r>
                        <m:r>
                          <m:t xml:space="preserve">1</m:t>
                        </m:r>
                        <m:r>
                          <m:t xml:space="preserve">）</m:t>
                        </m:r>
                        <m:m>
                          <m:mr>
                            <m:e/>
                            <m:e/>
                          </m:mr>
                        </m:m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是规范正交系。</m:t>
                        </m:r>
                      </m:e>
                      <m:e>
                        <m:r>
                          <m:t xml:space="preserve">即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&gt;=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m>
                          <m:mr>
                            <m:e/>
                            <m:e>
                              <m:r>
                                <m:t xml:space="preserve">∀</m:t>
                              </m:r>
                              <m:r>
                                <m:t xml:space="preserve">j</m:t>
                              </m:r>
                              <m:r>
                                <m:t xml:space="preserve">,</m:t>
                              </m:r>
                              <m:r>
                                <m:t xml:space="preserve">k</m:t>
                              </m:r>
                              <m:r>
                                <m:t xml:space="preserve">,</m:t>
                              </m:r>
                              <m:r>
                                <m:t xml:space="preserve">n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&gt;=</m:t>
                        </m:r>
                        <m:r>
                          <m:t xml:space="preserve">0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证明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87640" y="1197000"/>
                <a:ext cx="4781520" cy="532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用数学归纳法。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时，因为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＝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，结论成立。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假设对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成立。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对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取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t xml:space="preserve">则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&gt;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ω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ε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iω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ω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4</m:t>
                                </m:r>
                                <m:r>
                                  <m:t xml:space="preserve">πl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sSub>
                                              <m:e>
                                                <m:r>
                                                  <m:t xml:space="preserve">ε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</m:sub>
                                        </m:sSub>
                                        <m:r>
                                          <m:t xml:space="preserve">(</m:t>
                                        </m:r>
                                        <m:sSup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p>
                                            <m:f>
                                              <m:fPr>
                                                <m:type m:val="lin"/>
                                              </m:fPr>
                                              <m:num>
                                                <m:r>
                                                  <m:t xml:space="preserve">−</m:t>
                                                </m:r>
                                                <m:r>
                                                  <m:t xml:space="preserve">iω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2</m:t>
                                                </m:r>
                                              </m:den>
                                            </m:f>
                                          </m:sup>
                                        </m:sSup>
                                        <m:r>
                                          <m:t xml:space="preserve">)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sSub>
                                              <m:e>
                                                <m:r>
                                                  <m:t xml:space="preserve">n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</m:sub>
                                        </m:sSub>
                                        <m:r>
                                          <m:t xml:space="preserve">(</m:t>
                                        </m:r>
                                        <m:f>
                                          <m:num>
                                            <m:r>
                                              <m:t xml:space="preserve">ω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r>
                                          <m:t xml:space="preserve">)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ω</m:t>
                                    </m:r>
                                  </m:sup>
                                </m:sSup>
                                <m:r>
                                  <m:t xml:space="preserve">dω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ε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iω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l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∞</m:t>
                                </m:r>
                              </m:sup>
                              <m:e/>
                            </m:nary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πl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ω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2889000"/>
            <a:ext cx="3810240" cy="2539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332000" y="1844640"/>
                <a:ext cx="7056360" cy="346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ε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iω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ω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sup>
                          <m:e>
                            <m:r>
                              <m:t xml:space="preserve">(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ε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iω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ε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(</m:t>
                                        </m:r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ω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π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ω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ω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835280" y="1197000"/>
                <a:ext cx="5833800" cy="500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的证明：</m:t>
                        </m:r>
                      </m:e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&gt;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ω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iω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iω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ω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4</m:t>
                                </m:r>
                                <m:r>
                                  <m:t xml:space="preserve">πl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</m:sSub>
                                        <m:r>
                                          <m:t xml:space="preserve">(</m:t>
                                        </m:r>
                                        <m:f>
                                          <m:num>
                                            <m:r>
                                              <m:t xml:space="preserve">ω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πl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iω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iω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ω</m:t>
                                    </m:r>
                                  </m:sup>
                                </m:sSup>
                                <m:r>
                                  <m:t xml:space="preserve">dω</m:t>
                                </m:r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l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∞</m:t>
                                </m:r>
                              </m:sup>
                              <m:e/>
                            </m:nary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ψ</m:t>
                                    </m:r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πl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iω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iω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ω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iω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iω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ω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iω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iω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ω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</m:e>
                      <m:e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523880" y="3048120"/>
                <a:ext cx="6694560" cy="26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函数族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－</m:t>
                                </m:r>
                                <m:f>
                                  <m:num>
                                    <m:r>
                                      <m:t xml:space="preserve">j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称为由尺度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函数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生成的小波库。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90720" y="1828800"/>
                <a:ext cx="7931160" cy="39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讨论函数族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j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对空间的分解。</m:t>
                        </m:r>
                      </m:e>
                      <m:e>
                        <m:r>
                          <m:t xml:space="preserve">令</m:t>
                        </m:r>
                        <m:m>
                          <m:mr>
                            <m:e/>
                            <m:e/>
                          </m:mr>
                        </m: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an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j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  <m:sSub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Z</m:t>
                                    </m:r>
                                  </m:sub>
                                </m:sSub>
                              </m:e>
                            </m:d>
                          </m:e>
                        </m:ba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则：</m:t>
                        </m:r>
                        <m:m>
                          <m:mr>
                            <m:e/>
                            <m:e/>
                          </m:mr>
                        </m: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＝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m>
                          <m:mr>
                            <m:e/>
                            <m:e/>
                          </m:mr>
                        </m: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＝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我们可以将：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⊕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改写为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  <m:e/>
                          </m:mr>
                        </m: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＋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＝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⊕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定理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143000" y="2209680"/>
                <a:ext cx="7245360" cy="406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＋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＝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⊕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证明要点：</m:t>
                        </m:r>
                      </m:e>
                      <m:e>
                        <m:r>
                          <m:t xml:space="preserve">（</m:t>
                        </m:r>
                        <m:r>
                          <m:t xml:space="preserve">1</m:t>
                        </m:r>
                        <m:r>
                          <m:t xml:space="preserve">）</m:t>
                        </m:r>
                        <m:m>
                          <m:mr>
                            <m:e/>
                            <m:e/>
                          </m:mr>
                        </m: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bSup>
                        <m:sSubSup>
                          <m:e>
                            <m:r>
                              <m:t xml:space="preserve">和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sSubSup>
                          <m:e>
                            <m:r>
                              <m:t xml:space="preserve">是U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＋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的子空间。</m:t>
                        </m:r>
                      </m:e>
                      <m:e>
                        <m:r>
                          <m:t xml:space="preserve">（</m:t>
                        </m:r>
                        <m:r>
                          <m:t xml:space="preserve">2</m:t>
                        </m:r>
                        <m:r>
                          <m:t xml:space="preserve">）</m:t>
                        </m:r>
                        <m:m>
                          <m:mr>
                            <m:e/>
                            <m:e/>
                          </m:mr>
                        </m: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⊥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r>
                          <m:t xml:space="preserve">（</m:t>
                        </m:r>
                        <m:r>
                          <m:t xml:space="preserve">3</m:t>
                        </m:r>
                        <m:r>
                          <m:t xml:space="preserve">）</m:t>
                        </m:r>
                        <m:m>
                          <m:mr>
                            <m:e/>
                            <m:e/>
                          </m:mr>
                        </m: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＋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的基可由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和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＋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的线性组合表示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（可参看《小波分析导论》第</m:t>
                        </m:r>
                        <m:r>
                          <m:rPr>
                            <m:lit/>
                            <m:nor/>
                          </m:rPr>
                          <m:t xml:space="preserve">334</m:t>
                        </m:r>
                        <m:r>
                          <m:rPr>
                            <m:lit/>
                            <m:nor/>
                          </m:rPr>
                          <m:t xml:space="preserve">页或《小波分析算法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与应用》第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rPr>
                            <m:lit/>
                            <m:nor/>
                          </m:rPr>
                          <m:t xml:space="preserve">页。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推论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752480" y="2209680"/>
                <a:ext cx="5181840" cy="422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对j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有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＝</m:t>
                                  </m:r>
                                  <m:sSub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r>
                                    <m:t xml:space="preserve">⊕</m:t>
                                  </m:r>
                                  <m:sSub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  <m:m>
                                    <m:mr>
                                      <m:e>
                                        <m:m>
                                          <m:mr>
                                            <m:e/>
                                            <m:e/>
                                          </m:mr>
                                        </m:m>
                                      </m:e>
                                      <m:e/>
                                      <m:e/>
                                    </m:mr>
                                  </m:m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＝</m:t>
                                  </m:r>
                                  <m:sSub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  <m:r>
                                    <m:t xml:space="preserve">⊕</m:t>
                                  </m:r>
                                  <m:sSub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  <m:r>
                                    <m:t xml:space="preserve">⊕</m:t>
                                  </m:r>
                                  <m:sSub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6</m:t>
                                      </m:r>
                                    </m:sup>
                                  </m:sSubSup>
                                  <m:r>
                                    <m:t xml:space="preserve">⊕</m:t>
                                  </m:r>
                                  <m:sSub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7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⋯</m:t>
                                  </m:r>
                                  <m:r>
                                    <m:t xml:space="preserve">⋯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＝</m:t>
                                  </m:r>
                                  <m:sSub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  <m:sup>
                                      <m:sSup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sup>
                                          <m:r>
                                            <m:t xml:space="preserve">k</m:t>
                                          </m:r>
                                        </m:sup>
                                      </m:sSup>
                                    </m:sup>
                                  </m:sSubSup>
                                  <m:r>
                                    <m:t xml:space="preserve">⊕</m:t>
                                  </m:r>
                                  <m:sSub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  <m:sup>
                                      <m:sSup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sup>
                                          <m:r>
                                            <m:t xml:space="preserve">k</m:t>
                                          </m:r>
                                        </m:sup>
                                      </m:sSup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bSup>
                                  <m:r>
                                    <m:t xml:space="preserve">⊕</m:t>
                                  </m:r>
                                  <m:r>
                                    <m:t xml:space="preserve">⋯</m:t>
                                  </m:r>
                                  <m:r>
                                    <m:t xml:space="preserve">⊕</m:t>
                                  </m:r>
                                  <m:sSub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  <m:sup>
                                      <m:sSup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sup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p>
                                      </m:s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⋯</m:t>
                                  </m:r>
                                  <m:r>
                                    <m:t xml:space="preserve">⋯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＝</m:t>
                                  </m:r>
                                  <m:sSub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sSup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sup>
                                          <m:r>
                                            <m:t xml:space="preserve">j</m:t>
                                          </m:r>
                                        </m:sup>
                                      </m:sSup>
                                    </m:sup>
                                  </m:sSubSup>
                                  <m:r>
                                    <m:t xml:space="preserve">⊕</m:t>
                                  </m:r>
                                  <m:sSub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sSup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sup>
                                          <m:r>
                                            <m:t xml:space="preserve">j</m:t>
                                          </m:r>
                                        </m:sup>
                                      </m:sSup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bSup>
                                  <m:r>
                                    <m:t xml:space="preserve">⊕</m:t>
                                  </m:r>
                                  <m:r>
                                    <m:t xml:space="preserve">⋯</m:t>
                                  </m:r>
                                  <m:r>
                                    <m:t xml:space="preserve">⊕</m:t>
                                  </m:r>
                                  <m:sSub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sSup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sup>
                                          <m:r>
                                            <m:t xml:space="preserve">j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p>
                                      </m:s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小波包变换的算法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 rot="10800000">
                <a:off x="3902040" y="2361960"/>
                <a:ext cx="439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45" name=""/>
          <p:cNvGrpSpPr/>
          <p:nvPr/>
        </p:nvGrpSpPr>
        <p:grpSpPr>
          <a:xfrm>
            <a:off x="3444840" y="3048120"/>
            <a:ext cx="1284120" cy="533160"/>
            <a:chOff x="3444840" y="3048120"/>
            <a:chExt cx="1284120" cy="533160"/>
          </a:xfrm>
        </p:grpSpPr>
        <p:sp>
          <p:nvSpPr>
            <p:cNvPr id="146" name=""/>
            <p:cNvSpPr/>
            <p:nvPr/>
          </p:nvSpPr>
          <p:spPr>
            <a:xfrm flipH="1">
              <a:off x="3749040" y="3048120"/>
              <a:ext cx="304920" cy="53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54320" y="3048120"/>
              <a:ext cx="380880" cy="53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4435200" y="3124080"/>
                  <a:ext cx="293760" cy="31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3444840" y="3124080"/>
                  <a:ext cx="30456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 rot="10800000">
                <a:off x="3384720" y="3673080"/>
                <a:ext cx="406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 rot="10800000">
                <a:off x="4511520" y="3733920"/>
                <a:ext cx="5083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2" name=""/>
          <p:cNvGrpSpPr/>
          <p:nvPr/>
        </p:nvGrpSpPr>
        <p:grpSpPr>
          <a:xfrm>
            <a:off x="2835360" y="4267080"/>
            <a:ext cx="1284120" cy="533520"/>
            <a:chOff x="2835360" y="4267080"/>
            <a:chExt cx="1284120" cy="533520"/>
          </a:xfrm>
        </p:grpSpPr>
        <p:sp>
          <p:nvSpPr>
            <p:cNvPr id="153" name=""/>
            <p:cNvSpPr/>
            <p:nvPr/>
          </p:nvSpPr>
          <p:spPr>
            <a:xfrm flipH="1">
              <a:off x="3139560" y="4267080"/>
              <a:ext cx="304920" cy="5335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44840" y="4267080"/>
              <a:ext cx="380880" cy="5335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3825720" y="4343400"/>
                  <a:ext cx="2937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2835360" y="4343400"/>
                  <a:ext cx="30456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 rot="10800000">
                <a:off x="2666880" y="4952520"/>
                <a:ext cx="4399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 rot="10800000">
                <a:off x="3656160" y="4952520"/>
                <a:ext cx="542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5638680" y="4038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空间的小波分解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a3d7a"/>
                </a:solidFill>
                <a:latin typeface="Times New Roman"/>
              </a:rPr>
              <a:t>各种变换的适合处理对象：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小波变换                    加窗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Fourier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变换              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Fourier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变换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50028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）处理突变信号或具有孤立奇异性的函数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）自适应信号处理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3160" y="3249720"/>
            <a:ext cx="2073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50532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）处理渐变信号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）实时信号处理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350532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）处理稳定和渐变信号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）实时信号处理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3124080" y="1447560"/>
            <a:ext cx="2352600" cy="3166920"/>
            <a:chOff x="3124080" y="1447560"/>
            <a:chExt cx="2352600" cy="3166920"/>
          </a:xfrm>
        </p:grpSpPr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 rot="10800000">
                  <a:off x="4358880" y="1447560"/>
                  <a:ext cx="4399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62" name=""/>
            <p:cNvGrpSpPr/>
            <p:nvPr/>
          </p:nvGrpSpPr>
          <p:grpSpPr>
            <a:xfrm>
              <a:off x="3901680" y="2133720"/>
              <a:ext cx="1284120" cy="533160"/>
              <a:chOff x="3901680" y="2133720"/>
              <a:chExt cx="1284120" cy="533160"/>
            </a:xfrm>
          </p:grpSpPr>
          <p:sp>
            <p:nvSpPr>
              <p:cNvPr id="163" name=""/>
              <p:cNvSpPr/>
              <p:nvPr/>
            </p:nvSpPr>
            <p:spPr>
              <a:xfrm flipH="1">
                <a:off x="4205880" y="2133720"/>
                <a:ext cx="304920" cy="5331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11160" y="2133720"/>
                <a:ext cx="380880" cy="5331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5" name=""/>
                  <p:cNvSpPr txBox="1"/>
                  <p:nvPr/>
                </p:nvSpPr>
                <p:spPr>
                  <a:xfrm>
                    <a:off x="4892040" y="2209680"/>
                    <a:ext cx="293760" cy="317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G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6" name=""/>
                  <p:cNvSpPr txBox="1"/>
                  <p:nvPr/>
                </p:nvSpPr>
                <p:spPr>
                  <a:xfrm>
                    <a:off x="3901680" y="2209680"/>
                    <a:ext cx="304560" cy="282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 rot="10800000">
                  <a:off x="3841560" y="2758680"/>
                  <a:ext cx="40644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 rot="10800000">
                  <a:off x="4968720" y="2819520"/>
                  <a:ext cx="50796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69" name=""/>
            <p:cNvGrpSpPr/>
            <p:nvPr/>
          </p:nvGrpSpPr>
          <p:grpSpPr>
            <a:xfrm>
              <a:off x="3292200" y="3352680"/>
              <a:ext cx="1284120" cy="533520"/>
              <a:chOff x="3292200" y="3352680"/>
              <a:chExt cx="1284120" cy="533520"/>
            </a:xfrm>
          </p:grpSpPr>
          <p:sp>
            <p:nvSpPr>
              <p:cNvPr id="170" name=""/>
              <p:cNvSpPr/>
              <p:nvPr/>
            </p:nvSpPr>
            <p:spPr>
              <a:xfrm flipH="1">
                <a:off x="3596400" y="3352680"/>
                <a:ext cx="304920" cy="5335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01680" y="3352680"/>
                <a:ext cx="380880" cy="5335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2" name=""/>
                  <p:cNvSpPr txBox="1"/>
                  <p:nvPr/>
                </p:nvSpPr>
                <p:spPr>
                  <a:xfrm>
                    <a:off x="4282560" y="3429000"/>
                    <a:ext cx="29376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G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3" name=""/>
                  <p:cNvSpPr txBox="1"/>
                  <p:nvPr/>
                </p:nvSpPr>
                <p:spPr>
                  <a:xfrm>
                    <a:off x="3292200" y="3429000"/>
                    <a:ext cx="304560" cy="282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 rot="10800000">
                  <a:off x="3124080" y="4038120"/>
                  <a:ext cx="4395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 rot="10800000">
                  <a:off x="4113000" y="4038120"/>
                  <a:ext cx="54288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6" name=""/>
          <p:cNvGrpSpPr/>
          <p:nvPr/>
        </p:nvGrpSpPr>
        <p:grpSpPr>
          <a:xfrm>
            <a:off x="4572000" y="3429000"/>
            <a:ext cx="1468440" cy="1143000"/>
            <a:chOff x="4572000" y="3429000"/>
            <a:chExt cx="1468440" cy="1143000"/>
          </a:xfrm>
        </p:grpSpPr>
        <p:grpSp>
          <p:nvGrpSpPr>
            <p:cNvPr id="177" name=""/>
            <p:cNvGrpSpPr/>
            <p:nvPr/>
          </p:nvGrpSpPr>
          <p:grpSpPr>
            <a:xfrm>
              <a:off x="4572000" y="3429000"/>
              <a:ext cx="1284120" cy="533520"/>
              <a:chOff x="4572000" y="3429000"/>
              <a:chExt cx="1284120" cy="533520"/>
            </a:xfrm>
          </p:grpSpPr>
          <p:sp>
            <p:nvSpPr>
              <p:cNvPr id="178" name=""/>
              <p:cNvSpPr/>
              <p:nvPr/>
            </p:nvSpPr>
            <p:spPr>
              <a:xfrm flipH="1">
                <a:off x="4876200" y="3429000"/>
                <a:ext cx="304920" cy="5335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181480" y="3429000"/>
                <a:ext cx="380880" cy="5335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0" name=""/>
                  <p:cNvSpPr txBox="1"/>
                  <p:nvPr/>
                </p:nvSpPr>
                <p:spPr>
                  <a:xfrm>
                    <a:off x="5562360" y="3505320"/>
                    <a:ext cx="29376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G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1" name=""/>
                  <p:cNvSpPr txBox="1"/>
                  <p:nvPr/>
                </p:nvSpPr>
                <p:spPr>
                  <a:xfrm>
                    <a:off x="4572000" y="3505320"/>
                    <a:ext cx="304560" cy="282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82" name=""/>
            <p:cNvGrpSpPr/>
            <p:nvPr/>
          </p:nvGrpSpPr>
          <p:grpSpPr>
            <a:xfrm>
              <a:off x="4724280" y="4038840"/>
              <a:ext cx="1316160" cy="533160"/>
              <a:chOff x="4724280" y="4038840"/>
              <a:chExt cx="1316160" cy="533160"/>
            </a:xfrm>
          </p:grpSpPr>
          <mc:AlternateContent>
            <mc:Choice xmlns:a14="http://schemas.microsoft.com/office/drawing/2010/main" Requires="a14">
              <p:sp>
                <p:nvSpPr>
                  <p:cNvPr id="183" name=""/>
                  <p:cNvSpPr txBox="1"/>
                  <p:nvPr/>
                </p:nvSpPr>
                <p:spPr>
                  <a:xfrm>
                    <a:off x="4724280" y="4038840"/>
                    <a:ext cx="478080" cy="53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4" name=""/>
                  <p:cNvSpPr txBox="1"/>
                  <p:nvPr/>
                </p:nvSpPr>
                <p:spPr>
                  <a:xfrm>
                    <a:off x="5562720" y="4038840"/>
                    <a:ext cx="477720" cy="53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85" name=""/>
          <p:cNvGrpSpPr/>
          <p:nvPr/>
        </p:nvGrpSpPr>
        <p:grpSpPr>
          <a:xfrm>
            <a:off x="3657600" y="4648320"/>
            <a:ext cx="1284120" cy="1128240"/>
            <a:chOff x="3657600" y="4648320"/>
            <a:chExt cx="1284120" cy="1128240"/>
          </a:xfrm>
        </p:grpSpPr>
        <p:grpSp>
          <p:nvGrpSpPr>
            <p:cNvPr id="186" name=""/>
            <p:cNvGrpSpPr/>
            <p:nvPr/>
          </p:nvGrpSpPr>
          <p:grpSpPr>
            <a:xfrm>
              <a:off x="3657600" y="4648320"/>
              <a:ext cx="1284120" cy="533160"/>
              <a:chOff x="3657600" y="4648320"/>
              <a:chExt cx="1284120" cy="533160"/>
            </a:xfrm>
          </p:grpSpPr>
          <p:sp>
            <p:nvSpPr>
              <p:cNvPr id="187" name=""/>
              <p:cNvSpPr/>
              <p:nvPr/>
            </p:nvSpPr>
            <p:spPr>
              <a:xfrm flipH="1">
                <a:off x="3961800" y="4648320"/>
                <a:ext cx="304920" cy="5331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267080" y="4648320"/>
                <a:ext cx="380880" cy="5331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9" name=""/>
                  <p:cNvSpPr txBox="1"/>
                  <p:nvPr/>
                </p:nvSpPr>
                <p:spPr>
                  <a:xfrm>
                    <a:off x="4647960" y="4724280"/>
                    <a:ext cx="293760" cy="317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G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0" name=""/>
                  <p:cNvSpPr txBox="1"/>
                  <p:nvPr/>
                </p:nvSpPr>
                <p:spPr>
                  <a:xfrm>
                    <a:off x="3657600" y="4724280"/>
                    <a:ext cx="304560" cy="282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3657600" y="5271840"/>
                  <a:ext cx="47772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495680" y="5257800"/>
                <a:ext cx="4780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5715000" y="5029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空间的小波包分解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 rot="10800000">
                <a:off x="4411800" y="1709640"/>
                <a:ext cx="541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95" name=""/>
          <p:cNvGrpSpPr/>
          <p:nvPr/>
        </p:nvGrpSpPr>
        <p:grpSpPr>
          <a:xfrm>
            <a:off x="3973680" y="2362320"/>
            <a:ext cx="1284120" cy="533160"/>
            <a:chOff x="3973680" y="2362320"/>
            <a:chExt cx="1284120" cy="533160"/>
          </a:xfrm>
        </p:grpSpPr>
        <p:sp>
          <p:nvSpPr>
            <p:cNvPr id="196" name=""/>
            <p:cNvSpPr/>
            <p:nvPr/>
          </p:nvSpPr>
          <p:spPr>
            <a:xfrm flipH="1">
              <a:off x="4277880" y="2362320"/>
              <a:ext cx="304920" cy="53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83160" y="2362320"/>
              <a:ext cx="380880" cy="53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4964040" y="2438280"/>
                  <a:ext cx="293760" cy="31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973680" y="2438280"/>
                  <a:ext cx="30456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0" name=""/>
          <p:cNvGrpSpPr/>
          <p:nvPr/>
        </p:nvGrpSpPr>
        <p:grpSpPr>
          <a:xfrm>
            <a:off x="3048120" y="3581280"/>
            <a:ext cx="1284120" cy="533520"/>
            <a:chOff x="3048120" y="3581280"/>
            <a:chExt cx="1284120" cy="533520"/>
          </a:xfrm>
        </p:grpSpPr>
        <p:sp>
          <p:nvSpPr>
            <p:cNvPr id="201" name=""/>
            <p:cNvSpPr/>
            <p:nvPr/>
          </p:nvSpPr>
          <p:spPr>
            <a:xfrm flipH="1">
              <a:off x="3352320" y="3581280"/>
              <a:ext cx="304920" cy="5335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3581280"/>
              <a:ext cx="380880" cy="5335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038480" y="3657600"/>
                  <a:ext cx="2937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3048120" y="3657600"/>
                  <a:ext cx="30456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 rot="10800000">
                <a:off x="2514600" y="4267080"/>
                <a:ext cx="7621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Hc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 rot="10800000">
                <a:off x="3657600" y="4267080"/>
                <a:ext cx="7621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Hc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07" name=""/>
          <p:cNvGrpSpPr/>
          <p:nvPr/>
        </p:nvGrpSpPr>
        <p:grpSpPr>
          <a:xfrm>
            <a:off x="4876920" y="3581280"/>
            <a:ext cx="1284120" cy="533520"/>
            <a:chOff x="4876920" y="3581280"/>
            <a:chExt cx="1284120" cy="533520"/>
          </a:xfrm>
        </p:grpSpPr>
        <p:sp>
          <p:nvSpPr>
            <p:cNvPr id="208" name=""/>
            <p:cNvSpPr/>
            <p:nvPr/>
          </p:nvSpPr>
          <p:spPr>
            <a:xfrm flipH="1">
              <a:off x="5181120" y="3581280"/>
              <a:ext cx="304920" cy="5335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86400" y="3581280"/>
              <a:ext cx="380880" cy="5335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5867280" y="3657600"/>
                  <a:ext cx="2937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4876920" y="3657600"/>
                  <a:ext cx="30456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 rot="10800000">
                <a:off x="4800600" y="4267080"/>
                <a:ext cx="7621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Gc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 rot="10800000">
                <a:off x="5943600" y="4267080"/>
                <a:ext cx="7621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Gc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038480" y="4876920"/>
                <a:ext cx="12193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⋯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970520" y="2846520"/>
                <a:ext cx="8589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564000" y="2924280"/>
                <a:ext cx="6476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905120" y="1905120"/>
                <a:ext cx="5181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7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8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600200" y="1981080"/>
            <a:ext cx="5638680" cy="45720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963800" y="3048120"/>
                <a:ext cx="5275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1600200" y="3124080"/>
            <a:ext cx="5638680" cy="45720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312408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057400" y="3886200"/>
            <a:ext cx="1876320" cy="457200"/>
            <a:chOff x="2057400" y="3886200"/>
            <a:chExt cx="1876320" cy="457200"/>
          </a:xfrm>
        </p:grpSpPr>
        <p:sp>
          <p:nvSpPr>
            <p:cNvPr id="223" name=""/>
            <p:cNvSpPr/>
            <p:nvPr/>
          </p:nvSpPr>
          <p:spPr>
            <a:xfrm flipH="1">
              <a:off x="2514240" y="3886200"/>
              <a:ext cx="304920" cy="4572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00400" y="3886200"/>
              <a:ext cx="304920" cy="4572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2057400" y="3962520"/>
                  <a:ext cx="38088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3581280" y="3962520"/>
                  <a:ext cx="352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" name=""/>
          <p:cNvGrpSpPr/>
          <p:nvPr/>
        </p:nvGrpSpPr>
        <p:grpSpPr>
          <a:xfrm>
            <a:off x="3581280" y="2590920"/>
            <a:ext cx="1876320" cy="457200"/>
            <a:chOff x="3581280" y="2590920"/>
            <a:chExt cx="1876320" cy="457200"/>
          </a:xfrm>
        </p:grpSpPr>
        <p:sp>
          <p:nvSpPr>
            <p:cNvPr id="228" name=""/>
            <p:cNvSpPr/>
            <p:nvPr/>
          </p:nvSpPr>
          <p:spPr>
            <a:xfrm flipH="1">
              <a:off x="4038120" y="2590920"/>
              <a:ext cx="304920" cy="4572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24280" y="2590920"/>
              <a:ext cx="304920" cy="4572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3581280" y="2667240"/>
                  <a:ext cx="38088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5105160" y="2667240"/>
                  <a:ext cx="352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4952880" y="3886200"/>
            <a:ext cx="1876320" cy="457200"/>
            <a:chOff x="4952880" y="3886200"/>
            <a:chExt cx="1876320" cy="457200"/>
          </a:xfrm>
        </p:grpSpPr>
        <p:sp>
          <p:nvSpPr>
            <p:cNvPr id="233" name=""/>
            <p:cNvSpPr/>
            <p:nvPr/>
          </p:nvSpPr>
          <p:spPr>
            <a:xfrm flipH="1">
              <a:off x="5409720" y="3886200"/>
              <a:ext cx="304920" cy="4572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95880" y="3886200"/>
              <a:ext cx="304920" cy="4572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4952880" y="3962520"/>
                  <a:ext cx="38088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6476760" y="3962520"/>
                  <a:ext cx="352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7" name=""/>
          <p:cNvSpPr/>
          <p:nvPr/>
        </p:nvSpPr>
        <p:spPr>
          <a:xfrm>
            <a:off x="1676520" y="4648320"/>
            <a:ext cx="5638680" cy="45720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752480" y="4572000"/>
                <a:ext cx="54864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hh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h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h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hg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hg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g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g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3048120" y="464832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19720" y="464832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464832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对小波包的实际意义的分析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参数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j,k,n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的意义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905120" y="2819520"/>
                <a:ext cx="6019560" cy="28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小波库中的一个函数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参数</m:t>
                        </m:r>
                        <m:r>
                          <m:t xml:space="preserve">j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尺度指标（频域参数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参数</m:t>
                        </m:r>
                        <m:r>
                          <m:t xml:space="preserve">k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位置指标（时间参数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参数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振荡次数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∴</m:t>
                        </m:r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是中心在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－</m:t>
                            </m:r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支集大小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数量级为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，振荡次数为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的小波函数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对小波包的实际意义的分析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当参数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j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固定时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373040" y="2795760"/>
                <a:ext cx="65232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小波库中的函数</m:t>
                        </m:r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sup>
                                </m:s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构成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的正交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基，此时，变换类似与一个加窗</m:t>
                        </m:r>
                        <m:r>
                          <m:rPr>
                            <m:lit/>
                            <m:nor/>
                          </m:rPr>
                          <m:t xml:space="preserve">Fourier</m:t>
                        </m:r>
                        <m:r>
                          <m:rPr>
                            <m:lit/>
                            <m:nor/>
                          </m:rPr>
                          <m:t xml:space="preserve">变换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066680" y="3886200"/>
            <a:ext cx="77724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当参数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固定时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523880" y="4495680"/>
                <a:ext cx="65232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小波库中的函数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基的选择问题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2940120"/>
            <a:ext cx="777240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在对函数或信号进行小波包分解时，由于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W</a:t>
            </a:r>
            <a:r>
              <a:rPr b="0" lang="zh-CN" sz="3200" spc="-1" strike="noStrike" baseline="-25000">
                <a:solidFill>
                  <a:srgbClr val="5b5249"/>
                </a:solidFill>
                <a:latin typeface="Times New Roman"/>
              </a:rPr>
              <a:t>j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有不同的分解方式，即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W</a:t>
            </a:r>
            <a:r>
              <a:rPr b="0" lang="zh-CN" sz="3200" spc="-1" strike="noStrike" baseline="-25000">
                <a:solidFill>
                  <a:srgbClr val="5b5249"/>
                </a:solidFill>
                <a:latin typeface="Times New Roman"/>
              </a:rPr>
              <a:t>j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有不同的正交基，因此，我们面临“最优基”的选择问题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代价函数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M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对一个输入数列，我们从其小波包变换中选出一个输出数列，并计算其代价函数；则代价函数最小的输出数列所对应的基，则是对应与输入数列的“最优基”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代价函数的基本要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单调性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可加性（次可加性）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常用代价函数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数列中大于给定门限的系数的个数。即预先给定一门限值          ，并计数数列中绝对值大于   的元素的个数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952880" y="2666880"/>
                <a:ext cx="758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581280" y="3200400"/>
                <a:ext cx="2714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1066680" y="3809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范数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438280" y="4419720"/>
                <a:ext cx="4876920" cy="19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通常选，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＝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</m:e>
                        </m:nary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sup>
                        </m:sSup>
                        <m:m>
                          <m:mr>
                            <m:e/>
                            <m:e/>
                            <m:e>
                              <m:r>
                                <m:t xml:space="preserve">p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（范数愈小，能量愈集中。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常用代价函数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447920" y="2819520"/>
                <a:ext cx="7467480" cy="19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</m:nary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与均方意义下恢复原始信号所需的系数个数成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正比。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常用代价函数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能量对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209680" y="3276720"/>
                <a:ext cx="511020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</m:nary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表征信号的系数间的相关性。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3532320" cy="2193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971800" y="3733920"/>
            <a:ext cx="36226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最优基”的搜索方法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二元树搜索方法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3124080"/>
            <a:ext cx="3733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4267080"/>
            <a:ext cx="1676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4267080"/>
            <a:ext cx="1676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200400" y="3581280"/>
            <a:ext cx="380880" cy="5335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3581280"/>
            <a:ext cx="380880" cy="5335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3657600" y="3124080"/>
                <a:ext cx="457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730600" y="4267080"/>
                <a:ext cx="482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711680" y="4203720"/>
                <a:ext cx="482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905120" y="4952880"/>
                <a:ext cx="46479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选择准则：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若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则选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＋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否则，选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例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209680" y="2514600"/>
            <a:ext cx="4800600" cy="2971800"/>
            <a:chOff x="2209680" y="2514600"/>
            <a:chExt cx="4800600" cy="2971800"/>
          </a:xfrm>
        </p:grpSpPr>
        <p:sp>
          <p:nvSpPr>
            <p:cNvPr id="281" name=""/>
            <p:cNvSpPr/>
            <p:nvPr/>
          </p:nvSpPr>
          <p:spPr>
            <a:xfrm>
              <a:off x="2209680" y="2514600"/>
              <a:ext cx="4800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09680" y="3429000"/>
              <a:ext cx="22096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00240" y="3429000"/>
              <a:ext cx="22100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3276360" y="2971800"/>
              <a:ext cx="457200" cy="4572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86040" y="2971800"/>
              <a:ext cx="533520" cy="4572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09680" y="426744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04960" y="426744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00240" y="426744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95880" y="426744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666880" y="3810240"/>
              <a:ext cx="304560" cy="4572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09880" y="3810240"/>
              <a:ext cx="304560" cy="4572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257080" y="3810240"/>
              <a:ext cx="228600" cy="4572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24480" y="3810240"/>
              <a:ext cx="228600" cy="4572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09680" y="518184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19160" y="518184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28640" y="518184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14440" y="518184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00240" y="518184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518184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5880" y="518184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5360" y="518184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361600" y="4648320"/>
              <a:ext cx="152280" cy="5335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95480" y="4648320"/>
              <a:ext cx="152280" cy="5335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580920" y="4648320"/>
              <a:ext cx="75960" cy="5335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90760" y="4648320"/>
              <a:ext cx="152280" cy="5335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4952520" y="4648320"/>
              <a:ext cx="75960" cy="5335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86040" y="4648320"/>
              <a:ext cx="76320" cy="5335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6247800" y="4648320"/>
              <a:ext cx="152280" cy="5335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5360" y="4648320"/>
              <a:ext cx="152280" cy="5335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例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251460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09680" y="3429000"/>
            <a:ext cx="22100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0(20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0600" y="3429000"/>
            <a:ext cx="22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22      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276720" y="2971800"/>
            <a:ext cx="457200" cy="457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86400" y="2971800"/>
            <a:ext cx="533520" cy="457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2670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3(11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42670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7(12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42670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1(1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42670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4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2666520" y="3809880"/>
            <a:ext cx="304920" cy="457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3809880"/>
            <a:ext cx="304920" cy="457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257440" y="3809880"/>
            <a:ext cx="228600" cy="457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3809880"/>
            <a:ext cx="228600" cy="457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5181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006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100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6*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05720" y="5181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361960" y="4648320"/>
            <a:ext cx="152280" cy="53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95480" y="4648320"/>
            <a:ext cx="152640" cy="53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581280" y="4648320"/>
            <a:ext cx="76320" cy="53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4648320"/>
            <a:ext cx="152280" cy="53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952880" y="4648320"/>
            <a:ext cx="76320" cy="53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86400" y="4648320"/>
            <a:ext cx="76320" cy="53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6248160" y="4648320"/>
            <a:ext cx="152280" cy="53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05720" y="4648320"/>
            <a:ext cx="152280" cy="53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例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09680" y="251460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09680" y="3429000"/>
            <a:ext cx="22100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0(20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3429000"/>
            <a:ext cx="22096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22      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2971800"/>
            <a:ext cx="457200" cy="457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86400" y="2971800"/>
            <a:ext cx="533520" cy="457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09680" y="42670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3(11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505320" y="42670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7(12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00600" y="42670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1(1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5880" y="42670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4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666520" y="3809880"/>
            <a:ext cx="304920" cy="457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09880" y="3809880"/>
            <a:ext cx="304920" cy="457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5257440" y="3809880"/>
            <a:ext cx="228600" cy="457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324480" y="3809880"/>
            <a:ext cx="228600" cy="457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51814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51814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29000" y="51814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14800" y="51814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006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6*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05720" y="5181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361960" y="4648320"/>
            <a:ext cx="152280" cy="53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95480" y="4648320"/>
            <a:ext cx="152640" cy="53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81280" y="4648320"/>
            <a:ext cx="76320" cy="53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91120" y="4648320"/>
            <a:ext cx="152280" cy="53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952880" y="4648320"/>
            <a:ext cx="76320" cy="53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4648320"/>
            <a:ext cx="76320" cy="53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6248160" y="4648320"/>
            <a:ext cx="152280" cy="53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5720" y="4648320"/>
            <a:ext cx="152280" cy="53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向二维的推广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2590920"/>
            <a:ext cx="1067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48120" y="3048120"/>
            <a:ext cx="13716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29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292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3048120" y="4114800"/>
                <a:ext cx="236196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00200" y="2438280"/>
            <a:ext cx="57150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286000"/>
            <a:ext cx="3810240" cy="15228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3581280"/>
            <a:ext cx="556236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3429000"/>
            <a:ext cx="1981440" cy="15228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3429000"/>
            <a:ext cx="18288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572000"/>
            <a:ext cx="556236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419720"/>
            <a:ext cx="1981440" cy="15228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4419720"/>
            <a:ext cx="18288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419720"/>
            <a:ext cx="990720" cy="152280"/>
          </a:xfrm>
          <a:prstGeom prst="rect">
            <a:avLst/>
          </a:prstGeom>
          <a:solidFill>
            <a:srgbClr val="ff00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5410080"/>
            <a:ext cx="182880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5410080"/>
            <a:ext cx="1981440" cy="15264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5410080"/>
            <a:ext cx="990720" cy="152640"/>
          </a:xfrm>
          <a:prstGeom prst="rect">
            <a:avLst/>
          </a:prstGeom>
          <a:solidFill>
            <a:srgbClr val="ff00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5410080"/>
            <a:ext cx="53352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5943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小波变换对频域的分解情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小波包分解：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对信号高频部分的再分解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15000" y="4324320"/>
                <a:ext cx="17524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838080" y="2743200"/>
                <a:ext cx="76788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小波分解：</m:t>
                    </m:r>
                    <m:m>
                      <m:mr>
                        <m:e/>
                        <m:e/>
                      </m:mr>
                    </m:m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⊕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 flipH="1">
            <a:off x="6019920" y="3429000"/>
            <a:ext cx="380880" cy="9144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3429000"/>
            <a:ext cx="457200" cy="9144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486400" y="3657600"/>
                <a:ext cx="5335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010280" y="3733920"/>
                <a:ext cx="338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小波包的定义：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371600" y="2209680"/>
                <a:ext cx="612936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设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和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分别是尺度函数和小波函数，</m:t>
                        </m:r>
                      </m:e>
                      <m:e>
                        <m:sSub>
                          <m:e>
                            <m:r>
                              <m:t xml:space="preserve">令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＝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＝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（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（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定义的函数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称为关于尺度函数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的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小波包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476360" y="1628640"/>
                <a:ext cx="6551640" cy="423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设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和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分别是尺度函数和小波函数，</m:t>
                        </m:r>
                      </m:e>
                      <m:e>
                        <m:sSub>
                          <m:e>
                            <m:r>
                              <m:t xml:space="preserve">令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＝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＝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l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l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（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l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l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（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定义的函数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908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小波包函数的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Fourier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变换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95640" y="1916280"/>
                <a:ext cx="396072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设n</m:t>
                        </m:r>
                        <m:r>
                          <m:rPr>
                            <m:lit/>
                            <m:nor/>
                          </m:rPr>
                          <m:t xml:space="preserve">的二进制表示为：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nary>
                        <m:m>
                          <m:mr>
                            <m:e/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e>
                        <m:r>
                          <m:t xml:space="preserve">当</m:t>
                        </m:r>
                        <m:m>
                          <m:mr>
                            <m:e/>
                            <m:e/>
                          </m:mr>
                        </m: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时，我们有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＝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m>
                                    <m:mr>
                                      <m:e/>
                                      <m:e/>
                                      <m:e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s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m>
                                    <m:mr>
                                      <m:e/>
                                      <m:e/>
                                      <m:e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&gt;</m:t>
                                        </m:r>
                                        <m:r>
                                          <m:t xml:space="preserve">s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则：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ψ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iω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p>
                                        <m:r>
                                          <m:t xml:space="preserve">j</m:t>
                                        </m:r>
                                      </m:sup>
                                    </m:sSup>
                                  </m:den>
                                </m:f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小波 包分解</cp:keywords>
  <dc:language>en-US</dc:language>
  <cp:lastModifiedBy/>
  <cp:revision>0</cp:revision>
  <dc:subject/>
  <dc:title/>
</cp:coreProperties>
</file>