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CDF-0ABA-4BAA-9E5A-5E395D3A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654-9BE8-409A-AAE0-8307FF70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6BD-6938-40FA-AC9C-C27AD05E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4E8-2BAF-46EB-B772-92E3764A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76A7-5A23-4C9F-9E4D-6536F9B9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88A7-6BE5-41EC-9E49-C82E92B5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861A-15D0-48EB-90AB-8219934C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CE62-37FC-4532-8B7F-384C4C99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0C79-9DE3-40BD-8A78-1DEF149B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FA15-F8C2-486B-9A17-19F08EA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0458-76DA-47BF-9A09-337FA2FC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8BE-D902-4095-B591-CC4C04B8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07A7-342F-4A2B-A4C7-8EB802BE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E976-5DC7-4987-9054-85779A2D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61F7-CA7C-48D2-8592-21F3C724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C009-BF05-4CB4-872F-DF4CF09F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2BD3-EB82-48B2-9301-410EA595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435-B808-4103-B7E6-1F7A67CE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FF2-C88B-4B6D-8FE0-1008CE8A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925-12AC-47A1-99E2-A2AFC644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E41-220C-48D6-9713-4FE1E5E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E1B-F742-4EE8-9E91-08D2F837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65B-8298-4FEE-A0CD-43781F1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802-38BF-4385-BED9-29684CFA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511F-E4BF-41A2-9840-F62F8DF729B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6D50-5BE3-420A-89CA-5DD750CB7F6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99"/>
                </a:solidFill>
                <a:latin typeface="華康少女文字W5"/>
                <a:ea typeface="華康少女文字W5"/>
              </a:rPr>
              <a:t>◎</a:t>
            </a:r>
            <a:r>
              <a:rPr b="0" lang="zh-TW" sz="5400" spc="-1" strike="noStrike">
                <a:solidFill>
                  <a:srgbClr val="000099"/>
                </a:solidFill>
                <a:latin typeface="華康少女文字W5"/>
                <a:ea typeface="華康少女文字W5"/>
              </a:rPr>
              <a:t>作者</a:t>
            </a:r>
            <a:r>
              <a:rPr b="0" lang="zh-TW" sz="5400" spc="-1" strike="noStrike">
                <a:solidFill>
                  <a:srgbClr val="000099"/>
                </a:solidFill>
                <a:latin typeface="華康少女文字W5"/>
                <a:ea typeface="華康少女文字W5"/>
              </a:rPr>
              <a:t>: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  <a:ea typeface="華康少女文字W5"/>
              </a:rPr>
              <a:t>XX</a:t>
            </a:r>
            <a:r>
              <a:rPr b="0" lang="zh-TW" sz="5400" spc="-1" strike="noStrike">
                <a:solidFill>
                  <a:srgbClr val="000099"/>
                </a:solidFill>
                <a:latin typeface="Times New Roman"/>
                <a:ea typeface="華康少女文字W5"/>
              </a:rPr>
              <a:t>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457200"/>
            <a:ext cx="632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3240" y="304920"/>
            <a:ext cx="1648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71640" y="1844280"/>
            <a:ext cx="777240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象鼻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虫</a:t>
            </a:r>
            <a:r>
              <a:rPr b="0" lang="zh-TW" sz="88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的生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态</a:t>
            </a:r>
            <a:endParaRPr b="0" lang="en-US" sz="8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fefd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象鼻蟲的身體介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-46080" y="-1058760"/>
            <a:ext cx="9236160" cy="8978400"/>
            <a:chOff x="-46080" y="-1058760"/>
            <a:chExt cx="9236160" cy="8978400"/>
          </a:xfrm>
        </p:grpSpPr>
        <p:sp>
          <p:nvSpPr>
            <p:cNvPr id="96" name=""/>
            <p:cNvSpPr/>
            <p:nvPr/>
          </p:nvSpPr>
          <p:spPr>
            <a:xfrm>
              <a:off x="46080" y="-1058760"/>
              <a:ext cx="9144000" cy="81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46080" y="7094160"/>
              <a:ext cx="18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984240"/>
            <a:ext cx="6172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絨黑斑象鼻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419720" cy="4876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694b6"/>
                </a:solidFill>
                <a:latin typeface="Times New Roman"/>
              </a:rPr>
              <a:t>外觀特徵：</a:t>
            </a:r>
            <a:br>
              <a:rPr sz="2400"/>
            </a:b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體長</a:t>
            </a: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10</a:t>
            </a: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～</a:t>
            </a: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13mm</a:t>
            </a: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。身體外形粗寬隆起；體表滿覆密集的米白色、米黃色、黑褐色和黑色長鱗毛；翅鞘的鱗毛叢呈瘤突狀隆起；各腳脛節端部外側有鋸齒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94b6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694b6"/>
                </a:solidFill>
                <a:latin typeface="新細明體"/>
              </a:rPr>
              <a:t>生態習性</a:t>
            </a:r>
            <a:r>
              <a:rPr b="0" lang="zh-TW" sz="2400" spc="-1" strike="noStrike">
                <a:solidFill>
                  <a:srgbClr val="e94d00"/>
                </a:solidFill>
                <a:latin typeface="新細明體"/>
              </a:rPr>
              <a:t>：</a:t>
            </a:r>
            <a:br>
              <a:rPr sz="2400"/>
            </a:br>
            <a:r>
              <a:rPr b="0" lang="zh-TW" sz="2400" spc="-1" strike="noStrike">
                <a:solidFill>
                  <a:srgbClr val="303030"/>
                </a:solidFill>
                <a:latin typeface="新細明體"/>
              </a:rPr>
              <a:t>成蟲出現於春至秋季，生活在平地和低海拔山區。寄主植物為甘藷和朱槿，夜晚具白趨光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52880" y="24382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  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3400" y="43419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085760" cy="77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82600" y="1882800"/>
            <a:ext cx="57240" cy="3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82600" y="1882800"/>
            <a:ext cx="206280" cy="20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28560" y="1882800"/>
            <a:ext cx="206640" cy="20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257800" y="1828800"/>
            <a:ext cx="3581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694b6"/>
            </a:gs>
            <a:gs pos="100000">
              <a:srgbClr val="fefd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捲葉象鼻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捲葉象鼻蟲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體長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 - 11m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雌蟲稍小，體色為黑色，翅鞘略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帶暗褐色，生活於低中海拔山區，寄主植物為水麻，習性機警，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要極為謹慎，稍有動靜，立刻會裝死掉落地面，就看不見了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！本種數量較棕長頸捲葉象鼻蟲少很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3581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3694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886200"/>
            <a:ext cx="9144000" cy="28382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外觀近似黑點捲葉象鼻蟲，但本種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翅鞘黑色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，不是紅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頭部橙褐色，具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條短的黑色縱帶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。各腳黃褐色。生活於低海拔山區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，喜歡在台灣朴樹葉片上成群築巢 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三錐象鼻蟲科 近似黃紋三錐象鼻蟲，但本種體型較小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翅翹各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枚黃色斑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頭部前方的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長吻口器呈直條狀，觸角長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在基部的兩邊，生活於低海拔山區，本種數量較黃紋三錐象鼻蟲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295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952880" cy="2266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黃紋三點象鼻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99"/>
            </a:gs>
            <a:gs pos="100000">
              <a:srgbClr val="3694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143000"/>
          </a:xfrm>
          <a:prstGeom prst="rect">
            <a:avLst/>
          </a:prstGeom>
          <a:gradFill rotWithShape="0">
            <a:gsLst>
              <a:gs pos="0">
                <a:srgbClr val="4a5730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象鼻蟲的一種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724280"/>
            <a:ext cx="4572000" cy="764280"/>
          </a:xfrm>
          <a:prstGeom prst="rect">
            <a:avLst/>
          </a:prstGeom>
          <a:solidFill>
            <a:srgbClr val="6699ff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四紋象鼻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0" y="47242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800600"/>
            <a:ext cx="4038840" cy="581400"/>
          </a:xfrm>
          <a:prstGeom prst="rect">
            <a:avLst/>
          </a:prstGeom>
          <a:solidFill>
            <a:srgbClr val="ff3300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bbd83"/>
                </a:solidFill>
                <a:latin typeface="Times New Roman"/>
              </a:rPr>
              <a:t>姬琉璃捲葉象鼻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06d5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心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438280"/>
            <a:ext cx="6781680" cy="324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覺得象鼻蟲是一種很好玩的昆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牠的鼻子竟然這麼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這次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才了解到象鼻蟲的生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許許多多的昆蟲經過這次製作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也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到了很多電腦的技巧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希望大家以後看到昆蟲不要亂玩他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fd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童詩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728720"/>
            <a:ext cx="7238880" cy="34383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TW" sz="3800" spc="-1" strike="noStrike">
                <a:solidFill>
                  <a:srgbClr val="ff3300"/>
                </a:solidFill>
                <a:latin typeface="Times New Roman"/>
              </a:rPr>
              <a:t>象鼻蟲                      象鼻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3300"/>
                </a:solidFill>
                <a:latin typeface="Times New Roman"/>
              </a:rPr>
              <a:t>你的鼻子為甚麼這麼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TW" sz="4000" spc="-1" strike="noStrike">
                <a:solidFill>
                  <a:srgbClr val="ff3300"/>
                </a:solidFill>
                <a:latin typeface="Times New Roman"/>
              </a:rPr>
              <a:t>是不是因為…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Times New Roman"/>
              </a:rPr>
              <a:t>說謊才會那麼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06d5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62520" y="1752480"/>
            <a:ext cx="4724280" cy="2590920"/>
          </a:xfrm>
          <a:prstGeom prst="wedgeRoundRectCallout">
            <a:avLst>
              <a:gd name="adj1" fmla="val -46574"/>
              <a:gd name="adj2" fmla="val 60601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謝謝觀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5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謝謝觀賞</a:t>
            </a:r>
            <a:endParaRPr b="0" lang="en-US" sz="75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象鼻虫 动物 生态</cp:keywords>
  <dc:language>en-US</dc:language>
  <cp:lastModifiedBy/>
  <cp:revision>0</cp:revision>
  <dc:subject/>
  <dc:title/>
</cp:coreProperties>
</file>