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576A-25B2-485F-8915-159BC870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541-848E-445C-B7C7-1AFD4AF0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4FE-FA66-488F-B8AE-D0026725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F40-A945-4792-8274-9211854C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5C6C-FBA8-43E3-A9BD-93626CFA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68DA-374E-4074-9D48-C1544F13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EF70-9E7F-4BB7-9FFA-63D1FDB3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A56C-28A9-406C-9CA6-6D207353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5A3A-6781-4B81-8740-7941E885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DA63-BE6F-4667-8689-B284F657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D75A-63E4-4D04-A48A-A826FE61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B52-6FA1-4235-A9D9-96BE6DBD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54F1-76D2-421B-9B5D-7FF346C3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7A64-040A-4D13-850E-B80DDCE5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13DE-FBC0-480B-8248-4124B562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5EAF-816E-4B41-B210-06B5657A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5203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859520" y="403812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11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65203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859520" y="4953960"/>
            <a:ext cx="1275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B346-06FC-4E98-9178-1B676BDC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6A0-EEFB-4AE6-9F7F-A9306A7E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368-8CCD-42C4-9BF3-A39691EE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E8F-29CA-445C-BDA4-6D4D2EB4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1280" y="685440"/>
            <a:ext cx="5561280" cy="1554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E7A-C81C-4424-AFEF-594AD6A9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EE43-57A7-4281-96BF-4C4DEBD3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11160" y="495396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8DC-24E1-4EE9-85C5-559ED85D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8112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11160" y="4038120"/>
            <a:ext cx="1932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81120" y="4953960"/>
            <a:ext cx="396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9AA-E903-45F4-99F1-FBFE8C46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A0C9-0D85-4FB5-ACFA-38033042AC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AEA5-6B8E-474D-87CE-D4BEDDA6060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6738" r="0" b="0"/>
          <a:stretch/>
        </p:blipFill>
        <p:spPr>
          <a:xfrm>
            <a:off x="1600200" y="1587600"/>
            <a:ext cx="7238880" cy="4449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6836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6836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0" y="229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36504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寻访“丝绸之路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9781"/>
          <a:stretch/>
        </p:blipFill>
        <p:spPr>
          <a:xfrm>
            <a:off x="1311120" y="1066680"/>
            <a:ext cx="4784760" cy="4953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5880" y="185904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春风不度玉门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172200" y="2743200"/>
            <a:ext cx="289548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47640" y="765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地势高敞，人广昌盛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吐鲁番（高昌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2861" r="0" b="0"/>
          <a:stretch/>
        </p:blipFill>
        <p:spPr>
          <a:xfrm>
            <a:off x="2843280" y="2060640"/>
            <a:ext cx="46591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7400" y="920880"/>
            <a:ext cx="632448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00200" y="152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27de0"/>
                </a:solidFill>
                <a:latin typeface="宋体"/>
              </a:rPr>
              <a:t>音乐之都——库车（龟兹）</a:t>
            </a:r>
            <a:r>
              <a:rPr b="1" lang="zh-CN" sz="4000" spc="-1" strike="noStrike">
                <a:solidFill>
                  <a:srgbClr val="727de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9907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龟兹是古代西域位极显赫的大国，丝绸之路中战略重地，中西文化的荟萃之所，也是著名的音乐歌舞之乡，隋唐时“龟兹乐舞，名噪中原”，唐玄奘西天取经到过此地，盛赞“管弦伎舞，特善诸国”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51080" y="2125800"/>
            <a:ext cx="4643280" cy="2606400"/>
            <a:chOff x="2251080" y="2125800"/>
            <a:chExt cx="4643280" cy="2606400"/>
          </a:xfrm>
        </p:grpSpPr>
        <p:sp>
          <p:nvSpPr>
            <p:cNvPr id="148" name=""/>
            <p:cNvSpPr/>
            <p:nvPr/>
          </p:nvSpPr>
          <p:spPr>
            <a:xfrm>
              <a:off x="2251080" y="2125800"/>
              <a:ext cx="4643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51080" y="2125800"/>
              <a:ext cx="4643280" cy="26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5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177920" y="2681280"/>
            <a:ext cx="678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3962520" cy="2514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177920" y="2092320"/>
            <a:ext cx="678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416640" y="3048120"/>
            <a:ext cx="2041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伊斯兰教中心——喀什（疏勒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1880" y="250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4038840" cy="2355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83800" y="1523880"/>
            <a:ext cx="1155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香妃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55840" y="26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514600" y="3784680"/>
            <a:ext cx="4038480" cy="2692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934320" y="3733920"/>
            <a:ext cx="609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9600" y="6248520"/>
            <a:ext cx="83808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553080" y="990720"/>
            <a:ext cx="23083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3465" t="4948" r="3465" b="6433"/>
          <a:stretch/>
        </p:blipFill>
        <p:spPr>
          <a:xfrm>
            <a:off x="2438280" y="152280"/>
            <a:ext cx="4419720" cy="2946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14600" y="3505320"/>
            <a:ext cx="4343400" cy="3147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315200" y="533520"/>
            <a:ext cx="457200" cy="21283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4162320"/>
            <a:ext cx="457200" cy="1557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沙漠之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76520" y="795240"/>
            <a:ext cx="7010280" cy="4691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657600" y="5791320"/>
            <a:ext cx="266688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丝绸之路上的古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3527" t="5272" r="3527" b="5017"/>
          <a:stretch/>
        </p:blipFill>
        <p:spPr>
          <a:xfrm>
            <a:off x="3276720" y="133200"/>
            <a:ext cx="5105160" cy="329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82520" y="2128680"/>
            <a:ext cx="8778960" cy="360"/>
            <a:chOff x="182520" y="2128680"/>
            <a:chExt cx="8778960" cy="360"/>
          </a:xfrm>
        </p:grpSpPr>
        <p:sp>
          <p:nvSpPr>
            <p:cNvPr id="173" name=""/>
            <p:cNvSpPr/>
            <p:nvPr/>
          </p:nvSpPr>
          <p:spPr>
            <a:xfrm>
              <a:off x="182520" y="2128680"/>
              <a:ext cx="8778960" cy="36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82520" y="2128680"/>
              <a:ext cx="8778960" cy="360"/>
              <a:chOff x="182520" y="2128680"/>
              <a:chExt cx="8778960" cy="360"/>
            </a:xfrm>
          </p:grpSpPr>
          <p:sp>
            <p:nvSpPr>
              <p:cNvPr id="175" name=""/>
              <p:cNvSpPr/>
              <p:nvPr/>
            </p:nvSpPr>
            <p:spPr>
              <a:xfrm>
                <a:off x="182520" y="2128680"/>
                <a:ext cx="8778960" cy="36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82520" y="2128680"/>
                <a:ext cx="8778960" cy="36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6858000" cy="4915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038480" y="5943600"/>
            <a:ext cx="175284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帕米尔高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6324480" cy="3871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343400" y="5410080"/>
            <a:ext cx="144792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山天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5867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86950"/>
                </a:solidFill>
                <a:latin typeface="Times New Roman"/>
              </a:rPr>
              <a:t>谢谢观赏！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438280" y="4800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丝绸之路的主线（长安—敦煌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3341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丝绸之路的南线（阳关—葱岭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58672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丝绸之路的北线（玉门关—葱岭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6324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丝绸之路的国外部分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8935" t="4647" r="11753" b="33399"/>
          <a:stretch/>
        </p:blipFill>
        <p:spPr>
          <a:xfrm>
            <a:off x="1371600" y="360360"/>
            <a:ext cx="76201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24040" y="1920960"/>
            <a:ext cx="5697360" cy="3017880"/>
            <a:chOff x="1724040" y="1920960"/>
            <a:chExt cx="5697360" cy="3017880"/>
          </a:xfrm>
        </p:grpSpPr>
        <p:sp>
          <p:nvSpPr>
            <p:cNvPr id="97" name=""/>
            <p:cNvSpPr/>
            <p:nvPr/>
          </p:nvSpPr>
          <p:spPr>
            <a:xfrm>
              <a:off x="1724040" y="1920960"/>
              <a:ext cx="5697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24040" y="1920960"/>
              <a:ext cx="56973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  </a:t>
              </a:r>
              <a:r>
                <a:rPr b="0" lang="zh-CN" sz="18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 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68360" y="609480"/>
            <a:ext cx="5184720" cy="5410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971800" y="6248520"/>
            <a:ext cx="1600200" cy="45972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西安  鼓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11653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54f41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d54f41"/>
                </a:solidFill>
                <a:latin typeface="宋体"/>
              </a:rPr>
              <a:t>西安，古称长安，为中国六大古都（北京、西安、洛阳、开封、南京、杭州）之首，与世界名城雅典、开罗、罗马齐名，并称世界四大古都，闻名遐迩的“丝绸之路”就是从这里开始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2286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54f41"/>
                </a:solidFill>
                <a:latin typeface="Times New Roman"/>
              </a:rPr>
              <a:t>河西走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1066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河西四镇：武威、张掖、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酒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敦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ygb.gif (17579 bytes)"/>
          <p:cNvPicPr/>
          <p:nvPr/>
        </p:nvPicPr>
        <p:blipFill>
          <a:blip r:embed="rId1"/>
          <a:stretch/>
        </p:blipFill>
        <p:spPr>
          <a:xfrm>
            <a:off x="1447920" y="3962520"/>
            <a:ext cx="2590560" cy="2071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3880" y="6172200"/>
            <a:ext cx="2362320" cy="45972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葡萄美酒夜光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2379600"/>
            <a:ext cx="9144000" cy="2098440"/>
            <a:chOff x="0" y="2379600"/>
            <a:chExt cx="9144000" cy="2098440"/>
          </a:xfrm>
        </p:grpSpPr>
        <p:sp>
          <p:nvSpPr>
            <p:cNvPr id="108" name=""/>
            <p:cNvSpPr/>
            <p:nvPr/>
          </p:nvSpPr>
          <p:spPr>
            <a:xfrm>
              <a:off x="0" y="2379600"/>
              <a:ext cx="6786720" cy="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2379600"/>
              <a:ext cx="9144000" cy="2098440"/>
              <a:chOff x="0" y="2379600"/>
              <a:chExt cx="9144000" cy="2098440"/>
            </a:xfrm>
          </p:grpSpPr>
          <p:sp>
            <p:nvSpPr>
              <p:cNvPr id="110" name=""/>
              <p:cNvSpPr/>
              <p:nvPr/>
            </p:nvSpPr>
            <p:spPr>
              <a:xfrm>
                <a:off x="0" y="2379600"/>
                <a:ext cx="5303880" cy="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0" y="2379600"/>
                <a:ext cx="9144000" cy="2098440"/>
                <a:chOff x="0" y="2379600"/>
                <a:chExt cx="9144000" cy="20984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0" y="2379600"/>
                  <a:ext cx="9144000" cy="20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379600"/>
                  <a:ext cx="9144000" cy="12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zh-CN" sz="7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590560" cy="1781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24000" y="18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267080" y="2917800"/>
            <a:ext cx="4724640" cy="3178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67280" y="6248520"/>
            <a:ext cx="1371600" cy="45972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神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1981080"/>
            <a:ext cx="1523880" cy="45972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酒泉公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95280" y="243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54f41"/>
                </a:solidFill>
                <a:latin typeface="Times New Roman"/>
              </a:rPr>
              <a:t>敦煌：东方艺术之都，</a:t>
            </a:r>
            <a:r>
              <a:rPr b="1" lang="zh-CN" sz="2800" spc="-1" strike="noStrike">
                <a:solidFill>
                  <a:srgbClr val="d54f41"/>
                </a:solidFill>
                <a:latin typeface="宋体"/>
              </a:rPr>
              <a:t>古丝绸之路的咽喉要冲</a:t>
            </a:r>
            <a:r>
              <a:rPr b="1" lang="zh-CN" sz="2800" spc="-1" strike="noStrike">
                <a:solidFill>
                  <a:srgbClr val="d54f4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5780" t="7014" r="0" b="0"/>
          <a:stretch/>
        </p:blipFill>
        <p:spPr>
          <a:xfrm>
            <a:off x="1981080" y="1143000"/>
            <a:ext cx="3200400" cy="2652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981080" y="40384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562720" y="1143000"/>
            <a:ext cx="3368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-46080" y="-1343160"/>
            <a:ext cx="9236160" cy="9545400"/>
            <a:chOff x="-46080" y="-1343160"/>
            <a:chExt cx="9236160" cy="9545400"/>
          </a:xfrm>
        </p:grpSpPr>
        <p:sp>
          <p:nvSpPr>
            <p:cNvPr id="125" name=""/>
            <p:cNvSpPr/>
            <p:nvPr/>
          </p:nvSpPr>
          <p:spPr>
            <a:xfrm>
              <a:off x="-46080" y="-1343160"/>
              <a:ext cx="9236160" cy="9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-46080" y="-1343160"/>
              <a:ext cx="9144000" cy="8466120"/>
              <a:chOff x="-46080" y="-1343160"/>
              <a:chExt cx="9144000" cy="8466120"/>
            </a:xfrm>
          </p:grpSpPr>
          <p:sp>
            <p:nvSpPr>
              <p:cNvPr id="127" name=""/>
              <p:cNvSpPr/>
              <p:nvPr/>
            </p:nvSpPr>
            <p:spPr>
              <a:xfrm>
                <a:off x="-46080" y="-1343160"/>
                <a:ext cx="9144000" cy="84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-46080" y="-1343160"/>
                <a:ext cx="91440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8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6934320" cy="3522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52680" y="486108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西出阳关无故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3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267080" y="152280"/>
            <a:ext cx="4724640" cy="3103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4800600" cy="3006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705720" y="5943600"/>
            <a:ext cx="213336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楼兰与罗布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95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玉石故乡——和田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阗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7703" t="0" r="22514" b="0"/>
          <a:stretch/>
        </p:blipFill>
        <p:spPr>
          <a:xfrm>
            <a:off x="1447920" y="1463760"/>
            <a:ext cx="7543800" cy="1355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319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29600" y="6248520"/>
            <a:ext cx="83808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寻访 丝绸 之路</cp:keywords>
  <dc:language>en-US</dc:language>
  <cp:lastModifiedBy/>
  <cp:revision>0</cp:revision>
  <dc:subject/>
  <dc:title/>
</cp:coreProperties>
</file>