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24.gif" ContentType="image/gif"/>
  <Override PartName="/ppt/media/image16.png" ContentType="image/png"/>
  <Override PartName="/ppt/media/image21.gif" ContentType="image/gif"/>
  <Override PartName="/ppt/media/image19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3.gif" ContentType="image/gif"/>
  <Override PartName="/ppt/media/image17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107-9F68-40EC-8E2D-7D6AA5D6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933-965B-4917-ADB1-F2C38C9C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6A4FB-A2EC-4F6F-9236-A0994980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EA348-FCFD-4A7B-B9D4-14F56A78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926F0-3417-4FDF-B0A5-15424608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00C22-7AA0-4971-B675-A73BD13B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EE849-08E6-4EAC-9E00-5B5D8D2B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60D2B-4ECE-4520-9FCF-3C56989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1DBE7-A52F-4142-914D-9E1B642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93210-86A4-43D6-A3E2-A2D11597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9D4B0-8ED2-4566-9239-E5CB580E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A0B3B-03DC-4D14-B829-118D6EB9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9F6-0D48-4924-B968-D38A3901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7CD1E-4201-4A98-85B6-1A0D8EFC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492E6-45F8-4E7D-BDEB-C9138F45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B81B5-23F6-45CD-975B-F1210D37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0E340-A7C7-4522-BA4E-9DF8E996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E9635-6C9F-4B2B-BF1C-72084E92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72265-AA24-4BC2-9D77-ECC59563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4F543-D135-4C73-BE7D-90E0296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71060-B783-4DF3-A9F9-5724F68C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094F5-DF3C-4646-847E-44280F2F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EDE80-87BE-42F6-965D-F9AA52C9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3DA-2C37-41BC-BCD1-5BCBC9AB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0E54E-5699-4361-B84A-AC86BFD5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49C09-0230-495E-9E3E-DB373EF3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104A-468C-41EE-9985-32D0EE9A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AF714-18C3-464C-A154-3D307A0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D1A33-2264-475E-9E31-47A57E9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D9323-AB99-4151-8728-AF84FD0E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76DD4-BC30-49B3-8013-F411EAA5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8FCDB-E45B-4731-B230-A22C03E2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291EF-954F-47D6-A8B1-178E3C6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9C567-D0FA-448B-A442-714A331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65E7-3B8D-43E1-B87A-02D25B73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317D7-B630-4839-819E-314B00AA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82D50-3FEB-4ABE-BB03-2D6999AF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7C102-FD7E-4452-BC38-4BC225A9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381B7-4E82-49E8-96F9-4E929616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DF1B4-768A-4A5D-9E4E-C5BE0796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2981B-CCCF-400E-A52C-94E1CB17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52B6C-DDEC-49A0-B104-ADF80B17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57962-D51A-4CBC-A591-C1B069B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B450B-1B83-47FC-813A-A756CE28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9CB92-47EF-413C-99E9-E509116E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10C8-2A6A-4CCA-A68E-F229492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C4203-E553-4C19-B020-C0FC259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BD3DD-C399-4619-BB44-F713C42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04E7B-7FA6-4E78-A8F0-574425BA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A50FD-F685-4DB3-90F6-F1C3859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E06C0-89E3-4B37-A990-82568DCA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B9DB8-D6F9-4885-8915-F5958967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541BD-CCF6-4E2D-93A7-E98D5B85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EDF0E-AD80-40BD-AD7B-8587F222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B7CC2-F7BF-494B-8166-8E488DCA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FC57E-15D4-4FA9-A373-94581E4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4454-0FE0-4EBD-BC6A-55720974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129B9-9775-41A1-9BB8-DA46437D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FA2D0-6755-4469-BCFD-3E1A47B3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092D9-A595-44FE-9831-DEB5FA0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54EAF-EB56-4C38-AF67-4CF224C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36415-0303-45B4-874D-E29970FA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D16C7-2842-4958-9DAE-97A52B01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9F4B7-ABF6-4466-8E28-4AF2BF37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44526-2C74-4AA3-B9F4-08B1F63D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E9ADA-79E3-4221-A42D-E5733784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2683F-F280-49E0-AABA-03D1FC5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8CF8-C8D8-4ED3-9DDF-6A43D1AE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C388D-EE42-4F77-B274-2919D81C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D205E-4666-46D3-98F1-A7E64BDC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785EA-46C7-45AE-9062-2D77B96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67B17-E82A-4F90-BC2A-66A8320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68DE6-1853-44C3-87F0-E1A374C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D7996-0D48-4DFB-A792-C0B882EA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7758B-A904-4272-BE17-BDDC0DE8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6D599-1312-4E1D-A8CE-7FD44C55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D31EA-BF56-48C4-B52F-1A2A7875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15BAD5-9053-4114-98B8-68805619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D3DF-29AF-444D-933E-64888345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B124A7-5006-4BC9-8BB6-39B997ED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F9E7C3-8B99-4891-85DA-CDEC0549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4AC172-8A3F-42BB-AD65-8227D86A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94773F-ADB3-4A41-889F-43516FD4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B341C5-663B-4637-B528-B3F4137A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D49797-26FC-4C1D-9C8F-E6EB48F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BD4BF0-B6F8-4C10-9797-2ED5CFEA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67AB53-3744-473F-A0D2-85100B7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8ED8A5-D63E-4D6C-BB03-E8C05C83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46D1D6-B32D-4412-8279-DE23E69A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5882-F514-4181-84E8-08F8E226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FF9D06-A8FE-42DC-BC39-DC559975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2C5BB-430A-45AE-AACD-B6F02010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DD567-0D94-4A02-92ED-18C0D60F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32263-D69C-413D-8541-0305A318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8D249-8429-4E5A-9F33-094653F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3820C-726F-4303-BA63-7C96E6A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CBA49-97CD-4E25-AFEE-5E65F814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6F8D3-D75E-4794-8057-5DBAD91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C0726-445D-4188-8EE9-EA798755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2BF3A-C57C-48CC-8359-984129B8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3D87-107D-44C4-BA63-3B75E7C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93F14-5172-49FE-A75B-2CFD2CF1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BA212-0301-4D62-AC73-C49C69BD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023AF-857C-4668-95E9-BBAC32F8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F69D6-74FD-4FDB-B732-C310924D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5BE945-2E51-4E73-A3AB-46B6BC3D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87A9D-27A0-4BAA-9D8C-C60A8122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78898-EB81-4139-86FC-EAF01138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1E9B2-B6AD-4367-B243-0ECB6CAE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8FBBA-0517-4896-9D83-3AD029FA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17BC6-2969-4BE9-A42F-59BD354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8F4-83E8-4ADE-8796-C524310B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A7DA-A733-44AF-B9BA-8AF69DA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B8082-9D51-4027-BA46-CC413AB9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6D4BC-79F9-4A85-B943-18262CC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73710-C08A-450F-A628-B99CF260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BF525-7C64-4E34-9468-73CEC1F8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A28E6-358D-4698-A81A-99152928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5CF75-D9E0-4B89-A18B-A698C1FD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BA06F-B90D-42A6-9314-295277C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7041C-AF81-4C13-90D8-9E3320A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46313-9A64-41CB-96CC-B93A96C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129F9-E732-41EC-8C6A-294321D0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9373-8061-483C-B915-3A621A0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E2552-254F-4FB7-B04F-B8F5D07A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67B23C-64D8-40ED-836A-2666A5A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C488F-BF55-4323-AE14-498F2914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10C91-56E5-433D-AE15-F589F7F6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36A28-4367-473F-9768-F07889C6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661DA-EC0B-4DFD-9DDA-CA669B1C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ADE4F-285D-4967-881C-F8586009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151E28-5AD7-44B0-AA50-525A6F76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85864-B532-4D00-B9D8-E525DAC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82B3C-36EA-4472-8A28-B1448B7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4F96-31EA-4487-9601-83F34E6E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85C60-8DC1-49B5-8F4A-552C1314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020B8-212D-48A9-8214-1552B7C0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220D1-32AF-47C8-AA25-3B2C05E6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CA962-3F6E-4E08-A613-8AC28147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DA621-E3E6-4470-8938-149BDCF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C059B-4ECF-4CE4-8332-091812BB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0598D-B708-4EF0-B2E2-4E2AAEA9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FB69E-C65B-4AB2-97B5-9693EE19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9D2FEA-3902-4475-8C51-921B67F6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ED4673-9DC3-4FA7-A607-F63C7DD7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3E50-9A13-4CBC-A698-B9ED3054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123F7-0BE5-49B8-A974-32F51A5D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A4D95-B034-46AB-889F-D2E494E7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5B121C-0F7D-42A5-B191-989B7FF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4FB0A-2E74-4BE2-B0F2-0F8859E3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961D1-81DB-45D6-91B4-EDB7F8CC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4AD16-C292-4CB6-A3A9-12646768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93AC4-648B-42FB-865A-77B34225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7EB7B-333D-49D0-916F-CC2899BD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5EA5C-7184-4930-9884-3AD5DCDF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FD126-2715-44E5-B7F4-84BBDCC3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700E-F68B-4F01-8634-FFCF1604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FDB19-71EB-40D8-96E6-CB4CCE5E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47151-C7CC-4F2B-BF15-C0B97E5E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6754EA-6428-4F4C-A8F6-4E0390D3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8B8C2-22FC-491E-8E85-089E5731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55FF5-E67F-400D-A66F-55AC998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45700F-13C3-4526-B869-B7AC7F9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427EDF-7C23-42B5-897A-8E04850D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1A936A-3C65-43BD-BB43-ECD92B8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BDF38-66E0-4CCE-9B3B-F3675885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0902D-5E2A-4F0E-AB8F-6EC7A808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25C31-2EA0-4EEB-804D-47C43434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48B48-D698-497D-924E-05F6590C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BB08E6-C62A-46C8-92E1-9586DCAB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F921E-157A-4CAF-918B-F13567DE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9A732C-DF9D-4734-9750-A193AD56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B57B10-CAE0-4B15-ACF9-1073B4C8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69FB5C-02FE-4B2A-9196-9E7B2FF3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8C4937-9FA6-4643-B291-D7098BBF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D8BA9EB-DE5F-407B-8F20-12C8FEEF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B90351A-BFFD-4196-A66B-11A121CA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7DF2D82-D812-4F28-858D-DA25960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A127C-F60C-4A3F-8713-40F528B0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1FFD97-3529-4F4D-9792-21148B07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64A691C-C9F2-4B77-8258-A8D393BC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7688BB5-7360-4E9A-8491-0F6D7075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6192D1-D9EB-4C56-9B31-F6A7EAB8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6D4A74-D133-4F13-AFAB-A51166EE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D52394-2BD8-4167-9DC3-C66E4E4C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5732E-54A0-4497-8860-6FB71477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3C98CA-F14C-4326-82DF-D036F123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CB1E6F-0FB6-4459-8DF7-E4A57E6A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A040C5-16EE-4BE7-B52B-16B9B537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507F7-4254-40F3-9180-8475968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F0A067-3518-437F-93E9-BD5348FE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C2F35C-7F54-4F75-8315-CAF202E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C519CD-23CC-40A8-86AD-37E1284C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395650-52CF-48FE-B8B0-DFE23165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FD2C92-222C-44BB-9761-C00A3FBE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2532C-9CB1-4D94-8070-25BF7229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8E3143-095A-42C8-85F4-241B939C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FCF3BA-5335-447A-A947-1E596291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BB9E9F-8C26-43F0-BD54-AA1CD296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ED6802-9336-4D98-9EDD-87E41B2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651D1-8ED4-4C14-AED4-F031C8B0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A7BAED-4CF2-48CF-A3D4-370B1779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C0C81E-5B4B-4441-BD80-93526377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C9D0E0-E628-4E9B-8304-CE20F4E4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1F0A29-A193-4CF5-8F01-A026B67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5A8F65-90CF-415F-A6FF-C3DDDA00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19EDCE-2E93-4F11-A331-13A4446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CE0A1-C658-4E42-BACA-799A78BA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1E0F55-042B-402C-B861-A30AE166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0E3154-7E32-476A-8AD8-655F7D45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CC441F-4258-42B7-897E-C0362506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542B6-2AF6-41FD-9AF6-4E8A9584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6AC4819-EB40-472B-A279-5FF7C1A3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3A3A7F-7B64-4C47-9D52-8F7B0DE5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86A5EE5-365A-41D4-AA55-0C35BA8C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2297452-9865-45E3-8D14-85AAC5CB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0308896-2E29-4253-AA4C-7E1E54C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A151F6-0C85-40E7-B447-82009CB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EAB9D5-38BD-44C0-B258-193055A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839D2D-693B-40F8-8A94-0F7A0FAB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F918B7-2595-4834-AE5C-B0017D9B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E06823-79D3-4330-B79F-A6A610E7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03D-BA32-4E75-9364-F93C9A27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0FD60-21A0-4EAD-80EC-45CCD87C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72ECD3-419C-4304-9CA1-F74F7D7B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80DB6C-B184-4B2F-B4ED-32210140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FBF53E-6F81-49A7-A5E6-F9E4301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643AE0-AD5A-40F8-AF5C-9CD0CEF5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74E284-5A5A-4F72-A445-C46FB26A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292A70-6729-4ECF-BE8D-506DCB2D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43AC90-71A3-4746-BE37-B1A9A206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8A3C94-AEAA-4C3A-AB76-2ABA190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01922A-F4DA-409E-8935-640D14C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63B705-D711-40BD-89F4-260B2B29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0FDD2-9E39-4CA3-A523-8AC693A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60ACEF-9DB3-4D33-AC67-FD6A9A29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CDB069-351D-443C-AB90-68A897C2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B03FEA-3E67-41D5-BD1C-A7FC8947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988E8-C441-4DB7-AED1-ED5B4765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D4240-FAE8-42D4-9E9B-7E94E0E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4D7CD-6BA4-4679-9704-F32ACACC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09931-1099-41FA-A70A-0B07EFE5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F6D13-6A6B-4CCA-A7EB-5A6242B4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5043-BF63-4AD3-800D-BCFE7216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36F1-D377-49F0-8183-A490CDD9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5DA7-119B-4DAD-8E7C-D838C31F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788-96C0-442D-BA53-19C9C432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5770-5EF6-4149-8E1C-9D2EAA0A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F0A7E-B1A7-437A-ADFE-41DA230E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DA1C8-77E9-43D6-9CDC-06E471B4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697F-147A-4F52-B9CE-4F08E53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ECCA-E92C-47D2-AE2F-78C5253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A4ED-B89F-4E9B-B382-E1D0376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EA73-91AB-49F4-AFCA-9F3D24AE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E486-89C3-48A7-98FA-04AAE843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BD4D-E3FD-4E66-80BA-4F03A153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C93A0-0A33-4CDD-AF99-E9694181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957-1BA2-43F9-8D4B-91C3735F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0425-DB11-426E-8394-19CF6DBB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3E9E2-6F84-499B-9EC8-0A53937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2781-61C6-4F56-BDF3-BA0BB0CE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1456-992B-43EA-B4D1-8B50E8C9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5CED6-96BD-4EAE-8E7C-C682F908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A6E59-4F4F-4D9E-94B0-5788B6B3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9578-6A67-4B62-8A94-7839AF6E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18C8-477D-426A-B3F8-9B1B1E6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62E2-193C-47F3-8C25-E65697A8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E26F6-81D6-4D6D-86E9-CCF4AC6F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35B-437D-4C6C-8EAF-5DB863F7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B7B5-CD35-4288-A68A-84D45A39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BA60-E0D8-4B8C-B092-33169CF6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BAE0-276E-4D5F-BC61-ECE6783E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71D75-A647-43C1-8308-38563C5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61B8F-C40F-41C9-BD4B-B1EB11F1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527C3-24B2-4913-844F-B90901F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1617B-3939-4C35-B53F-DF301C44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7F4FB-339B-475E-B9CB-442820B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41D5-78E8-4E72-B6BD-AB1CA27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5A91-7FC2-4003-8A92-B7F5BC5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C96-75E2-4A91-B0BD-AD5296C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925FF-2568-4B53-99A0-15A7A72C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32E55-3838-4FE0-9AEE-0765F5A9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1CDB-55D7-4D4D-8176-FD08CD13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A5D8F-7940-49EC-B1E8-F9198DBE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2FED-A872-4AC1-89B5-F8E040A9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7B00D-415C-434A-B75E-E0743B4A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239C-FED8-429E-85F8-E8306216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1EB1-443E-4121-8BAC-ADF3B3DD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3FD80-FCC3-4AC2-91D6-6C542DFB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9CCDA-3A66-4F25-96CA-D6DF86E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BA7-C7A2-47C4-8F6A-D4D1551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A6A5-9716-4940-8640-1464C9C1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BF8A8-2D3E-4016-A32A-8AF43E9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2FC36-6345-47A6-B7B6-647BF97B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2BD60-BBBB-4A8E-8E52-30341084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EE84D-0FC4-4586-A296-DC4B5D4C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84731-5AAE-439C-83FA-3CB1FFB1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E5B8-F4A5-4D3B-95CD-09431D29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78039-2631-4902-94FC-B441ADA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CEEC2-E37E-4214-B2F6-6AF62FFD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A0BD5-C682-48B2-B546-27DDD5C5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25B-0F3B-41CE-9313-E018125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E10E-F9A7-4124-A640-DFF7A062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E0900-445A-4C90-BC45-378F02F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BAA6-82F8-48FC-885C-2D59629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920FF-9306-41A9-B175-0F77D22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0C2F9-BCC2-476F-AF06-3B210392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EB72-7106-4CDF-9EE3-599A2298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1D03-E98D-40F3-BF5C-21883DA7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1574C-4A83-47A6-86B0-ABE0A5D4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32C2B-9AB6-41A8-B1BE-7B8A066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4B4B0-AB93-49C1-89DC-CF3E0384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E8D8-A78F-4DD8-A795-1191DF7537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48C9-6B04-421C-957A-A257779BD5C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4101-B017-4E40-8EC9-02900EB2C8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8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8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E825-60A6-4136-B0CB-1E7D6877E5B4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487B-CC42-4A19-8898-8CBB55EBC5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41E2-D7D7-4306-962C-49B0CC431C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06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4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250A-2DA7-4C88-BA6D-F600EE494B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32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AA0F-05A4-4A12-9957-230B0894DA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58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8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8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59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9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59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0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1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2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2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2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4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5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5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5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6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6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68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9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389-849E-417D-A712-E54D0ACEEF0A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5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5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76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76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76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76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77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77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77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78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78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78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79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79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79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80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80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80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81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81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81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81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82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82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82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3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83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83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83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84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84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85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85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86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6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86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86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87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5B7E-CD32-49F2-A39A-8CFCE16F7944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01A6-CC03-42C0-AC53-B8B165A2F4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ED59-45C6-421A-810E-6DC29B441C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dt" idx="5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ftr" idx="5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sldNum" idx="6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CC20-4AAF-47DD-8A94-C444430F45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E080-9B3A-4681-94D1-34B90F457E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ftr" idx="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52DE-0271-489C-862E-90C50CEFB4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9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 type="dt" idx="6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 type="ftr" idx="6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26BA-490F-44D6-98EA-2348D2A8A59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7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4" name="PlaceHolder 1"/>
          <p:cNvSpPr>
            <a:spLocks noGrp="1"/>
          </p:cNvSpPr>
          <p:nvPr>
            <p:ph type="dt" idx="7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ftr" idx="7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 type="sldNum" idx="7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7EE3-BDF0-422F-B140-B7A8C4AD5D2A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dt" idx="7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9E7B-B8A8-499B-8013-860D4A589F0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4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7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dt" idx="7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 type="ftr" idx="7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 type="sldNum" idx="7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1E7E-4E84-4888-9ACD-76F82F06C5F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DA23-92EF-4FBB-954A-65829DBFE615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D521-5289-4E69-9DC5-295ED0694239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A673-740E-4D64-B193-FC710F995B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50D-5DE3-4FDD-AEE9-51ED00FC0E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A67C-5988-476E-8298-7E1B17039B3D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FCC4-67B8-4A64-9EDE-A99615954506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1D6E-EE58-4592-93DE-2A91E8DD5BD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2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5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C:\Documents and Settings\All Users\Documents\My Music\&#26410;&#30693;&#21809;&#29255;&#38598; (2003-9-4 22 36 23)\10 &#26354;&#30446; 10.wm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../../8.27PPT/&#20154;&#29983;&#30340;&#24555;&#20048;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eec94"/>
                </a:solidFill>
                <a:latin typeface="Times New Roman"/>
                <a:ea typeface="华文新魏"/>
              </a:rPr>
              <a:t>心理健康第一课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10000" spc="-1" strike="noStrike">
                <a:solidFill>
                  <a:srgbClr val="ff0000"/>
                </a:solidFill>
                <a:latin typeface="Tahoma"/>
                <a:ea typeface="华文彩云"/>
              </a:rPr>
              <a:t>喜  </a:t>
            </a:r>
            <a:r>
              <a:rPr b="1" lang="zh-CN" sz="11000" spc="-1" strike="noStrike">
                <a:solidFill>
                  <a:srgbClr val="996600"/>
                </a:solidFill>
                <a:latin typeface="Tahoma"/>
                <a:ea typeface="楷体_GB2312"/>
              </a:rPr>
              <a:t>怒</a:t>
            </a:r>
            <a:r>
              <a:rPr b="1" lang="zh-CN" sz="11000" spc="-1" strike="noStrike">
                <a:solidFill>
                  <a:srgbClr val="f77141"/>
                </a:solidFill>
                <a:latin typeface="Tahoma"/>
                <a:ea typeface="楷体_GB2312"/>
              </a:rPr>
              <a:t>  </a:t>
            </a:r>
            <a:r>
              <a:rPr b="1" lang="zh-CN" sz="10500" spc="-1" strike="noStrike">
                <a:solidFill>
                  <a:srgbClr val="663300"/>
                </a:solidFill>
                <a:latin typeface="Tahoma"/>
                <a:ea typeface="楷体_GB2312"/>
              </a:rPr>
              <a:t>哀  </a:t>
            </a:r>
            <a:r>
              <a:rPr b="1" i="1" lang="zh-CN" sz="11000" spc="-1" strike="noStrike">
                <a:solidFill>
                  <a:srgbClr val="4d4d4d"/>
                </a:solidFill>
                <a:latin typeface="Tahoma"/>
                <a:ea typeface="楷体_GB2312"/>
              </a:rPr>
              <a:t>恐</a:t>
            </a:r>
            <a:endParaRPr b="0" lang="en-US" sz="1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dbbd71"/>
                </a:solidFill>
                <a:latin typeface="Tahoma"/>
                <a:ea typeface="方正舒体"/>
              </a:rPr>
              <a:t> </a:t>
            </a:r>
            <a:r>
              <a:rPr b="1" lang="zh-CN" sz="16000" spc="-1" strike="noStrike">
                <a:solidFill>
                  <a:srgbClr val="e16bd6"/>
                </a:solidFill>
                <a:latin typeface="Tahoma"/>
                <a:ea typeface="方正舒体"/>
              </a:rPr>
              <a:t>爱</a:t>
            </a:r>
            <a:r>
              <a:rPr b="1" lang="zh-CN" sz="16000" spc="-1" strike="noStrike">
                <a:solidFill>
                  <a:srgbClr val="dbbd71"/>
                </a:solidFill>
                <a:latin typeface="Tahoma"/>
                <a:ea typeface="方正舒体"/>
              </a:rPr>
              <a:t> </a:t>
            </a:r>
            <a:r>
              <a:rPr b="1" lang="zh-CN" sz="18000" spc="-1" strike="noStrike">
                <a:solidFill>
                  <a:srgbClr val="000000"/>
                </a:solidFill>
                <a:latin typeface="Tahoma"/>
                <a:ea typeface="华文新魏"/>
              </a:rPr>
              <a:t>恶 </a:t>
            </a:r>
            <a:r>
              <a:rPr b="1" lang="zh-CN" sz="16000" spc="-1" strike="noStrike">
                <a:solidFill>
                  <a:srgbClr val="cc3300"/>
                </a:solidFill>
                <a:latin typeface="Tahoma"/>
                <a:ea typeface="华文新魏"/>
              </a:rPr>
              <a:t>欲</a:t>
            </a:r>
            <a:endParaRPr b="0" lang="en-US" sz="1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33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华文新魏"/>
                <a:ea typeface="华文新魏"/>
              </a:rPr>
              <a:t>忧者见之而忧，喜者见之而喜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华文新魏"/>
              </a:rPr>
              <a:t>情绪表演：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华文行楷"/>
              </a:rPr>
              <a:t>        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乐            快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5" name="" descr=""/>
          <p:cNvPicPr/>
          <p:nvPr/>
        </p:nvPicPr>
        <p:blipFill>
          <a:blip r:embed="rId2"/>
          <a:stretch/>
        </p:blipFill>
        <p:spPr>
          <a:xfrm>
            <a:off x="5141880" y="4149720"/>
            <a:ext cx="2743200" cy="1800360"/>
          </a:xfrm>
          <a:prstGeom prst="rect">
            <a:avLst/>
          </a:prstGeom>
          <a:ln w="0">
            <a:noFill/>
          </a:ln>
        </p:spPr>
      </p:pic>
      <p:sp>
        <p:nvSpPr>
          <p:cNvPr id="2376" name=""/>
          <p:cNvSpPr/>
          <p:nvPr/>
        </p:nvSpPr>
        <p:spPr>
          <a:xfrm>
            <a:off x="468360" y="270828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77141"/>
                </a:solidFill>
                <a:latin typeface="Arial"/>
                <a:ea typeface="华文新魏"/>
              </a:rPr>
              <a:t>得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132000" y="1557360"/>
            <a:ext cx="25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77141"/>
                </a:solidFill>
                <a:latin typeface="Arial"/>
                <a:ea typeface="华文新魏"/>
              </a:rPr>
              <a:t>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8" name="" descr=""/>
          <p:cNvPicPr/>
          <p:nvPr/>
        </p:nvPicPr>
        <p:blipFill>
          <a:blip r:embed="rId3"/>
          <a:stretch/>
        </p:blipFill>
        <p:spPr>
          <a:xfrm>
            <a:off x="6156360" y="-100080"/>
            <a:ext cx="2232000" cy="2755800"/>
          </a:xfrm>
          <a:prstGeom prst="rect">
            <a:avLst/>
          </a:prstGeom>
          <a:ln w="0">
            <a:noFill/>
          </a:ln>
        </p:spPr>
      </p:pic>
      <p:sp>
        <p:nvSpPr>
          <p:cNvPr id="2379" name=""/>
          <p:cNvSpPr/>
          <p:nvPr/>
        </p:nvSpPr>
        <p:spPr>
          <a:xfrm>
            <a:off x="1405080" y="242100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华文新魏"/>
              </a:rPr>
              <a:t>气愤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403280" y="256536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华文新魏"/>
              </a:rPr>
              <a:t>伤心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835280" y="2781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华文新魏"/>
              </a:rPr>
              <a:t>害怕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1476360" y="190188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b4f3d"/>
                </a:solidFill>
                <a:latin typeface="Arial"/>
                <a:ea typeface="华文新魏"/>
              </a:rPr>
              <a:t>痛快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1547640" y="2565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77141"/>
                </a:solidFill>
                <a:latin typeface="Arial"/>
                <a:ea typeface="华文新魏"/>
              </a:rPr>
              <a:t>紧  张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981080" y="227664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cc"/>
                </a:solidFill>
                <a:latin typeface="Arial"/>
                <a:ea typeface="华文新魏"/>
              </a:rPr>
              <a:t>担心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1549440" y="1989000"/>
            <a:ext cx="287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  <a:ea typeface="华文新魏"/>
              </a:rPr>
              <a:t>狂 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1476360" y="2205000"/>
            <a:ext cx="29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华文新魏"/>
              </a:rPr>
              <a:t>痛  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2050920" y="242100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99"/>
                </a:solidFill>
                <a:latin typeface="Arial"/>
                <a:ea typeface="华文新魏"/>
              </a:rPr>
              <a:t>满 足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27040" y="1988280"/>
            <a:ext cx="1275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快乐、得意、气愤、伤心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害怕、痛快、紧张、担心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狂喜、痛苦、满足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755640" y="1773360"/>
            <a:ext cx="7273800" cy="2399040"/>
          </a:xfrm>
          <a:prstGeom prst="rect">
            <a:avLst/>
          </a:pr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华文新魏"/>
              </a:rPr>
              <a:t>停！坐姿端正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华文新魏"/>
              </a:rPr>
              <a:t>目视前方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1000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20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20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ahoma"/>
                <a:ea typeface="华文新魏"/>
              </a:rPr>
              <a:t>察言观色：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91" name="" descr=""/>
          <p:cNvPicPr/>
          <p:nvPr/>
        </p:nvPicPr>
        <p:blipFill>
          <a:blip r:embed="rId1"/>
          <a:stretch/>
        </p:blipFill>
        <p:spPr>
          <a:xfrm>
            <a:off x="5364000" y="3624120"/>
            <a:ext cx="2880000" cy="2541600"/>
          </a:xfrm>
          <a:prstGeom prst="rect">
            <a:avLst/>
          </a:prstGeom>
          <a:ln w="0">
            <a:noFill/>
          </a:ln>
        </p:spPr>
      </p:pic>
      <p:sp>
        <p:nvSpPr>
          <p:cNvPr id="2392" name=""/>
          <p:cNvSpPr/>
          <p:nvPr/>
        </p:nvSpPr>
        <p:spPr>
          <a:xfrm>
            <a:off x="1116000" y="2376360"/>
            <a:ext cx="525636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6699"/>
                </a:solidFill>
                <a:latin typeface="Arial"/>
                <a:ea typeface="华文新魏"/>
              </a:rPr>
              <a:t>    </a:t>
            </a:r>
            <a:r>
              <a:rPr b="1" lang="zh-CN" sz="7000" spc="-1" strike="noStrike">
                <a:solidFill>
                  <a:srgbClr val="ff6699"/>
                </a:solidFill>
                <a:latin typeface="Arial"/>
                <a:ea typeface="华文新魏"/>
              </a:rPr>
              <a:t>看表情，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6699"/>
                </a:solidFill>
                <a:latin typeface="Arial"/>
                <a:ea typeface="华文新魏"/>
              </a:rPr>
              <a:t>猜心情！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ahoma"/>
                <a:ea typeface="华文新魏"/>
              </a:rPr>
              <a:t>微笑是什么？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577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微笑是人类最美丽的语言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她能给家庭带来幸福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我们巨大的财富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她是悲者的阳光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能给失意者带来光明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她的价值在于给予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506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514920" y="301320"/>
            <a:ext cx="19429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301320"/>
            <a:ext cx="323856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  <a:ea typeface="华文新魏"/>
              </a:rPr>
              <a:t>不良情绪会影响我们的身心健康！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98" name="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3732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e5e5ff"/>
                </a:solidFill>
                <a:latin typeface="Garamond"/>
                <a:ea typeface="华文新魏"/>
              </a:rPr>
              <a:t>如何化解不良情绪？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0" name=""/>
          <p:cNvSpPr/>
          <p:nvPr/>
        </p:nvSpPr>
        <p:spPr>
          <a:xfrm>
            <a:off x="108000" y="3493080"/>
            <a:ext cx="518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66"/>
                </a:solidFill>
                <a:latin typeface="华文行楷"/>
                <a:ea typeface="华文行楷"/>
              </a:rPr>
              <a:t>作一个乐观向上的少年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66"/>
                </a:solidFill>
                <a:latin typeface="华文行楷"/>
                <a:ea typeface="华文行楷"/>
              </a:rPr>
              <a:t>     </a:t>
            </a:r>
            <a:r>
              <a:rPr b="1" lang="zh-CN" sz="3500" spc="-1" strike="noStrike">
                <a:solidFill>
                  <a:srgbClr val="ffff66"/>
                </a:solidFill>
                <a:latin typeface="华文行楷"/>
                <a:ea typeface="华文行楷"/>
              </a:rPr>
              <a:t>拥有快乐的人生！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042920" y="1700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一、直指目标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1042920" y="234936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二、向第三方宣泄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6840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d47d"/>
                </a:solidFill>
                <a:latin typeface="Arial"/>
                <a:ea typeface="华文新魏"/>
              </a:rPr>
              <a:t>善于调节、控制自己的情绪保持乐观、愉悦的心情！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5" name="" descr=""/>
          <p:cNvPicPr/>
          <p:nvPr/>
        </p:nvPicPr>
        <p:blipFill>
          <a:blip r:embed="rId2"/>
          <a:stretch/>
        </p:blipFill>
        <p:spPr>
          <a:xfrm>
            <a:off x="4645080" y="53020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2406" name="" descr=""/>
          <p:cNvPicPr/>
          <p:nvPr/>
        </p:nvPicPr>
        <p:blipFill>
          <a:blip r:embed="rId3"/>
          <a:stretch/>
        </p:blipFill>
        <p:spPr>
          <a:xfrm>
            <a:off x="5748480" y="4732200"/>
            <a:ext cx="127152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Tahoma"/>
                <a:ea typeface="华文新魏"/>
              </a:rPr>
              <a:t>良好心境培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cccc"/>
                </a:solidFill>
                <a:latin typeface="Tahoma"/>
                <a:ea typeface="华文新魏"/>
              </a:rPr>
              <a:t>退一步海阔天空</a:t>
            </a: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;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变换自己的思想</a:t>
            </a: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;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换一个角度去思考问题</a:t>
            </a: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;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cccc"/>
                </a:solidFill>
                <a:latin typeface="Tahoma"/>
                <a:ea typeface="华文新魏"/>
              </a:rPr>
              <a:t>做情绪的主人，能屈能伸！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好心情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4436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是人生中最好的伴侣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是自制的一剂良药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会让阴雨连绵的日子出现阳光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会让枯萎的花朵开放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会让没有希望也燃烧起一簇希望的火苗来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会让你骤然绽放一种新的面容，像是点燃一根爆竹的捻儿，能响起你意想不到的声音，怒放出你意想不到的花朵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别不相信，好心情，有时能创造奇迹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3000"/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3000"/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3000"/>
                                        <p:tgtEl>
                                          <p:spTgt spid="2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3000"/>
                                        <p:tgtEl>
                                          <p:spTgt spid="2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3000"/>
                                        <p:tgtEl>
                                          <p:spTgt spid="2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3000"/>
                                        <p:tgtEl>
                                          <p:spTgt spid="2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3000"/>
                                        <p:tgtEl>
                                          <p:spTgt spid="2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好心情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179280" y="188892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虎豹为了抗寒需要一身漂亮而结实的毛皮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树木为了结出果实需要一树茂盛而芬芳的花叶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鸟儿为了飞翔需要一副拍天的翅膀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船儿为了航行需要一桅赴汤蹈火的风帆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心情可以伴你飞翔、帮你航行，鼓气你的勇气、树起你的自信，去结出属于你生命的果实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让好心情伴我们一生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3000"/>
                                        <p:tgtEl>
                                          <p:spTgt spid="2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3000"/>
                                        <p:tgtEl>
                                          <p:spTgt spid="2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3000"/>
                                        <p:tgtEl>
                                          <p:spTgt spid="2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3000"/>
                                        <p:tgtEl>
                                          <p:spTgt spid="2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3000"/>
                                        <p:tgtEl>
                                          <p:spTgt spid="2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3000"/>
                                        <p:tgtEl>
                                          <p:spTgt spid="2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Arial"/>
                <a:ea typeface="华文彩云"/>
              </a:rPr>
              <a:t>喜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1116000" y="-100080"/>
            <a:ext cx="7272360" cy="6308640"/>
          </a:xfrm>
          <a:prstGeom prst="irregularSeal2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77141"/>
                </a:solidFill>
                <a:latin typeface="Tahoma"/>
                <a:ea typeface="楷体_GB2312"/>
              </a:rPr>
              <a:t>怒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"/>
          <p:cNvSpPr/>
          <p:nvPr/>
        </p:nvSpPr>
        <p:spPr>
          <a:xfrm>
            <a:off x="1187280" y="1628640"/>
            <a:ext cx="6624720" cy="3600720"/>
          </a:xfrm>
          <a:prstGeom prst="cloudCallout">
            <a:avLst>
              <a:gd name="adj1" fmla="val -27379"/>
              <a:gd name="adj2" fmla="val 6397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3366"/>
                </a:solidFill>
                <a:latin typeface="Tahoma"/>
                <a:ea typeface="楷体_GB2312"/>
              </a:rPr>
              <a:t>哀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1692360" y="1628640"/>
            <a:ext cx="6624720" cy="3384720"/>
          </a:xfrm>
          <a:prstGeom prst="lightningBol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000" spc="-1" strike="noStrike">
                <a:solidFill>
                  <a:srgbClr val="ffffff"/>
                </a:solidFill>
                <a:latin typeface="Tahoma"/>
                <a:ea typeface="楷体_GB2312"/>
              </a:rPr>
              <a:t>恐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8" name=""/>
          <p:cNvSpPr/>
          <p:nvPr/>
        </p:nvSpPr>
        <p:spPr>
          <a:xfrm rot="2116200">
            <a:off x="1476000" y="2997360"/>
            <a:ext cx="3743280" cy="2232000"/>
          </a:xfrm>
          <a:prstGeom prst="lightningBol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0" fill="hold"/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"/>
          <p:cNvSpPr/>
          <p:nvPr/>
        </p:nvSpPr>
        <p:spPr>
          <a:xfrm>
            <a:off x="1619280" y="1700280"/>
            <a:ext cx="4537080" cy="3457440"/>
          </a:xfrm>
          <a:custGeom>
            <a:avLst/>
            <a:gdLst>
              <a:gd name="textAreaLeft" fmla="*/ 1066320 w 4537080"/>
              <a:gd name="textAreaRight" fmla="*/ 3467880 w 4537080"/>
              <a:gd name="textAreaTop" fmla="*/ 406440 h 3457440"/>
              <a:gd name="textAreaBottom" fmla="*/ 2168640 h 34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7d47d"/>
                </a:solidFill>
                <a:latin typeface="Arial"/>
                <a:ea typeface="方正舒体"/>
              </a:rPr>
              <a:t>爱</a:t>
            </a:r>
            <a:endParaRPr b="0" lang="en-US" sz="1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2000"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2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2195640" y="1413000"/>
            <a:ext cx="4392360" cy="3744720"/>
          </a:xfrm>
          <a:custGeom>
            <a:avLst/>
            <a:gdLst>
              <a:gd name="textAreaLeft" fmla="*/ 1002600 w 4392360"/>
              <a:gd name="textAreaRight" fmla="*/ 3389760 w 4392360"/>
              <a:gd name="textAreaTop" fmla="*/ 854640 h 3744720"/>
              <a:gd name="textAreaBottom" fmla="*/ 289008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9c9c9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ffff"/>
                </a:solidFill>
                <a:latin typeface="Arial"/>
                <a:ea typeface="华文新魏"/>
              </a:rPr>
              <a:t>  </a:t>
            </a: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华文新魏"/>
              </a:rPr>
              <a:t>恶</a:t>
            </a:r>
            <a:endParaRPr b="0" lang="en-US" sz="1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1" dur="2000" fill="hold"/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"/>
          <p:cNvSpPr/>
          <p:nvPr/>
        </p:nvSpPr>
        <p:spPr>
          <a:xfrm>
            <a:off x="3780000" y="2276640"/>
            <a:ext cx="2376360" cy="4032000"/>
          </a:xfrm>
          <a:prstGeom prst="upArrowCallout">
            <a:avLst>
              <a:gd name="adj1" fmla="val 25002"/>
              <a:gd name="adj2" fmla="val 25000"/>
              <a:gd name="adj3" fmla="val 28279"/>
              <a:gd name="adj4" fmla="val 6666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806400" y="41925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cc3300"/>
                </a:solidFill>
                <a:latin typeface="Tahoma"/>
                <a:ea typeface="华文新魏"/>
              </a:rPr>
              <a:t>欲</a:t>
            </a:r>
            <a:endParaRPr b="0" lang="en-US" sz="1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8" name=""/>
          <p:cNvSpPr/>
          <p:nvPr/>
        </p:nvSpPr>
        <p:spPr>
          <a:xfrm>
            <a:off x="1332000" y="2133720"/>
            <a:ext cx="2592360" cy="230328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7" dur="2000" fill="hold"/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254 L 0.25 -0.33549 E">
                                      <p:cBhvr>
                                        <p:cTn id="49" dur="2000" fill="hold"/>
                                        <p:tgtEl>
                                          <p:spTgt spid="2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心理 健康 第一课</cp:keywords>
  <dc:language>en-US</dc:language>
  <cp:lastModifiedBy/>
  <cp:revision>0</cp:revision>
  <dc:subject/>
  <dc:title/>
</cp:coreProperties>
</file>