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BDC-4E2E-4DCF-9810-7C42AA8A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E51-70B2-457F-A362-04CF8888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CD8-711A-44C0-8626-F797228B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E9E-32A5-4EA3-BBAB-9D543DB0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C1B-A146-412F-BCBF-EA706C5D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659-6CF0-4F8D-8BE7-D8C34AF1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104-D8D5-41A7-A365-25DAEEC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BE86-0059-4DBD-8803-B2465833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7C43-F240-4739-B376-C7E2BAB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28E7-AC11-45F4-8067-D38403E2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69F-D679-4A19-9613-531945E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B6A-9409-433E-8B4A-FC5732D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D366-E9FE-4A72-BAA1-8F32FF8C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EF23-8BD5-499C-A6AF-867E4AF7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D358-6379-4182-B4B3-C5B429A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3842-0D9C-4DD6-BF63-35AB2A96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39E-970E-45FA-BECF-D911D201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D3D-7EAC-4E24-B886-F3FF4B2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8E2-56A4-4B1C-AC55-9CE667D9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72D-2CD0-42E5-9420-686C91D1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997-06E1-4BC6-93AB-A34DF1E3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E43-E9A2-44DB-A8DD-4B15FD13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230-9C2F-4BE0-802B-36B2878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4DC-C464-4C83-8068-6BC3C4E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0B9A-DD50-4E6F-BB0F-576FCC91B731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EB9-C542-49E2-B0D1-9652BD4073C9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52480" y="457200"/>
          <a:ext cx="608184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60818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590920" y="3809880"/>
            <a:ext cx="41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  <a:ea typeface=""/>
              </a:rPr>
              <a:t>學校財</a:t>
            </a: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務管理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1049120" cy="7010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06160" y="228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來源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43720" y="1461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Times New Roman"/>
              </a:rPr>
              <a:t>政府津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4648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一般範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1990800" cy="2514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886200" y="3672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660066"/>
                </a:solidFill>
                <a:latin typeface="Times New Roman"/>
              </a:rPr>
              <a:t>營辦開支整筆津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4520" y="5562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66ff"/>
                </a:solidFill>
                <a:latin typeface="Times New Roman"/>
              </a:rPr>
              <a:t>特殊範疇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1480" y="2452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00"/>
                </a:solidFill>
                <a:latin typeface="Times New Roman"/>
              </a:rPr>
              <a:t>薪金津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971800" y="3581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914400" y="0"/>
            <a:ext cx="11049120" cy="7010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880" y="16765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cc"/>
                </a:solidFill>
                <a:latin typeface="Times New Roman"/>
              </a:rPr>
              <a:t>特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1990800" cy="2514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76520" y="53352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660066"/>
                </a:solidFill>
                <a:latin typeface="Times New Roman"/>
              </a:rPr>
              <a:t>營辦開支整筆津貼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2743200"/>
            <a:ext cx="2286000" cy="10666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穩定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1905120"/>
            <a:ext cx="2133360" cy="9903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外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114800"/>
            <a:ext cx="2133360" cy="1143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靈活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3429000"/>
            <a:ext cx="2209680" cy="99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限制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5638680"/>
            <a:ext cx="2209680" cy="99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時限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4952880"/>
            <a:ext cx="2209680" cy="99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</a:rPr>
              <a:t>大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2296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299600" y="6094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編寫預算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82160" y="42512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實現財務收支平衡的工具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75880" y="49370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作為行政管理的工具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27720" y="5562720"/>
            <a:ext cx="186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66ff"/>
                </a:solidFill>
                <a:latin typeface="Times New Roman"/>
              </a:rPr>
              <a:t>--</a:t>
            </a:r>
            <a:r>
              <a:rPr b="1" lang="zh-TW" sz="4000" spc="-1" strike="noStrike">
                <a:solidFill>
                  <a:srgbClr val="6666ff"/>
                </a:solidFill>
                <a:latin typeface="Times New Roman"/>
              </a:rPr>
              <a:t>預防損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63600" y="3641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功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2133720" cy="1933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34800" y="615636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66ff"/>
                </a:solidFill>
                <a:latin typeface="Times New Roman"/>
              </a:rPr>
              <a:t>--</a:t>
            </a:r>
            <a:r>
              <a:rPr b="1" lang="zh-TW" sz="4000" spc="-1" strike="noStrike">
                <a:solidFill>
                  <a:srgbClr val="6666ff"/>
                </a:solidFill>
                <a:latin typeface="Times New Roman"/>
              </a:rPr>
              <a:t>了解內部的運作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3320" y="1649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意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8560" y="23623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是在一段時內，估計運作成本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支出的計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29960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編寫預算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04280" y="132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00"/>
                </a:solidFill>
                <a:latin typeface="Times New Roman"/>
              </a:rPr>
              <a:t>基準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72000" y="20448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</a:rPr>
              <a:t>經常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1280" y="2940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基於前一年的支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77760" y="3886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cc"/>
                </a:solidFill>
                <a:latin typeface="Times New Roman"/>
              </a:rPr>
              <a:t>績效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59480" y="49975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基於未來數年預計的支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76320" y="-22860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427400" y="682560"/>
            <a:ext cx="27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學校預算表   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0040" y="167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9900"/>
                </a:solidFill>
                <a:latin typeface="Times New Roman"/>
              </a:rPr>
              <a:t>總體預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7160" y="4267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Times New Roman"/>
              </a:rPr>
              <a:t>科目預算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666880"/>
            <a:ext cx="5410080" cy="1447920"/>
          </a:xfrm>
          <a:custGeom>
            <a:avLst/>
            <a:gdLst>
              <a:gd name="textAreaLeft" fmla="*/ 93600 w 5410080"/>
              <a:gd name="textAreaRight" fmla="*/ 5316480 w 541008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80693" h="21600">
                <a:moveTo>
                  <a:pt x="0" y="0"/>
                </a:moveTo>
                <a:lnTo>
                  <a:pt x="80693" y="0"/>
                </a:lnTo>
                <a:lnTo>
                  <a:pt x="80693" y="21600"/>
                </a:lnTo>
                <a:lnTo>
                  <a:pt x="0" y="21600"/>
                </a:lnTo>
                <a:close/>
              </a:path>
              <a:path fill="lightenLess" w="80693" h="21600">
                <a:moveTo>
                  <a:pt x="0" y="0"/>
                </a:moveTo>
                <a:lnTo>
                  <a:pt x="80693" y="0"/>
                </a:lnTo>
                <a:lnTo>
                  <a:pt x="79293" y="1400"/>
                </a:lnTo>
                <a:lnTo>
                  <a:pt x="1400" y="1400"/>
                </a:lnTo>
                <a:close/>
              </a:path>
              <a:path fill="darken" w="80693" h="21600">
                <a:moveTo>
                  <a:pt x="80693" y="0"/>
                </a:moveTo>
                <a:lnTo>
                  <a:pt x="80693" y="21600"/>
                </a:lnTo>
                <a:lnTo>
                  <a:pt x="79293" y="20200"/>
                </a:lnTo>
                <a:lnTo>
                  <a:pt x="79293" y="1400"/>
                </a:lnTo>
                <a:close/>
              </a:path>
              <a:path fill="darkenLess" w="80693" h="21600">
                <a:moveTo>
                  <a:pt x="80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293" y="20200"/>
                </a:lnTo>
                <a:close/>
              </a:path>
              <a:path fill="lighten" w="80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基於教育署津貼的項目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編製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5334120"/>
            <a:ext cx="5333760" cy="1042920"/>
          </a:xfrm>
          <a:custGeom>
            <a:avLst/>
            <a:gdLst>
              <a:gd name="textAreaLeft" fmla="*/ 67320 w 5333760"/>
              <a:gd name="textAreaRight" fmla="*/ 5266440 w 53337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10437" h="21600">
                <a:moveTo>
                  <a:pt x="0" y="0"/>
                </a:moveTo>
                <a:lnTo>
                  <a:pt x="110437" y="0"/>
                </a:lnTo>
                <a:lnTo>
                  <a:pt x="110437" y="21600"/>
                </a:lnTo>
                <a:lnTo>
                  <a:pt x="0" y="21600"/>
                </a:lnTo>
                <a:close/>
              </a:path>
              <a:path fill="lightenLess" w="110437" h="21600">
                <a:moveTo>
                  <a:pt x="0" y="0"/>
                </a:moveTo>
                <a:lnTo>
                  <a:pt x="110437" y="0"/>
                </a:lnTo>
                <a:lnTo>
                  <a:pt x="109037" y="1400"/>
                </a:lnTo>
                <a:lnTo>
                  <a:pt x="1400" y="1400"/>
                </a:lnTo>
                <a:close/>
              </a:path>
              <a:path fill="darken" w="110437" h="21600">
                <a:moveTo>
                  <a:pt x="110437" y="0"/>
                </a:moveTo>
                <a:lnTo>
                  <a:pt x="110437" y="21600"/>
                </a:lnTo>
                <a:lnTo>
                  <a:pt x="109037" y="20200"/>
                </a:lnTo>
                <a:lnTo>
                  <a:pt x="109037" y="1400"/>
                </a:lnTo>
                <a:close/>
              </a:path>
              <a:path fill="darkenLess" w="110437" h="21600">
                <a:moveTo>
                  <a:pt x="110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037" y="20200"/>
                </a:lnTo>
                <a:close/>
              </a:path>
              <a:path fill="lighten" w="110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基於校內科目而編製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1049120" cy="7010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2384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執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743200" cy="2498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438280" cy="1758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91960" y="1219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imes New Roman"/>
              </a:rPr>
              <a:t>管理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4480" y="144792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會計及內部管理系統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58960" y="21178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帳目紀錄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8360" y="280368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簽發支票程序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31240" y="3413160"/>
            <a:ext cx="275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支票簽署的方式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0200" y="40384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零用金保管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8320" y="470844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存貨控制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3320" y="531828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固定資產登記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07680" y="600408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符合資助則例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08660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077320" y="3276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990720" y="0"/>
            <a:ext cx="11049120" cy="7010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2384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執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17280" y="4038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imes New Roman"/>
              </a:rPr>
              <a:t>效益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75040" y="25909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購物及招標程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23480" y="417528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合時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4359240"/>
            <a:ext cx="1673280" cy="2498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438280" cy="1758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778640" y="5470560"/>
            <a:ext cx="11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彈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45160" y="1371600"/>
            <a:ext cx="11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購物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3080" y="5257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imes New Roman"/>
              </a:rPr>
              <a:t>技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75560" y="541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指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66080" y="600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提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66280" y="600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透明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7520" y="447984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合用</a:t>
            </a:r>
            <a:r>
              <a:rPr b="1" lang="zh-TW" sz="4000" spc="-1" strike="noStrike">
                <a:solidFill>
                  <a:srgbClr val="fac16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56920" y="1905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購物權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49200" y="326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＊防止賄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7391520" y="2438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248520" y="32767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-228600" y="0"/>
          <a:ext cx="93726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1023840" y="304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Times New Roman"/>
              </a:rPr>
              <a:t>審核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48920" y="181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會計月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54320" y="2422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避免超支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61400" y="29718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預防津貼被收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89520" y="4267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核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41280" y="4267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會計年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585800" cy="2286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041640" y="4876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結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1640" y="541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程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3480" y="1143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imes New Roman"/>
              </a:rPr>
              <a:t>進展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9840" y="36576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66"/>
                </a:solidFill>
                <a:latin typeface="Times New Roman"/>
              </a:rPr>
              <a:t>總結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1328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方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29120" y="4343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方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4200" y="243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目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9120" y="4921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6600"/>
                </a:solidFill>
                <a:latin typeface="Times New Roman"/>
              </a:rPr>
              <a:t>目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25800" y="592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成果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105520" y="14940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6629400" y="3962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448920" cy="7010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085040" y="9525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結語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23520" y="281952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了解學校財務狀況是良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00"/>
                </a:solidFill>
                <a:latin typeface="Times New Roman"/>
              </a:rPr>
              <a:t>管理的習慣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495680" y="4724280"/>
            <a:ext cx="28958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48920" y="1386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學校財務管理的概念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1440" y="21477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學校財務管理的目的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92680" y="2895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誰的職責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34720" y="37479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學校財務管理的過程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6480" y="45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8000"/>
                </a:solidFill>
                <a:latin typeface="Times New Roman"/>
              </a:rPr>
              <a:t>計劃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84040" y="45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8000"/>
                </a:solidFill>
                <a:latin typeface="Times New Roman"/>
              </a:rPr>
              <a:t>組織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75960" y="5348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8000"/>
                </a:solidFill>
                <a:latin typeface="Times New Roman"/>
              </a:rPr>
              <a:t>領導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3520" y="53481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8000"/>
                </a:solidFill>
                <a:latin typeface="Times New Roman"/>
              </a:rPr>
              <a:t>控制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15200" y="839880"/>
            <a:ext cx="15112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99680" y="838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學校資源的轉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70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過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1706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現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6720" y="2438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每次津貼額不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20480" y="323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限制性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84640" y="3992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整體津貼不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20480" y="4754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程序繁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11600" y="2392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92154"/>
                </a:solidFill>
                <a:latin typeface="Times New Roman"/>
              </a:rPr>
              <a:t>大額撥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29520" y="3154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92154"/>
                </a:solidFill>
                <a:latin typeface="Times New Roman"/>
              </a:rPr>
              <a:t>彈性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57840" y="3992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92154"/>
                </a:solidFill>
                <a:latin typeface="Times New Roman"/>
              </a:rPr>
              <a:t>津貼總額較充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11600" y="4754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92154"/>
                </a:solidFill>
                <a:latin typeface="Times New Roman"/>
              </a:rPr>
              <a:t>程序簡化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448920" cy="701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23680" y="160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概念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1520" y="4068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Times New Roman"/>
              </a:rPr>
              <a:t>具寬闊而富彈性的視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990720"/>
            <a:ext cx="2438280" cy="1600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2952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cc"/>
                </a:solidFill>
                <a:latin typeface="Times New Roman"/>
              </a:rPr>
              <a:t>一項項具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cc"/>
                </a:solidFill>
                <a:latin typeface="Times New Roman"/>
              </a:rPr>
              <a:t>數字的處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733920"/>
            <a:ext cx="2209680" cy="15238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  <a:effectLst>
            <a:outerShdw dist="107932" dir="135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9400" y="400680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cc"/>
                </a:solidFill>
                <a:latin typeface="Times New Roman"/>
              </a:rPr>
              <a:t>放眼學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cc00cc"/>
                </a:solidFill>
                <a:latin typeface="Times New Roman"/>
              </a:rPr>
              <a:t>整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52800" y="551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92154"/>
                </a:solidFill>
                <a:latin typeface="Times New Roman"/>
              </a:rPr>
              <a:t>教學效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89560" y="48308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了解學校的需要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02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狹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541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管理帳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5720" y="2697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9900"/>
                </a:solidFill>
                <a:latin typeface="Times New Roman"/>
              </a:rPr>
              <a:t>廣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49280" y="28494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66"/>
                </a:solidFill>
                <a:latin typeface="Times New Roman"/>
              </a:rPr>
              <a:t>透過歲入和歲出進行學校的規劃與發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448920" cy="7010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85240" y="243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3300"/>
                </a:solidFill>
                <a:latin typeface="Times New Roman"/>
              </a:rPr>
              <a:t>目的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0666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66"/>
                </a:solidFill>
                <a:latin typeface="Times New Roman"/>
              </a:rPr>
              <a:t>投資功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819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66"/>
                </a:solidFill>
                <a:latin typeface="Times New Roman"/>
              </a:rPr>
              <a:t>理財功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501336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66"/>
                </a:solidFill>
                <a:latin typeface="Times New Roman"/>
              </a:rPr>
              <a:t>問責功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002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追求效率和效能以提高學校的教育質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3526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增加資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38862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運用資源時能選擇適當的津貼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4403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減低風險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5546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校內人士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60800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校外人士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448920" cy="7010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49200" y="3794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3300"/>
                </a:solidFill>
                <a:latin typeface="Times New Roman"/>
              </a:rPr>
              <a:t>誰的職責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219320"/>
            <a:ext cx="1295280" cy="6094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校董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209680"/>
            <a:ext cx="1295280" cy="60984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校長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733920"/>
            <a:ext cx="2133720" cy="5331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科務小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3733920"/>
            <a:ext cx="2133720" cy="5331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行政小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91360" y="464832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只要你在某一層面上行使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管理權，財務管理是你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重要的職責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733920"/>
            <a:ext cx="2133720" cy="53316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校務處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182880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2819520"/>
            <a:ext cx="0" cy="9144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200400"/>
            <a:ext cx="495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200400"/>
            <a:ext cx="0" cy="5335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1523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9900"/>
                </a:solidFill>
                <a:latin typeface="Times New Roman"/>
              </a:rPr>
              <a:t>學校財務管理的過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819520"/>
            <a:ext cx="2057400" cy="9144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cc"/>
                </a:solidFill>
                <a:latin typeface="Times New Roman"/>
              </a:rPr>
              <a:t>計劃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00400"/>
            <a:ext cx="2057400" cy="9144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Times New Roman"/>
              </a:rPr>
              <a:t>組織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800600"/>
            <a:ext cx="2057400" cy="9144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Times New Roman"/>
              </a:rPr>
              <a:t>領導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105520"/>
            <a:ext cx="2057400" cy="9144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66ff33"/>
                </a:solidFill>
                <a:latin typeface="Times New Roman"/>
              </a:rPr>
              <a:t>控制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80880" y="-533520"/>
            <a:ext cx="9601200" cy="74678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34960" y="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9900"/>
                </a:solidFill>
                <a:latin typeface="Times New Roman"/>
              </a:rPr>
              <a:t>計劃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28920" y="838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周年校務計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5568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5b5249"/>
                </a:solidFill>
                <a:latin typeface="Times New Roman"/>
              </a:rPr>
              <a:t>工作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75560" y="144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66"/>
                </a:solidFill>
                <a:latin typeface="Times New Roman"/>
              </a:rPr>
              <a:t>工作計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4040" y="20257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提供工作程序與步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75560" y="2590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66"/>
                </a:solidFill>
                <a:latin typeface="Times New Roman"/>
              </a:rPr>
              <a:t>發展計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85560" y="3168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提供工作的方向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495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886200"/>
            <a:ext cx="6477120" cy="2438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各項符合學校目標的活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8000"/>
                </a:solidFill>
                <a:latin typeface="Times New Roman"/>
              </a:rPr>
              <a:t>都能得到所需的資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80880" y="-457200"/>
            <a:ext cx="9601200" cy="746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562720" y="4897440"/>
          <a:ext cx="3352680" cy="150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897440"/>
                    <a:ext cx="33526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14800" y="318960"/>
            <a:ext cx="2909880" cy="581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</a:rPr>
              <a:t>學校未來活動的預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3429000" cy="24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838080"/>
            <a:ext cx="5867280" cy="594360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228840" y="1301760"/>
            <a:ext cx="1952640" cy="189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181320" y="3498840"/>
            <a:ext cx="2533680" cy="130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800280" y="3257640"/>
          <a:ext cx="1942920" cy="207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280" y="3257640"/>
                    <a:ext cx="19429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457360" y="5114880"/>
          <a:ext cx="2038320" cy="13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57360" y="5114880"/>
                    <a:ext cx="2038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562040" y="1200240"/>
          <a:ext cx="1333440" cy="2000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62040" y="1200240"/>
                    <a:ext cx="133344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487240" y="-76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9900"/>
                </a:solidFill>
                <a:latin typeface="Times New Roman"/>
              </a:rPr>
              <a:t>計劃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8280" y="23623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Times New Roman"/>
              </a:rPr>
              <a:t>釐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Times New Roman"/>
              </a:rPr>
              <a:t>學校目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6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财务 管理</cp:keywords>
  <dc:language>en-US</dc:language>
  <cp:lastModifiedBy/>
  <cp:revision>0</cp:revision>
  <dc:subject/>
  <dc:title/>
</cp:coreProperties>
</file>