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gif" ContentType="image/gif"/>
  <Override PartName="/ppt/media/image17.png" ContentType="image/png"/>
  <Override PartName="/ppt/media/image24.gif" ContentType="image/gif"/>
  <Override PartName="/ppt/media/type.wav" ContentType="audio/x-wav"/>
  <Override PartName="/ppt/media/image15.png" ContentType="image/png"/>
  <Override PartName="/ppt/media/image22.gif" ContentType="image/gif"/>
  <Override PartName="/ppt/media/drumroll.wav" ContentType="audio/x-wav"/>
  <Override PartName="/ppt/media/image27.png" ContentType="image/png"/>
  <Override PartName="/ppt/media/cashreg.wav" ContentType="audio/x-wav"/>
  <Override PartName="/ppt/media/image13.png" ContentType="image/png"/>
  <Override PartName="/ppt/media/image20.gif" ContentType="image/gif"/>
  <Override PartName="/ppt/media/image19.png" ContentType="image/png"/>
  <Override PartName="/ppt/media/image16.gif" ContentType="image/gif"/>
  <Override PartName="/ppt/media/driveby.wav" ContentType="audio/x-wav"/>
  <Override PartName="/ppt/media/image8.gif" ContentType="image/gif"/>
  <Override PartName="/ppt/media/image3.png" ContentType="image/png"/>
  <Override PartName="/ppt/media/image26.png" ContentType="image/png"/>
  <Override PartName="/ppt/media/image4.png" ContentType="image/png"/>
  <Override PartName="/ppt/media/glass.wav" ContentType="audio/x-wav"/>
  <Override PartName="/ppt/media/image10.png" ContentType="image/png"/>
  <Override PartName="/ppt/media/image25.png" ContentType="image/png"/>
  <Override PartName="/ppt/media/image2.gif" ContentType="image/gif"/>
  <Override PartName="/ppt/media/applause.wav" ContentType="audio/x-wav"/>
  <Override PartName="/ppt/media/image5.png" ContentType="image/png"/>
  <Override PartName="/ppt/media/explode.wav" ContentType="audio/x-wav"/>
  <Override PartName="/ppt/media/laser.wav" ContentType="audio/x-wav"/>
  <Override PartName="/ppt/media/image9.gif" ContentType="image/gif"/>
  <Override PartName="/ppt/media/camera.wav" ContentType="audio/x-wav"/>
  <Override PartName="/ppt/media/projctor.wav" ContentType="audio/x-wav"/>
  <Override PartName="/ppt/media/image23.png" ContentType="image/png"/>
  <Override PartName="/ppt/media/ricochet.wav" ContentType="audio/x-wav"/>
  <Override PartName="/ppt/media/chimes.wav" ContentType="audio/x-wav"/>
  <Override PartName="/ppt/media/image6.gif" ContentType="image/gif"/>
  <Override PartName="/ppt/media/image7.gif" ContentType="image/gif"/>
  <Override PartName="/ppt/media/carbrake.wav" ContentType="audio/x-wav"/>
  <Override PartName="/ppt/media/image1.png" ContentType="image/png"/>
  <Override PartName="/ppt/media/image11.gif" ContentType="image/gif"/>
  <Override PartName="/ppt/media/image21.gif" ContentType="image/gif"/>
  <Override PartName="/ppt/media/image14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53C-40E8-463D-A8D4-1E601B22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990-4E61-4B21-9F1A-9060A62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A2-1272-40FF-A1B6-4E91BDA6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11A-DF06-414E-BDD9-514CDFB2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C71-D4E9-48F8-B716-20D58484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0B5-7CFB-4805-B7D1-A8A13314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6C1-2061-45E7-9278-F99ACA5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983-4B20-40C4-B593-2ED1916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6F5-6184-4747-A43F-17163041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5A7-ED02-454B-A2F0-9871DC49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550-817E-4668-9DE3-B21867E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0B2-1E65-4F3B-927A-1EC4250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185-B4D5-4600-9989-2953A11DD73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applause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audio" Target="../media/applaus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drumroll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explod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rumroll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drumroll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休</a:t>
            </a: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闲</a:t>
            </a:r>
            <a:r>
              <a:rPr b="0" lang="zh-TW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的定</a:t>
            </a:r>
            <a:r>
              <a:rPr b="0" lang="zh-CN" sz="8000" spc="-1" strike="noStrike">
                <a:solidFill>
                  <a:srgbClr val="cc0000"/>
                </a:solidFill>
                <a:latin typeface="Times New Roman"/>
                <a:ea typeface="超研澤疊圓體"/>
              </a:rPr>
              <a:t>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什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么</a:t>
            </a: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是休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休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么</a:t>
            </a:r>
            <a:r>
              <a:rPr b="0" lang="zh-TW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的演</a:t>
            </a:r>
            <a:r>
              <a:rPr b="0" lang="zh-CN" sz="4800" spc="-1" strike="noStrike">
                <a:solidFill>
                  <a:srgbClr val="cc6600"/>
                </a:solidFill>
                <a:latin typeface="Times New Roman"/>
                <a:ea typeface="全真中圓體"/>
              </a:rPr>
              <a:t>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33cc33"/>
                </a:solidFill>
                <a:latin typeface="Times New Roman"/>
                <a:ea typeface="金梅浪漫原體字"/>
              </a:rPr>
              <a:t>休閒之旅遊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富漢通中疊圓"/>
              </a:rPr>
              <a:t>依旅行方式來區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66"/>
                </a:solidFill>
                <a:latin typeface="Times New Roman"/>
                <a:ea typeface="富漢通中疊圓"/>
              </a:rPr>
              <a:t>依區域來區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ff"/>
                </a:solidFill>
                <a:latin typeface="Times New Roman"/>
                <a:ea typeface="全真古印體"/>
              </a:rPr>
              <a:t>依旅行方式來區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超研澤海報體"/>
              </a:rPr>
              <a:t>自助旅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cc00"/>
                </a:solidFill>
                <a:latin typeface="Times New Roman"/>
                <a:ea typeface="超研澤海報體"/>
              </a:rPr>
              <a:t>旅行團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0000"/>
                </a:solidFill>
                <a:latin typeface="Times New Roman"/>
                <a:ea typeface="超研澤超明"/>
              </a:rPr>
              <a:t>依區域來區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國內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國外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超研澤勘亭流"/>
              </a:rPr>
              <a:t>太空旅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9900"/>
                </a:solidFill>
                <a:latin typeface="Times New Roman"/>
                <a:ea typeface="華康POP1體"/>
              </a:rPr>
              <a:t>太空旅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太空上的生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空氣與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飲食和睡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8080"/>
                </a:solidFill>
                <a:latin typeface="Times New Roman"/>
                <a:ea typeface="華康流隸體(P)"/>
              </a:rPr>
              <a:t>太空艙外的活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dddddd"/>
                </a:solidFill>
                <a:latin typeface="Times New Roman"/>
                <a:ea typeface="超研澤超黑"/>
              </a:rPr>
              <a:t>未來可能的太空旅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方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冬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349"/>
              </a:spcBef>
              <a:buClr>
                <a:srgbClr val="ffcc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cc99"/>
                </a:solidFill>
                <a:latin typeface="Times New Roman"/>
                <a:ea typeface="全真綜藝體"/>
              </a:rPr>
              <a:t>太空播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6600cc"/>
                </a:solidFill>
                <a:latin typeface="Times New Roman"/>
                <a:ea typeface="華康POP1體"/>
              </a:rPr>
              <a:t>休閒之電影與電視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239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00"/>
                </a:solidFill>
                <a:latin typeface="Times New Roman"/>
                <a:ea typeface="金梅浪漫原體字"/>
              </a:rPr>
              <a:t>網路電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66cc"/>
                </a:solidFill>
                <a:latin typeface="Times New Roman"/>
                <a:ea typeface="全真細圓體"/>
              </a:rPr>
              <a:t>   </a:t>
            </a:r>
            <a:r>
              <a:rPr b="0" lang="zh-TW" sz="3600" spc="-1" strike="noStrike">
                <a:solidFill>
                  <a:srgbClr val="ff66cc"/>
                </a:solidFill>
                <a:latin typeface="全真古印體"/>
                <a:ea typeface="全真古印體"/>
              </a:rPr>
              <a:t>三十年前還沒有有線電視，二十年前沒有錄放影機，五年前還沒有全球資訊網 ，現在全球已有一半已上已鋪設了有線電攬，不難想像在不久的未來全球將鋪設滿光纖線，屆時的電視將會是一個結合網路的電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0" spc="-1" strike="noStrike">
                <a:solidFill>
                  <a:srgbClr val="00ccff"/>
                </a:solidFill>
                <a:latin typeface="Times New Roman"/>
                <a:ea typeface="金梅浪漫原體字"/>
              </a:rPr>
              <a:t>新聞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因為一打開電視即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世界搭上線，因此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聞即成為更人性化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6600cc"/>
                </a:solidFill>
                <a:latin typeface="Times New Roman"/>
                <a:ea typeface="全真古印體"/>
              </a:rPr>
              <a:t>元的選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網路電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娛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金梅浪漫原體字"/>
                <a:ea typeface="金梅浪漫原體字"/>
              </a:rPr>
              <a:t>e</a:t>
            </a:r>
            <a:r>
              <a:rPr b="0" lang="zh-TW" sz="6000" spc="-1" strike="noStrike">
                <a:solidFill>
                  <a:srgbClr val="000000"/>
                </a:solidFill>
                <a:latin typeface="金梅浪漫原體字"/>
                <a:ea typeface="金梅浪漫原體字"/>
              </a:rPr>
              <a:t>世代休閒分為四大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購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音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旅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富漢通粗角流"/>
              </a:rPr>
              <a:t>電影和電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5410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6600cc"/>
                </a:solidFill>
                <a:latin typeface="Times New Roman"/>
                <a:ea typeface="超研澤ＰＯＰ－２"/>
              </a:rPr>
              <a:t>休閒之網路購物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763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會員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店建立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品瀏覽訂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商品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供應商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00"/>
                </a:solidFill>
                <a:latin typeface="Times New Roman"/>
                <a:ea typeface="全真特圓體"/>
              </a:rPr>
              <a:t>進出貨管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統計分析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訂單查詢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訂單管理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安全付款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電子賀卡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Times New Roman"/>
                <a:ea typeface="金梅浪漫原體字"/>
              </a:rPr>
              <a:t>客戶服務系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9933"/>
                </a:solidFill>
                <a:latin typeface="Times New Roman"/>
              </a:rPr>
              <a:t>休閒之音樂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4282920"/>
            <a:ext cx="4267080" cy="2575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babbe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66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樂團的盛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66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MP3</a:t>
            </a:r>
            <a:r>
              <a:rPr b="1" lang="zh-TW" sz="6000" spc="-1" strike="noStrike">
                <a:solidFill>
                  <a:srgbClr val="6600ff"/>
                </a:solidFill>
                <a:latin typeface="新細明體"/>
              </a:rPr>
              <a:t>的流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66ff"/>
                </a:solidFill>
                <a:latin typeface="Times New Roman"/>
              </a:rPr>
              <a:t>樂團興起的原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e</a:t>
            </a: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世代人尋求刺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e</a:t>
            </a:r>
            <a:r>
              <a:rPr b="1" lang="zh-TW" sz="5400" spc="-1" strike="noStrike">
                <a:solidFill>
                  <a:srgbClr val="3333cc"/>
                </a:solidFill>
                <a:latin typeface="新細明體"/>
              </a:rPr>
              <a:t>世代人的發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563868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213372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53080" y="4857840"/>
            <a:ext cx="2590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000000"/>
                </a:solidFill>
                <a:latin typeface="富漢通粗角流"/>
                <a:ea typeface="富漢通粗角流"/>
              </a:rPr>
              <a:t>MP3</a:t>
            </a:r>
            <a:r>
              <a:rPr b="0" lang="zh-TW" sz="8000" spc="-1" strike="noStrike">
                <a:solidFill>
                  <a:srgbClr val="000000"/>
                </a:solidFill>
                <a:latin typeface="富漢通粗角流"/>
                <a:ea typeface="富漢通粗角流"/>
              </a:rPr>
              <a:t>流行的原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唱片價格太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歌手品質降低，音樂商業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流隸體(P)"/>
              </a:rPr>
              <a:t>網路的方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195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76720" y="5372280"/>
            <a:ext cx="541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600ff"/>
                </a:solidFill>
                <a:latin typeface="Times New Roman"/>
              </a:rPr>
              <a:t>好東西與你分享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EZPEER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搜尋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KURO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搜尋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WINAMP:MP3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MUSICMATCH JUKEBOX: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REALPLAYER: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播放軟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休闲 定义</cp:keywords>
  <dc:language>en-US</dc:language>
  <cp:lastModifiedBy/>
  <cp:revision>0</cp:revision>
  <dc:subject/>
  <dc:title/>
</cp:coreProperties>
</file>