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1D5-3E2D-4C99-8BA4-C36AFB81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143-0952-4696-8FC5-69BBC80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209-FAE3-4E7C-82F8-4064A325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F15-B32B-491C-96D7-8B3B6703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E968-1196-4A3F-A293-AD8A78CB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E39-AAA6-4448-9DC2-9F66253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82D-68E7-483C-9EEB-A13F0058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675E-C252-4484-8BA1-F057A0A8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176-20D0-48A0-9B4B-311FD2EB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2910-51EC-4E45-86AD-63A3F52A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41D6-5526-4E70-BE3C-03B20E65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764-59DE-49F3-BD7F-FA8C8B2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E501-1D24-4C28-B085-63A70F4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9AF1-90BA-4A07-9C2F-A21280F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224E-4F33-421D-8408-5AC87F7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E8F5-F862-4345-90F1-0C8EBCEA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E779-528B-477E-9D9C-1302C53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6BE-F8C6-441E-895E-A14A39C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B46-0169-4A63-A868-E336DCA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30E-36DE-44CA-9CF4-388E026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81F-FEC3-4CE2-B976-6B99DCE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0C4-5C55-4227-9758-9026AD1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5A3-7BBB-44E9-B873-62F6B5D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03C-739C-46D6-A253-8428F92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49BB-E107-4611-98F2-38B1343C3B2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A619-66E8-4ACE-AEFC-F7578A9A105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二、 美国“</a:t>
            </a: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XX”</a:t>
            </a:r>
            <a:br>
              <a:rPr sz="18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高技术工业特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刺激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崛起的主要因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地理位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气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科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交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市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 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在世界电子工业中的地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 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企业的扩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762120" y="1828800"/>
            <a:ext cx="1752480" cy="2438280"/>
            <a:chOff x="762120" y="1828800"/>
            <a:chExt cx="1752480" cy="2438280"/>
          </a:xfrm>
        </p:grpSpPr>
        <p:sp>
          <p:nvSpPr>
            <p:cNvPr id="223" name=""/>
            <p:cNvSpPr/>
            <p:nvPr/>
          </p:nvSpPr>
          <p:spPr>
            <a:xfrm>
              <a:off x="762120" y="1828800"/>
              <a:ext cx="1295280" cy="19051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大批廉价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劳动力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7400" y="3733920"/>
              <a:ext cx="457200" cy="533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362320" y="685800"/>
            <a:ext cx="1295280" cy="3048120"/>
            <a:chOff x="2362320" y="685800"/>
            <a:chExt cx="1295280" cy="3048120"/>
          </a:xfrm>
        </p:grpSpPr>
        <p:sp>
          <p:nvSpPr>
            <p:cNvPr id="226" name=""/>
            <p:cNvSpPr/>
            <p:nvPr/>
          </p:nvSpPr>
          <p:spPr>
            <a:xfrm>
              <a:off x="2362320" y="685800"/>
              <a:ext cx="1295280" cy="23623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20</a:t>
              </a: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世纪</a:t>
              </a: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年代原料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和能源大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幅度涨价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4080" y="3048120"/>
              <a:ext cx="30492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886200" y="685800"/>
            <a:ext cx="1295280" cy="2971800"/>
            <a:chOff x="3886200" y="685800"/>
            <a:chExt cx="1295280" cy="2971800"/>
          </a:xfrm>
        </p:grpSpPr>
        <p:sp>
          <p:nvSpPr>
            <p:cNvPr id="229" name=""/>
            <p:cNvSpPr/>
            <p:nvPr/>
          </p:nvSpPr>
          <p:spPr>
            <a:xfrm>
              <a:off x="3886200" y="685800"/>
              <a:ext cx="1295280" cy="23623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发达的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银行信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贷体系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4812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10080" y="685800"/>
            <a:ext cx="1295640" cy="3048120"/>
            <a:chOff x="5410080" y="685800"/>
            <a:chExt cx="1295640" cy="3048120"/>
          </a:xfrm>
        </p:grpSpPr>
        <p:sp>
          <p:nvSpPr>
            <p:cNvPr id="232" name=""/>
            <p:cNvSpPr/>
            <p:nvPr/>
          </p:nvSpPr>
          <p:spPr>
            <a:xfrm>
              <a:off x="5410080" y="685800"/>
              <a:ext cx="1295640" cy="23623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XX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经济高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度开放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638320" y="3048120"/>
              <a:ext cx="38124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53080" y="1905120"/>
            <a:ext cx="1752840" cy="2209680"/>
            <a:chOff x="6553080" y="1905120"/>
            <a:chExt cx="1752840" cy="2209680"/>
          </a:xfrm>
        </p:grpSpPr>
        <p:sp>
          <p:nvSpPr>
            <p:cNvPr id="235" name=""/>
            <p:cNvSpPr/>
            <p:nvPr/>
          </p:nvSpPr>
          <p:spPr>
            <a:xfrm>
              <a:off x="7010280" y="1905120"/>
              <a:ext cx="1295640" cy="190476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政府的大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力支持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553080" y="3809880"/>
              <a:ext cx="457200" cy="30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14600" y="3581280"/>
            <a:ext cx="4191120" cy="1752840"/>
          </a:xfrm>
          <a:prstGeom prst="ellipse">
            <a:avLst/>
          </a:prstGeom>
          <a:solidFill>
            <a:srgbClr val="bdff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中小企业的发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551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隶书"/>
              </a:rPr>
              <a:t>X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隶书"/>
              </a:rPr>
              <a:t>新兴工业区发展的主要条件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10480" y="6477120"/>
            <a:ext cx="533520" cy="372960"/>
          </a:xfrm>
          <a:custGeom>
            <a:avLst/>
            <a:gdLst>
              <a:gd name="textAreaLeft" fmla="*/ 24120 w 533520"/>
              <a:gd name="textAreaRight" fmla="*/ 509400 w 533520"/>
              <a:gd name="textAreaTop" fmla="*/ 24120 h 372960"/>
              <a:gd name="textAreaBottom" fmla="*/ 348840 h 372960"/>
            </a:gdLst>
            <a:ahLst/>
            <a:rect l="textAreaLeft" t="textAreaTop" r="textAreaRight" b="textAreaBottom"/>
            <a:pathLst>
              <a:path w="30890" h="21600">
                <a:moveTo>
                  <a:pt x="0" y="0"/>
                </a:moveTo>
                <a:lnTo>
                  <a:pt x="30890" y="0"/>
                </a:lnTo>
                <a:lnTo>
                  <a:pt x="30890" y="21600"/>
                </a:lnTo>
                <a:lnTo>
                  <a:pt x="0" y="21600"/>
                </a:lnTo>
                <a:close/>
              </a:path>
              <a:path fill="lightenLess" w="30890" h="21600">
                <a:moveTo>
                  <a:pt x="0" y="0"/>
                </a:moveTo>
                <a:lnTo>
                  <a:pt x="30890" y="0"/>
                </a:lnTo>
                <a:lnTo>
                  <a:pt x="29490" y="1400"/>
                </a:lnTo>
                <a:lnTo>
                  <a:pt x="1400" y="1400"/>
                </a:lnTo>
                <a:close/>
              </a:path>
              <a:path fill="darken" w="30890" h="21600">
                <a:moveTo>
                  <a:pt x="30890" y="0"/>
                </a:moveTo>
                <a:lnTo>
                  <a:pt x="30890" y="21600"/>
                </a:lnTo>
                <a:lnTo>
                  <a:pt x="29490" y="20200"/>
                </a:lnTo>
                <a:lnTo>
                  <a:pt x="29490" y="1400"/>
                </a:lnTo>
                <a:close/>
              </a:path>
              <a:path fill="darkenLess" w="30890" h="21600">
                <a:moveTo>
                  <a:pt x="30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90" y="20200"/>
                </a:lnTo>
                <a:close/>
              </a:path>
              <a:path fill="lighten" w="30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90" h="21600">
                <a:moveTo>
                  <a:pt x="8438" y="7493"/>
                </a:moveTo>
                <a:lnTo>
                  <a:pt x="11946" y="7493"/>
                </a:lnTo>
                <a:lnTo>
                  <a:pt x="11946" y="12828"/>
                </a:lnTo>
                <a:cubicBezTo>
                  <a:pt x="11946" y="13751"/>
                  <a:pt x="12747" y="14482"/>
                  <a:pt x="13783" y="14482"/>
                </a:cubicBezTo>
                <a:lnTo>
                  <a:pt x="15445" y="14482"/>
                </a:lnTo>
                <a:cubicBezTo>
                  <a:pt x="16481" y="14482"/>
                  <a:pt x="17281" y="13751"/>
                  <a:pt x="17281" y="12828"/>
                </a:cubicBezTo>
                <a:lnTo>
                  <a:pt x="17281" y="7493"/>
                </a:lnTo>
                <a:lnTo>
                  <a:pt x="15445" y="7493"/>
                </a:lnTo>
                <a:lnTo>
                  <a:pt x="18953" y="3985"/>
                </a:lnTo>
                <a:lnTo>
                  <a:pt x="22625" y="7493"/>
                </a:lnTo>
                <a:lnTo>
                  <a:pt x="20789" y="7493"/>
                </a:lnTo>
                <a:lnTo>
                  <a:pt x="20789" y="12828"/>
                </a:lnTo>
                <a:cubicBezTo>
                  <a:pt x="20789" y="15596"/>
                  <a:pt x="18213" y="18155"/>
                  <a:pt x="15445" y="18155"/>
                </a:cubicBezTo>
                <a:lnTo>
                  <a:pt x="13783" y="18155"/>
                </a:lnTo>
                <a:cubicBezTo>
                  <a:pt x="11015" y="18155"/>
                  <a:pt x="8438" y="15596"/>
                  <a:pt x="8438" y="12828"/>
                </a:cubicBezTo>
                <a:close/>
              </a:path>
            </a:pathLst>
          </a:cu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dc5900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5949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XX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的生产—销售—服务—信息网络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18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34144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一、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3080" y="981000"/>
            <a:ext cx="8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概念</a:t>
            </a:r>
            <a:r>
              <a:rPr b="0" lang="zh-CN" sz="1800" spc="-1" strike="noStrike">
                <a:solidFill>
                  <a:srgbClr val="007a77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989000"/>
            <a:ext cx="576360" cy="1656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6440" y="16606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时间新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421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Garamond"/>
                <a:ea typeface="隶书"/>
              </a:rPr>
              <a:t>特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6440" y="259704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地区新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0080" y="346068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企业规模小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04000" y="162864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0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世纪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0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年代后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第三次技术革命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0360" y="2565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没有传统工业基础的乡村地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7800" y="342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以中小型为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97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东北部和中部地区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德国南部地区，美国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，日本“硅岛”（九州岛），英国苏格兰地区等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4160" y="407664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世界上主要的新兴工业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二、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XX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新兴工业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3280" y="1268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分布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0400" y="19018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发展条件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13760" y="314172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规模</a:t>
            </a:r>
            <a:r>
              <a:rPr b="1" i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31040" y="371628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部门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2328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特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97440" y="3141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以中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小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企业为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5440" y="3716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以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轻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工业为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3760" y="436572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过程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4365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大多是分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散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或实行家庭包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57760" y="501336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资本集中程度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8120" y="50133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低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中小企业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2360" y="566100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分布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5661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大多分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散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在小城镇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甚至农村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成为“分散型工业化”地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24000" y="1628640"/>
            <a:ext cx="8381520" cy="4800240"/>
            <a:chOff x="324000" y="1628640"/>
            <a:chExt cx="8381520" cy="4800240"/>
          </a:xfrm>
        </p:grpSpPr>
        <p:grpSp>
          <p:nvGrpSpPr>
            <p:cNvPr id="109" name=""/>
            <p:cNvGrpSpPr/>
            <p:nvPr/>
          </p:nvGrpSpPr>
          <p:grpSpPr>
            <a:xfrm>
              <a:off x="331560" y="1633680"/>
              <a:ext cx="8364960" cy="4788720"/>
              <a:chOff x="331560" y="1633680"/>
              <a:chExt cx="8364960" cy="47887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1560" y="1633680"/>
                <a:ext cx="2787840" cy="1054440"/>
                <a:chOff x="331560" y="1633680"/>
                <a:chExt cx="2787840" cy="10544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43520" y="1633680"/>
                  <a:ext cx="256392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隶书"/>
                    </a:rPr>
                    <a:t>比较项目</a:t>
                  </a: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1560" y="1633680"/>
                  <a:ext cx="278784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119760" y="1633680"/>
                <a:ext cx="2788560" cy="1054440"/>
                <a:chOff x="3119760" y="1633680"/>
                <a:chExt cx="2788560" cy="1054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231720" y="1633680"/>
                  <a:ext cx="256392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隶书"/>
                    </a:rPr>
                    <a:t>新兴工业区</a:t>
                  </a: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119760" y="1633680"/>
                  <a:ext cx="278856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908680" y="1633680"/>
                <a:ext cx="2787840" cy="1054440"/>
                <a:chOff x="5908680" y="1633680"/>
                <a:chExt cx="2787840" cy="10544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020280" y="1633680"/>
                  <a:ext cx="256428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隶书"/>
                    </a:rPr>
                    <a:t>传统工业区</a:t>
                  </a: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908680" y="1633680"/>
                  <a:ext cx="278784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31560" y="2688480"/>
                <a:ext cx="2787840" cy="746280"/>
                <a:chOff x="331560" y="2688480"/>
                <a:chExt cx="2787840" cy="7462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43520" y="2688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生产规模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31560" y="2688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119760" y="2688480"/>
                <a:ext cx="2788560" cy="746280"/>
                <a:chOff x="3119760" y="2688480"/>
                <a:chExt cx="2788560" cy="7462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31720" y="2688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以中小型企业为主</a:t>
                  </a: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119760" y="268848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908680" y="2688480"/>
                <a:ext cx="2787840" cy="746280"/>
                <a:chOff x="5908680" y="2688480"/>
                <a:chExt cx="2787840" cy="746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020280" y="268848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以大型企业为主</a:t>
                  </a: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908680" y="2688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31560" y="3435480"/>
                <a:ext cx="2787840" cy="746280"/>
                <a:chOff x="331560" y="3435480"/>
                <a:chExt cx="2787840" cy="746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43520" y="3435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主要工业部门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31560" y="3435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119760" y="3435480"/>
                <a:ext cx="2788560" cy="746280"/>
                <a:chOff x="3119760" y="3435480"/>
                <a:chExt cx="2788560" cy="746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231720" y="3435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轻工业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119760" y="343548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908680" y="3435480"/>
                <a:ext cx="2787840" cy="746280"/>
                <a:chOff x="5908680" y="3435480"/>
                <a:chExt cx="2787840" cy="7462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020280" y="343548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重工业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908680" y="3435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560" y="4182480"/>
                <a:ext cx="2787840" cy="746280"/>
                <a:chOff x="331560" y="4182480"/>
                <a:chExt cx="2787840" cy="7462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43520" y="4182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生产过程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560" y="4182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119760" y="4182480"/>
                <a:ext cx="2788560" cy="746280"/>
                <a:chOff x="3119760" y="4182480"/>
                <a:chExt cx="2788560" cy="746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231720" y="4182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分散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19760" y="418248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908680" y="4182480"/>
                <a:ext cx="2787840" cy="746280"/>
                <a:chOff x="5908680" y="4182480"/>
                <a:chExt cx="2787840" cy="746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020280" y="418248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集中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08680" y="4182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31560" y="4929120"/>
                <a:ext cx="2787840" cy="746280"/>
                <a:chOff x="331560" y="4929120"/>
                <a:chExt cx="2787840" cy="7462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43520" y="4929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资金集中程度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1560" y="4929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119760" y="4929120"/>
                <a:ext cx="2788560" cy="746280"/>
                <a:chOff x="3119760" y="4929120"/>
                <a:chExt cx="2788560" cy="7462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231720" y="4929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低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119760" y="492912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08680" y="4929120"/>
                <a:ext cx="2787840" cy="746280"/>
                <a:chOff x="5908680" y="4929120"/>
                <a:chExt cx="2787840" cy="746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020280" y="492912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高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08680" y="4929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31560" y="5676120"/>
                <a:ext cx="2787840" cy="746280"/>
                <a:chOff x="331560" y="5676120"/>
                <a:chExt cx="2787840" cy="746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3520" y="5676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工业分布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1560" y="5676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9760" y="5676120"/>
                <a:ext cx="2788560" cy="746280"/>
                <a:chOff x="3119760" y="5676120"/>
                <a:chExt cx="2788560" cy="746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231720" y="5676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分散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9760" y="567612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908680" y="5676120"/>
                <a:ext cx="2787840" cy="746280"/>
                <a:chOff x="5908680" y="5676120"/>
                <a:chExt cx="2787840" cy="746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020280" y="567612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集中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08680" y="5676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324000" y="1628640"/>
              <a:ext cx="838152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XX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新兴工业区与传统工业区比较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6127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发展模式——工业小区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126828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）工业小区的概念和意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9162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）普拉托的生产—销售—服务—信息网络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5680" y="2625840"/>
            <a:ext cx="32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三、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XX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国“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XX”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98280" y="3595680"/>
            <a:ext cx="18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高技术工业发展的背景、部门和特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4508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发展背景和主要部门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5229360"/>
            <a:ext cx="73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电子工业、半导体工业、核工业、航天工业、高分子合成工业、遗传工程、激光工业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21970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）主要特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600200"/>
          <a:ext cx="8291520" cy="4924440"/>
        </p:xfrm>
        <a:graphic>
          <a:graphicData uri="http://schemas.openxmlformats.org/drawingml/2006/table">
            <a:tbl>
              <a:tblPr/>
              <a:tblGrid>
                <a:gridCol w="4248000"/>
                <a:gridCol w="2089440"/>
                <a:gridCol w="1954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高技术工业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传统工业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科技人员比例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产品增加值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生产增长速度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产品更新换代周期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投入中的研究开发费用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212080" y="2459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28440" y="2489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低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32960" y="330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48960" y="335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低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2960" y="409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快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20600" y="421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慢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4240" y="4964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短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3320" y="5010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长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4240" y="575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50560" y="580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少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1320" y="130176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地理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位置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优越，环境优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3440" y="19494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气候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宜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9120" y="259704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有高等院校（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科技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6000" y="331776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便捷的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交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9480" y="40384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军事定货（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市场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2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、刺激“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XX”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崛起的主要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1680" y="609120"/>
            <a:ext cx="8540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7480" y="1773360"/>
            <a:ext cx="44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 “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XX”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企业的扩散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924280"/>
            <a:ext cx="576000" cy="3384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Garamond"/>
                <a:ea typeface="隶书"/>
              </a:rPr>
              <a:t>XX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9200" y="2954160"/>
            <a:ext cx="576360" cy="338472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地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被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占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殆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尽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653000"/>
            <a:ext cx="36036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5560" y="4683240"/>
            <a:ext cx="43200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2997360"/>
            <a:ext cx="576360" cy="3384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散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43280" y="469728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47960" y="338760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593568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65560" y="3127320"/>
            <a:ext cx="1728720" cy="50328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XX</a:t>
            </a: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国内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4437000"/>
            <a:ext cx="1800000" cy="50328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Garamond"/>
              </a:rPr>
              <a:t>YY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600" y="5689440"/>
            <a:ext cx="1729080" cy="50328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Garamond"/>
              </a:rPr>
              <a:t>ZZ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89600" y="3386160"/>
            <a:ext cx="4460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2840" y="469584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5950080"/>
            <a:ext cx="43200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2997360"/>
            <a:ext cx="576360" cy="3384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位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势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3357720"/>
            <a:ext cx="215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0" y="4695840"/>
            <a:ext cx="2160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950080"/>
            <a:ext cx="215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3068640"/>
            <a:ext cx="2663640" cy="576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劳动力丰富廉价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29440" y="4408560"/>
            <a:ext cx="2663640" cy="576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土地租金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5646600"/>
            <a:ext cx="2664000" cy="576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住房租金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 “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在世界电子工业中的地位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108000"/>
            <a:ext cx="1582560" cy="1008000"/>
          </a:xfrm>
          <a:prstGeom prst="ellipse">
            <a:avLst/>
          </a:prstGeom>
          <a:gradFill rotWithShape="0">
            <a:gsLst>
              <a:gs pos="0">
                <a:srgbClr val="dc5900"/>
              </a:gs>
              <a:gs pos="100000">
                <a:srgbClr val="652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7a77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2800" y="1295280"/>
            <a:ext cx="29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一、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XX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新兴工业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04848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Garamond"/>
                <a:ea typeface="华文新魏"/>
              </a:rPr>
              <a:t>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3360" y="2057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分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发展条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特点：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小 、轻、散、低、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规模</a:t>
            </a:r>
            <a:r>
              <a:rPr b="1" i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部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资本集中程度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分布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发展模式——工业小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普拉托的生产—销售—服务—信息网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新兴 工业区</cp:keywords>
  <dc:language>en-US</dc:language>
  <cp:lastModifiedBy/>
  <cp:revision>0</cp:revision>
  <dc:subject/>
  <dc:title/>
</cp:coreProperties>
</file>