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7623-75B3-4863-A04C-70F961035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E0C0-51A5-4F0C-8442-ECD2D2A1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A395-DC5B-4B0E-8082-91FDD104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ED4F-420C-433A-AE2F-2AFEFDB9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68C2-6B78-4E68-9BA9-FB100F1B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4CA8-A1E9-4578-8007-63993447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14E5-18D0-47E0-AE36-C3C4641E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E2C8-36BB-4DA3-89FC-56DE443F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0B88-5134-480D-9351-9F2C4D9D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428F-8C98-4179-B4E3-FEDF8E67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29C5-9055-49BE-A63D-8B7E8F43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0C95-FF29-4B6F-BF5A-A624F7FC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8A19-9D36-408B-9AA4-230B8EED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D5EE-C0A1-4EF3-B3DC-74DFE612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3C44-CDA1-4495-9931-D18A154F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F772-A992-4040-9296-4DADB063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E2C0-E43E-4E02-80CF-61614F38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4E32-3780-4871-B9EF-99A376C5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25F3-EEF1-4D35-A5A4-69A6A11F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D82B-5B91-44F4-AD8F-6A3A0D00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6494-4EE6-4B76-B055-82EDBD02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522E-AD9F-4067-9C14-880D335F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1D6E-05E1-4714-B138-06E0C9FE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C784-6939-4D7A-82F9-DC1DCCF5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BA21-FB66-4BDB-B7D8-21D03BA8728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5960-345B-4787-9C0D-F02759458D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386D-3053-4FA9-B945-2B2FD47CA50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1364-BD1C-4EB4-8371-2F6362899AD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9f64967cd3ddb397c5c4953b2c6b9c6"/>
          <p:cNvPicPr/>
          <p:nvPr/>
        </p:nvPicPr>
        <p:blipFill>
          <a:blip r:embed="rId1"/>
          <a:stretch/>
        </p:blipFill>
        <p:spPr>
          <a:xfrm>
            <a:off x="1714680" y="2009880"/>
            <a:ext cx="5715000" cy="2838240"/>
          </a:xfrm>
          <a:prstGeom prst="rect">
            <a:avLst/>
          </a:prstGeom>
          <a:ln w="0">
            <a:noFill/>
          </a:ln>
        </p:spPr>
      </p:pic>
      <p:sp>
        <p:nvSpPr>
          <p:cNvPr id="83" name="矩形 1"/>
          <p:cNvSpPr/>
          <p:nvPr/>
        </p:nvSpPr>
        <p:spPr>
          <a:xfrm>
            <a:off x="2876040" y="1144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谢谢结束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1:13:11Z</dcterms:modified>
  <cp:revision>5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