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B7E-F028-4F14-A578-33FD37BFB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53F2-4C97-499D-B20E-AC03483E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7CE5-0B2B-41BA-8333-86E90A46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5943-453E-455B-806C-F02AE31C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26BB-7855-436E-934D-2D69F92B1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31F-4D03-4A1F-AAEC-92E92928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F98-1963-4355-A7E9-E4EA6EFEA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5095-41EA-4EA4-837E-6CF2EBB9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A981-A0C2-4477-BB39-86DD583D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C0D4-13A1-454E-8299-A254D951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DDE-6319-4B94-BF84-824E7191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1D2F-B7B6-4396-8E12-B5A2B5C6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F5B6-CE59-47F2-ACAA-5CFFB19F3F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3048120"/>
            <a:ext cx="743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66"/>
                </a:solidFill>
                <a:latin typeface="华文行楷"/>
                <a:ea typeface="华文行楷"/>
              </a:rPr>
              <a:t>文件管理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9120" y="1676520"/>
            <a:ext cx="27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66"/>
                </a:solidFill>
                <a:latin typeface="宋体"/>
              </a:rPr>
              <a:t>第 </a:t>
            </a:r>
            <a:r>
              <a:rPr b="1" lang="zh-CN" sz="7200" spc="-1" strike="noStrike">
                <a:solidFill>
                  <a:srgbClr val="000066"/>
                </a:solidFill>
                <a:latin typeface="宋体"/>
              </a:rPr>
              <a:t>4 </a:t>
            </a:r>
            <a:r>
              <a:rPr b="1" lang="zh-CN" sz="7200" spc="-1" strike="noStrike">
                <a:solidFill>
                  <a:srgbClr val="000066"/>
                </a:solidFill>
                <a:latin typeface="宋体"/>
              </a:rPr>
              <a:t>章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77640" y="5230800"/>
            <a:ext cx="150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Times New Roman"/>
                <a:ea typeface="楷体_GB2312"/>
              </a:rPr>
              <a:t>XX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25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25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209680" y="1614600"/>
            <a:ext cx="460692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286000" y="2647800"/>
            <a:ext cx="462924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2133720" y="3914640"/>
            <a:ext cx="460692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305080" y="5210280"/>
            <a:ext cx="4629240" cy="609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56080" y="161460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i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我的电脑”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84560" y="264780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用“我的电脑”管理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391464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资源管理器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86200" y="5257800"/>
            <a:ext cx="24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退出放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6781680" y="2362320"/>
            <a:ext cx="1371600" cy="1251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762120" y="3505320"/>
            <a:ext cx="1371600" cy="1251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6810480" y="4876920"/>
            <a:ext cx="1295280" cy="1181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838080" y="1219320"/>
            <a:ext cx="1371600" cy="1251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85800" y="533520"/>
            <a:ext cx="74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第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文件管理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7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25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25"/>
                            </p:stCondLst>
                            <p:childTnLst>
                              <p:par>
                                <p:cTn id="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25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25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25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25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25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25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4525"/>
                            </p:stCondLst>
                            <p:childTnLst>
                              <p:par>
                                <p:cTn id="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25"/>
                            </p:stCondLst>
                            <p:childTnLst>
                              <p:par>
                                <p:cTn id="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525"/>
                            </p:stCondLst>
                            <p:childTnLst>
                              <p:par>
                                <p:cTn id="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6025"/>
                            </p:stCondLst>
                            <p:childTnLst>
                              <p:par>
                                <p:cTn id="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209680" y="1614600"/>
            <a:ext cx="4606920" cy="609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2286000" y="2647800"/>
            <a:ext cx="4629240" cy="6098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2133720" y="3914640"/>
            <a:ext cx="4606920" cy="6098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305080" y="5210280"/>
            <a:ext cx="4629240" cy="609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556080" y="161460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“</a:t>
            </a:r>
            <a:r>
              <a:rPr b="1" i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我的电脑”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84560" y="264780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用“我的电脑”管理文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3914640"/>
            <a:ext cx="297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资源管理器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86200" y="5257800"/>
            <a:ext cx="24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退出放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6781680" y="2362320"/>
            <a:ext cx="1371600" cy="1251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7"/>
          <a:stretch/>
        </p:blipFill>
        <p:spPr>
          <a:xfrm>
            <a:off x="762120" y="3505320"/>
            <a:ext cx="1371600" cy="1251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8"/>
          <a:stretch/>
        </p:blipFill>
        <p:spPr>
          <a:xfrm>
            <a:off x="6810480" y="4876920"/>
            <a:ext cx="1295280" cy="11811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9"/>
          <a:stretch/>
        </p:blipFill>
        <p:spPr>
          <a:xfrm>
            <a:off x="838080" y="1219320"/>
            <a:ext cx="1371600" cy="1251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533520"/>
            <a:ext cx="74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第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文件管理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1214280"/>
            <a:ext cx="3810240" cy="459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 三 节 资源管理器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6248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153280" y="6248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1905120"/>
            <a:ext cx="8001000" cy="3682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    </a:t>
            </a: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资源管理器是 </a:t>
            </a: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Windows </a:t>
            </a: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系统中一个很重要的工具程序，用它可以方便地查看和管理计算机资源。可以查看信息在磁盘上的存储情况，可以完成文件、文件夹与磁盘的各种管理操作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352520" y="3124080"/>
            <a:ext cx="1704600" cy="39888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启动与退出资源管理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1880" y="62485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533520"/>
            <a:ext cx="74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第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文件管理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35560" y="3124080"/>
            <a:ext cx="485640" cy="3988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示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447920" y="4809960"/>
            <a:ext cx="2047680" cy="1743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905120" y="5191200"/>
            <a:ext cx="1323720" cy="1266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38080" y="3733920"/>
            <a:ext cx="7848720" cy="3682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▲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按键盘上的快捷键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WIN + E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38080" y="4267080"/>
            <a:ext cx="7848720" cy="3682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▲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右击“我的电脑”图标，选择并单击资源管理器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153280" y="6248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11880" y="62485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33520"/>
            <a:ext cx="74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第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文件管理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384200" y="5791320"/>
            <a:ext cx="6096240" cy="285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1600200" y="3962520"/>
            <a:ext cx="2305080" cy="2133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442800" y="28605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156120" y="2743200"/>
            <a:ext cx="2409480" cy="19051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384200" y="2832120"/>
            <a:ext cx="1790640" cy="3219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838080" y="1371600"/>
            <a:ext cx="7848720" cy="3682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▲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右击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&lt;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开始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&gt;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按钮，单击“资源管理器”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981080"/>
            <a:ext cx="7848720" cy="3682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▲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单击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&lt;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开始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&gt;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按钮，打开开始菜单，选定“程序（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P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）”选项，在出现的子菜单中，单击“资源管理器”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523880" y="173052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553080" y="6248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153280" y="6248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11880" y="62485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533520"/>
            <a:ext cx="74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第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文件管理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42800" y="28605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51000" y="1219320"/>
            <a:ext cx="1400040" cy="39888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资源管理器的窗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65600" y="1219320"/>
            <a:ext cx="485640" cy="3988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示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728720"/>
            <a:ext cx="6096240" cy="1764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86400" y="1219320"/>
            <a:ext cx="1219320" cy="380880"/>
          </a:xfrm>
          <a:prstGeom prst="wedgeRoundRectCallout">
            <a:avLst>
              <a:gd name="adj1" fmla="val -43518"/>
              <a:gd name="adj2" fmla="val 94166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标题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10280" y="1219320"/>
            <a:ext cx="1752840" cy="3682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显示当前资源名称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1928880"/>
            <a:ext cx="6096240" cy="17604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2438280"/>
            <a:ext cx="1219320" cy="381240"/>
          </a:xfrm>
          <a:prstGeom prst="wedgeRoundRectCallout">
            <a:avLst>
              <a:gd name="adj1" fmla="val 102995"/>
              <a:gd name="adj2" fmla="val -156666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菜单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971800"/>
            <a:ext cx="1752480" cy="3682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通过单击菜单项，执行资源管理器所能完成的相应操作任务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23880" y="2103480"/>
            <a:ext cx="6096240" cy="4111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467480" y="2209680"/>
            <a:ext cx="1219320" cy="381240"/>
          </a:xfrm>
          <a:prstGeom prst="wedgeRoundRectCallout">
            <a:avLst>
              <a:gd name="adj1" fmla="val -127342"/>
              <a:gd name="adj2" fmla="val -16666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工具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2666880"/>
            <a:ext cx="1752840" cy="3682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通过单击工具按钮，执行资源管理器所能完成的相应操作任务。可以通过菜单栏操作来显示或隐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33920" y="2971800"/>
            <a:ext cx="3886200" cy="312408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638680" y="3276720"/>
            <a:ext cx="1219320" cy="380880"/>
          </a:xfrm>
          <a:prstGeom prst="wedgeRoundRectCallout">
            <a:avLst>
              <a:gd name="adj1" fmla="val -127342"/>
              <a:gd name="adj2" fmla="val -16666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右窗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81480" y="3733920"/>
            <a:ext cx="1752840" cy="3682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显示当前打开的文件夹下包含的所有子文件夹和文件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505320"/>
            <a:ext cx="1371600" cy="380880"/>
          </a:xfrm>
          <a:prstGeom prst="wedgeRoundRectCallout">
            <a:avLst>
              <a:gd name="adj1" fmla="val 106481"/>
              <a:gd name="adj2" fmla="val -106666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左窗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3962520"/>
            <a:ext cx="1752840" cy="3682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以树型结构显示本台计算机的资源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3880" y="2971800"/>
            <a:ext cx="2057400" cy="312408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2514600"/>
            <a:ext cx="5867640" cy="2286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3657600"/>
            <a:ext cx="1828800" cy="380880"/>
          </a:xfrm>
          <a:prstGeom prst="wedgeRoundRectCallout">
            <a:avLst>
              <a:gd name="adj1" fmla="val 26300"/>
              <a:gd name="adj2" fmla="val -326250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地址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23880" y="6124680"/>
            <a:ext cx="6096240" cy="17604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5562720"/>
            <a:ext cx="1219320" cy="380880"/>
          </a:xfrm>
          <a:prstGeom prst="wedgeRoundRectCallout">
            <a:avLst>
              <a:gd name="adj1" fmla="val -154949"/>
              <a:gd name="adj2" fmla="val 123333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状态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4876920"/>
            <a:ext cx="1752480" cy="3682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显示当前资源的状态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5440" y="52228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553080" y="6248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153280" y="6248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411880" y="62485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33520"/>
            <a:ext cx="74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第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文件管理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52520" y="1219320"/>
            <a:ext cx="1704600" cy="39888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资源管理器的基本操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65600" y="1219320"/>
            <a:ext cx="485640" cy="3988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示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1797120"/>
            <a:ext cx="1828800" cy="3682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指定当前文件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2362320"/>
            <a:ext cx="8001000" cy="6426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    </a:t>
            </a: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单击资源管理器左窗格中的某个资源图标，使它的名称以蓝底白字的方式显示，从而把它指定为当前资源。这时右窗格显示该资源里的内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200400"/>
            <a:ext cx="2590920" cy="3682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展开和关闭层次结构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343400" y="3124080"/>
            <a:ext cx="2384280" cy="31244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387680" y="3124080"/>
            <a:ext cx="228600" cy="209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981080" y="3733920"/>
            <a:ext cx="2362320" cy="1676160"/>
          </a:xfrm>
          <a:prstGeom prst="wedgeRoundRectCallout">
            <a:avLst>
              <a:gd name="adj1" fmla="val 56787"/>
              <a:gd name="adj2" fmla="val -81912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显示加号，表示该文件夹里有子文件夹，其层次结构图尚未展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4048200"/>
            <a:ext cx="228600" cy="209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81680" y="3200400"/>
            <a:ext cx="2133720" cy="1676520"/>
          </a:xfrm>
          <a:prstGeom prst="wedgeRoundRectCallout">
            <a:avLst>
              <a:gd name="adj1" fmla="val -144495"/>
              <a:gd name="adj2" fmla="val 7101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显示减号，表示该文件夹里有子文件夹，其层次结构图已经展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5886360"/>
            <a:ext cx="1143000" cy="209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00800" y="5029200"/>
            <a:ext cx="2362320" cy="1143000"/>
          </a:xfrm>
          <a:prstGeom prst="wedgeRoundRectCallout">
            <a:avLst>
              <a:gd name="adj1" fmla="val -116462"/>
              <a:gd name="adj2" fmla="val 37361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没有加号或减号，表示该文件夹里没有子文件夹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551560"/>
            <a:ext cx="2590920" cy="64260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单击加号，可以展开层次结构图，单击减号，可以关闭层次结构图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553080" y="6248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53280" y="6248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1880" y="62485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33520"/>
            <a:ext cx="74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第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文件管理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505160" y="1219320"/>
            <a:ext cx="2161800" cy="39888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改变右窗格中的资源排列顺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92760" y="1219320"/>
            <a:ext cx="485640" cy="3988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示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3276720"/>
            <a:ext cx="7848720" cy="642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▲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打开“查看”菜单，移到“排列图标（</a:t>
            </a:r>
            <a:r>
              <a:rPr b="1" lang="zh-CN" sz="1800" spc="-1" strike="noStrike" u="sng">
                <a:solidFill>
                  <a:srgbClr val="ffffff"/>
                </a:solidFill>
                <a:uFillTx/>
                <a:latin typeface="宋体"/>
              </a:rPr>
              <a:t>I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）”命令上打开它的子菜单，单击其中的“按名称（</a:t>
            </a:r>
            <a:r>
              <a:rPr b="1" lang="zh-CN" sz="1800" spc="-1" strike="noStrike" u="sng">
                <a:solidFill>
                  <a:srgbClr val="ffffff"/>
                </a:solidFill>
                <a:uFillTx/>
                <a:latin typeface="宋体"/>
              </a:rPr>
              <a:t>N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）”、”按大小（</a:t>
            </a:r>
            <a:r>
              <a:rPr b="1" lang="zh-CN" sz="1800" spc="-1" strike="noStrike" u="sng">
                <a:solidFill>
                  <a:srgbClr val="ffffff"/>
                </a:solidFill>
                <a:uFillTx/>
                <a:latin typeface="宋体"/>
              </a:rPr>
              <a:t>Z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）”、”按日期（</a:t>
            </a:r>
            <a:r>
              <a:rPr b="1" lang="zh-CN" sz="1800" spc="-1" strike="noStrike" u="sng">
                <a:solidFill>
                  <a:srgbClr val="ffffff"/>
                </a:solidFill>
                <a:uFillTx/>
                <a:latin typeface="宋体"/>
              </a:rPr>
              <a:t>D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）“等命令，就可以按相应的方式排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2438280"/>
            <a:ext cx="7848720" cy="3682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▲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选择“详细资料”显示方式时，单击右窗格顶部的“名称”、“修改时间”、“大小”和“类型”按钮，可以让右窗格里显示的资源按相应的方式排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905120"/>
            <a:ext cx="7848720" cy="3682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▲ 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右击鼠标，选择“排列图标（</a:t>
            </a:r>
            <a:r>
              <a:rPr b="1" lang="zh-CN" sz="1800" spc="-1" strike="noStrike" u="sng">
                <a:solidFill>
                  <a:srgbClr val="ffffff"/>
                </a:solidFill>
                <a:uFillTx/>
                <a:latin typeface="宋体"/>
              </a:rPr>
              <a:t>I</a:t>
            </a: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）”命令上打开它的子菜单，选择排序方式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4394160"/>
            <a:ext cx="3581640" cy="39888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用资源管理器管理磁盘文件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908600" y="4394160"/>
            <a:ext cx="485640" cy="3988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示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5170320"/>
            <a:ext cx="7848720" cy="3682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    </a:t>
            </a: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与使用“我的电脑”窗口时的情况类似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819000" y="5629320"/>
            <a:ext cx="1810080" cy="237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53080" y="62485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下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153280" y="6248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1880" y="6248520"/>
            <a:ext cx="48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ffff"/>
                </a:solidFill>
                <a:uFillTx/>
                <a:latin typeface="Times New Roman"/>
                <a:ea typeface="华文彩云"/>
              </a:rPr>
              <a:t>上一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533520"/>
            <a:ext cx="743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第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章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文件管理</a:t>
            </a:r>
            <a:r>
              <a:rPr b="1" lang="zh-CN" sz="4000" spc="-1" strike="noStrike">
                <a:solidFill>
                  <a:srgbClr val="000066"/>
                </a:solidFill>
                <a:latin typeface="隶书"/>
                <a:ea typeface="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51000" y="1219320"/>
            <a:ext cx="1400040" cy="39888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宋体"/>
              </a:rPr>
              <a:t>查找文件或文件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1219320"/>
            <a:ext cx="838080" cy="398880"/>
          </a:xfrm>
          <a:prstGeom prst="rect">
            <a:avLst/>
          </a:prstGeom>
          <a:solidFill>
            <a:srgbClr val="000080">
              <a:alpha val="50000"/>
            </a:srgbClr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</a:rPr>
              <a:t>示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1757520"/>
            <a:ext cx="7848720" cy="3682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    </a:t>
            </a: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磁盘、光盘上保存的文件夹和文件夹非常多，利用资源管理器中的“查找”命令，可以快速找到所需的文件或文件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838080" y="5638680"/>
            <a:ext cx="1000080" cy="6667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1809720" y="5857920"/>
            <a:ext cx="1590840" cy="3999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38080" y="2590920"/>
            <a:ext cx="2057400" cy="1739880"/>
          </a:xfrm>
          <a:prstGeom prst="rect">
            <a:avLst/>
          </a:prstGeom>
          <a:solidFill>
            <a:srgbClr val="ffffcc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    </a:t>
            </a: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打开资源管理器窗口菜单栏里的“工具”菜单，选定其中的“查找（</a:t>
            </a:r>
            <a:r>
              <a:rPr b="1" lang="zh-CN" sz="1800" spc="-1" strike="noStrike" u="sng">
                <a:solidFill>
                  <a:srgbClr val="000066"/>
                </a:solidFill>
                <a:uFillTx/>
                <a:latin typeface="宋体"/>
              </a:rPr>
              <a:t>F</a:t>
            </a: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）”命令，打开它的子菜单，单击子菜单中的“文件或文件夹（</a:t>
            </a:r>
            <a:r>
              <a:rPr b="1" lang="zh-CN" sz="1800" spc="-1" strike="noStrike" u="sng">
                <a:solidFill>
                  <a:srgbClr val="000066"/>
                </a:solidFill>
                <a:uFillTx/>
                <a:latin typeface="宋体"/>
              </a:rPr>
              <a:t>F</a:t>
            </a: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）…”</a:t>
            </a: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,</a:t>
            </a:r>
            <a:r>
              <a:rPr b="1" lang="zh-CN" sz="1800" spc="-1" strike="noStrike">
                <a:solidFill>
                  <a:srgbClr val="000066"/>
                </a:solidFill>
                <a:latin typeface="宋体"/>
              </a:rPr>
              <a:t>就可以打开“查找”对话框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886200" y="2600280"/>
            <a:ext cx="4210200" cy="3267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952880" y="3429000"/>
            <a:ext cx="1981440" cy="209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2666880"/>
            <a:ext cx="2819520" cy="1295640"/>
          </a:xfrm>
          <a:prstGeom prst="wedgeRoundRectCallout">
            <a:avLst>
              <a:gd name="adj1" fmla="val 104333"/>
              <a:gd name="adj2" fmla="val 17648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输入所要查找的文件或文件夹的名称，其中＊代表任意个字符，？代表一个任意字符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2880" y="3676680"/>
            <a:ext cx="1981440" cy="209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90720" y="4343400"/>
            <a:ext cx="2819160" cy="685800"/>
          </a:xfrm>
          <a:prstGeom prst="wedgeRoundRectCallout">
            <a:avLst>
              <a:gd name="adj1" fmla="val 105912"/>
              <a:gd name="adj2" fmla="val -134722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输入所要查找的文件中所包含的文字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3905280"/>
            <a:ext cx="1981440" cy="20952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010280" y="3962520"/>
            <a:ext cx="1524240" cy="990360"/>
          </a:xfrm>
          <a:prstGeom prst="wedgeRoundRectCallout">
            <a:avLst>
              <a:gd name="adj1" fmla="val -117291"/>
              <a:gd name="adj2" fmla="val -41666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搜索的范围，可以是盘符或文件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4191120"/>
            <a:ext cx="1219320" cy="22860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5334120"/>
            <a:ext cx="1828800" cy="990360"/>
          </a:xfrm>
          <a:prstGeom prst="wedgeRoundRectCallout">
            <a:avLst>
              <a:gd name="adj1" fmla="val 139759"/>
              <a:gd name="adj2" fmla="val -150481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选择搜索的范围，是否包含子文件夹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962520" y="4800600"/>
            <a:ext cx="4038480" cy="1066680"/>
          </a:xfrm>
          <a:prstGeom prst="rect">
            <a:avLst/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5867280"/>
            <a:ext cx="2895480" cy="533520"/>
          </a:xfrm>
          <a:prstGeom prst="wedgeRoundRectCallout">
            <a:avLst>
              <a:gd name="adj1" fmla="val -36185"/>
              <a:gd name="adj2" fmla="val -185416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Times New Roman"/>
              </a:rPr>
              <a:t>显示查找的结果和状态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信息 技术</cp:keywords>
  <dc:language>en-US</dc:language>
  <cp:lastModifiedBy/>
  <cp:revision>0</cp:revision>
  <dc:subject/>
  <dc:title/>
</cp:coreProperties>
</file>