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7.jpeg" ContentType="image/jpeg"/>
  <Override PartName="/ppt/media/image15.gif" ContentType="image/gif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24.gif" ContentType="image/gif"/>
  <Override PartName="/ppt/media/image21.gif" ContentType="image/gif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jpeg" ContentType="image/jpeg"/>
  <Override PartName="/ppt/media/image13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9CE-B696-47A4-AF57-5BD4B8D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07-D97D-45A5-9494-24E5A1DE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491-F003-4362-90C1-68E0A777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024-6F8B-4CFB-9B39-561B2875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B504-95F9-4782-A88E-E8C7A506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2BB-7F97-414D-A32B-433FC175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0A3C-6758-41DB-8BD3-6585636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F64C-CED6-49DE-91CB-0BC784B7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4130-77D0-445A-9253-852B342B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A177-B90C-46D0-B1EE-F66DD30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88C6-957B-446E-99D2-6CEED02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7E9-6248-45CA-8A38-54CC221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E199-F2AC-45ED-B0D4-8568E69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CCB3-459C-4814-B789-6E77229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7AEC-D339-48D7-8145-0990919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ADE-107E-40E6-9BE4-19CCC69E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127A-7216-47AE-8318-FC77160D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C30-4199-4917-8A65-9F4D53E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8C8-B000-4334-AF66-D91BDAC4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64E-8FBA-4252-850D-937AC2F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F2D-7215-4CD7-B7F2-DBEA8F4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829-2558-4139-9545-E646328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9DD-6030-4C89-9A92-8BFE24DB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A39-0476-4E76-9B39-F024B3F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955-69E6-4F3A-9A3B-2ABC9BFB605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E44B-7617-42D2-B3B3-3FA274959FF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173240"/>
            <a:ext cx="63248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cc"/>
                </a:solidFill>
                <a:latin typeface="Berlin Sans FB Demi"/>
              </a:rPr>
              <a:t>Unit One</a:t>
            </a:r>
            <a:r>
              <a:rPr b="1" lang="en-US" sz="7200" spc="-1" strike="noStrike">
                <a:solidFill>
                  <a:srgbClr val="ff3300"/>
                </a:solidFill>
                <a:latin typeface="Berlin Sans FB Demi"/>
              </a:rPr>
              <a:t> 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280" y="2819520"/>
            <a:ext cx="9144000" cy="2459160"/>
            <a:chOff x="152280" y="2819520"/>
            <a:chExt cx="9144000" cy="2459160"/>
          </a:xfrm>
        </p:grpSpPr>
        <p:sp>
          <p:nvSpPr>
            <p:cNvPr id="92" name=""/>
            <p:cNvSpPr/>
            <p:nvPr/>
          </p:nvSpPr>
          <p:spPr>
            <a:xfrm>
              <a:off x="990360" y="28195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66"/>
                  </a:solidFill>
                  <a:latin typeface="Berlin Sans FB"/>
                </a:rPr>
                <a:t>Lesson Two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280" y="4179240"/>
              <a:ext cx="914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66"/>
                  </a:solidFill>
                  <a:latin typeface="Berlin Sans FB"/>
                </a:rPr>
                <a:t>At the School Library</a:t>
              </a:r>
              <a:endParaRPr b="0" lang="en-US" sz="6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447920"/>
            <a:ext cx="883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Bradley Hand ITC"/>
              </a:rPr>
              <a:t>Thank   you 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Bradley Hand ITC"/>
              </a:rPr>
              <a:t>for  joining  us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</a:rPr>
              <a:t> !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2517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685800"/>
            <a:ext cx="49532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付罚金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新，续借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书管理员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标题，题目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暂借的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多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收回，召回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期满的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838080"/>
            <a:ext cx="556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书编目号码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充，填写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格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否则，不然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次，一次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使，以便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下，记下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y a f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249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905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brari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590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 lo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809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t mo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449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c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76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ll numb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105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t a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697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therw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057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ill i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572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rite d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o tha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14800" cy="25909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590920" y="289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ibraria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3543480"/>
            <a:ext cx="4114800" cy="2628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514600" y="5775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t mos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962160" cy="2571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620120" y="5775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ay a f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876920" y="380880"/>
            <a:ext cx="3886200" cy="2590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630480" y="3049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66960" y="23097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610480" y="6095880"/>
            <a:ext cx="533520" cy="48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61722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312408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686800" y="2971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41972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8686800" y="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419720" y="0"/>
            <a:ext cx="4269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58200" y="48769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62920" y="6019920"/>
            <a:ext cx="685800" cy="26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010280" y="6423120"/>
            <a:ext cx="663840" cy="43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07360" y="5211720"/>
            <a:ext cx="1736640" cy="164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620120" y="46753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153280" y="3352680"/>
            <a:ext cx="765360" cy="218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8379000" y="39625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765000" cy="2183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6858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Qiang filled in a form with the details of the two book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recall them 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05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Qiang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il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a form with the details of the two book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____  __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_____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call them 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get a better job some day, Jack studies harder than befo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495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der than befor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____  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better job some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438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u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95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4525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029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5238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6423120"/>
            <a:ext cx="663840" cy="43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407360" y="5211720"/>
            <a:ext cx="1736640" cy="1646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620120" y="46753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379000" y="3962520"/>
            <a:ext cx="765000" cy="2182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848720" y="4267080"/>
            <a:ext cx="765000" cy="2183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162920" y="6019920"/>
            <a:ext cx="685800" cy="263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18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rite the following sentences with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o 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91440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 Ming recalled the book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orrow it earli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Linda renewed these book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keep them for another two week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Li Hui gets up early every da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read English in the morn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n order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ccess to more useful information,we’d better go to the librar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entences according to the word cu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54120"/>
            <a:ext cx="8991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o over the lessons again and ag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ite them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o eye exercises every d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his ey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orked h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ss the exa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keep English diari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d7e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 order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ir English writing skills           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447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9144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Qiang was doing a project on Western culture and customs during his study trip in London . He wanted to borrow some books ____  _____ he could find more information . Li Qiang _______ for them on the computer . He needed three books, but he only found one . The other two were ____  ____ . In order to ______them, he filled in a ____ with the details of the two books . Li Qiang wanted to ____ them for over two weeks, so the librarian told him to ______ them before they were ____ . ___________he would have to _____  ____  _____ 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492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52480" y="62514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4812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1143000" y="6261120"/>
            <a:ext cx="4811760" cy="606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600200" y="59436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943600" y="6251400"/>
            <a:ext cx="4811760" cy="60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3886200" y="5791320"/>
            <a:ext cx="4811760" cy="60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088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1752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752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3886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048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048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c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3048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o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therw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42973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724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n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2163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eck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990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 in pairs and make up dialogu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51460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to borrow books at the school librar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to recall a book on loa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238880" y="5638680"/>
            <a:ext cx="689040" cy="838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705720" y="4267080"/>
            <a:ext cx="18288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d7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0666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al work: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1. Read and recite the tex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2. Act out the dialogue in next clas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ritten work: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Copy the tex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学校 图书馆</cp:keywords>
  <dc:language>en-US</dc:language>
  <cp:lastModifiedBy/>
  <cp:revision>0</cp:revision>
  <dc:subject/>
  <dc:title/>
</cp:coreProperties>
</file>