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CHIMES.WAV" ContentType="audio/x-wav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BDB-B4F0-48D1-A91C-9E5D859D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7A4-FA99-480C-B86C-7065A795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F65-D41E-4974-BCC1-8BE43255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41C-B7B7-48A5-BCD6-06F3E171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8131-7477-419C-B83F-CEB3AE10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15F2-EF13-4DCF-9CF8-CB8B3947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885E-B6C4-4BD0-BCF1-80999B39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D4E8-32BA-40EF-BC5A-756F9087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4FC7-B905-4D1E-90A0-C5617915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89E9-AA27-4D2D-A563-BCBEDBFE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9092-1F51-404C-A890-CE6F892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874-FE30-4C13-8914-D005A5C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5DEA-630F-4B97-9CE7-5FDC940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D0BC-3209-4772-AB3E-259CA8EA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BCF8-E3C4-4593-9B78-B40DDFAC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BEB5-5356-4E74-BBA9-F2CD8437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A93A-3EDC-43D8-B3BA-048DEEE5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397-20E4-40A5-81BF-AF545457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A55-4675-48E5-9A8E-461F38A4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D69-83FA-41F7-BAE3-4545AF85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F8D-39BD-4939-8D41-E616EB10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64F-882A-46C8-BC95-008A8194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9B3-52E1-499D-8926-A47A532C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CB7-EB02-40C0-A524-C0ACA5FD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AF8E-64C3-4460-B878-56EB2B0EF1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FE30-1C91-4BC6-88E7-F5C58DB4DE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7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7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二章 运算器和运算方法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883908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本章需解决的关键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何以加法器为基础，实现各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运算处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思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复杂运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3434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962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则运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3434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962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法运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52578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76920"/>
            <a:ext cx="883908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加法器的基础上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增加移位传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功能，并选择输入控制条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228600"/>
            <a:ext cx="8839080" cy="29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N7418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芯片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为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组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一位逻辑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52578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81080" y="373392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3429000"/>
            <a:ext cx="61722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加法器（求和、进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选择器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公共控制门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共用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685800" y="0"/>
            <a:ext cx="9448920" cy="6859800"/>
            <a:chOff x="685800" y="0"/>
            <a:chExt cx="9448920" cy="6859800"/>
          </a:xfrm>
        </p:grpSpPr>
        <p:sp>
          <p:nvSpPr>
            <p:cNvPr id="414" name=""/>
            <p:cNvSpPr/>
            <p:nvPr/>
          </p:nvSpPr>
          <p:spPr>
            <a:xfrm>
              <a:off x="2819520" y="2773440"/>
              <a:ext cx="144756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21636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00400" y="33829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86200" y="3382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8" name=""/>
            <p:cNvGraphicFramePr/>
            <p:nvPr/>
          </p:nvGraphicFramePr>
          <p:xfrm>
            <a:off x="3124080" y="2544840"/>
            <a:ext cx="1143000" cy="114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2544840"/>
                      <a:ext cx="1143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0" name=""/>
            <p:cNvSpPr/>
            <p:nvPr/>
          </p:nvSpPr>
          <p:spPr>
            <a:xfrm>
              <a:off x="762120" y="2316240"/>
              <a:ext cx="754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2468520"/>
              <a:ext cx="670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81080" y="353520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95680" y="3992400"/>
              <a:ext cx="205740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95680" y="44496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57800" y="4221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6400" y="4068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0552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9132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0080" y="3840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86400" y="35352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28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57800" y="483084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386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7220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8320" y="4830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352680" y="5744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0720" y="411120"/>
              <a:ext cx="6858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627840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S3     S2          Bi           S1  S0  Ai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76720" y="63547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5880" y="6354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86200" y="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62520" y="76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38880" y="6278400"/>
              <a:ext cx="28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M   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24080" y="487440"/>
              <a:ext cx="144792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9880" y="152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5320" y="10969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91120" y="1096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8" name=""/>
            <p:cNvGraphicFramePr/>
            <p:nvPr/>
          </p:nvGraphicFramePr>
          <p:xfrm>
            <a:off x="3352680" y="258840"/>
            <a:ext cx="1143000" cy="114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52680" y="258840"/>
                      <a:ext cx="1143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"/>
            <p:cNvSpPr/>
            <p:nvPr/>
          </p:nvSpPr>
          <p:spPr>
            <a:xfrm>
              <a:off x="1066680" y="1249200"/>
              <a:ext cx="144792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66680" y="17064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52480" y="17064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52480" y="71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71600" y="2087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8600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20876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4300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3880" y="1477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52480" y="1325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76520" y="1096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209680" y="23922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066680" y="23922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295280" y="223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00200" y="208764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8080" y="3992400"/>
              <a:ext cx="144792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0200" y="3611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0020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2480" y="48308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8080" y="4449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1600" y="4221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4068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23880" y="3840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09680" y="4830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19320" y="48308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7920" y="483084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810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05520" y="1554120"/>
              <a:ext cx="121896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38680" y="14018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1008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19920" y="2087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124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1249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36878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49831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58000" y="4145040"/>
              <a:ext cx="121932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391520" y="39924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67480" y="46782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05920" y="2316240"/>
              <a:ext cx="0" cy="39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67480" y="246852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19520" y="5288040"/>
              <a:ext cx="1218960" cy="3808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135400"/>
              <a:ext cx="15264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9000" y="5668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9000" y="4906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334120" y="239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600" y="223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3352680" y="49068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809880" y="3458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095880" y="5896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676520" y="5896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59738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47920" y="582120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523880" y="3610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43000" y="487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2120" y="33066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x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15000" y="3306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1143000" y="228600"/>
            <a:ext cx="8229600" cy="6631920"/>
            <a:chOff x="1143000" y="228600"/>
            <a:chExt cx="8229600" cy="6631920"/>
          </a:xfrm>
        </p:grpSpPr>
        <p:sp>
          <p:nvSpPr>
            <p:cNvPr id="508" name=""/>
            <p:cNvSpPr/>
            <p:nvPr/>
          </p:nvSpPr>
          <p:spPr>
            <a:xfrm>
              <a:off x="3276720" y="2895480"/>
              <a:ext cx="144756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2520" y="228600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57600" y="35053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43400" y="3505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19320" y="2438280"/>
              <a:ext cx="75438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19320" y="2590920"/>
              <a:ext cx="6705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280" y="3657600"/>
              <a:ext cx="3505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52880" y="4114800"/>
              <a:ext cx="205740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2880" y="4572000"/>
              <a:ext cx="20574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500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4360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6272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4852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6728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43600" y="3657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00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1500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58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2940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0552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809880" y="5867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23880" y="53352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Ci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43000" y="64008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S3        S2                Bi                S1     S0   A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3920" y="64771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3080" y="6477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43400" y="228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F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30492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9608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     Ci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67080" y="2286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62520" y="121932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48320" y="1219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23880" y="13716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23880" y="18288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09680" y="18288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09680" y="8380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2880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4320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8280" y="22096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0020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81080" y="16002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09680" y="14479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3720" y="121932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66688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52388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752480" y="23616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57400" y="220968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95280" y="41148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57400" y="3733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4792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0968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95280" y="45720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2880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5740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6688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7652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0512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62720" y="1676520"/>
              <a:ext cx="1218960" cy="53316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95880" y="1523880"/>
              <a:ext cx="152640" cy="15264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672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72200" y="137160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48320" y="1371600"/>
              <a:ext cx="1523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7400" y="3809880"/>
              <a:ext cx="1600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66880" y="5105520"/>
              <a:ext cx="2438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5200" y="4267080"/>
              <a:ext cx="1219320" cy="53352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8720" y="411480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4680" y="480060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763120" y="2438280"/>
              <a:ext cx="0" cy="3962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24680" y="2590920"/>
              <a:ext cx="0" cy="1523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76720" y="5410080"/>
              <a:ext cx="1218960" cy="3812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09880" y="525780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86200" y="579132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86200" y="502920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791320" y="251388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6400800" y="2361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3809880" y="50284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267080" y="3581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6553080" y="601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2133720" y="60192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6095880"/>
              <a:ext cx="4952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05120" y="5943600"/>
              <a:ext cx="3809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1981080" y="3733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00200" y="609480"/>
              <a:ext cx="304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81280" y="609480"/>
              <a:ext cx="144792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5" name=""/>
            <p:cNvGraphicFramePr/>
            <p:nvPr/>
          </p:nvGraphicFramePr>
          <p:xfrm rot="10800000">
            <a:off x="3962520" y="456480"/>
            <a:ext cx="1752480" cy="87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5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3962520" y="45648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7" name=""/>
            <p:cNvGraphicFramePr/>
            <p:nvPr/>
          </p:nvGraphicFramePr>
          <p:xfrm rot="10800000">
            <a:off x="3657600" y="2742840"/>
            <a:ext cx="1752480" cy="87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5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657600" y="274284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9" name=""/>
            <p:cNvSpPr/>
            <p:nvPr/>
          </p:nvSpPr>
          <p:spPr>
            <a:xfrm>
              <a:off x="129528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958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Y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0" y="0"/>
            <a:ext cx="304812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操作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低位进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320" y="35053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920" y="3276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4920" y="3809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2666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控制信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5105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产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Gi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5334120"/>
            <a:ext cx="152640" cy="76176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920" y="57150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形成多种输入组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3880" y="609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609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3276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逻辑运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3809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算术运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4572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控制信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3S2S1S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315200" y="4114800"/>
            <a:ext cx="1219320" cy="685800"/>
            <a:chOff x="7315200" y="4114800"/>
            <a:chExt cx="1219320" cy="685800"/>
          </a:xfrm>
        </p:grpSpPr>
        <p:sp>
          <p:nvSpPr>
            <p:cNvPr id="615" name=""/>
            <p:cNvSpPr/>
            <p:nvPr/>
          </p:nvSpPr>
          <p:spPr>
            <a:xfrm>
              <a:off x="7315200" y="4267080"/>
              <a:ext cx="121932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48720" y="4114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7924680" y="4800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5562720" y="1523880"/>
            <a:ext cx="1218960" cy="685800"/>
            <a:chOff x="5562720" y="1523880"/>
            <a:chExt cx="1218960" cy="685800"/>
          </a:xfrm>
        </p:grpSpPr>
        <p:sp>
          <p:nvSpPr>
            <p:cNvPr id="619" name=""/>
            <p:cNvSpPr/>
            <p:nvPr/>
          </p:nvSpPr>
          <p:spPr>
            <a:xfrm>
              <a:off x="5562720" y="1676520"/>
              <a:ext cx="121896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5880" y="15238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7924680" y="25909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763120" y="24382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2590920"/>
            <a:ext cx="670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19320" y="24382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771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400800" y="2361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2209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791320" y="25138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72200" y="1371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48320" y="1371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48320" y="1219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121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581280" y="380880"/>
            <a:ext cx="1447920" cy="916920"/>
            <a:chOff x="3581280" y="380880"/>
            <a:chExt cx="1447920" cy="916920"/>
          </a:xfrm>
        </p:grpSpPr>
        <p:sp>
          <p:nvSpPr>
            <p:cNvPr id="634" name=""/>
            <p:cNvSpPr/>
            <p:nvPr/>
          </p:nvSpPr>
          <p:spPr>
            <a:xfrm>
              <a:off x="3581280" y="609480"/>
              <a:ext cx="1447920" cy="6098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09880" y="380880"/>
              <a:ext cx="99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⊕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276720" y="2286000"/>
            <a:ext cx="1600200" cy="1297800"/>
            <a:chOff x="3276720" y="2286000"/>
            <a:chExt cx="1600200" cy="1297800"/>
          </a:xfrm>
        </p:grpSpPr>
        <p:sp>
          <p:nvSpPr>
            <p:cNvPr id="637" name=""/>
            <p:cNvSpPr/>
            <p:nvPr/>
          </p:nvSpPr>
          <p:spPr>
            <a:xfrm>
              <a:off x="396252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76720" y="2895480"/>
              <a:ext cx="1447560" cy="6098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05320" y="26668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⊕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4267080" y="228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304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43400" y="228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43200" y="2209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666880" y="25138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38280" y="2209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2209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752480" y="2361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00200" y="2209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523880" y="25138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09680" y="838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3505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57600" y="3505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467480" y="4800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915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514600" y="762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0"/>
            <a:ext cx="304812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输入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操作数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i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低位进位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i</a:t>
            </a: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黑体"/>
              </a:rPr>
              <a:t>-</a:t>
            </a:r>
            <a:r>
              <a:rPr b="1" lang="zh-CN" sz="2800" spc="-1" strike="noStrike">
                <a:solidFill>
                  <a:srgbClr val="b2b2b2"/>
                </a:solidFill>
                <a:latin typeface="Times New Roman"/>
                <a:ea typeface="黑体"/>
              </a:rPr>
              <a:t>1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609480"/>
            <a:ext cx="3049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0" y="609480"/>
            <a:ext cx="3049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523880" y="1219320"/>
            <a:ext cx="1447920" cy="990360"/>
            <a:chOff x="1523880" y="1219320"/>
            <a:chExt cx="1447920" cy="990360"/>
          </a:xfrm>
        </p:grpSpPr>
        <p:sp>
          <p:nvSpPr>
            <p:cNvPr id="662" name=""/>
            <p:cNvSpPr/>
            <p:nvPr/>
          </p:nvSpPr>
          <p:spPr>
            <a:xfrm>
              <a:off x="1523880" y="1371600"/>
              <a:ext cx="1447920" cy="8380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23880" y="18288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09680" y="1828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81080" y="1600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09680" y="1447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3372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1676520" y="609480"/>
            <a:ext cx="68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i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52480" y="685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77320" y="4800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0773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450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6000"/>
                            </p:stCondLst>
                            <p:childTnLst>
                              <p:par>
                                <p:cTn id="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000"/>
                            </p:stCondLst>
                            <p:childTnLst>
                              <p:par>
                                <p:cTn id="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7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8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9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9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8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5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4343400" y="228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228600"/>
            <a:ext cx="0" cy="3808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143000" y="304920"/>
            <a:ext cx="8229600" cy="6555600"/>
            <a:chOff x="1143000" y="304920"/>
            <a:chExt cx="8229600" cy="6555600"/>
          </a:xfrm>
        </p:grpSpPr>
        <p:sp>
          <p:nvSpPr>
            <p:cNvPr id="675" name=""/>
            <p:cNvSpPr/>
            <p:nvPr/>
          </p:nvSpPr>
          <p:spPr>
            <a:xfrm>
              <a:off x="3276720" y="2895480"/>
              <a:ext cx="144756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228600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57600" y="35053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43400" y="3505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19320" y="2438280"/>
              <a:ext cx="75438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19320" y="2590920"/>
              <a:ext cx="6705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38280" y="3657600"/>
              <a:ext cx="3505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2880" y="4114800"/>
              <a:ext cx="2057400" cy="8380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52880" y="45720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15000" y="43434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43600" y="4191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6272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4852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67280" y="39625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43600" y="365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10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15000" y="49528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58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2940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0552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809880" y="5867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23880" y="53352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Ci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64008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S3        S2                Bi                S1     S0   A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33920" y="64771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53080" y="6477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19720" y="30492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9608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     Ci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62520" y="121932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48320" y="1219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23880" y="13716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23880" y="18288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09680" y="18288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09680" y="8380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2880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4320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38280" y="22096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0020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81080" y="16002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09680" y="14479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33720" y="121932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66688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152388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752480" y="23616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57400" y="220968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295280" y="4114800"/>
              <a:ext cx="1447920" cy="8380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57400" y="3733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44792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09680" y="49528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95280" y="45720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28800" y="43434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57400" y="4191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6688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49528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05120" y="49528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382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62720" y="1676520"/>
              <a:ext cx="1218960" cy="53316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5880" y="1523880"/>
              <a:ext cx="152640" cy="15264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672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7712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72200" y="137160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48320" y="1371600"/>
              <a:ext cx="1523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7400" y="3809880"/>
              <a:ext cx="1600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66880" y="51055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15200" y="4267080"/>
              <a:ext cx="1219320" cy="53352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48720" y="411480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24680" y="480060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763120" y="2438280"/>
              <a:ext cx="0" cy="3962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924680" y="2590920"/>
              <a:ext cx="0" cy="1523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76720" y="5410080"/>
              <a:ext cx="1218960" cy="3812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9880" y="5257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6200" y="57913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862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791320" y="251388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400800" y="2361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3809880" y="5028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267080" y="3581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553080" y="601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133720" y="601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76520" y="60958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905120" y="594360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1981080" y="3733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600200" y="609480"/>
              <a:ext cx="304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81280" y="609480"/>
              <a:ext cx="144792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0" name=""/>
            <p:cNvGraphicFramePr/>
            <p:nvPr/>
          </p:nvGraphicFramePr>
          <p:xfrm rot="10800000">
            <a:off x="3962520" y="456480"/>
            <a:ext cx="1752480" cy="87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3962520" y="45648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"/>
            <p:cNvGraphicFramePr/>
            <p:nvPr/>
          </p:nvGraphicFramePr>
          <p:xfrm rot="10800000">
            <a:off x="3657600" y="2742840"/>
            <a:ext cx="1752480" cy="87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76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657600" y="274284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"/>
            <p:cNvSpPr/>
            <p:nvPr/>
          </p:nvSpPr>
          <p:spPr>
            <a:xfrm>
              <a:off x="129528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58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1219320" y="457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S3S2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输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i   S1S0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输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Yi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95280" y="10666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0" y="6094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1143000"/>
            <a:ext cx="9144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48120" y="1143000"/>
            <a:ext cx="13716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+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09880" y="1752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15200" y="2362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029200" y="1143000"/>
            <a:ext cx="9144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53080" y="1066680"/>
            <a:ext cx="13716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95280" y="35812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8120" y="2438280"/>
            <a:ext cx="14475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i+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48120" y="2438280"/>
            <a:ext cx="1676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i+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53080" y="173340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Ai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781680" y="312408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00400" y="2819520"/>
            <a:ext cx="9144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114800" y="2819520"/>
            <a:ext cx="304920" cy="10666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00100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G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2133720"/>
            <a:ext cx="9144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2133720"/>
            <a:ext cx="380880" cy="9144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90720" y="6019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14600" y="6019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0968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952880" y="60199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15000" y="6019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578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228600"/>
            <a:ext cx="883908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多位逻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见教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4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全加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并行进位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选择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控制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4920" y="4038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原始进位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n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4920" y="5181480"/>
            <a:ext cx="35049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位输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71800" y="502920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124080" y="4952880"/>
            <a:ext cx="2133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n+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352680" y="5638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267080" y="5638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05520" y="4952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构成组间串行进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64832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648320" y="5791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55627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构成组间并行进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1295280" y="228600"/>
            <a:ext cx="8229600" cy="6631920"/>
            <a:chOff x="1295280" y="228600"/>
            <a:chExt cx="8229600" cy="6631920"/>
          </a:xfrm>
        </p:grpSpPr>
        <p:sp>
          <p:nvSpPr>
            <p:cNvPr id="804" name=""/>
            <p:cNvSpPr/>
            <p:nvPr/>
          </p:nvSpPr>
          <p:spPr>
            <a:xfrm>
              <a:off x="3429000" y="2895480"/>
              <a:ext cx="144756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14800" y="228600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09880" y="35053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95680" y="3505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71600" y="2438280"/>
              <a:ext cx="75438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71600" y="2590920"/>
              <a:ext cx="6705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90560" y="3657600"/>
              <a:ext cx="3505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5160" y="4114800"/>
              <a:ext cx="205740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05160" y="4572000"/>
              <a:ext cx="20574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6728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9588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150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008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1956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95880" y="3657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623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86728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481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816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3962160" y="5867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6160" y="53352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Ci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295280" y="64008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S3        S2                Bi                S1     S0   A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86200" y="64771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5360" y="6477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95680" y="228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F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72000" y="30492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4836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     Ci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19360" y="2286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14800" y="121932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00600" y="1219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676160" y="13716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76160" y="18288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1960" y="18288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1960" y="8380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8108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954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590560" y="22096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7524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360" y="16002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61960" y="14479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86000" y="121932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281916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167616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1904760" y="23616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09680" y="220968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560" y="41148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09680" y="3733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0968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0020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6196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47560" y="45720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8108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0968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3336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1916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2880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5740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5905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15000" y="1676520"/>
              <a:ext cx="1218960" cy="53316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8160" y="1523880"/>
              <a:ext cx="152640" cy="15264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1956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24480" y="137160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00600" y="1371600"/>
              <a:ext cx="1523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09680" y="3809880"/>
              <a:ext cx="1600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19160" y="5105520"/>
              <a:ext cx="2438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467480" y="4267080"/>
              <a:ext cx="1219320" cy="53352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01000" y="411480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76960" y="480060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915400" y="2438280"/>
              <a:ext cx="0" cy="3962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76960" y="2590920"/>
              <a:ext cx="0" cy="1523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29000" y="5410080"/>
              <a:ext cx="1218960" cy="3812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62160" y="525780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38480" y="579132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38480" y="502920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943600" y="251388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553080" y="2361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3962160" y="50284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419360" y="3581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05360" y="601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286000" y="60192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28800" y="6095880"/>
              <a:ext cx="4952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57400" y="5943600"/>
              <a:ext cx="3809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133360" y="3733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52480" y="609480"/>
              <a:ext cx="304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33560" y="609480"/>
              <a:ext cx="144792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1" name=""/>
            <p:cNvGraphicFramePr/>
            <p:nvPr/>
          </p:nvGraphicFramePr>
          <p:xfrm rot="10800000">
            <a:off x="4114800" y="456480"/>
            <a:ext cx="1752480" cy="87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4114800" y="45648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3" name=""/>
            <p:cNvGraphicFramePr/>
            <p:nvPr/>
          </p:nvGraphicFramePr>
          <p:xfrm rot="10800000">
            <a:off x="3809880" y="2742840"/>
            <a:ext cx="1752480" cy="87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89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809880" y="274284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5" name=""/>
            <p:cNvSpPr/>
            <p:nvPr/>
          </p:nvSpPr>
          <p:spPr>
            <a:xfrm>
              <a:off x="144756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4816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Y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0" y="228600"/>
            <a:ext cx="998208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运算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种算术运算功能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种逻辑运算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列于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S3S2S1S0   Xi   Yi    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=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 0  0  0      1    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685800" y="0"/>
            <a:ext cx="9448920" cy="6859800"/>
            <a:chOff x="685800" y="0"/>
            <a:chExt cx="9448920" cy="6859800"/>
          </a:xfrm>
        </p:grpSpPr>
        <p:sp>
          <p:nvSpPr>
            <p:cNvPr id="899" name=""/>
            <p:cNvSpPr/>
            <p:nvPr/>
          </p:nvSpPr>
          <p:spPr>
            <a:xfrm>
              <a:off x="2819520" y="2773440"/>
              <a:ext cx="144756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05320" y="21636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00400" y="33829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86200" y="3382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3" name=""/>
            <p:cNvGraphicFramePr/>
            <p:nvPr/>
          </p:nvGraphicFramePr>
          <p:xfrm>
            <a:off x="3124080" y="2544840"/>
            <a:ext cx="1143000" cy="114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0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2544840"/>
                      <a:ext cx="1143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5" name=""/>
            <p:cNvSpPr/>
            <p:nvPr/>
          </p:nvSpPr>
          <p:spPr>
            <a:xfrm>
              <a:off x="762120" y="2316240"/>
              <a:ext cx="754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2120" y="2468520"/>
              <a:ext cx="670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981080" y="353520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95680" y="3992400"/>
              <a:ext cx="205740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95680" y="44496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57800" y="4221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4068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0552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9132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410080" y="3840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86400" y="35352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528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57800" y="483084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386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17220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648320" y="4830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3352680" y="5744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90720" y="411120"/>
              <a:ext cx="6858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85800" y="627840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S3     S2          Bi           S1  S0  Ai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276720" y="63547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95880" y="6354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86200" y="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62520" y="76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38880" y="6278400"/>
              <a:ext cx="28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M   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124080" y="487440"/>
              <a:ext cx="144792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9880" y="152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05320" y="10969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91120" y="1096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3" name=""/>
            <p:cNvGraphicFramePr/>
            <p:nvPr/>
          </p:nvGraphicFramePr>
          <p:xfrm>
            <a:off x="3352680" y="258840"/>
            <a:ext cx="1143000" cy="114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52680" y="258840"/>
                      <a:ext cx="11430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1066680" y="1249200"/>
              <a:ext cx="144792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66680" y="17064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52480" y="17064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52480" y="71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2087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8600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81080" y="20876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14300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23880" y="1477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52480" y="1325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676520" y="1096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2209680" y="23922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066680" y="23922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1295280" y="223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00200" y="208764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38080" y="3992400"/>
              <a:ext cx="1447920" cy="8384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00200" y="3611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00200" y="44496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9072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752480" y="48308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38080" y="4449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71600" y="4221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600200" y="4068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523880" y="3840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09680" y="4830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219320" y="483084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47920" y="483084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981080" y="483084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05520" y="1554120"/>
              <a:ext cx="121896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38680" y="14018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10080" y="2087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19920" y="2087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715000" y="124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191120" y="1249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600200" y="36878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09680" y="49831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58000" y="4145040"/>
              <a:ext cx="121932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391520" y="39924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67480" y="46782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305920" y="2316240"/>
              <a:ext cx="0" cy="39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67480" y="246852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819520" y="5288040"/>
              <a:ext cx="1218960" cy="3808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52680" y="5135400"/>
              <a:ext cx="152640" cy="152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29000" y="5668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29000" y="4906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5334120" y="239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5943600" y="223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3352680" y="49068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3809880" y="3458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095880" y="5896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1676520" y="5896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19320" y="59738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47920" y="582120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523880" y="3610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43000" y="487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62120" y="33066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x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15000" y="3306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457200" y="5867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47920" y="5867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19720" y="5867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81480" y="5867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720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48320" y="3429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010280" y="5791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3505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67280" y="914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010280" y="5791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3505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867280" y="914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86600" y="5791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010280" y="3505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486400" y="685800"/>
            <a:ext cx="1218960" cy="581400"/>
            <a:chOff x="5486400" y="685800"/>
            <a:chExt cx="1218960" cy="581400"/>
          </a:xfrm>
        </p:grpSpPr>
        <p:sp>
          <p:nvSpPr>
            <p:cNvPr id="1007" name=""/>
            <p:cNvSpPr/>
            <p:nvPr/>
          </p:nvSpPr>
          <p:spPr>
            <a:xfrm>
              <a:off x="5486400" y="685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38680" y="762120"/>
              <a:ext cx="304920" cy="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"/>
          <p:cNvGrpSpPr/>
          <p:nvPr/>
        </p:nvGrpSpPr>
        <p:grpSpPr>
          <a:xfrm>
            <a:off x="1295280" y="228600"/>
            <a:ext cx="8229600" cy="6631920"/>
            <a:chOff x="1295280" y="228600"/>
            <a:chExt cx="8229600" cy="6631920"/>
          </a:xfrm>
        </p:grpSpPr>
        <p:sp>
          <p:nvSpPr>
            <p:cNvPr id="1010" name=""/>
            <p:cNvSpPr/>
            <p:nvPr/>
          </p:nvSpPr>
          <p:spPr>
            <a:xfrm>
              <a:off x="3429000" y="2895480"/>
              <a:ext cx="144756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14800" y="228600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09880" y="35053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95680" y="3505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71600" y="2438280"/>
              <a:ext cx="75438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71600" y="2590920"/>
              <a:ext cx="6705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90560" y="3657600"/>
              <a:ext cx="3505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105160" y="4114800"/>
              <a:ext cx="205740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105160" y="4572000"/>
              <a:ext cx="20574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6728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09588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40080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01956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3657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623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6728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2481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8168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3962160" y="5867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676160" y="53352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Ci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95280" y="64008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S3        S2                Bi                S1     S0   A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886200" y="64771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705360" y="6477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95680" y="228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F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2000" y="30492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84836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     Ci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419360" y="2286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114800" y="121932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800600" y="121932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76160" y="13716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76160" y="18288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61960" y="18288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61960" y="8380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98108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954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90560" y="22096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75248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33360" y="16002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61960" y="14479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286000" y="121932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81916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1676160" y="25138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1904760" y="23616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09680" y="220968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47560" y="4114800"/>
              <a:ext cx="1447920" cy="8380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09680" y="3733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09680" y="4572000"/>
              <a:ext cx="0" cy="380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60020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6196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47560" y="4572000"/>
              <a:ext cx="1447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981080" y="4343400"/>
              <a:ext cx="457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09680" y="4191120"/>
              <a:ext cx="0" cy="304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33360" y="396252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19160" y="4952880"/>
              <a:ext cx="0" cy="152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828800" y="4952880"/>
              <a:ext cx="0" cy="1143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057400" y="49528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590560" y="4952880"/>
              <a:ext cx="0" cy="1447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15000" y="1676520"/>
              <a:ext cx="1218960" cy="53316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48160" y="1523880"/>
              <a:ext cx="152640" cy="15264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19560" y="2209680"/>
              <a:ext cx="0" cy="3812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629400" y="220968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24480" y="1371600"/>
              <a:ext cx="0" cy="1522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800600" y="1371600"/>
              <a:ext cx="1523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09680" y="3809880"/>
              <a:ext cx="1600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19160" y="5105520"/>
              <a:ext cx="2438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67480" y="4267080"/>
              <a:ext cx="1219320" cy="53352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01000" y="4114800"/>
              <a:ext cx="15228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076960" y="4800600"/>
              <a:ext cx="0" cy="1600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915400" y="2438280"/>
              <a:ext cx="0" cy="3962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076960" y="2590920"/>
              <a:ext cx="0" cy="15238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29000" y="5410080"/>
              <a:ext cx="1218960" cy="3812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962160" y="5257800"/>
              <a:ext cx="152640" cy="152280"/>
            </a:xfrm>
            <a:prstGeom prst="ellipse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38480" y="5791320"/>
              <a:ext cx="0" cy="6094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38480" y="502920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5943600" y="251388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553080" y="2361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962160" y="50284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4419360" y="35812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705360" y="601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2286000" y="60192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828800" y="6095880"/>
              <a:ext cx="4952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57400" y="5943600"/>
              <a:ext cx="3809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133360" y="3733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52480" y="609480"/>
              <a:ext cx="3049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33560" y="609480"/>
              <a:ext cx="1447920" cy="60984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7" name=""/>
            <p:cNvGraphicFramePr/>
            <p:nvPr/>
          </p:nvGraphicFramePr>
          <p:xfrm rot="10800000">
            <a:off x="4114800" y="456480"/>
            <a:ext cx="1752480" cy="873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0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4114800" y="45648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9" name=""/>
            <p:cNvGraphicFramePr/>
            <p:nvPr/>
          </p:nvGraphicFramePr>
          <p:xfrm rot="10800000">
            <a:off x="3809880" y="2742840"/>
            <a:ext cx="1752480" cy="873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1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809880" y="2742840"/>
                      <a:ext cx="1752480" cy="87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1" name=""/>
            <p:cNvSpPr/>
            <p:nvPr/>
          </p:nvSpPr>
          <p:spPr>
            <a:xfrm>
              <a:off x="144756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b2b2"/>
                  </a:solidFill>
                  <a:latin typeface="Times New Roman"/>
                </a:rPr>
                <a:t>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4816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Y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0" y="228600"/>
            <a:ext cx="9448920" cy="6144120"/>
            <a:chOff x="0" y="228600"/>
            <a:chExt cx="9448920" cy="6144120"/>
          </a:xfrm>
        </p:grpSpPr>
        <p:sp>
          <p:nvSpPr>
            <p:cNvPr id="1104" name=""/>
            <p:cNvSpPr/>
            <p:nvPr/>
          </p:nvSpPr>
          <p:spPr>
            <a:xfrm>
              <a:off x="0" y="228600"/>
              <a:ext cx="9448920" cy="37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1. S3S2S1S0   Xi   Yi    F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M=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M=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0  0  0  0      1    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971800" y="45720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0" y="3962520"/>
              <a:ext cx="8915400" cy="581400"/>
              <a:chOff x="0" y="3962520"/>
              <a:chExt cx="8915400" cy="5814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3962520"/>
                <a:ext cx="8915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M=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Fi=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Xi    Yi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）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1=1    Ai    1=Ai    1=Ai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8" name=""/>
              <p:cNvGrpSpPr/>
              <p:nvPr/>
            </p:nvGrpSpPr>
            <p:grpSpPr>
              <a:xfrm>
                <a:off x="2819520" y="4114800"/>
                <a:ext cx="304560" cy="304920"/>
                <a:chOff x="2819520" y="4114800"/>
                <a:chExt cx="304560" cy="3049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281952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97180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81952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715000" y="4114800"/>
                <a:ext cx="304560" cy="304920"/>
                <a:chOff x="5715000" y="4114800"/>
                <a:chExt cx="304560" cy="3049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71500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86728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71500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800600" y="4114800"/>
                <a:ext cx="304560" cy="304920"/>
                <a:chOff x="4800600" y="4114800"/>
                <a:chExt cx="304560" cy="304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480060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5288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80060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3809880" y="4114800"/>
                <a:ext cx="304560" cy="304920"/>
                <a:chOff x="3809880" y="4114800"/>
                <a:chExt cx="304560" cy="30492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380988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96216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80988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6934320" y="4114800"/>
                <a:ext cx="304560" cy="304920"/>
                <a:chOff x="6934320" y="4114800"/>
                <a:chExt cx="304560" cy="3049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6934320" y="4267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08660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934320" y="4114800"/>
                  <a:ext cx="304560" cy="3049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6477120" y="40384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371600" y="40384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1066680" y="4495680"/>
              <a:ext cx="373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所以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F = 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0" y="5181480"/>
              <a:ext cx="8305920" cy="581400"/>
              <a:chOff x="0" y="5181480"/>
              <a:chExt cx="8305920" cy="58140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2514600" y="5334120"/>
                <a:ext cx="304560" cy="304560"/>
                <a:chOff x="2514600" y="5334120"/>
                <a:chExt cx="304560" cy="30456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2514600" y="5486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66688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514600" y="5334120"/>
                  <a:ext cx="304560" cy="304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581280" y="5334120"/>
                <a:ext cx="304560" cy="304560"/>
                <a:chOff x="3581280" y="5334120"/>
                <a:chExt cx="304560" cy="304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581280" y="5486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73356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581280" y="5334120"/>
                  <a:ext cx="304560" cy="304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0" name=""/>
              <p:cNvSpPr/>
              <p:nvPr/>
            </p:nvSpPr>
            <p:spPr>
              <a:xfrm>
                <a:off x="1371600" y="52578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5181480"/>
                <a:ext cx="8305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M=0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Fi=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1    Ai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）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Ci-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1    Ai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）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Ci-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181480" y="525780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62520" y="5257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6553080" y="5334120"/>
                <a:ext cx="304560" cy="304560"/>
                <a:chOff x="6553080" y="5334120"/>
                <a:chExt cx="304560" cy="30456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6553080" y="5486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670536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553080" y="5334120"/>
                  <a:ext cx="304560" cy="304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562720" y="5334120"/>
                <a:ext cx="304560" cy="304560"/>
                <a:chOff x="5562720" y="5334120"/>
                <a:chExt cx="304560" cy="304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5562720" y="5486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71500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562720" y="5334120"/>
                  <a:ext cx="304560" cy="3045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2" name=""/>
            <p:cNvSpPr/>
            <p:nvPr/>
          </p:nvSpPr>
          <p:spPr>
            <a:xfrm>
              <a:off x="1143000" y="579132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所以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F = 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加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= 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减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086600" y="32004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减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5486400" y="3200400"/>
              <a:ext cx="1295280" cy="642600"/>
              <a:chOff x="5486400" y="3200400"/>
              <a:chExt cx="1295280" cy="642600"/>
            </a:xfrm>
          </p:grpSpPr>
          <p:sp>
            <p:nvSpPr>
              <p:cNvPr id="1155" name=""/>
              <p:cNvSpPr/>
              <p:nvPr/>
            </p:nvSpPr>
            <p:spPr>
              <a:xfrm>
                <a:off x="5486400" y="32004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562720" y="335304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0" y="228600"/>
            <a:ext cx="8839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位逻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组间串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-360" y="1676520"/>
            <a:ext cx="9525240" cy="1236600"/>
            <a:chOff x="-360" y="1676520"/>
            <a:chExt cx="9525240" cy="1236600"/>
          </a:xfrm>
        </p:grpSpPr>
        <p:sp>
          <p:nvSpPr>
            <p:cNvPr id="1159" name=""/>
            <p:cNvSpPr/>
            <p:nvPr/>
          </p:nvSpPr>
          <p:spPr>
            <a:xfrm>
              <a:off x="609480" y="1752480"/>
              <a:ext cx="1447920" cy="837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057400" y="2133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5800" y="1904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6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05740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743200" y="1752480"/>
              <a:ext cx="1447920" cy="837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91120" y="2133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19520" y="1904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6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4340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76920" y="1752480"/>
              <a:ext cx="1447560" cy="837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24480" y="2133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952880" y="1904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6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7712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010280" y="1752480"/>
              <a:ext cx="1447920" cy="837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458200" y="2133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86600" y="1904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6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61048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-360" y="2133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0" y="1676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934320" y="251424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n+4     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0" y="32004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组间并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228600" y="3733920"/>
            <a:ext cx="8915400" cy="2898000"/>
            <a:chOff x="228600" y="3733920"/>
            <a:chExt cx="8915400" cy="2898000"/>
          </a:xfrm>
        </p:grpSpPr>
        <p:sp>
          <p:nvSpPr>
            <p:cNvPr id="1180" name=""/>
            <p:cNvSpPr/>
            <p:nvPr/>
          </p:nvSpPr>
          <p:spPr>
            <a:xfrm flipH="1">
              <a:off x="228600" y="57909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33520" y="4190760"/>
              <a:ext cx="792468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2" name=""/>
            <p:cNvGrpSpPr/>
            <p:nvPr/>
          </p:nvGrpSpPr>
          <p:grpSpPr>
            <a:xfrm>
              <a:off x="457200" y="4724280"/>
              <a:ext cx="2438280" cy="1907280"/>
              <a:chOff x="457200" y="4724280"/>
              <a:chExt cx="2438280" cy="1907280"/>
            </a:xfrm>
          </p:grpSpPr>
          <p:sp>
            <p:nvSpPr>
              <p:cNvPr id="1183" name=""/>
              <p:cNvSpPr/>
              <p:nvPr/>
            </p:nvSpPr>
            <p:spPr>
              <a:xfrm>
                <a:off x="609480" y="5409720"/>
                <a:ext cx="1447920" cy="7617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361960" y="472428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2057400" y="57909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57200" y="533376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7   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752480" y="5562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V="1">
                <a:off x="99036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37160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61760" y="617184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741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057400" y="57909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2514600" y="4724280"/>
              <a:ext cx="2438280" cy="1907280"/>
              <a:chOff x="2514600" y="4724280"/>
              <a:chExt cx="2438280" cy="1907280"/>
            </a:xfrm>
          </p:grpSpPr>
          <p:sp>
            <p:nvSpPr>
              <p:cNvPr id="1193" name=""/>
              <p:cNvSpPr/>
              <p:nvPr/>
            </p:nvSpPr>
            <p:spPr>
              <a:xfrm>
                <a:off x="2666880" y="5409720"/>
                <a:ext cx="1447920" cy="7617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419360" y="472428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4114800" y="57909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514600" y="533376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7   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09880" y="5562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304776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342900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819160" y="617184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741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114800" y="57909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4572000" y="4724280"/>
              <a:ext cx="2438280" cy="1907280"/>
              <a:chOff x="4572000" y="4724280"/>
              <a:chExt cx="2438280" cy="1907280"/>
            </a:xfrm>
          </p:grpSpPr>
          <p:sp>
            <p:nvSpPr>
              <p:cNvPr id="1203" name=""/>
              <p:cNvSpPr/>
              <p:nvPr/>
            </p:nvSpPr>
            <p:spPr>
              <a:xfrm>
                <a:off x="4724280" y="5409720"/>
                <a:ext cx="1447920" cy="7617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476760" y="472428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172200" y="57909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572000" y="533376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17   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67280" y="5562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510516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>
                <a:off x="5486400" y="47242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876560" y="617184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741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172200" y="57909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>
              <a:off x="6858000" y="5410080"/>
              <a:ext cx="1447920" cy="7617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763120" y="4419360"/>
              <a:ext cx="0" cy="137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83059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7  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5562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7238880" y="472428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7620120" y="472428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010280" y="6172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741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305920" y="5790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71800" y="419076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7418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并行进位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8458200" y="4419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6705720" y="4952880"/>
              <a:ext cx="838080" cy="459720"/>
              <a:chOff x="6705720" y="4952880"/>
              <a:chExt cx="838080" cy="459720"/>
            </a:xfrm>
          </p:grpSpPr>
          <p:sp>
            <p:nvSpPr>
              <p:cNvPr id="1224" name=""/>
              <p:cNvSpPr/>
              <p:nvPr/>
            </p:nvSpPr>
            <p:spPr>
              <a:xfrm>
                <a:off x="6705720" y="49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858000" y="5028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7696080" y="4952880"/>
              <a:ext cx="838080" cy="459720"/>
              <a:chOff x="7696080" y="4952880"/>
              <a:chExt cx="838080" cy="459720"/>
            </a:xfrm>
          </p:grpSpPr>
          <p:sp>
            <p:nvSpPr>
              <p:cNvPr id="1227" name=""/>
              <p:cNvSpPr/>
              <p:nvPr/>
            </p:nvSpPr>
            <p:spPr>
              <a:xfrm>
                <a:off x="7696080" y="49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772040" y="5028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 flipV="1">
              <a:off x="1219320" y="380952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447920" y="380952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38080" y="3733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     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14400" y="3809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600200" y="3809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30492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运算器组织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18288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352680" y="1447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独立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76720" y="2590920"/>
            <a:ext cx="24382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小型存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器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638680" y="2743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867280" y="2590920"/>
            <a:ext cx="152424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单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双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85800" y="1828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寄存器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43434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独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双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RA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多路选择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LU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输入逻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RA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锁存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LU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输入逻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0" dur="500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533520" y="2971800"/>
            <a:ext cx="5715000" cy="3248280"/>
            <a:chOff x="533520" y="2971800"/>
            <a:chExt cx="5715000" cy="3248280"/>
          </a:xfrm>
        </p:grpSpPr>
        <p:sp>
          <p:nvSpPr>
            <p:cNvPr id="116" name=""/>
            <p:cNvSpPr/>
            <p:nvPr/>
          </p:nvSpPr>
          <p:spPr>
            <a:xfrm>
              <a:off x="1067040" y="3809880"/>
              <a:ext cx="3962160" cy="12956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2840" y="411480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加法单元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676520" y="510516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886200" y="3200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048120" y="510516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496040" y="510516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6040" y="57150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10040" y="33526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295640" y="33526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7040" y="5638680"/>
              <a:ext cx="518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i          Bi                  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520" y="2971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4800" y="29718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16200000">
            <a:off x="2400120" y="575316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6278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本位操作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62784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低位进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38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本位进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438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本位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28600"/>
            <a:ext cx="7086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 算术逻辑运算部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1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法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法单元的输入和输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3124080" cy="29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一个输入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Ci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两个输入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Ci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三个输入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Ci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380880" y="304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2.1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带多路选择器的运算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228600" y="1143000"/>
            <a:ext cx="7772400" cy="4345920"/>
            <a:chOff x="228600" y="1143000"/>
            <a:chExt cx="7772400" cy="4345920"/>
          </a:xfrm>
        </p:grpSpPr>
        <p:sp>
          <p:nvSpPr>
            <p:cNvPr id="1244" name=""/>
            <p:cNvSpPr/>
            <p:nvPr/>
          </p:nvSpPr>
          <p:spPr>
            <a:xfrm>
              <a:off x="1143000" y="19814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905120" y="1600200"/>
              <a:ext cx="609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143000" y="2971800"/>
              <a:ext cx="137160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81440" y="40388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4920" y="40388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962520" y="19814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520" y="198144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4648320" y="15998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1371600" y="35053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1828800" y="25146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1905120" y="15998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6934320" y="15998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1371600" y="45716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533520" y="45716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210040" y="35053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4648320" y="25142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6934320" y="25142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3124440" y="45716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2210040" y="45716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9840" y="487692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286000" y="487692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410440" y="221004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29564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移位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371600" y="30481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905120" y="4114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多路选择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28600" y="4114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多路选择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43400" y="2057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629400" y="2057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04920" y="50292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. . Rn       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. . . 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505320" y="11430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内部总线（单向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3657600" y="3581280"/>
            <a:ext cx="6705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R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各自独立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可同时向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ALU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提供两个操作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采用单向内总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380880" y="304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2.2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带输入锁存器的运算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029200" y="129528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单口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RA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不能同时向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ALU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提供两个操作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用锁存器暂存操作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采用双向内总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304920" y="1294920"/>
            <a:ext cx="7619760" cy="5337000"/>
            <a:chOff x="304920" y="1294920"/>
            <a:chExt cx="7619760" cy="5337000"/>
          </a:xfrm>
        </p:grpSpPr>
        <p:sp>
          <p:nvSpPr>
            <p:cNvPr id="1278" name=""/>
            <p:cNvSpPr/>
            <p:nvPr/>
          </p:nvSpPr>
          <p:spPr>
            <a:xfrm>
              <a:off x="1523880" y="16765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4920" y="4648320"/>
              <a:ext cx="609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523880" y="2666880"/>
              <a:ext cx="137160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7339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5800" y="37339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4572000" y="12952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17524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2209680" y="2209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286000" y="12949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220968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295280" y="42667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5909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2971800" y="42667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76520" y="1676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移位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752480" y="27432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514600" y="3809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锁存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8080" y="3809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锁存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内部总线（双向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286000" y="129528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19320" y="5029200"/>
              <a:ext cx="1981080" cy="1600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295280" y="5486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19320" y="54864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19320" y="6172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905120" y="5029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905120" y="6172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5562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57600" y="56386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通用寄存器组（小型存储器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429000" y="5334120"/>
              <a:ext cx="76320" cy="10666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09680" y="4724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0" y="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2.3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片式运算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638680" y="990720"/>
            <a:ext cx="35053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用双口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RA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两地址端、两数据端）作通用寄存器组，可同时提供数据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用多路选择器作输入逻辑，不需暂存操作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ALU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增加乘、除功能，用乘商寄存器存放乘数、乘积或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914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片运算器粗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228600" y="1676520"/>
            <a:ext cx="5257800" cy="5184000"/>
            <a:chOff x="228600" y="1676520"/>
            <a:chExt cx="5257800" cy="5184000"/>
          </a:xfrm>
        </p:grpSpPr>
        <p:sp>
          <p:nvSpPr>
            <p:cNvPr id="1311" name=""/>
            <p:cNvSpPr/>
            <p:nvPr/>
          </p:nvSpPr>
          <p:spPr>
            <a:xfrm>
              <a:off x="1676520" y="23623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28600" y="64008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3352680"/>
              <a:ext cx="137160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514600" y="44197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8080" y="4419720"/>
              <a:ext cx="13716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352680" y="2362320"/>
              <a:ext cx="182880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76520" y="5486400"/>
              <a:ext cx="137160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4191120" y="19807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1905120" y="3886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23623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2362320" y="1752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1905120" y="4952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1066680" y="49525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2743200" y="3886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3733920" y="49525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3200400" y="49525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743200" y="4952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828800" y="2362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移位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05120" y="3429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43828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多路选择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6212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多路选择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514600" y="1676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05120" y="556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2286000" y="60195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28600" y="21337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28600" y="2133720"/>
              <a:ext cx="0" cy="426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733920" y="5334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91120" y="19810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34120" y="19810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62320" y="320040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4191120" y="28951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7760" y="3657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362320" y="6400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29000" y="57150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B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地址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3047760" y="57150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143000" y="57150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28600" y="5715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地址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3392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1240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5720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80880" y="3124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1219320" y="3429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1219320" y="3657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1219320" y="3886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8600" y="38098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控制信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0880" y="34290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n+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200" y="3200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990720" y="3200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352680" y="2362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乘商寄存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1066680" y="1752480"/>
              <a:ext cx="457200" cy="437760"/>
              <a:chOff x="1066680" y="1752480"/>
              <a:chExt cx="457200" cy="437760"/>
            </a:xfrm>
          </p:grpSpPr>
          <p:sp>
            <p:nvSpPr>
              <p:cNvPr id="1361" name=""/>
              <p:cNvSpPr/>
              <p:nvPr/>
            </p:nvSpPr>
            <p:spPr>
              <a:xfrm flipH="1">
                <a:off x="1218960" y="2015280"/>
                <a:ext cx="152640" cy="17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066680" y="17524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3276720" y="2895480"/>
              <a:ext cx="457200" cy="398880"/>
              <a:chOff x="3276720" y="2895480"/>
              <a:chExt cx="457200" cy="398880"/>
            </a:xfrm>
          </p:grpSpPr>
          <p:sp>
            <p:nvSpPr>
              <p:cNvPr id="1364" name=""/>
              <p:cNvSpPr/>
              <p:nvPr/>
            </p:nvSpPr>
            <p:spPr>
              <a:xfrm flipH="1">
                <a:off x="3429000" y="312408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276720" y="28954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1143000" y="5410080"/>
              <a:ext cx="457200" cy="398880"/>
              <a:chOff x="1143000" y="5410080"/>
              <a:chExt cx="457200" cy="398880"/>
            </a:xfrm>
          </p:grpSpPr>
          <p:sp>
            <p:nvSpPr>
              <p:cNvPr id="1367" name=""/>
              <p:cNvSpPr/>
              <p:nvPr/>
            </p:nvSpPr>
            <p:spPr>
              <a:xfrm flipH="1">
                <a:off x="1295280" y="563868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143000" y="54100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5029200" y="3505320"/>
              <a:ext cx="457200" cy="398880"/>
              <a:chOff x="5029200" y="3505320"/>
              <a:chExt cx="457200" cy="398880"/>
            </a:xfrm>
          </p:grpSpPr>
          <p:sp>
            <p:nvSpPr>
              <p:cNvPr id="1370" name=""/>
              <p:cNvSpPr/>
              <p:nvPr/>
            </p:nvSpPr>
            <p:spPr>
              <a:xfrm flipH="1">
                <a:off x="5257440" y="37339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029200" y="35053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438280" y="3962520"/>
              <a:ext cx="457200" cy="398880"/>
              <a:chOff x="2438280" y="3962520"/>
              <a:chExt cx="457200" cy="398880"/>
            </a:xfrm>
          </p:grpSpPr>
          <p:sp>
            <p:nvSpPr>
              <p:cNvPr id="1373" name=""/>
              <p:cNvSpPr/>
              <p:nvPr/>
            </p:nvSpPr>
            <p:spPr>
              <a:xfrm flipH="1">
                <a:off x="2666520" y="4191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438280" y="39625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1600200" y="3962520"/>
              <a:ext cx="457200" cy="398880"/>
              <a:chOff x="1600200" y="3962520"/>
              <a:chExt cx="457200" cy="398880"/>
            </a:xfrm>
          </p:grpSpPr>
          <p:sp>
            <p:nvSpPr>
              <p:cNvPr id="1376" name=""/>
              <p:cNvSpPr/>
              <p:nvPr/>
            </p:nvSpPr>
            <p:spPr>
              <a:xfrm flipH="1">
                <a:off x="1828440" y="4191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600200" y="39625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3200400" y="5410080"/>
              <a:ext cx="457200" cy="398880"/>
              <a:chOff x="3200400" y="5410080"/>
              <a:chExt cx="457200" cy="398880"/>
            </a:xfrm>
          </p:grpSpPr>
          <p:sp>
            <p:nvSpPr>
              <p:cNvPr id="1379" name=""/>
              <p:cNvSpPr/>
              <p:nvPr/>
            </p:nvSpPr>
            <p:spPr>
              <a:xfrm flipH="1">
                <a:off x="3352680" y="5638680"/>
                <a:ext cx="1526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200400" y="54100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2057400" y="2819520"/>
              <a:ext cx="457200" cy="398880"/>
              <a:chOff x="2057400" y="2819520"/>
              <a:chExt cx="457200" cy="398880"/>
            </a:xfrm>
          </p:grpSpPr>
          <p:sp>
            <p:nvSpPr>
              <p:cNvPr id="1382" name=""/>
              <p:cNvSpPr/>
              <p:nvPr/>
            </p:nvSpPr>
            <p:spPr>
              <a:xfrm flipH="1">
                <a:off x="2285640" y="3048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057400" y="28195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2057400" y="1676520"/>
              <a:ext cx="457200" cy="398880"/>
              <a:chOff x="2057400" y="1676520"/>
              <a:chExt cx="457200" cy="398880"/>
            </a:xfrm>
          </p:grpSpPr>
          <p:sp>
            <p:nvSpPr>
              <p:cNvPr id="1385" name=""/>
              <p:cNvSpPr/>
              <p:nvPr/>
            </p:nvSpPr>
            <p:spPr>
              <a:xfrm flipH="1">
                <a:off x="2285640" y="190512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057400" y="16765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1981080" y="5943600"/>
              <a:ext cx="457200" cy="398880"/>
              <a:chOff x="1981080" y="5943600"/>
              <a:chExt cx="457200" cy="398880"/>
            </a:xfrm>
          </p:grpSpPr>
          <p:sp>
            <p:nvSpPr>
              <p:cNvPr id="1388" name=""/>
              <p:cNvSpPr/>
              <p:nvPr/>
            </p:nvSpPr>
            <p:spPr>
              <a:xfrm flipH="1">
                <a:off x="2209320" y="61722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981080" y="59436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1600200" y="5029200"/>
              <a:ext cx="457200" cy="398880"/>
              <a:chOff x="1600200" y="5029200"/>
              <a:chExt cx="457200" cy="398880"/>
            </a:xfrm>
          </p:grpSpPr>
          <p:sp>
            <p:nvSpPr>
              <p:cNvPr id="1391" name=""/>
              <p:cNvSpPr/>
              <p:nvPr/>
            </p:nvSpPr>
            <p:spPr>
              <a:xfrm flipH="1">
                <a:off x="1828440" y="52578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1600200" y="50292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2438280" y="5029200"/>
              <a:ext cx="457200" cy="398880"/>
              <a:chOff x="2438280" y="5029200"/>
              <a:chExt cx="457200" cy="398880"/>
            </a:xfrm>
          </p:grpSpPr>
          <p:sp>
            <p:nvSpPr>
              <p:cNvPr id="1394" name=""/>
              <p:cNvSpPr/>
              <p:nvPr/>
            </p:nvSpPr>
            <p:spPr>
              <a:xfrm flipH="1">
                <a:off x="2666520" y="5257800"/>
                <a:ext cx="1522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438280" y="50292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over dir="ld"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1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30492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节  定点加减运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1295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3.1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补码加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066680" y="21337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数用补码表示，符号位参加运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90720" y="3505320"/>
            <a:ext cx="79246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实际操作能否只取决于操作码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结果需不需修正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如何将减法转换为加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8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0" y="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基本关系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914400"/>
            <a:ext cx="861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( X + Y 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= 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+  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( X -  Y 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= 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+  (-Y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8600" y="2362320"/>
            <a:ext cx="8229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式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操作码为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时，两数直接相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542448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X=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–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295280" y="541008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276720" y="6095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42900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523880" y="6324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1337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971800" y="6400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+1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495680" y="365760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X= –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–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791320" y="365760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772400" y="4343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2468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19920" y="45720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629400" y="4572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391520" y="4572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–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0" y="365760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X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143000" y="365760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124080" y="4343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27672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371600" y="45720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981080" y="4572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819520" y="4648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+5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495680" y="541008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 X= –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867280" y="541008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848720" y="6095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800100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095880" y="6324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7057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543800" y="6338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–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486400" y="28195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8600" y="2971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X+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50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5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500"/>
                            </p:stCondLst>
                            <p:childTnLst>
                              <p:par>
                                <p:cTn id="1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1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0" y="228600"/>
            <a:ext cx="861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( X + Y 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= 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+  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( X -  Y 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= 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+  (-Y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8600" y="1752480"/>
            <a:ext cx="8686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式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操作码为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时，将减转换为加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0" y="495288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 X=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–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143000" y="4952880"/>
            <a:ext cx="25909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-Y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6095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19320" y="63244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09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1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048120" y="6400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+9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495680" y="4876920"/>
            <a:ext cx="1600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X= –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638680" y="4876920"/>
            <a:ext cx="22860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-Y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848720" y="6095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00100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791320" y="63244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7057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0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543800" y="6338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–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补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4343400"/>
            <a:ext cx="8229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04920" y="3200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–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219320" y="3505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914400" y="2895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将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Y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补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变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09880" y="31687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不管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Y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补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为正或负，将其符号连同尾数一起各位变反，末位加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28600" y="2209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即将减数变补后与被减数相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38080" y="2743200"/>
            <a:ext cx="4724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143000" y="4952880"/>
            <a:ext cx="25909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0 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dddddd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</a:rPr>
              <a:t>=1 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638680" y="4876920"/>
            <a:ext cx="2286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 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dddddd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dddddd"/>
                </a:solidFill>
                <a:latin typeface="Times New Roman"/>
              </a:rPr>
              <a:t>=0 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1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8" dur="500"/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3" dur="500"/>
                                        <p:tgtEl>
                                          <p:spTgt spid="1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500"/>
                            </p:stCondLst>
                            <p:childTnLst>
                              <p:par>
                                <p:cTn id="1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1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5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5" dur="500"/>
                                        <p:tgtEl>
                                          <p:spTgt spid="1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5" dur="5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0" dur="500"/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"/>
                            </p:stCondLst>
                            <p:childTnLst>
                              <p:par>
                                <p:cTn id="1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7" dur="50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500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0" y="304920"/>
            <a:ext cx="9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注意：某数的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补码表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某数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变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区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  1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 1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895480" y="1447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补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219320" y="3505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124080" y="1905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342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变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048120" y="38862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1523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1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0" y="21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 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8954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补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24080" y="2514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172200" y="1447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符号位不变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21337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0" y="1523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1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21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 01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 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172200" y="19810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数尾数改变，正数尾数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21932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9320" y="350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9320" y="4114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35053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1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0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9320" y="4114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0 0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1 1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481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2004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变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095880" y="3733920"/>
            <a:ext cx="152640" cy="76176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32448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符号位改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324480" y="4114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尾数改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91320" y="3886200"/>
            <a:ext cx="457200" cy="12952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715000" y="4495680"/>
            <a:ext cx="533520" cy="6858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791320" y="51055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补码的机器负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500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500"/>
                            </p:stCondLst>
                            <p:childTnLst>
                              <p:par>
                                <p:cTn id="1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3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500"/>
                            </p:stCondLst>
                            <p:childTnLst>
                              <p:par>
                                <p:cTn id="1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1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1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0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4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500"/>
                                        <p:tgtEl>
                                          <p:spTgt spid="1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1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0" y="6094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算法流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1447920" y="1523880"/>
            <a:ext cx="6476760" cy="4696560"/>
            <a:chOff x="1447920" y="1523880"/>
            <a:chExt cx="6476760" cy="4696560"/>
          </a:xfrm>
        </p:grpSpPr>
        <p:sp>
          <p:nvSpPr>
            <p:cNvPr id="1490" name=""/>
            <p:cNvSpPr/>
            <p:nvPr/>
          </p:nvSpPr>
          <p:spPr>
            <a:xfrm>
              <a:off x="2438280" y="1523880"/>
              <a:ext cx="43434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操作数用补码表示，符号位参加运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286000" y="5029200"/>
              <a:ext cx="45720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结果为补码表示，符号位指示结果正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600200" y="3581280"/>
              <a:ext cx="228600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029200" y="3581280"/>
              <a:ext cx="251460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(-Y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743200" y="312408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743200" y="464832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95680" y="274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74320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7220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743200" y="4267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72200" y="4267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9568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7920" y="304812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477120" y="30481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U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0" y="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逻辑实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7010280" y="335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5715000" y="2743200"/>
            <a:ext cx="1600200" cy="609480"/>
            <a:chOff x="5715000" y="2743200"/>
            <a:chExt cx="1600200" cy="609480"/>
          </a:xfrm>
        </p:grpSpPr>
        <p:sp>
          <p:nvSpPr>
            <p:cNvPr id="1507" name=""/>
            <p:cNvSpPr/>
            <p:nvPr/>
          </p:nvSpPr>
          <p:spPr>
            <a:xfrm>
              <a:off x="5715000" y="2743200"/>
              <a:ext cx="1600200" cy="6094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6324120" y="2895480"/>
              <a:ext cx="305280" cy="304560"/>
              <a:chOff x="6324120" y="2895480"/>
              <a:chExt cx="305280" cy="304560"/>
            </a:xfrm>
          </p:grpSpPr>
          <p:sp>
            <p:nvSpPr>
              <p:cNvPr id="1509" name=""/>
              <p:cNvSpPr/>
              <p:nvPr/>
            </p:nvSpPr>
            <p:spPr>
              <a:xfrm>
                <a:off x="6324480" y="28954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324480" y="2895480"/>
                <a:ext cx="2286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6324120" y="3047760"/>
                <a:ext cx="2286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324480" y="32000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3" name=""/>
          <p:cNvGrpSpPr/>
          <p:nvPr/>
        </p:nvGrpSpPr>
        <p:grpSpPr>
          <a:xfrm>
            <a:off x="4724280" y="5029200"/>
            <a:ext cx="3810240" cy="533520"/>
            <a:chOff x="4724280" y="5029200"/>
            <a:chExt cx="3810240" cy="533520"/>
          </a:xfrm>
        </p:grpSpPr>
        <p:sp>
          <p:nvSpPr>
            <p:cNvPr id="1514" name=""/>
            <p:cNvSpPr/>
            <p:nvPr/>
          </p:nvSpPr>
          <p:spPr>
            <a:xfrm>
              <a:off x="4724280" y="5105520"/>
              <a:ext cx="160020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705720" y="5105520"/>
              <a:ext cx="160020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952880" y="5029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(X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58000" y="50292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B(Y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补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79132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18148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315200" y="3048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4572000" y="3352320"/>
            <a:ext cx="2057400" cy="1831680"/>
            <a:chOff x="4572000" y="3352320"/>
            <a:chExt cx="2057400" cy="1831680"/>
          </a:xfrm>
        </p:grpSpPr>
        <p:sp>
          <p:nvSpPr>
            <p:cNvPr id="1522" name=""/>
            <p:cNvSpPr/>
            <p:nvPr/>
          </p:nvSpPr>
          <p:spPr>
            <a:xfrm>
              <a:off x="5029200" y="3809880"/>
              <a:ext cx="1219320" cy="3812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3868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638680" y="3581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6095880" y="3352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257800" y="4191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257800" y="4572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257800" y="4572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029200" y="4572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791320" y="41911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867280" y="4724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6705720" y="3581280"/>
            <a:ext cx="2590560" cy="1602720"/>
            <a:chOff x="6705720" y="3581280"/>
            <a:chExt cx="2590560" cy="1602720"/>
          </a:xfrm>
        </p:grpSpPr>
        <p:sp>
          <p:nvSpPr>
            <p:cNvPr id="1534" name=""/>
            <p:cNvSpPr/>
            <p:nvPr/>
          </p:nvSpPr>
          <p:spPr>
            <a:xfrm>
              <a:off x="6705720" y="3809880"/>
              <a:ext cx="1600200" cy="6098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05720" y="41148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315200" y="3962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46748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46748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010280" y="3581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001000" y="4419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162920" y="4419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162920" y="472428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001000" y="45720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620120" y="441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858000" y="441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6201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58000" y="4724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534520" y="4191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534520" y="45720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763120" y="46483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86104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5791320" y="5791320"/>
            <a:ext cx="1523880" cy="459720"/>
            <a:chOff x="5791320" y="5791320"/>
            <a:chExt cx="1523880" cy="459720"/>
          </a:xfrm>
        </p:grpSpPr>
        <p:sp>
          <p:nvSpPr>
            <p:cNvPr id="1555" name=""/>
            <p:cNvSpPr/>
            <p:nvPr/>
          </p:nvSpPr>
          <p:spPr>
            <a:xfrm>
              <a:off x="5791320" y="6019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2485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P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" name=""/>
          <p:cNvSpPr/>
          <p:nvPr/>
        </p:nvSpPr>
        <p:spPr>
          <a:xfrm>
            <a:off x="4495680" y="15238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49568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495680" y="152388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6019920" y="1523880"/>
            <a:ext cx="3352680" cy="1221840"/>
            <a:chOff x="6019920" y="1523880"/>
            <a:chExt cx="3352680" cy="1221840"/>
          </a:xfrm>
        </p:grpSpPr>
        <p:sp>
          <p:nvSpPr>
            <p:cNvPr id="1561" name=""/>
            <p:cNvSpPr/>
            <p:nvPr/>
          </p:nvSpPr>
          <p:spPr>
            <a:xfrm>
              <a:off x="6019920" y="1981080"/>
              <a:ext cx="1218960" cy="3812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0080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34320" y="2362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34320" y="25146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629400" y="15238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8153280" y="2286000"/>
              <a:ext cx="1219320" cy="459720"/>
              <a:chOff x="8153280" y="2286000"/>
              <a:chExt cx="1219320" cy="459720"/>
            </a:xfrm>
          </p:grpSpPr>
          <p:sp>
            <p:nvSpPr>
              <p:cNvPr id="1567" name=""/>
              <p:cNvSpPr/>
              <p:nvPr/>
            </p:nvSpPr>
            <p:spPr>
              <a:xfrm>
                <a:off x="8153280" y="228600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8610480" y="251460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69" name=""/>
              <p:cNvGraphicFramePr/>
              <p:nvPr/>
            </p:nvGraphicFramePr>
            <p:xfrm>
              <a:off x="8381880" y="2362320"/>
              <a:ext cx="304920" cy="29520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57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8381880" y="2362320"/>
                        <a:ext cx="304920" cy="29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571" name=""/>
          <p:cNvSpPr/>
          <p:nvPr/>
        </p:nvSpPr>
        <p:spPr>
          <a:xfrm>
            <a:off x="-228600" y="609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控制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1219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加法器输入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0" y="1752480"/>
            <a:ext cx="4876920" cy="520560"/>
            <a:chOff x="0" y="1752480"/>
            <a:chExt cx="4876920" cy="520560"/>
          </a:xfrm>
        </p:grpSpPr>
        <p:graphicFrame>
          <p:nvGraphicFramePr>
            <p:cNvPr id="1574" name=""/>
            <p:cNvGraphicFramePr/>
            <p:nvPr/>
          </p:nvGraphicFramePr>
          <p:xfrm rot="10800000">
            <a:off x="3886200" y="1828440"/>
            <a:ext cx="533520" cy="4287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5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3886200" y="1828440"/>
                      <a:ext cx="53352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6" name=""/>
            <p:cNvSpPr/>
            <p:nvPr/>
          </p:nvSpPr>
          <p:spPr>
            <a:xfrm>
              <a:off x="0" y="175248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打开控制门，将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送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0" y="2286000"/>
            <a:ext cx="4876920" cy="520560"/>
            <a:chOff x="0" y="2286000"/>
            <a:chExt cx="4876920" cy="520560"/>
          </a:xfrm>
        </p:grpSpPr>
        <p:graphicFrame>
          <p:nvGraphicFramePr>
            <p:cNvPr id="1578" name=""/>
            <p:cNvGraphicFramePr/>
            <p:nvPr/>
          </p:nvGraphicFramePr>
          <p:xfrm rot="10800000">
            <a:off x="3886200" y="2362320"/>
            <a:ext cx="533520" cy="42840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15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 rot="10800000">
                      <a:off x="3886200" y="2362320"/>
                      <a:ext cx="53352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0" name=""/>
            <p:cNvSpPr/>
            <p:nvPr/>
          </p:nvSpPr>
          <p:spPr>
            <a:xfrm>
              <a:off x="0" y="2286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打开控制门，将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送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0" y="3352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控制末位加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0" y="2819520"/>
            <a:ext cx="4876920" cy="520560"/>
            <a:chOff x="0" y="2819520"/>
            <a:chExt cx="4876920" cy="520560"/>
          </a:xfrm>
        </p:grpSpPr>
        <p:graphicFrame>
          <p:nvGraphicFramePr>
            <p:cNvPr id="1583" name=""/>
            <p:cNvGraphicFramePr/>
            <p:nvPr/>
          </p:nvGraphicFramePr>
          <p:xfrm rot="10800000">
            <a:off x="3886200" y="2895120"/>
            <a:ext cx="533520" cy="428760"/>
          </p:xfrm>
          <a:graphic>
            <a:graphicData uri="http://schemas.openxmlformats.org/presentationml/2006/ole">
              <p:oleObj progId="Word.Document.12" r:id="rId8" spid="">
                <p:embed/>
                <p:pic>
                  <p:nvPicPr>
                    <p:cNvPr id="158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 rot="10800000">
                      <a:off x="3886200" y="2895120"/>
                      <a:ext cx="53352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5" name=""/>
            <p:cNvSpPr/>
            <p:nvPr/>
          </p:nvSpPr>
          <p:spPr>
            <a:xfrm>
              <a:off x="0" y="281952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打开控制门，将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送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600" y="28954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276720" y="2895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0" y="4038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加法器输出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-228600" y="4724280"/>
            <a:ext cx="4952880" cy="912960"/>
            <a:chOff x="-228600" y="4724280"/>
            <a:chExt cx="4952880" cy="912960"/>
          </a:xfrm>
        </p:grpSpPr>
        <p:sp>
          <p:nvSpPr>
            <p:cNvPr id="1590" name=""/>
            <p:cNvSpPr/>
            <p:nvPr/>
          </p:nvSpPr>
          <p:spPr>
            <a:xfrm>
              <a:off x="990720" y="518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-228600" y="4724280"/>
              <a:ext cx="49528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打开控制门，将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果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输入端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04920" y="4876920"/>
              <a:ext cx="30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93" name=""/>
            <p:cNvGraphicFramePr/>
            <p:nvPr/>
          </p:nvGraphicFramePr>
          <p:xfrm>
            <a:off x="0" y="4724280"/>
            <a:ext cx="380880" cy="370080"/>
          </p:xfrm>
          <a:graphic>
            <a:graphicData uri="http://schemas.openxmlformats.org/presentationml/2006/ole">
              <p:oleObj progId="Word.Document.12" r:id="rId10" spid="">
                <p:embed/>
                <p:pic>
                  <p:nvPicPr>
                    <p:cNvPr id="159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0" y="4724280"/>
                      <a:ext cx="380880" cy="3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95" name=""/>
          <p:cNvSpPr/>
          <p:nvPr/>
        </p:nvSpPr>
        <p:spPr>
          <a:xfrm>
            <a:off x="0" y="5715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CP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将结果打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补码加减运算器粗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4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9" dur="500"/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9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8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500"/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500"/>
                            </p:stCondLst>
                            <p:childTnLst>
                              <p:par>
                                <p:cTn id="2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500"/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500"/>
                                        <p:tgtEl>
                                          <p:spTgt spid="1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500"/>
                            </p:stCondLst>
                            <p:childTnLst>
                              <p:par>
                                <p:cTn id="2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1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3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8" dur="500"/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500"/>
                            </p:stCondLst>
                            <p:childTnLst>
                              <p:par>
                                <p:cTn id="2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7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500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0" y="2286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3.2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溢出判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62120" y="1066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黑体"/>
              </a:rPr>
              <a:t>在什么情况下可能产生溢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0" y="2057400"/>
            <a:ext cx="624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位尾数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位符号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位尾数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位符号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781680" y="2209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符号位参加运算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09480" y="3657600"/>
            <a:ext cx="388620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果符号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符号位进位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尾数最高位进位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6172200" y="2514600"/>
            <a:ext cx="609480" cy="609120"/>
            <a:chOff x="6172200" y="2514600"/>
            <a:chExt cx="609480" cy="609120"/>
          </a:xfrm>
        </p:grpSpPr>
        <p:sp>
          <p:nvSpPr>
            <p:cNvPr id="1603" name=""/>
            <p:cNvSpPr/>
            <p:nvPr/>
          </p:nvSpPr>
          <p:spPr>
            <a:xfrm>
              <a:off x="6172200" y="25146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6172200" y="281880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500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0" dur="500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5" dur="500"/>
                                        <p:tgtEl>
                                          <p:spTgt spid="1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500"/>
                            </p:stCondLst>
                            <p:childTnLst>
                              <p:par>
                                <p:cTn id="2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4" dur="500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9" dur="5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4" dur="5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228600"/>
            <a:ext cx="80010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全加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逻辑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28800" y="1508040"/>
            <a:ext cx="6019920" cy="1259280"/>
            <a:chOff x="1828800" y="1508040"/>
            <a:chExt cx="6019920" cy="1259280"/>
          </a:xfrm>
        </p:grpSpPr>
        <p:sp>
          <p:nvSpPr>
            <p:cNvPr id="137" name=""/>
            <p:cNvSpPr/>
            <p:nvPr/>
          </p:nvSpPr>
          <p:spPr>
            <a:xfrm>
              <a:off x="1828800" y="1508040"/>
              <a:ext cx="6019920" cy="12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  (Ai +  Bi)  +  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=  Ai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920" y="1660680"/>
              <a:ext cx="304560" cy="30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660680"/>
              <a:ext cx="304560" cy="30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242244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76520" y="188928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828800" y="2743200"/>
            <a:ext cx="6629400" cy="3858120"/>
            <a:chOff x="1828800" y="2743200"/>
            <a:chExt cx="6629400" cy="3858120"/>
          </a:xfrm>
        </p:grpSpPr>
        <p:sp>
          <p:nvSpPr>
            <p:cNvPr id="143" name=""/>
            <p:cNvSpPr/>
            <p:nvPr/>
          </p:nvSpPr>
          <p:spPr>
            <a:xfrm>
              <a:off x="1828800" y="3352680"/>
              <a:ext cx="1447920" cy="838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4495680"/>
              <a:ext cx="1447920" cy="838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495680"/>
              <a:ext cx="1447920" cy="838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8800" y="373392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2320" y="3505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4600" y="3352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76920" y="48769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29200" y="4724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920" y="4724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4724280"/>
              <a:ext cx="380880" cy="38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4724280"/>
              <a:ext cx="381240" cy="38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57400" y="419112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419112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19520" y="41911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4191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62920" y="4038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58200" y="43434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4343400"/>
              <a:ext cx="541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548640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563868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5740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7480" y="54864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2743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86600" y="3581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60199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i   Bi          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4267080"/>
              <a:ext cx="1526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6629400" y="5181480"/>
            <a:ext cx="455760" cy="6858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29400" y="5181480"/>
                      <a:ext cx="4557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6781680" y="5410080"/>
              <a:ext cx="1526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4120" y="5562720"/>
              <a:ext cx="1522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5715000"/>
              <a:ext cx="1526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320040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304920" y="0"/>
            <a:ext cx="3124080" cy="2257920"/>
            <a:chOff x="304920" y="0"/>
            <a:chExt cx="3124080" cy="2257920"/>
          </a:xfrm>
        </p:grpSpPr>
        <p:sp>
          <p:nvSpPr>
            <p:cNvPr id="1607" name=""/>
            <p:cNvSpPr/>
            <p:nvPr/>
          </p:nvSpPr>
          <p:spPr>
            <a:xfrm>
              <a:off x="1676520" y="76212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0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4920" y="0"/>
              <a:ext cx="31240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3  B=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+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76520" y="16765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01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048120" y="1447920"/>
              <a:ext cx="30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00400" y="1295280"/>
              <a:ext cx="144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752480" y="1676520"/>
              <a:ext cx="1600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4648320" y="0"/>
            <a:ext cx="3581280" cy="2257920"/>
            <a:chOff x="4648320" y="0"/>
            <a:chExt cx="3581280" cy="2257920"/>
          </a:xfrm>
        </p:grpSpPr>
        <p:sp>
          <p:nvSpPr>
            <p:cNvPr id="1614" name=""/>
            <p:cNvSpPr/>
            <p:nvPr/>
          </p:nvSpPr>
          <p:spPr>
            <a:xfrm>
              <a:off x="4648320" y="0"/>
              <a:ext cx="35049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400800" y="76212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772400" y="1447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92468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553080" y="16765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00800" y="16765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>
            <a:off x="800100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124080" y="3840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8001000" y="3886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负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004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8001000" y="6049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304920" y="2209680"/>
            <a:ext cx="3352680" cy="2257920"/>
            <a:chOff x="304920" y="2209680"/>
            <a:chExt cx="3352680" cy="2257920"/>
          </a:xfrm>
        </p:grpSpPr>
        <p:sp>
          <p:nvSpPr>
            <p:cNvPr id="1626" name=""/>
            <p:cNvSpPr/>
            <p:nvPr/>
          </p:nvSpPr>
          <p:spPr>
            <a:xfrm>
              <a:off x="304920" y="2209680"/>
              <a:ext cx="33526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3  B= 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+(-2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0481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200400" y="3505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752480" y="3886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676520" y="38862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10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76520" y="2971800"/>
              <a:ext cx="19047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4648320" y="2209680"/>
            <a:ext cx="3733560" cy="2257920"/>
            <a:chOff x="4648320" y="2209680"/>
            <a:chExt cx="3733560" cy="2257920"/>
          </a:xfrm>
        </p:grpSpPr>
        <p:sp>
          <p:nvSpPr>
            <p:cNvPr id="1633" name=""/>
            <p:cNvSpPr/>
            <p:nvPr/>
          </p:nvSpPr>
          <p:spPr>
            <a:xfrm>
              <a:off x="4648320" y="2209680"/>
              <a:ext cx="37335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8487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01000" y="3505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629400" y="3886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77120" y="38862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477120" y="297180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304920" y="4495680"/>
            <a:ext cx="3352680" cy="2181600"/>
            <a:chOff x="304920" y="4495680"/>
            <a:chExt cx="3352680" cy="2181600"/>
          </a:xfrm>
        </p:grpSpPr>
        <p:sp>
          <p:nvSpPr>
            <p:cNvPr id="1640" name=""/>
            <p:cNvSpPr/>
            <p:nvPr/>
          </p:nvSpPr>
          <p:spPr>
            <a:xfrm>
              <a:off x="304920" y="4495680"/>
              <a:ext cx="31240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6  B= 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+(-4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124080" y="5943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905120" y="6172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752480" y="609588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00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752480" y="5257800"/>
              <a:ext cx="190512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4724280" y="4495680"/>
            <a:ext cx="3581640" cy="2181600"/>
            <a:chOff x="4724280" y="4495680"/>
            <a:chExt cx="3581640" cy="2181600"/>
          </a:xfrm>
        </p:grpSpPr>
        <p:sp>
          <p:nvSpPr>
            <p:cNvPr id="1647" name=""/>
            <p:cNvSpPr/>
            <p:nvPr/>
          </p:nvSpPr>
          <p:spPr>
            <a:xfrm>
              <a:off x="4724280" y="4495680"/>
              <a:ext cx="32767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6  B=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6+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848720" y="5943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553080" y="6172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477120" y="60958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11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77120" y="525780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1" dur="500"/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6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1" dur="500"/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1" dur="500"/>
                                        <p:tgtEl>
                                          <p:spTgt spid="1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1" dur="500"/>
                                        <p:tgtEl>
                                          <p:spTgt spid="1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3" name=""/>
          <p:cNvGrpSpPr/>
          <p:nvPr/>
        </p:nvGrpSpPr>
        <p:grpSpPr>
          <a:xfrm>
            <a:off x="0" y="1066680"/>
            <a:ext cx="3581280" cy="2867760"/>
            <a:chOff x="0" y="1066680"/>
            <a:chExt cx="3581280" cy="2867760"/>
          </a:xfrm>
        </p:grpSpPr>
        <p:sp>
          <p:nvSpPr>
            <p:cNvPr id="1654" name=""/>
            <p:cNvSpPr/>
            <p:nvPr/>
          </p:nvSpPr>
          <p:spPr>
            <a:xfrm>
              <a:off x="0" y="1066680"/>
              <a:ext cx="35053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101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752480" y="1828800"/>
              <a:ext cx="182880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011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00400" y="2590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35268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05120" y="28195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752480" y="2743200"/>
              <a:ext cx="175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0001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4876920" y="1066680"/>
            <a:ext cx="4267080" cy="2944080"/>
            <a:chOff x="4876920" y="1066680"/>
            <a:chExt cx="4267080" cy="2944080"/>
          </a:xfrm>
        </p:grpSpPr>
        <p:sp>
          <p:nvSpPr>
            <p:cNvPr id="1661" name=""/>
            <p:cNvSpPr/>
            <p:nvPr/>
          </p:nvSpPr>
          <p:spPr>
            <a:xfrm>
              <a:off x="4876920" y="1066680"/>
              <a:ext cx="42670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381880" y="26668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534520" y="2514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86600" y="28954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34320" y="281952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1111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934320" y="1905120"/>
              <a:ext cx="1676160" cy="10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100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304920" y="304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一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5720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溢出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752480" y="3505320"/>
            <a:ext cx="609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828800" y="3657600"/>
            <a:ext cx="304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286000" y="3657600"/>
            <a:ext cx="304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6720" y="3886200"/>
            <a:ext cx="30456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209680" y="3505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666880" y="3505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57600" y="3505320"/>
            <a:ext cx="60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35053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114800" y="3505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724280" y="3657600"/>
            <a:ext cx="304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429000" y="3733920"/>
            <a:ext cx="0" cy="3045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04920" y="4419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二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500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7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2" dur="500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7" dur="500"/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6" dur="500"/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500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4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9" dur="500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500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500"/>
                                        <p:tgtEl>
                                          <p:spTgt spid="1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8" dur="500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312408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304920" y="0"/>
            <a:ext cx="3124080" cy="2257920"/>
            <a:chOff x="304920" y="0"/>
            <a:chExt cx="3124080" cy="2257920"/>
          </a:xfrm>
        </p:grpSpPr>
        <p:sp>
          <p:nvSpPr>
            <p:cNvPr id="1683" name=""/>
            <p:cNvSpPr/>
            <p:nvPr/>
          </p:nvSpPr>
          <p:spPr>
            <a:xfrm>
              <a:off x="1676520" y="76212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0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04920" y="0"/>
              <a:ext cx="31240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3  B=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+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676520" y="16765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01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048120" y="1447920"/>
              <a:ext cx="30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200400" y="1295280"/>
              <a:ext cx="144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752480" y="1676520"/>
              <a:ext cx="1600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4648320" y="0"/>
            <a:ext cx="3581280" cy="2257920"/>
            <a:chOff x="4648320" y="0"/>
            <a:chExt cx="3581280" cy="2257920"/>
          </a:xfrm>
        </p:grpSpPr>
        <p:sp>
          <p:nvSpPr>
            <p:cNvPr id="1690" name=""/>
            <p:cNvSpPr/>
            <p:nvPr/>
          </p:nvSpPr>
          <p:spPr>
            <a:xfrm>
              <a:off x="4648320" y="0"/>
              <a:ext cx="35049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400800" y="76212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72400" y="1447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2468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553080" y="16765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00800" y="16765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6" name=""/>
          <p:cNvSpPr/>
          <p:nvPr/>
        </p:nvSpPr>
        <p:spPr>
          <a:xfrm>
            <a:off x="800100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124080" y="3886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001000" y="3886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负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2004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001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04920" y="2209680"/>
            <a:ext cx="3352680" cy="2257920"/>
            <a:chOff x="304920" y="2209680"/>
            <a:chExt cx="3352680" cy="2257920"/>
          </a:xfrm>
        </p:grpSpPr>
        <p:sp>
          <p:nvSpPr>
            <p:cNvPr id="1702" name=""/>
            <p:cNvSpPr/>
            <p:nvPr/>
          </p:nvSpPr>
          <p:spPr>
            <a:xfrm>
              <a:off x="304920" y="2209680"/>
              <a:ext cx="33526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3  B= 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+(-2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481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00400" y="3505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752480" y="3886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76520" y="38862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10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76520" y="2971800"/>
              <a:ext cx="19047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4648320" y="2209680"/>
            <a:ext cx="3733560" cy="2257920"/>
            <a:chOff x="4648320" y="2209680"/>
            <a:chExt cx="3733560" cy="2257920"/>
          </a:xfrm>
        </p:grpSpPr>
        <p:sp>
          <p:nvSpPr>
            <p:cNvPr id="1709" name=""/>
            <p:cNvSpPr/>
            <p:nvPr/>
          </p:nvSpPr>
          <p:spPr>
            <a:xfrm>
              <a:off x="4648320" y="2209680"/>
              <a:ext cx="37335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848720" y="3657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001000" y="3505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29400" y="3886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77120" y="38862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77120" y="297180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04920" y="4495680"/>
            <a:ext cx="3352680" cy="2181600"/>
            <a:chOff x="304920" y="4495680"/>
            <a:chExt cx="3352680" cy="2181600"/>
          </a:xfrm>
        </p:grpSpPr>
        <p:sp>
          <p:nvSpPr>
            <p:cNvPr id="1716" name=""/>
            <p:cNvSpPr/>
            <p:nvPr/>
          </p:nvSpPr>
          <p:spPr>
            <a:xfrm>
              <a:off x="304920" y="4495680"/>
              <a:ext cx="31240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6  B= 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+(-4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124080" y="5943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05120" y="6172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752480" y="609588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 00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52480" y="5257800"/>
              <a:ext cx="190512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724280" y="4495680"/>
            <a:ext cx="3581640" cy="2181600"/>
            <a:chOff x="4724280" y="4495680"/>
            <a:chExt cx="3581640" cy="2181600"/>
          </a:xfrm>
        </p:grpSpPr>
        <p:sp>
          <p:nvSpPr>
            <p:cNvPr id="1723" name=""/>
            <p:cNvSpPr/>
            <p:nvPr/>
          </p:nvSpPr>
          <p:spPr>
            <a:xfrm>
              <a:off x="4724280" y="4495680"/>
              <a:ext cx="32767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6  B=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6+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848720" y="5943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53080" y="6172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77120" y="60958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11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25780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 0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9" name=""/>
          <p:cNvSpPr/>
          <p:nvPr/>
        </p:nvSpPr>
        <p:spPr>
          <a:xfrm>
            <a:off x="457200" y="1371600"/>
            <a:ext cx="1219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952880" y="1371600"/>
            <a:ext cx="1219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57200" y="3581280"/>
            <a:ext cx="1219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105520" y="3581280"/>
            <a:ext cx="121896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33520" y="5791320"/>
            <a:ext cx="121896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105520" y="5791320"/>
            <a:ext cx="121896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f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 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62940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98108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523880" y="3505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324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9051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60020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5" dur="500"/>
                                        <p:tgtEl>
                                          <p:spTgt spid="1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1" dur="500"/>
                                        <p:tgtEl>
                                          <p:spTgt spid="1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6" dur="500"/>
                                        <p:tgtEl>
                                          <p:spTgt spid="1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3" dur="500"/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500"/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9" dur="500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4" dur="500"/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1" dur="500"/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6" dur="500"/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1" dur="500"/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6" dur="500"/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1" name=""/>
          <p:cNvGrpSpPr/>
          <p:nvPr/>
        </p:nvGrpSpPr>
        <p:grpSpPr>
          <a:xfrm>
            <a:off x="0" y="762120"/>
            <a:ext cx="3581280" cy="2257920"/>
            <a:chOff x="0" y="762120"/>
            <a:chExt cx="3581280" cy="2257920"/>
          </a:xfrm>
        </p:grpSpPr>
        <p:sp>
          <p:nvSpPr>
            <p:cNvPr id="1742" name=""/>
            <p:cNvSpPr/>
            <p:nvPr/>
          </p:nvSpPr>
          <p:spPr>
            <a:xfrm>
              <a:off x="0" y="762120"/>
              <a:ext cx="35049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1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752480" y="1524240"/>
              <a:ext cx="182880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124080" y="22100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76360" y="20574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04760" y="24386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752480" y="243864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4876920" y="762120"/>
            <a:ext cx="3733560" cy="2257560"/>
            <a:chOff x="4876920" y="762120"/>
            <a:chExt cx="3733560" cy="2257560"/>
          </a:xfrm>
        </p:grpSpPr>
        <p:sp>
          <p:nvSpPr>
            <p:cNvPr id="1749" name=""/>
            <p:cNvSpPr/>
            <p:nvPr/>
          </p:nvSpPr>
          <p:spPr>
            <a:xfrm>
              <a:off x="4876920" y="762120"/>
              <a:ext cx="37335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077320" y="22096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229600" y="2057400"/>
              <a:ext cx="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858000" y="24382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705720" y="24382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05720" y="152388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304920" y="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一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457200" y="3048120"/>
            <a:ext cx="4952880" cy="1069200"/>
            <a:chOff x="457200" y="3048120"/>
            <a:chExt cx="4952880" cy="1069200"/>
          </a:xfrm>
        </p:grpSpPr>
        <p:sp>
          <p:nvSpPr>
            <p:cNvPr id="1757" name=""/>
            <p:cNvSpPr/>
            <p:nvPr/>
          </p:nvSpPr>
          <p:spPr>
            <a:xfrm>
              <a:off x="457200" y="30481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752480" y="3048120"/>
              <a:ext cx="6098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82880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28600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276720" y="3429000"/>
              <a:ext cx="3045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09680" y="304812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66880" y="3048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657600" y="3048120"/>
              <a:ext cx="6094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48320" y="3048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114800" y="30481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2428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429000" y="3276720"/>
              <a:ext cx="0" cy="3045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9" name=""/>
          <p:cNvSpPr/>
          <p:nvPr/>
        </p:nvSpPr>
        <p:spPr>
          <a:xfrm>
            <a:off x="304920" y="3886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二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533520" y="4495680"/>
            <a:ext cx="3429000" cy="642600"/>
            <a:chOff x="533520" y="4495680"/>
            <a:chExt cx="3429000" cy="642600"/>
          </a:xfrm>
        </p:grpSpPr>
        <p:sp>
          <p:nvSpPr>
            <p:cNvPr id="1771" name=""/>
            <p:cNvSpPr/>
            <p:nvPr/>
          </p:nvSpPr>
          <p:spPr>
            <a:xfrm>
              <a:off x="533520" y="44956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 C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  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2" name=""/>
            <p:cNvGrpSpPr/>
            <p:nvPr/>
          </p:nvGrpSpPr>
          <p:grpSpPr>
            <a:xfrm>
              <a:off x="2590920" y="4724280"/>
              <a:ext cx="304560" cy="304920"/>
              <a:chOff x="2590920" y="4724280"/>
              <a:chExt cx="304560" cy="304920"/>
            </a:xfrm>
          </p:grpSpPr>
          <p:sp>
            <p:nvSpPr>
              <p:cNvPr id="1773" name=""/>
              <p:cNvSpPr/>
              <p:nvPr/>
            </p:nvSpPr>
            <p:spPr>
              <a:xfrm>
                <a:off x="2590920" y="4876920"/>
                <a:ext cx="30456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42840" y="4724280"/>
                <a:ext cx="0" cy="30492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590920" y="4724280"/>
                <a:ext cx="304560" cy="30492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6" name=""/>
          <p:cNvSpPr/>
          <p:nvPr/>
        </p:nvSpPr>
        <p:spPr>
          <a:xfrm>
            <a:off x="304920" y="52578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三（双符号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387" dur="indefinite" restart="never" nodeType="tmRoot">
          <p:childTnLst>
            <p:seq>
              <p:cTn id="2388" dur="indefinite" nodeType="mainSeq">
                <p:childTnLst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9" dur="500"/>
                                        <p:tgtEl>
                                          <p:spTgt spid="1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7" name=""/>
          <p:cNvGrpSpPr/>
          <p:nvPr/>
        </p:nvGrpSpPr>
        <p:grpSpPr>
          <a:xfrm>
            <a:off x="304920" y="-46080"/>
            <a:ext cx="8839080" cy="7164720"/>
            <a:chOff x="304920" y="-46080"/>
            <a:chExt cx="8839080" cy="7164720"/>
          </a:xfrm>
        </p:grpSpPr>
        <p:sp>
          <p:nvSpPr>
            <p:cNvPr id="1778" name=""/>
            <p:cNvSpPr/>
            <p:nvPr/>
          </p:nvSpPr>
          <p:spPr>
            <a:xfrm>
              <a:off x="304920" y="-46080"/>
              <a:ext cx="2057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+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124080" y="1706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447920" y="71604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0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47920" y="163044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1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048120" y="1401840"/>
              <a:ext cx="30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00400" y="1249200"/>
              <a:ext cx="144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523880" y="1630440"/>
              <a:ext cx="1828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48320" y="-46080"/>
              <a:ext cx="350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172200" y="71604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772400" y="14018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924680" y="12492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324480" y="163044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172200" y="163044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001000" y="1706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24080" y="39164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001000" y="39164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负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00400" y="61261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001000" y="61261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正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04920" y="21636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+(-2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048120" y="3611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200400" y="3459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47920" y="384012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384012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447920" y="2925720"/>
              <a:ext cx="19047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648320" y="2163600"/>
              <a:ext cx="373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848720" y="3611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001000" y="3459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400800" y="38401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248520" y="384012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248520" y="292572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04920" y="444960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+(-4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124080" y="5897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76720" y="5745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905120" y="6126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523880" y="6049800"/>
              <a:ext cx="175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0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523880" y="5211720"/>
              <a:ext cx="190512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724280" y="44496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6+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848720" y="5897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001000" y="5745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400800" y="61261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248520" y="604980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110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248520" y="5211720"/>
              <a:ext cx="18288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1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5334120" y="1143000"/>
            <a:ext cx="914400" cy="6858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352680" y="639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第一符号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638680" y="3352680"/>
            <a:ext cx="914400" cy="6858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352680" y="28954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第二符号位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6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4" name=""/>
          <p:cNvGrpSpPr/>
          <p:nvPr/>
        </p:nvGrpSpPr>
        <p:grpSpPr>
          <a:xfrm>
            <a:off x="0" y="762120"/>
            <a:ext cx="3581280" cy="2257920"/>
            <a:chOff x="0" y="762120"/>
            <a:chExt cx="3581280" cy="2257920"/>
          </a:xfrm>
        </p:grpSpPr>
        <p:sp>
          <p:nvSpPr>
            <p:cNvPr id="1825" name=""/>
            <p:cNvSpPr/>
            <p:nvPr/>
          </p:nvSpPr>
          <p:spPr>
            <a:xfrm>
              <a:off x="0" y="762120"/>
              <a:ext cx="35049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10  B=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+7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1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2480" y="1524240"/>
              <a:ext cx="182880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124080" y="22100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276360" y="20574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904760" y="24386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752480" y="243864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000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4876920" y="762120"/>
            <a:ext cx="3733560" cy="2257560"/>
            <a:chOff x="4876920" y="762120"/>
            <a:chExt cx="3733560" cy="2257560"/>
          </a:xfrm>
        </p:grpSpPr>
        <p:sp>
          <p:nvSpPr>
            <p:cNvPr id="1832" name=""/>
            <p:cNvSpPr/>
            <p:nvPr/>
          </p:nvSpPr>
          <p:spPr>
            <a:xfrm>
              <a:off x="4876920" y="762120"/>
              <a:ext cx="373356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= -10  B= -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+(-7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77320" y="22096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229600" y="2057400"/>
              <a:ext cx="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858000" y="24382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705720" y="24382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1111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705720" y="1523880"/>
              <a:ext cx="16761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01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1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8" name=""/>
          <p:cNvSpPr/>
          <p:nvPr/>
        </p:nvSpPr>
        <p:spPr>
          <a:xfrm>
            <a:off x="304920" y="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一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457200" y="3048120"/>
            <a:ext cx="4952880" cy="1069200"/>
            <a:chOff x="457200" y="3048120"/>
            <a:chExt cx="4952880" cy="1069200"/>
          </a:xfrm>
        </p:grpSpPr>
        <p:sp>
          <p:nvSpPr>
            <p:cNvPr id="1840" name=""/>
            <p:cNvSpPr/>
            <p:nvPr/>
          </p:nvSpPr>
          <p:spPr>
            <a:xfrm>
              <a:off x="457200" y="30481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52480" y="3048120"/>
              <a:ext cx="6098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82880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28600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276720" y="3429000"/>
              <a:ext cx="3045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209680" y="304812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666880" y="3048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657600" y="3048120"/>
              <a:ext cx="6094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648320" y="3048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114800" y="30481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S</a:t>
              </a:r>
              <a:r>
                <a:rPr b="1" lang="en-US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24280" y="3200400"/>
              <a:ext cx="3049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429000" y="3276720"/>
              <a:ext cx="0" cy="3045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304920" y="38098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二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533520" y="5867280"/>
            <a:ext cx="4114800" cy="642600"/>
            <a:chOff x="533520" y="5867280"/>
            <a:chExt cx="4114800" cy="642600"/>
          </a:xfrm>
        </p:grpSpPr>
        <p:sp>
          <p:nvSpPr>
            <p:cNvPr id="1854" name=""/>
            <p:cNvSpPr/>
            <p:nvPr/>
          </p:nvSpPr>
          <p:spPr>
            <a:xfrm>
              <a:off x="533520" y="586728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 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1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  S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2743200" y="6095880"/>
              <a:ext cx="366480" cy="304920"/>
              <a:chOff x="2743200" y="6095880"/>
              <a:chExt cx="366480" cy="304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2743200" y="6248520"/>
                <a:ext cx="36648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926080" y="6095880"/>
                <a:ext cx="0" cy="30492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743200" y="6095880"/>
                <a:ext cx="366480" cy="30492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9" name=""/>
          <p:cNvSpPr/>
          <p:nvPr/>
        </p:nvSpPr>
        <p:spPr>
          <a:xfrm>
            <a:off x="304920" y="52578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硬件判断逻辑三（双符号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533520" y="4495680"/>
            <a:ext cx="3429000" cy="642600"/>
            <a:chOff x="533520" y="4495680"/>
            <a:chExt cx="3429000" cy="642600"/>
          </a:xfrm>
        </p:grpSpPr>
        <p:sp>
          <p:nvSpPr>
            <p:cNvPr id="1861" name=""/>
            <p:cNvSpPr/>
            <p:nvPr/>
          </p:nvSpPr>
          <p:spPr>
            <a:xfrm>
              <a:off x="533520" y="44956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溢出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= C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f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  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2" name=""/>
            <p:cNvGrpSpPr/>
            <p:nvPr/>
          </p:nvGrpSpPr>
          <p:grpSpPr>
            <a:xfrm>
              <a:off x="2590920" y="4724280"/>
              <a:ext cx="304560" cy="304920"/>
              <a:chOff x="2590920" y="4724280"/>
              <a:chExt cx="304560" cy="304920"/>
            </a:xfrm>
          </p:grpSpPr>
          <p:sp>
            <p:nvSpPr>
              <p:cNvPr id="1863" name=""/>
              <p:cNvSpPr/>
              <p:nvPr/>
            </p:nvSpPr>
            <p:spPr>
              <a:xfrm>
                <a:off x="2590920" y="4876920"/>
                <a:ext cx="30456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742840" y="4724280"/>
                <a:ext cx="0" cy="30492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590920" y="4724280"/>
                <a:ext cx="304560" cy="30492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over dir="ld"/>
  </p:transition>
  <p:timing>
    <p:tnLst>
      <p:par>
        <p:cTn id="2422" dur="indefinite" restart="never" nodeType="tmRoot">
          <p:childTnLst>
            <p:seq>
              <p:cTn id="2423" dur="indefinite" nodeType="mainSeq">
                <p:childTnLst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3.3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移位操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28600" y="1600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逻辑移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438280" y="14320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：数码位置变化，数值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0" y="6858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移位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28600" y="4038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移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200400" y="2286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0 0 0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1 1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38080" y="28195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循环左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2004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2438280" y="3886200"/>
            <a:ext cx="6705720" cy="1312920"/>
            <a:chOff x="2438280" y="3886200"/>
            <a:chExt cx="6705720" cy="1312920"/>
          </a:xfrm>
        </p:grpSpPr>
        <p:sp>
          <p:nvSpPr>
            <p:cNvPr id="1875" name=""/>
            <p:cNvSpPr/>
            <p:nvPr/>
          </p:nvSpPr>
          <p:spPr>
            <a:xfrm>
              <a:off x="2438280" y="3886200"/>
              <a:ext cx="670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数码位置变化，数值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变化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971800" y="449568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符号位不变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3200400" y="53341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0 0 1 1 1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914400" y="5835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算术左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200400" y="5867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58128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962520" y="28195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3434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572000" y="2819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105520" y="2819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486400" y="2819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867280" y="2819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581280" y="58672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962520" y="5867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343400" y="58672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724280" y="58672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105520" y="5867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486400" y="5867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629400" y="53341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-1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629400" y="58672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-3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9" dur="500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4" dur="500"/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9" dur="500"/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5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9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3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7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1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5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9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3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4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2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6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0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4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9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"/>
          <p:cNvSpPr/>
          <p:nvPr/>
        </p:nvSpPr>
        <p:spPr>
          <a:xfrm>
            <a:off x="380880" y="609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移位寄存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移位逻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505320" y="6094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寄存器中移位（串行接口中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2590920" y="1981080"/>
            <a:ext cx="5638680" cy="1953000"/>
            <a:chOff x="2590920" y="1981080"/>
            <a:chExt cx="5638680" cy="1953000"/>
          </a:xfrm>
        </p:grpSpPr>
        <p:sp>
          <p:nvSpPr>
            <p:cNvPr id="1899" name=""/>
            <p:cNvSpPr/>
            <p:nvPr/>
          </p:nvSpPr>
          <p:spPr>
            <a:xfrm>
              <a:off x="487692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9132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88620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781680" y="1981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429000" y="2362320"/>
              <a:ext cx="388620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334120" y="2362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343400" y="2362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324480" y="2362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505320" y="22860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D4     D3    D2     D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553080" y="28195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038480" y="2819520"/>
              <a:ext cx="0" cy="60948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572000" y="28195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105520" y="2819520"/>
              <a:ext cx="0" cy="60948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562720" y="28195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019920" y="2819520"/>
              <a:ext cx="0" cy="60948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91120" y="304812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D4     D3     D2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590920" y="335268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左移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D3     D2     D1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38088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移位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362320" y="40384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斜位传送（运算器中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1676520" y="4876920"/>
            <a:ext cx="7467480" cy="1752120"/>
            <a:chOff x="1676520" y="4876920"/>
            <a:chExt cx="7467480" cy="1752120"/>
          </a:xfrm>
        </p:grpSpPr>
        <p:grpSp>
          <p:nvGrpSpPr>
            <p:cNvPr id="1919" name=""/>
            <p:cNvGrpSpPr/>
            <p:nvPr/>
          </p:nvGrpSpPr>
          <p:grpSpPr>
            <a:xfrm>
              <a:off x="3276720" y="4876920"/>
              <a:ext cx="4038480" cy="609120"/>
              <a:chOff x="3276720" y="4876920"/>
              <a:chExt cx="4038480" cy="609120"/>
            </a:xfrm>
          </p:grpSpPr>
          <p:sp>
            <p:nvSpPr>
              <p:cNvPr id="1920" name=""/>
              <p:cNvSpPr/>
              <p:nvPr/>
            </p:nvSpPr>
            <p:spPr>
              <a:xfrm>
                <a:off x="3276720" y="4876920"/>
                <a:ext cx="4038480" cy="60912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334120" y="4876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343400" y="4876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324480" y="4876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3276720" y="6019920"/>
              <a:ext cx="4038480" cy="609120"/>
              <a:chOff x="3276720" y="6019920"/>
              <a:chExt cx="4038480" cy="609120"/>
            </a:xfrm>
          </p:grpSpPr>
          <p:sp>
            <p:nvSpPr>
              <p:cNvPr id="1925" name=""/>
              <p:cNvSpPr/>
              <p:nvPr/>
            </p:nvSpPr>
            <p:spPr>
              <a:xfrm>
                <a:off x="3276720" y="6019920"/>
                <a:ext cx="4038480" cy="60912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334120" y="6019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343400" y="6019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24480" y="601992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V="1">
              <a:off x="3886200" y="5486400"/>
              <a:ext cx="838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2895480" y="54864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5029200" y="5486400"/>
              <a:ext cx="838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5943600" y="5486400"/>
              <a:ext cx="838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6934320" y="5486400"/>
              <a:ext cx="838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886200" y="5486400"/>
              <a:ext cx="91440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19520" y="5486400"/>
              <a:ext cx="91440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934320" y="5486400"/>
              <a:ext cx="83808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876920" y="5486400"/>
              <a:ext cx="91440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943600" y="5486400"/>
              <a:ext cx="838080" cy="5335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676520" y="52578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</a:rPr>
                <a:t>左斜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772400" y="52578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右斜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1" name=""/>
            <p:cNvGraphicFramePr/>
            <p:nvPr/>
          </p:nvGraphicFramePr>
          <p:xfrm>
            <a:off x="3505320" y="6019920"/>
            <a:ext cx="609480" cy="4348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9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05320" y="6019920"/>
                      <a:ext cx="60948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3" name=""/>
            <p:cNvSpPr/>
            <p:nvPr/>
          </p:nvSpPr>
          <p:spPr>
            <a:xfrm>
              <a:off x="350532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4495680" y="6019920"/>
              <a:ext cx="838080" cy="581400"/>
              <a:chOff x="4495680" y="6019920"/>
              <a:chExt cx="838080" cy="581400"/>
            </a:xfrm>
          </p:grpSpPr>
          <p:graphicFrame>
            <p:nvGraphicFramePr>
              <p:cNvPr id="1945" name=""/>
              <p:cNvGraphicFramePr/>
              <p:nvPr/>
            </p:nvGraphicFramePr>
            <p:xfrm>
              <a:off x="4495680" y="6019920"/>
              <a:ext cx="609480" cy="434520"/>
            </p:xfrm>
            <a:graphic>
              <a:graphicData uri="http://schemas.openxmlformats.org/presentationml/2006/ole">
                <p:oleObj progId="Word.Document.12" r:id="rId4" spid="">
                  <p:embed/>
                  <p:pic>
                    <p:nvPicPr>
                      <p:cNvPr id="194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495680" y="6019920"/>
                        <a:ext cx="609480" cy="43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47" name=""/>
              <p:cNvSpPr/>
              <p:nvPr/>
            </p:nvSpPr>
            <p:spPr>
              <a:xfrm>
                <a:off x="4495680" y="601992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6477120" y="6019920"/>
              <a:ext cx="838080" cy="581400"/>
              <a:chOff x="6477120" y="6019920"/>
              <a:chExt cx="838080" cy="581400"/>
            </a:xfrm>
          </p:grpSpPr>
          <p:graphicFrame>
            <p:nvGraphicFramePr>
              <p:cNvPr id="1949" name=""/>
              <p:cNvGraphicFramePr/>
              <p:nvPr/>
            </p:nvGraphicFramePr>
            <p:xfrm>
              <a:off x="6477120" y="6019920"/>
              <a:ext cx="609480" cy="434520"/>
            </p:xfrm>
            <a:graphic>
              <a:graphicData uri="http://schemas.openxmlformats.org/presentationml/2006/ole">
                <p:oleObj progId="Word.Document.12" r:id="rId6" spid="">
                  <p:embed/>
                  <p:pic>
                    <p:nvPicPr>
                      <p:cNvPr id="1950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77120" y="6019920"/>
                        <a:ext cx="609480" cy="43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51" name=""/>
              <p:cNvSpPr/>
              <p:nvPr/>
            </p:nvSpPr>
            <p:spPr>
              <a:xfrm>
                <a:off x="6477120" y="601992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5486400" y="6019920"/>
              <a:ext cx="838080" cy="581400"/>
              <a:chOff x="5486400" y="6019920"/>
              <a:chExt cx="838080" cy="581400"/>
            </a:xfrm>
          </p:grpSpPr>
          <p:graphicFrame>
            <p:nvGraphicFramePr>
              <p:cNvPr id="1953" name=""/>
              <p:cNvGraphicFramePr/>
              <p:nvPr/>
            </p:nvGraphicFramePr>
            <p:xfrm>
              <a:off x="5486400" y="6019920"/>
              <a:ext cx="609480" cy="434520"/>
            </p:xfrm>
            <a:graphic>
              <a:graphicData uri="http://schemas.openxmlformats.org/presentationml/2006/ole">
                <p:oleObj progId="Word.Document.12" r:id="rId8" spid="">
                  <p:embed/>
                  <p:pic>
                    <p:nvPicPr>
                      <p:cNvPr id="1954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86400" y="6019920"/>
                        <a:ext cx="609480" cy="43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55" name=""/>
              <p:cNvSpPr/>
              <p:nvPr/>
            </p:nvSpPr>
            <p:spPr>
              <a:xfrm>
                <a:off x="5486400" y="601992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3352680" y="487692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4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门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7" name=""/>
          <p:cNvSpPr/>
          <p:nvPr/>
        </p:nvSpPr>
        <p:spPr>
          <a:xfrm>
            <a:off x="990720" y="2286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移位寄存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75248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移位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75248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法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9" dur="500"/>
                                        <p:tgtEl>
                                          <p:spTgt spid="1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4" dur="500"/>
                                        <p:tgtEl>
                                          <p:spTgt spid="1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9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500"/>
                                        <p:tgtEl>
                                          <p:spTgt spid="1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9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/>
          <p:nvPr/>
        </p:nvSpPr>
        <p:spPr>
          <a:xfrm>
            <a:off x="0" y="685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单符号位 ：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523880" y="1447920"/>
            <a:ext cx="1828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523880" y="1828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11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876920" y="685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双符号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400800" y="18288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11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400800" y="1447920"/>
            <a:ext cx="1676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04920" y="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数补码移位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移位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380880" y="1676520"/>
            <a:ext cx="1067040" cy="581400"/>
            <a:chOff x="380880" y="1676520"/>
            <a:chExt cx="1067040" cy="581400"/>
          </a:xfrm>
        </p:grpSpPr>
        <p:sp>
          <p:nvSpPr>
            <p:cNvPr id="1969" name=""/>
            <p:cNvSpPr/>
            <p:nvPr/>
          </p:nvSpPr>
          <p:spPr>
            <a:xfrm>
              <a:off x="380880" y="2209680"/>
              <a:ext cx="990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0880" y="16765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304920" y="2209680"/>
            <a:ext cx="1143000" cy="581400"/>
            <a:chOff x="304920" y="2209680"/>
            <a:chExt cx="1143000" cy="581400"/>
          </a:xfrm>
        </p:grpSpPr>
        <p:sp>
          <p:nvSpPr>
            <p:cNvPr id="1972" name=""/>
            <p:cNvSpPr/>
            <p:nvPr/>
          </p:nvSpPr>
          <p:spPr>
            <a:xfrm>
              <a:off x="304920" y="22096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80880" y="2743200"/>
              <a:ext cx="1067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380880" y="2743200"/>
            <a:ext cx="1067040" cy="581400"/>
            <a:chOff x="380880" y="2743200"/>
            <a:chExt cx="1067040" cy="581400"/>
          </a:xfrm>
        </p:grpSpPr>
        <p:sp>
          <p:nvSpPr>
            <p:cNvPr id="1975" name=""/>
            <p:cNvSpPr/>
            <p:nvPr/>
          </p:nvSpPr>
          <p:spPr>
            <a:xfrm>
              <a:off x="380880" y="3276720"/>
              <a:ext cx="1067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80880" y="27432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7" name=""/>
          <p:cNvSpPr/>
          <p:nvPr/>
        </p:nvSpPr>
        <p:spPr>
          <a:xfrm>
            <a:off x="1523880" y="2362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523880" y="2895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5334120" y="1676520"/>
            <a:ext cx="1143000" cy="581400"/>
            <a:chOff x="5334120" y="1676520"/>
            <a:chExt cx="1143000" cy="581400"/>
          </a:xfrm>
        </p:grpSpPr>
        <p:sp>
          <p:nvSpPr>
            <p:cNvPr id="1980" name=""/>
            <p:cNvSpPr/>
            <p:nvPr/>
          </p:nvSpPr>
          <p:spPr>
            <a:xfrm>
              <a:off x="5334120" y="2209680"/>
              <a:ext cx="9903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0080" y="16765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5334120" y="2209680"/>
            <a:ext cx="1143000" cy="581400"/>
            <a:chOff x="5334120" y="2209680"/>
            <a:chExt cx="1143000" cy="581400"/>
          </a:xfrm>
        </p:grpSpPr>
        <p:sp>
          <p:nvSpPr>
            <p:cNvPr id="1983" name=""/>
            <p:cNvSpPr/>
            <p:nvPr/>
          </p:nvSpPr>
          <p:spPr>
            <a:xfrm>
              <a:off x="5334120" y="2743200"/>
              <a:ext cx="9903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10080" y="22096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5410080" y="2743200"/>
            <a:ext cx="1067040" cy="581400"/>
            <a:chOff x="5410080" y="2743200"/>
            <a:chExt cx="1067040" cy="581400"/>
          </a:xfrm>
        </p:grpSpPr>
        <p:sp>
          <p:nvSpPr>
            <p:cNvPr id="1986" name=""/>
            <p:cNvSpPr/>
            <p:nvPr/>
          </p:nvSpPr>
          <p:spPr>
            <a:xfrm>
              <a:off x="5410080" y="32767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10080" y="27432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5410080" y="3276720"/>
            <a:ext cx="1067040" cy="581400"/>
            <a:chOff x="5410080" y="3276720"/>
            <a:chExt cx="1067040" cy="581400"/>
          </a:xfrm>
        </p:grpSpPr>
        <p:sp>
          <p:nvSpPr>
            <p:cNvPr id="1989" name=""/>
            <p:cNvSpPr/>
            <p:nvPr/>
          </p:nvSpPr>
          <p:spPr>
            <a:xfrm>
              <a:off x="5410080" y="380988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410080" y="32767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6400800" y="23623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10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400800" y="28954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0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400800" y="34290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2860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数符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981080" y="4495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：符号位不变；双：第一符号位不变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2860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空位补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828800" y="5715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右移时第二符号位移至尾数最高位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615" dur="indefinite" restart="never" nodeType="tmRoot">
          <p:childTnLst>
            <p:seq>
              <p:cTn id="2616" dur="indefinite" nodeType="mainSeq">
                <p:childTnLst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9" dur="500"/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6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1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500"/>
                            </p:stCondLst>
                            <p:childTnLst>
                              <p:par>
                                <p:cTn id="2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5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4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9" dur="500"/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500"/>
                            </p:stCondLst>
                            <p:childTnLst>
                              <p:par>
                                <p:cTn id="2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6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1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5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0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500"/>
                            </p:stCondLst>
                            <p:childTnLst>
                              <p:par>
                                <p:cTn id="2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3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8" dur="500"/>
                                        <p:tgtEl>
                                          <p:spTgt spid="1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9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0" dur="500"/>
                                        <p:tgtEl>
                                          <p:spTgt spid="1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/>
          <p:nvPr/>
        </p:nvSpPr>
        <p:spPr>
          <a:xfrm>
            <a:off x="0" y="762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单符号位 ：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676520" y="1600200"/>
            <a:ext cx="1828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676520" y="1981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011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724280" y="685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双符号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095880" y="198108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110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095880" y="1600200"/>
            <a:ext cx="1676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0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28600" y="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负数补码移位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移位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533520" y="1828800"/>
            <a:ext cx="1143000" cy="581400"/>
            <a:chOff x="533520" y="1828800"/>
            <a:chExt cx="1143000" cy="581400"/>
          </a:xfrm>
        </p:grpSpPr>
        <p:sp>
          <p:nvSpPr>
            <p:cNvPr id="2007" name=""/>
            <p:cNvSpPr/>
            <p:nvPr/>
          </p:nvSpPr>
          <p:spPr>
            <a:xfrm>
              <a:off x="533520" y="2362320"/>
              <a:ext cx="10666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09480" y="18288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533520" y="2362320"/>
            <a:ext cx="1143000" cy="581400"/>
            <a:chOff x="533520" y="2362320"/>
            <a:chExt cx="1143000" cy="581400"/>
          </a:xfrm>
        </p:grpSpPr>
        <p:sp>
          <p:nvSpPr>
            <p:cNvPr id="2010" name=""/>
            <p:cNvSpPr/>
            <p:nvPr/>
          </p:nvSpPr>
          <p:spPr>
            <a:xfrm>
              <a:off x="609480" y="23623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33520" y="289548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533520" y="2895480"/>
            <a:ext cx="1143000" cy="581400"/>
            <a:chOff x="533520" y="2895480"/>
            <a:chExt cx="1143000" cy="581400"/>
          </a:xfrm>
        </p:grpSpPr>
        <p:sp>
          <p:nvSpPr>
            <p:cNvPr id="2013" name=""/>
            <p:cNvSpPr/>
            <p:nvPr/>
          </p:nvSpPr>
          <p:spPr>
            <a:xfrm>
              <a:off x="533520" y="3429000"/>
              <a:ext cx="10666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09480" y="28954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1676520" y="2514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676520" y="3048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5029200" y="1828800"/>
            <a:ext cx="1143000" cy="581400"/>
            <a:chOff x="5029200" y="1828800"/>
            <a:chExt cx="1143000" cy="581400"/>
          </a:xfrm>
        </p:grpSpPr>
        <p:sp>
          <p:nvSpPr>
            <p:cNvPr id="2018" name=""/>
            <p:cNvSpPr/>
            <p:nvPr/>
          </p:nvSpPr>
          <p:spPr>
            <a:xfrm>
              <a:off x="5029200" y="2362320"/>
              <a:ext cx="990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105520" y="18288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5105520" y="2362320"/>
            <a:ext cx="1066680" cy="581400"/>
            <a:chOff x="5105520" y="2362320"/>
            <a:chExt cx="1066680" cy="581400"/>
          </a:xfrm>
        </p:grpSpPr>
        <p:sp>
          <p:nvSpPr>
            <p:cNvPr id="2021" name=""/>
            <p:cNvSpPr/>
            <p:nvPr/>
          </p:nvSpPr>
          <p:spPr>
            <a:xfrm>
              <a:off x="5105520" y="289548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105520" y="23623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5105520" y="2895480"/>
            <a:ext cx="1066680" cy="581400"/>
            <a:chOff x="5105520" y="2895480"/>
            <a:chExt cx="1066680" cy="581400"/>
          </a:xfrm>
        </p:grpSpPr>
        <p:sp>
          <p:nvSpPr>
            <p:cNvPr id="2024" name=""/>
            <p:cNvSpPr/>
            <p:nvPr/>
          </p:nvSpPr>
          <p:spPr>
            <a:xfrm>
              <a:off x="5105520" y="34290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105520" y="28954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"/>
          <p:cNvSpPr/>
          <p:nvPr/>
        </p:nvSpPr>
        <p:spPr>
          <a:xfrm>
            <a:off x="6095880" y="251460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0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095880" y="304812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57200" y="4419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数符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286000" y="4419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：符号位不变；双：第一符号位不变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57200" y="5410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左移空位补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895480" y="6049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第二符号位移至尾数最高位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7200" y="6019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右移空位补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741" dur="indefinite" restart="never" nodeType="tmRoot">
          <p:childTnLst>
            <p:seq>
              <p:cTn id="2742" dur="indefinite" nodeType="mainSeq">
                <p:childTnLst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5" dur="500"/>
                                        <p:tgtEl>
                                          <p:spTgt spid="1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0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8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2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7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1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6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5" dur="500"/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8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500"/>
                            </p:stCondLst>
                            <p:childTnLst>
                              <p:par>
                                <p:cTn id="28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2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7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fill="hold">
                            <p:stCondLst>
                              <p:cond delay="500"/>
                            </p:stCondLst>
                            <p:childTnLst>
                              <p:par>
                                <p:cTn id="2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1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0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5" dur="500"/>
                                        <p:tgtEl>
                                          <p:spTgt spid="2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6" dur="500"/>
                                        <p:tgtEl>
                                          <p:spTgt spid="2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3" dur="500"/>
                                        <p:tgtEl>
                                          <p:spTgt spid="2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逻辑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600200" y="1143000"/>
            <a:ext cx="6248520" cy="1259280"/>
            <a:chOff x="1600200" y="1143000"/>
            <a:chExt cx="6248520" cy="1259280"/>
          </a:xfrm>
        </p:grpSpPr>
        <p:sp>
          <p:nvSpPr>
            <p:cNvPr id="184" name=""/>
            <p:cNvSpPr/>
            <p:nvPr/>
          </p:nvSpPr>
          <p:spPr>
            <a:xfrm>
              <a:off x="1828800" y="1143000"/>
              <a:ext cx="6019920" cy="12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  (Ai +  Bi)  +  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=  Ai + 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33920" y="1295280"/>
              <a:ext cx="30456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6920" y="1295280"/>
              <a:ext cx="30456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4120" y="2057400"/>
              <a:ext cx="30456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0200" y="1523880"/>
              <a:ext cx="152280" cy="6098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6720" y="1219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1120" y="1219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1981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2520" y="19810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920" y="19810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7280" y="1981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19051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920" y="2590920"/>
            <a:ext cx="8153280" cy="3934080"/>
            <a:chOff x="304920" y="2590920"/>
            <a:chExt cx="8153280" cy="3934080"/>
          </a:xfrm>
        </p:grpSpPr>
        <p:sp>
          <p:nvSpPr>
            <p:cNvPr id="197" name=""/>
            <p:cNvSpPr/>
            <p:nvPr/>
          </p:nvSpPr>
          <p:spPr>
            <a:xfrm>
              <a:off x="1828800" y="3276720"/>
              <a:ext cx="1447920" cy="83808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43400" y="4419720"/>
              <a:ext cx="1447920" cy="83808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419720"/>
              <a:ext cx="1447560" cy="83808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365760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2320" y="34290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600" y="3276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4600" y="3657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76920" y="4800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10280" y="4800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920" y="4648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4648320"/>
              <a:ext cx="3808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10280" y="4648320"/>
              <a:ext cx="38124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14600" y="2819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9320" y="5334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19520" y="41148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4114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4267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920" y="3962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0" y="5257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5257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257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58200" y="4267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8120" y="4267080"/>
              <a:ext cx="541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19520" y="5410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556272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19320" y="5715000"/>
              <a:ext cx="358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7480" y="54100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6748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6880" y="2590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86600" y="35053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5943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i  Bi           Ci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4400" y="4495680"/>
              <a:ext cx="1447920" cy="83844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14400" y="487692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00200" y="4876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0200" y="4495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7920" y="4648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38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33720" y="4114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00200" y="42670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0200" y="426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00200" y="4267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2428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39625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i B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2880" y="4191120"/>
              <a:ext cx="1526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24280" y="5638680"/>
              <a:ext cx="1526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4120" y="5486400"/>
              <a:ext cx="15228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81680" y="5334120"/>
              <a:ext cx="1526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>
            <a:off x="0" y="228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易出错处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752480" y="10666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0 1110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5" name=""/>
          <p:cNvGrpSpPr/>
          <p:nvPr/>
        </p:nvGrpSpPr>
        <p:grpSpPr>
          <a:xfrm>
            <a:off x="685800" y="1523880"/>
            <a:ext cx="838080" cy="581400"/>
            <a:chOff x="685800" y="1523880"/>
            <a:chExt cx="838080" cy="581400"/>
          </a:xfrm>
        </p:grpSpPr>
        <p:sp>
          <p:nvSpPr>
            <p:cNvPr id="2036" name=""/>
            <p:cNvSpPr/>
            <p:nvPr/>
          </p:nvSpPr>
          <p:spPr>
            <a:xfrm flipH="1">
              <a:off x="685800" y="20574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38080" y="1523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4648320" y="1523880"/>
            <a:ext cx="838080" cy="581400"/>
            <a:chOff x="4648320" y="1523880"/>
            <a:chExt cx="838080" cy="581400"/>
          </a:xfrm>
        </p:grpSpPr>
        <p:sp>
          <p:nvSpPr>
            <p:cNvPr id="2039" name=""/>
            <p:cNvSpPr/>
            <p:nvPr/>
          </p:nvSpPr>
          <p:spPr>
            <a:xfrm>
              <a:off x="480060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4648320" y="20574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>
            <a:off x="5715000" y="1066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1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1980720" y="167652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6324120" y="167652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057400" y="167652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400800" y="16765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09480" y="2544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752480" y="35053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 0110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71500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1980720" y="411480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6324120" y="411480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057400" y="411480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400800" y="411480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752480" y="1676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0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752480" y="2514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715000" y="1676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0 011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572000" y="2514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715000" y="2514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752480" y="4083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609480" y="3992400"/>
            <a:ext cx="838080" cy="581400"/>
            <a:chOff x="609480" y="3992400"/>
            <a:chExt cx="838080" cy="581400"/>
          </a:xfrm>
        </p:grpSpPr>
        <p:sp>
          <p:nvSpPr>
            <p:cNvPr id="2060" name=""/>
            <p:cNvSpPr/>
            <p:nvPr/>
          </p:nvSpPr>
          <p:spPr>
            <a:xfrm flipH="1">
              <a:off x="609480" y="45259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61760" y="3992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>
            <a:off x="609480" y="5029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752480" y="4997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110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1500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 111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4648320" y="3962520"/>
            <a:ext cx="838080" cy="581400"/>
            <a:chOff x="4648320" y="3962520"/>
            <a:chExt cx="838080" cy="581400"/>
          </a:xfrm>
        </p:grpSpPr>
        <p:sp>
          <p:nvSpPr>
            <p:cNvPr id="2066" name=""/>
            <p:cNvSpPr/>
            <p:nvPr/>
          </p:nvSpPr>
          <p:spPr>
            <a:xfrm>
              <a:off x="480060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4648320" y="4495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>
            <a:off x="5715000" y="4997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572000" y="5029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indefinite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0" dur="500"/>
                                        <p:tgtEl>
                                          <p:spTgt spid="2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5" dur="500"/>
                                        <p:tgtEl>
                                          <p:spTgt spid="2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0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4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9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0" fill="hold">
                            <p:stCondLst>
                              <p:cond delay="500"/>
                            </p:stCondLst>
                            <p:childTnLst>
                              <p:par>
                                <p:cTn id="2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3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8" dur="500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2" dur="500"/>
                                        <p:tgtEl>
                                          <p:spTgt spid="2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7" dur="500"/>
                                        <p:tgtEl>
                                          <p:spTgt spid="2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2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500"/>
                            </p:stCondLst>
                            <p:childTnLst>
                              <p:par>
                                <p:cTn id="2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6" dur="500"/>
                                        <p:tgtEl>
                                          <p:spTgt spid="2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1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2" fill="hold">
                            <p:stCondLst>
                              <p:cond delay="500"/>
                            </p:stCondLst>
                            <p:childTnLst>
                              <p:par>
                                <p:cTn id="2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0" dur="500"/>
                                        <p:tgtEl>
                                          <p:spTgt spid="2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00"/>
                            </p:stCondLst>
                            <p:childTnLst>
                              <p:par>
                                <p:cTn id="2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4" dur="500"/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9" dur="500"/>
                                        <p:tgtEl>
                                          <p:spTgt spid="2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4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500"/>
                            </p:stCondLst>
                            <p:childTnLst>
                              <p:par>
                                <p:cTn id="29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8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3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7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2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500"/>
                            </p:stCondLst>
                            <p:childTnLst>
                              <p:par>
                                <p:cTn id="2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6" dur="500"/>
                                        <p:tgtEl>
                                          <p:spTgt spid="2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1" dur="500"/>
                                        <p:tgtEl>
                                          <p:spTgt spid="2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6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500"/>
                            </p:stCondLst>
                            <p:childTnLst>
                              <p:par>
                                <p:cTn id="2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0" dur="500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5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6" fill="hold">
                            <p:stCondLst>
                              <p:cond delay="500"/>
                            </p:stCondLst>
                            <p:childTnLst>
                              <p:par>
                                <p:cTn id="2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9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4" dur="500"/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8" dur="500"/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3.4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舍入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7621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入（原码、补码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52680" y="1523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0010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486400" y="1905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52680" y="2209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0010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486400" y="2514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666880" y="28954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1101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48640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3733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末位恒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原码、补码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29000" y="4495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0010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562720" y="4876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276720" y="5791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1101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29000" y="5149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0010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248520" y="1523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0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248520" y="22096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0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019920" y="2895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1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400800" y="4495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 00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40080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00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562720" y="5486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400800" y="5791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1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5562720" y="6172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40080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00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400800" y="5791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1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1523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尾数：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4495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尾数：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999" dur="indefinite" restart="never" nodeType="tmRoot">
          <p:childTnLst>
            <p:seq>
              <p:cTn id="3000" dur="indefinite" nodeType="mainSeq">
                <p:childTnLst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5" dur="500"/>
                                        <p:tgtEl>
                                          <p:spTgt spid="2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6" dur="500"/>
                                        <p:tgtEl>
                                          <p:spTgt spid="2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1" dur="500"/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6" dur="500"/>
                                        <p:tgtEl>
                                          <p:spTgt spid="2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1" dur="500"/>
                                        <p:tgtEl>
                                          <p:spTgt spid="2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6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500"/>
                            </p:stCondLst>
                            <p:childTnLst>
                              <p:par>
                                <p:cTn id="3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0" dur="500"/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5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6" fill="hold">
                            <p:stCondLst>
                              <p:cond delay="500"/>
                            </p:stCondLst>
                            <p:childTnLst>
                              <p:par>
                                <p:cTn id="3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9" dur="500"/>
                                        <p:tgtEl>
                                          <p:spTgt spid="2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4" dur="5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5" fill="hold">
                            <p:stCondLst>
                              <p:cond delay="500"/>
                            </p:stCondLst>
                            <p:childTnLst>
                              <p:par>
                                <p:cTn id="3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8" dur="500"/>
                                        <p:tgtEl>
                                          <p:spTgt spid="2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9" dur="500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4" dur="500"/>
                                        <p:tgtEl>
                                          <p:spTgt spid="2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9" dur="500"/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4" dur="5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9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500"/>
                            </p:stCondLst>
                            <p:childTnLst>
                              <p:par>
                                <p:cTn id="3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3" dur="500"/>
                                        <p:tgtEl>
                                          <p:spTgt spid="2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fill="hold">
                      <p:stCondLst>
                        <p:cond delay="indefinite"/>
                      </p:stCondLst>
                      <p:childTnLst>
                        <p:par>
                          <p:cTn id="3095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8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2" dur="500"/>
                                        <p:tgtEl>
                                          <p:spTgt spid="2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7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500"/>
                            </p:stCondLst>
                            <p:childTnLst>
                              <p:par>
                                <p:cTn id="3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1" dur="500"/>
                                        <p:tgtEl>
                                          <p:spTgt spid="2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6" dur="500"/>
                                        <p:tgtEl>
                                          <p:spTgt spid="2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0" dur="500"/>
                                        <p:tgtEl>
                                          <p:spTgt spid="2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010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1.2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并行加法器与进位链逻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并行加法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特点：各位同时相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位数相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1760" y="3048120"/>
            <a:ext cx="8534520" cy="1800360"/>
            <a:chOff x="761760" y="3048120"/>
            <a:chExt cx="8534520" cy="1800360"/>
          </a:xfrm>
        </p:grpSpPr>
        <p:sp>
          <p:nvSpPr>
            <p:cNvPr id="249" name=""/>
            <p:cNvSpPr/>
            <p:nvPr/>
          </p:nvSpPr>
          <p:spPr>
            <a:xfrm>
              <a:off x="1295280" y="3429000"/>
              <a:ext cx="99072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19520" y="3429000"/>
              <a:ext cx="99036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3429000"/>
              <a:ext cx="99036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0" y="3429000"/>
              <a:ext cx="990720" cy="533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2640" y="3429000"/>
              <a:ext cx="9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37240" y="3429000"/>
              <a:ext cx="70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68040" y="342900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76080" y="3429000"/>
              <a:ext cx="70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∑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75248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98108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52388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27672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86728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39152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199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5627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5053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0481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54380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8660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2860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0988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8006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2448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84836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6176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197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4267080"/>
              <a:ext cx="761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1880" y="3429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3520" y="5607000"/>
            <a:ext cx="72388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影响速度的主要因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存在着进位信号的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48006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                1                          1         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800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0                0                          0         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00100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6748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304920"/>
            <a:ext cx="8839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并行加法器的进位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进位链的基本逻辑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1814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i  =  Gi + Pi Ci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33720" y="3733920"/>
            <a:ext cx="441936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3429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进位产生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4876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进位传递函数（进位条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5105520"/>
            <a:ext cx="43434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5867280"/>
            <a:ext cx="60984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5867280"/>
            <a:ext cx="121896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362320" y="5943600"/>
            <a:ext cx="761760" cy="3049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5943600"/>
            <a:ext cx="762120" cy="3049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6248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本地进位、绝对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626256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条件进位、传递进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752120" y="3733920"/>
            <a:ext cx="381240" cy="1522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4952880"/>
            <a:ext cx="762120" cy="1526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4267080"/>
            <a:ext cx="6094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4876920"/>
            <a:ext cx="6094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04920" y="990720"/>
            <a:ext cx="6019560" cy="2532600"/>
            <a:chOff x="304920" y="990720"/>
            <a:chExt cx="6019560" cy="2532600"/>
          </a:xfrm>
        </p:grpSpPr>
        <p:sp>
          <p:nvSpPr>
            <p:cNvPr id="308" name=""/>
            <p:cNvSpPr/>
            <p:nvPr/>
          </p:nvSpPr>
          <p:spPr>
            <a:xfrm>
              <a:off x="304920" y="990720"/>
              <a:ext cx="6019560" cy="253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=  Ai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  Ai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i  =  AiBi + (Ai +  Bi)Ci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1280" y="182880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81280" y="251460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04920" y="3809880"/>
            <a:ext cx="7696080" cy="1115640"/>
            <a:chOff x="304920" y="3809880"/>
            <a:chExt cx="7696080" cy="1115640"/>
          </a:xfrm>
        </p:grpSpPr>
        <p:sp>
          <p:nvSpPr>
            <p:cNvPr id="314" name=""/>
            <p:cNvSpPr/>
            <p:nvPr/>
          </p:nvSpPr>
          <p:spPr>
            <a:xfrm>
              <a:off x="304920" y="3809880"/>
              <a:ext cx="7696080" cy="11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Gi  =  AiB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Pi  = Ai +  Bi = Ai +  Bi = Ai + Bi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5680" y="449568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4495680"/>
              <a:ext cx="304920" cy="30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38480" y="4419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4419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228600"/>
            <a:ext cx="883908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串行进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进位信号逐位形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加法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逻辑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438280"/>
            <a:ext cx="50292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5053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44956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结构举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5486400"/>
            <a:ext cx="12193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5638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5486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5486400"/>
            <a:ext cx="121896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5562720"/>
            <a:ext cx="838080" cy="5331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72400" y="5562720"/>
            <a:ext cx="838080" cy="5331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5791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5638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486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372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0100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188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2960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6400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581280" y="5257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52578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52578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57913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6324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2  G2  P2 C1      G1  P1 C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i              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1000" y="5791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01000" y="5638680"/>
            <a:ext cx="30492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6338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  Bi      Ai  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9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228600"/>
            <a:ext cx="914400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习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写出任一进位的串、并、分组逻辑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知操作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初始进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逻辑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串行进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行进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级同时进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5257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2743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3513240"/>
            <a:ext cx="57913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724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257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2743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505320"/>
            <a:ext cx="5791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505320"/>
            <a:ext cx="5791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4724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715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278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6216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228600"/>
            <a:ext cx="5410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1.3  ALU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部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295280" y="1066680"/>
            <a:ext cx="6477120" cy="3810240"/>
            <a:chOff x="1295280" y="1066680"/>
            <a:chExt cx="6477120" cy="3810240"/>
          </a:xfrm>
        </p:grpSpPr>
        <p:sp>
          <p:nvSpPr>
            <p:cNvPr id="376" name=""/>
            <p:cNvSpPr/>
            <p:nvPr/>
          </p:nvSpPr>
          <p:spPr>
            <a:xfrm>
              <a:off x="3276720" y="144792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加法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259092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选择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00600" y="259092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选择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733920" y="2057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181480" y="2057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3623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5812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25780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530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05120" y="365760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黑体"/>
                </a:rPr>
                <a:t>控制信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4280" y="3657600"/>
              <a:ext cx="12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黑体"/>
                </a:rPr>
                <a:t>控制信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71800" y="36576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操作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920" y="36576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操作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3880" y="19810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Times New Roman"/>
                  <a:ea typeface="黑体"/>
                </a:rPr>
                <a:t>输入组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86400" y="19810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Times New Roman"/>
                  <a:ea typeface="黑体"/>
                </a:rPr>
                <a:t>输入组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95280" y="1066680"/>
              <a:ext cx="6477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5280" y="4876920"/>
              <a:ext cx="6477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2400" y="1066680"/>
              <a:ext cx="0" cy="381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1066680"/>
              <a:ext cx="0" cy="381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848720" y="2286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47920" y="4876560"/>
            <a:ext cx="6248160" cy="1752840"/>
            <a:chOff x="1447920" y="4876560"/>
            <a:chExt cx="6248160" cy="1752840"/>
          </a:xfrm>
        </p:grpSpPr>
        <p:sp>
          <p:nvSpPr>
            <p:cNvPr id="397" name=""/>
            <p:cNvSpPr/>
            <p:nvPr/>
          </p:nvSpPr>
          <p:spPr>
            <a:xfrm>
              <a:off x="1752480" y="548640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选择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52880" y="5486400"/>
              <a:ext cx="22860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选择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819520" y="4876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019920" y="4876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6095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733920" y="6095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257800" y="6095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34320" y="6095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09680" y="640080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0080" y="640080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72200" y="4876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操作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47920" y="4876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操作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l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运算器 运算方法</cp:keywords>
  <dc:language>en-US</dc:language>
  <cp:lastModifiedBy/>
  <cp:revision>0</cp:revision>
  <dc:subject/>
  <dc:title/>
</cp:coreProperties>
</file>