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DE7-C00C-4D66-B389-8CF8DFE7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5B1-9258-4804-AED0-4D7B8D9C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7CB-8B05-4A27-A343-D0E1F587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C01-7A14-43F9-AA23-1A0DE2AC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EA62-C2E7-4182-B5D6-909B22B5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FF89-6323-4586-8DE0-918CF28F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3B5F-1E23-46F6-AE31-755FC63B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6335-6E32-455C-9E9B-8539ABC3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D85E-EFEA-47E1-A788-105DB205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08F6-E044-4E2C-9FE8-FB37C257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75B2-1E65-4F26-BDB9-6AD82930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07E-3F98-4D6A-AA18-3ADC6B01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7D2A-BC50-4609-9E72-8187EDE8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FC39-C06E-4B72-8342-C4281998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D1E4-7C9E-44DD-BEC3-1E43F922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5447-83C8-4FEE-AB5D-E608C5D3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776C-AAAC-4A71-B181-191E3F41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D10-E682-49E9-8F88-460B6094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80A-399E-4832-8A64-60794612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B719-B42F-4CAD-807D-504D5D8A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802-E53B-4D85-8685-19AFBAFD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5A1A-1089-4207-B216-B0182FB5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D10-E907-4B67-90FB-6DADB710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BBA-23DB-4523-9CF0-E403E6E4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9A2A-0AB6-4314-80BD-A4368ED5D82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895F-0268-434F-9ED9-E87022D24BE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114300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文鼎CS魏碑"/>
                <a:ea typeface="楷体_GB2312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文鼎CS魏碑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文鼎CS魏碑"/>
                <a:ea typeface="楷体_GB2312"/>
              </a:rPr>
              <a:t>有效数字及运算法则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55760" y="6093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98560" y="304920"/>
            <a:ext cx="728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当物体长度在</a:t>
            </a:r>
            <a:r>
              <a:rPr b="1" lang="zh-CN" sz="4400" spc="-1" strike="noStrike">
                <a:solidFill>
                  <a:srgbClr val="66ffcc"/>
                </a:solidFill>
                <a:latin typeface="隶书"/>
                <a:ea typeface="隶书"/>
              </a:rPr>
              <a:t>24</a:t>
            </a:r>
            <a:r>
              <a:rPr b="1" lang="zh-CN" sz="4400" spc="-1" strike="noStrike">
                <a:solidFill>
                  <a:srgbClr val="66ffcc"/>
                </a:solidFill>
                <a:latin typeface="隶书"/>
                <a:ea typeface="隶书"/>
              </a:rPr>
              <a:t>㎜</a:t>
            </a:r>
            <a:r>
              <a:rPr b="1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与</a:t>
            </a:r>
            <a:r>
              <a:rPr b="1" lang="zh-CN" sz="4400" spc="-1" strike="noStrike">
                <a:solidFill>
                  <a:srgbClr val="66ffcc"/>
                </a:solidFill>
                <a:latin typeface="隶书"/>
                <a:ea typeface="隶书"/>
              </a:rPr>
              <a:t>25</a:t>
            </a:r>
            <a:r>
              <a:rPr b="1" lang="zh-CN" sz="4400" spc="-1" strike="noStrike">
                <a:solidFill>
                  <a:srgbClr val="66ffcc"/>
                </a:solidFill>
                <a:latin typeface="隶书"/>
                <a:ea typeface="隶书"/>
              </a:rPr>
              <a:t>㎜</a:t>
            </a:r>
            <a:r>
              <a:rPr b="1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之间时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            </a:t>
            </a:r>
            <a:r>
              <a:rPr b="1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读数为</a:t>
            </a:r>
            <a:r>
              <a:rPr b="1" lang="zh-CN" sz="4400" spc="-1" strike="noStrike">
                <a:solidFill>
                  <a:srgbClr val="66ffcc"/>
                </a:solidFill>
                <a:latin typeface="隶书"/>
                <a:ea typeface="隶书"/>
              </a:rPr>
              <a:t>24.*</a:t>
            </a:r>
            <a:r>
              <a:rPr b="1" lang="zh-CN" sz="4400" spc="-1" strike="noStrike">
                <a:solidFill>
                  <a:srgbClr val="66ffcc"/>
                </a:solidFill>
                <a:latin typeface="隶书"/>
                <a:ea typeface="隶书"/>
              </a:rPr>
              <a:t>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36000" y="5715000"/>
            <a:ext cx="675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当读数正好为</a:t>
            </a:r>
            <a:r>
              <a:rPr b="1" lang="zh-CN" sz="4400" spc="-1" strike="noStrike">
                <a:solidFill>
                  <a:srgbClr val="66ffcc"/>
                </a:solidFill>
                <a:latin typeface="隶书"/>
                <a:ea typeface="隶书"/>
              </a:rPr>
              <a:t>24</a:t>
            </a:r>
            <a:r>
              <a:rPr b="1" lang="zh-CN" sz="4400" spc="-1" strike="noStrike">
                <a:solidFill>
                  <a:srgbClr val="66ffcc"/>
                </a:solidFill>
                <a:latin typeface="隶书"/>
                <a:ea typeface="隶书"/>
              </a:rPr>
              <a:t>㎜</a:t>
            </a:r>
            <a:r>
              <a:rPr b="1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时读数为</a:t>
            </a:r>
            <a:r>
              <a:rPr b="1" lang="zh-CN" sz="4400" spc="-1" strike="noStrike">
                <a:solidFill>
                  <a:srgbClr val="66ffcc"/>
                </a:solidFill>
                <a:latin typeface="隶书"/>
                <a:ea typeface="隶书"/>
              </a:rPr>
              <a:t>24.0</a:t>
            </a:r>
            <a:r>
              <a:rPr b="1" lang="zh-CN" sz="4400" spc="-1" strike="noStrike">
                <a:solidFill>
                  <a:srgbClr val="66ffcc"/>
                </a:solidFill>
                <a:latin typeface="隶书"/>
                <a:ea typeface="隶书"/>
              </a:rPr>
              <a:t>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48840" y="1981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被测物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380880"/>
            <a:ext cx="1120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ccff"/>
                </a:solidFill>
                <a:latin typeface="幼圆"/>
                <a:ea typeface="幼圆"/>
              </a:rPr>
              <a:t>三、直接测量有效数字的确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ccff"/>
                </a:solidFill>
                <a:latin typeface="幼圆"/>
                <a:ea typeface="幼圆"/>
              </a:rPr>
              <a:t>         ——</a:t>
            </a:r>
            <a:r>
              <a:rPr b="1" lang="zh-CN" sz="4800" spc="-1" strike="noStrike">
                <a:solidFill>
                  <a:srgbClr val="ccccff"/>
                </a:solidFill>
                <a:latin typeface="幼圆"/>
                <a:ea typeface="幼圆"/>
              </a:rPr>
              <a:t>如何读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267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用米尺测长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3429000"/>
            <a:ext cx="838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7f76f0"/>
                  </a:solidFill>
                  <a:miter/>
                </a:ln>
                <a:solidFill>
                  <a:srgbClr val="7f76f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例：</a:t>
            </a:r>
            <a:endParaRPr b="0" lang="en-US" sz="1800" spc="1" strike="noStrike">
              <a:ln w="9360">
                <a:solidFill>
                  <a:srgbClr val="7f76f0"/>
                </a:solidFill>
                <a:miter/>
              </a:ln>
              <a:solidFill>
                <a:srgbClr val="7f76f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5257800"/>
            <a:ext cx="84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用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0.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级量程为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00mA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电流表测电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86840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4366a"/>
                </a:solidFill>
                <a:latin typeface="楷体_GB2312"/>
                <a:ea typeface="楷体_GB2312"/>
              </a:rPr>
              <a:t>读数的一般规则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4366a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74366a"/>
                </a:solidFill>
                <a:latin typeface="楷体_GB2312"/>
                <a:ea typeface="楷体_GB2312"/>
              </a:rPr>
              <a:t>读至仪器误差所在的位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2438280"/>
            <a:ext cx="7704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△</a:t>
            </a:r>
            <a:r>
              <a:rPr b="1" i="1" lang="zh-CN" sz="4800" spc="-1" strike="noStrike" baseline="-25000">
                <a:solidFill>
                  <a:srgbClr val="cc0000"/>
                </a:solidFill>
                <a:latin typeface="仿宋_GB2312"/>
                <a:ea typeface="仿宋_GB2312"/>
              </a:rPr>
              <a:t>仪</a:t>
            </a:r>
            <a:r>
              <a:rPr b="1" i="1" lang="zh-CN" sz="4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= 100mA×0.1% = 0.1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7640" y="3657600"/>
            <a:ext cx="81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隶书"/>
                <a:ea typeface="隶书"/>
              </a:rPr>
              <a:t>指针在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82mA</a:t>
            </a:r>
            <a:r>
              <a:rPr b="1" lang="zh-CN" sz="4000" spc="-1" strike="noStrike">
                <a:solidFill>
                  <a:srgbClr val="ccccff"/>
                </a:solidFill>
                <a:latin typeface="隶书"/>
                <a:ea typeface="隶书"/>
              </a:rPr>
              <a:t>与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83mA</a:t>
            </a:r>
            <a:r>
              <a:rPr b="1" lang="zh-CN" sz="4000" spc="-1" strike="noStrike">
                <a:solidFill>
                  <a:srgbClr val="ccccff"/>
                </a:solidFill>
                <a:latin typeface="隶书"/>
                <a:ea typeface="隶书"/>
              </a:rPr>
              <a:t>之间：读为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82.* 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4520" y="472428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隶书"/>
                <a:ea typeface="隶书"/>
              </a:rPr>
              <a:t>指针正好在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82mA</a:t>
            </a:r>
            <a:r>
              <a:rPr b="1" lang="zh-CN" sz="4000" spc="-1" strike="noStrike">
                <a:solidFill>
                  <a:srgbClr val="ccccff"/>
                </a:solidFill>
                <a:latin typeface="隶书"/>
                <a:ea typeface="隶书"/>
              </a:rPr>
              <a:t>上：读为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82.0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74240" y="1676520"/>
            <a:ext cx="25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8000"/>
                </a:solidFill>
                <a:latin typeface="Times New Roman"/>
              </a:rPr>
              <a:t>对于</a:t>
            </a:r>
            <a:r>
              <a:rPr b="1" i="1" lang="zh-CN" sz="4000" spc="-1" strike="noStrike">
                <a:solidFill>
                  <a:srgbClr val="cc0000"/>
                </a:solidFill>
                <a:latin typeface="Times New Roman"/>
              </a:rPr>
              <a:t>0.1</a:t>
            </a:r>
            <a:r>
              <a:rPr b="1" i="1" lang="zh-CN" sz="4000" spc="-1" strike="noStrike">
                <a:solidFill>
                  <a:srgbClr val="008000"/>
                </a:solidFill>
                <a:latin typeface="Times New Roman"/>
              </a:rPr>
              <a:t>级表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5720" y="2286000"/>
            <a:ext cx="59335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00"/>
                </a:solidFill>
                <a:latin typeface="Times New Roman"/>
              </a:rPr>
              <a:t>△</a:t>
            </a:r>
            <a:r>
              <a:rPr b="1" i="1" lang="zh-CN" sz="4400" spc="-1" strike="noStrike" baseline="-25000">
                <a:solidFill>
                  <a:srgbClr val="cc0000"/>
                </a:solidFill>
                <a:latin typeface="Times New Roman"/>
              </a:rPr>
              <a:t>仪</a:t>
            </a:r>
            <a:r>
              <a:rPr b="1" i="1" lang="zh-CN" sz="4400" spc="-1" strike="noStrike">
                <a:solidFill>
                  <a:srgbClr val="cc0000"/>
                </a:solidFill>
                <a:latin typeface="Times New Roman"/>
              </a:rPr>
              <a:t>=100mA×1.0%=1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8960" y="1447920"/>
            <a:ext cx="249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8000"/>
                </a:solidFill>
                <a:latin typeface="Times New Roman"/>
              </a:rPr>
              <a:t>对于</a:t>
            </a:r>
            <a:r>
              <a:rPr b="1" i="1" lang="zh-CN" sz="4400" spc="-1" strike="noStrike">
                <a:solidFill>
                  <a:srgbClr val="cc0000"/>
                </a:solidFill>
                <a:latin typeface="Times New Roman"/>
              </a:rPr>
              <a:t>1.0</a:t>
            </a:r>
            <a:r>
              <a:rPr b="1" i="1" lang="zh-CN" sz="4400" spc="-1" strike="noStrike">
                <a:solidFill>
                  <a:srgbClr val="008000"/>
                </a:solidFill>
                <a:latin typeface="Times New Roman"/>
              </a:rPr>
              <a:t>级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50840" y="3044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1800" y="3200400"/>
            <a:ext cx="754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隶书"/>
                <a:ea typeface="隶书"/>
              </a:rPr>
              <a:t>指针在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82mA</a:t>
            </a:r>
            <a:r>
              <a:rPr b="1" lang="zh-CN" sz="4000" spc="-1" strike="noStrike">
                <a:solidFill>
                  <a:srgbClr val="ccccff"/>
                </a:solidFill>
                <a:latin typeface="隶书"/>
                <a:ea typeface="隶书"/>
              </a:rPr>
              <a:t>与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84mA</a:t>
            </a:r>
            <a:r>
              <a:rPr b="1" lang="zh-CN" sz="4000" spc="-1" strike="noStrike">
                <a:solidFill>
                  <a:srgbClr val="ccccff"/>
                </a:solidFill>
                <a:latin typeface="隶书"/>
                <a:ea typeface="隶书"/>
              </a:rPr>
              <a:t>之间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ccccff"/>
                </a:solidFill>
                <a:latin typeface="隶书"/>
                <a:ea typeface="隶书"/>
              </a:rPr>
              <a:t>可读为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82mA</a:t>
            </a:r>
            <a:r>
              <a:rPr b="1" lang="zh-CN" sz="4000" spc="-1" strike="noStrike">
                <a:solidFill>
                  <a:srgbClr val="ccccff"/>
                </a:solidFill>
                <a:latin typeface="隶书"/>
                <a:ea typeface="隶书"/>
              </a:rPr>
              <a:t>、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83mA</a:t>
            </a:r>
            <a:r>
              <a:rPr b="1" lang="zh-CN" sz="4000" spc="-1" strike="noStrike">
                <a:solidFill>
                  <a:srgbClr val="ccccff"/>
                </a:solidFill>
                <a:latin typeface="隶书"/>
                <a:ea typeface="隶书"/>
              </a:rPr>
              <a:t>或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84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27800" y="4648320"/>
            <a:ext cx="57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隶书"/>
                <a:ea typeface="隶书"/>
              </a:rPr>
              <a:t>指针正好在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82mA</a:t>
            </a:r>
            <a:r>
              <a:rPr b="1" lang="zh-CN" sz="4000" spc="-1" strike="noStrike">
                <a:solidFill>
                  <a:srgbClr val="ccccff"/>
                </a:solidFill>
                <a:latin typeface="隶书"/>
                <a:ea typeface="隶书"/>
              </a:rPr>
              <a:t>上：读为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82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5960" y="22860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ccff"/>
                </a:solidFill>
                <a:latin typeface="Times New Roman"/>
                <a:ea typeface="文鼎CS魏碑"/>
              </a:rPr>
              <a:t>例 </a:t>
            </a:r>
            <a:r>
              <a:rPr b="1" i="1" lang="zh-CN" sz="5400" spc="-1" strike="noStrike">
                <a:solidFill>
                  <a:srgbClr val="ccccff"/>
                </a:solidFill>
                <a:latin typeface="Times New Roman"/>
                <a:ea typeface="文鼎CS魏碑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2920" y="1143000"/>
            <a:ext cx="862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maze"/>
              </a:rPr>
              <a:t>62 . 5 + 1. 234 = 63 . 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286000"/>
            <a:ext cx="4724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zh-CN" sz="6600" spc="-1" strike="noStrike">
                <a:solidFill>
                  <a:srgbClr val="ffffff"/>
                </a:solidFill>
                <a:latin typeface="Amaze"/>
                <a:ea typeface="文鼎CS魏碑"/>
              </a:rPr>
              <a:t>62.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maze"/>
                <a:ea typeface="文鼎CS魏碑"/>
              </a:rPr>
              <a:t>+     1.23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962520"/>
            <a:ext cx="48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maze"/>
                <a:ea typeface="文鼎CS魏碑"/>
              </a:rPr>
              <a:t>—————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40200" y="4876920"/>
            <a:ext cx="282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maze"/>
                <a:ea typeface="文鼎CS魏碑"/>
              </a:rPr>
              <a:t>63.73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7621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18280" y="987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68580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13760" y="987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68580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98960" y="251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182880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01000" y="53341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28195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44197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46680" y="4797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44197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82600" y="5562720"/>
            <a:ext cx="319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ccff"/>
                </a:solidFill>
                <a:latin typeface="Times New Roman"/>
                <a:ea typeface="文鼎CS魏碑"/>
              </a:rPr>
              <a:t>结果为 </a:t>
            </a:r>
            <a:r>
              <a:rPr b="1" i="1" lang="zh-CN" sz="5400" spc="-1" strike="noStrike">
                <a:solidFill>
                  <a:srgbClr val="ccccff"/>
                </a:solidFill>
                <a:latin typeface="Times New Roman"/>
                <a:ea typeface="文鼎CS魏碑"/>
              </a:rPr>
              <a:t>63.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51055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5960" y="22860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ccff"/>
                </a:solidFill>
                <a:latin typeface="Times New Roman"/>
                <a:ea typeface="文鼎CS魏碑"/>
              </a:rPr>
              <a:t>例 </a:t>
            </a:r>
            <a:r>
              <a:rPr b="1" i="1" lang="zh-CN" sz="5400" spc="-1" strike="noStrike">
                <a:solidFill>
                  <a:srgbClr val="ccccff"/>
                </a:solidFill>
                <a:latin typeface="Times New Roman"/>
                <a:ea typeface="文鼎CS魏碑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6280" y="1143000"/>
            <a:ext cx="793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maze"/>
              </a:rPr>
              <a:t>63 . 7 - 5. 43 = 58 . 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286000"/>
            <a:ext cx="4724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6600" spc="-1" strike="noStrike">
                <a:solidFill>
                  <a:srgbClr val="ffffff"/>
                </a:solidFill>
                <a:latin typeface="Amaze"/>
                <a:ea typeface="文鼎CS魏碑"/>
              </a:rPr>
              <a:t>63. 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maze"/>
                <a:ea typeface="文鼎CS魏碑"/>
              </a:rPr>
              <a:t>  </a:t>
            </a:r>
            <a:r>
              <a:rPr b="1" lang="zh-CN" sz="6600" spc="-1" strike="noStrike">
                <a:solidFill>
                  <a:srgbClr val="ffffff"/>
                </a:solidFill>
                <a:latin typeface="Amaze"/>
                <a:ea typeface="文鼎CS魏碑"/>
              </a:rPr>
              <a:t>-    5. 4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962520"/>
            <a:ext cx="48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maze"/>
                <a:ea typeface="文鼎CS魏碑"/>
              </a:rPr>
              <a:t>—————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29200" y="4876920"/>
            <a:ext cx="255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maze"/>
                <a:ea typeface="文鼎CS魏碑"/>
              </a:rPr>
              <a:t>58. 2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68580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18280" y="987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68580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13760" y="987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68580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98960" y="251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182880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53341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28954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44197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46680" y="4797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44197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2600" y="5562720"/>
            <a:ext cx="319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ccff"/>
                </a:solidFill>
                <a:latin typeface="Times New Roman"/>
                <a:ea typeface="文鼎CS魏碑"/>
              </a:rPr>
              <a:t>结果为 </a:t>
            </a:r>
            <a:r>
              <a:rPr b="1" i="1" lang="zh-CN" sz="5400" spc="-1" strike="noStrike">
                <a:solidFill>
                  <a:srgbClr val="ccccff"/>
                </a:solidFill>
                <a:latin typeface="Times New Roman"/>
                <a:ea typeface="文鼎CS魏碑"/>
              </a:rPr>
              <a:t>58.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51055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10666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600" y="304920"/>
            <a:ext cx="762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7f76f0"/>
                  </a:solidFill>
                  <a:miter/>
                </a:ln>
                <a:solidFill>
                  <a:srgbClr val="7f76f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例</a:t>
            </a:r>
            <a:r>
              <a:rPr b="0" lang="en-US" sz="1800" spc="1" strike="noStrike">
                <a:ln w="9360">
                  <a:solidFill>
                    <a:srgbClr val="7f76f0"/>
                  </a:solidFill>
                  <a:miter/>
                </a:ln>
                <a:solidFill>
                  <a:srgbClr val="7f76f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r>
              <a:rPr b="0" lang="zh-CN" sz="1800" spc="1" strike="noStrike">
                <a:ln w="9360">
                  <a:solidFill>
                    <a:srgbClr val="7f76f0"/>
                  </a:solidFill>
                  <a:miter/>
                </a:ln>
                <a:solidFill>
                  <a:srgbClr val="7f76f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：</a:t>
            </a:r>
            <a:endParaRPr b="0" lang="en-US" sz="1800" spc="1" strike="noStrike">
              <a:ln w="9360">
                <a:solidFill>
                  <a:srgbClr val="7f76f0"/>
                </a:solidFill>
                <a:miter/>
              </a:ln>
              <a:solidFill>
                <a:srgbClr val="7f76f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219320" y="304920"/>
                <a:ext cx="2844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191120" y="2286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其中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066680" y="762120"/>
                <a:ext cx="738684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4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990720" y="13716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试确定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有效数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752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ccff"/>
                </a:solidFill>
                <a:latin typeface="Times New Roman"/>
              </a:rPr>
              <a:t>解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8288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求出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不确定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257800" y="1752480"/>
                <a:ext cx="685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905120" y="2438280"/>
                <a:ext cx="6629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80880" y="396252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447920" y="3962520"/>
                <a:ext cx="73501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4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4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380880" y="4648320"/>
            <a:ext cx="1112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用误差（估计误差范围的不确定度）决定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结果的有效数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5120" y="5867280"/>
                <a:ext cx="4114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410080" y="228600"/>
                <a:ext cx="29718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666880" y="3276720"/>
                <a:ext cx="495324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5960" y="22860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ccff"/>
                </a:solidFill>
                <a:latin typeface="Times New Roman"/>
                <a:ea typeface="文鼎CS魏碑"/>
              </a:rPr>
              <a:t>例 </a:t>
            </a:r>
            <a:r>
              <a:rPr b="1" i="1" lang="zh-CN" sz="5400" spc="-1" strike="noStrike">
                <a:solidFill>
                  <a:srgbClr val="ccccff"/>
                </a:solidFill>
                <a:latin typeface="Times New Roman"/>
                <a:ea typeface="文鼎CS魏碑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228600"/>
            <a:ext cx="6476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maze"/>
              </a:rPr>
              <a:t>3.21 </a:t>
            </a:r>
            <a:r>
              <a:rPr b="1" lang="zh-CN" sz="6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zh-CN" sz="6600" spc="-1" strike="noStrike">
                <a:solidFill>
                  <a:srgbClr val="ffffff"/>
                </a:solidFill>
                <a:latin typeface="Amaze"/>
              </a:rPr>
              <a:t> 6.5 = 2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295280"/>
            <a:ext cx="4724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6600" spc="-1" strike="noStrike">
                <a:solidFill>
                  <a:srgbClr val="ffffff"/>
                </a:solidFill>
                <a:latin typeface="Amaze"/>
                <a:ea typeface="文鼎CS魏碑"/>
              </a:rPr>
              <a:t>3.2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zh-CN" sz="6600" spc="-1" strike="noStrike">
                <a:solidFill>
                  <a:srgbClr val="ffffff"/>
                </a:solidFill>
                <a:latin typeface="Amaze"/>
                <a:ea typeface="文鼎CS魏碑"/>
              </a:rPr>
              <a:t>     </a:t>
            </a:r>
            <a:r>
              <a:rPr b="1" lang="zh-CN" sz="6600" spc="-1" strike="noStrike">
                <a:solidFill>
                  <a:srgbClr val="ffffff"/>
                </a:solidFill>
                <a:latin typeface="Amaze"/>
                <a:ea typeface="文鼎CS魏碑"/>
              </a:rPr>
              <a:t>6.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281952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maze"/>
                <a:ea typeface="文鼎CS魏碑"/>
              </a:rPr>
              <a:t>—————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24000" y="3581280"/>
            <a:ext cx="253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maze"/>
                <a:ea typeface="文鼎CS魏碑"/>
              </a:rPr>
              <a:t>  </a:t>
            </a:r>
            <a:r>
              <a:rPr b="1" lang="zh-CN" sz="6600" spc="-1" strike="noStrike">
                <a:solidFill>
                  <a:srgbClr val="ffffff"/>
                </a:solidFill>
                <a:latin typeface="Amaze"/>
                <a:ea typeface="文鼎CS魏碑"/>
              </a:rPr>
              <a:t>160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-22860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18280" y="987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-22860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13760" y="987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-22860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98960" y="251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91440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001000" y="53341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31240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6680" y="4797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21040" y="5410080"/>
            <a:ext cx="26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ccff"/>
                </a:solidFill>
                <a:latin typeface="Times New Roman"/>
                <a:ea typeface="文鼎CS魏碑"/>
              </a:rPr>
              <a:t>结果为 </a:t>
            </a:r>
            <a:r>
              <a:rPr b="1" i="1" lang="zh-CN" sz="5400" spc="-1" strike="noStrike">
                <a:solidFill>
                  <a:srgbClr val="ccccff"/>
                </a:solidFill>
                <a:latin typeface="Times New Roman"/>
                <a:ea typeface="文鼎CS魏碑"/>
              </a:rPr>
              <a:t>2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001000" y="49528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71160" y="3124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66800" y="4419720"/>
            <a:ext cx="253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maze"/>
                <a:ea typeface="文鼎CS魏碑"/>
              </a:rPr>
              <a:t>  </a:t>
            </a:r>
            <a:r>
              <a:rPr b="1" lang="zh-CN" sz="6600" spc="-1" strike="noStrike">
                <a:solidFill>
                  <a:srgbClr val="ffffff"/>
                </a:solidFill>
                <a:latin typeface="Amaze"/>
                <a:ea typeface="文鼎CS魏碑"/>
              </a:rPr>
              <a:t>192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37080" y="5029200"/>
            <a:ext cx="399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maze"/>
                <a:ea typeface="文鼎CS魏碑"/>
              </a:rPr>
              <a:t>—————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25840" y="5759280"/>
            <a:ext cx="303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maze"/>
                <a:ea typeface="文鼎CS魏碑"/>
              </a:rPr>
              <a:t> </a:t>
            </a:r>
            <a:r>
              <a:rPr b="1" lang="zh-CN" sz="6600" spc="-1" strike="noStrike">
                <a:solidFill>
                  <a:srgbClr val="ffffff"/>
                </a:solidFill>
                <a:latin typeface="Amaze"/>
                <a:ea typeface="文鼎CS魏碑"/>
              </a:rPr>
              <a:t>20.86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3960" y="3124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38480" y="31240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61320" y="5334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47120" y="5334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37840" y="5334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04320" y="5334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99760" y="3962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badi MT Condensed"/>
                <a:ea typeface="文鼎CS魏碑"/>
              </a:rPr>
              <a:t>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04920" y="304920"/>
            <a:ext cx="7617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7f76f0"/>
                  </a:solidFill>
                  <a:miter/>
                </a:ln>
                <a:solidFill>
                  <a:srgbClr val="7f76f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例</a:t>
            </a:r>
            <a:r>
              <a:rPr b="0" lang="en-US" sz="1800" spc="1" strike="noStrike">
                <a:ln w="9360">
                  <a:solidFill>
                    <a:srgbClr val="7f76f0"/>
                  </a:solidFill>
                  <a:miter/>
                </a:ln>
                <a:solidFill>
                  <a:srgbClr val="7f76f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r>
              <a:rPr b="0" lang="zh-CN" sz="1800" spc="1" strike="noStrike">
                <a:ln w="9360">
                  <a:solidFill>
                    <a:srgbClr val="7f76f0"/>
                  </a:solidFill>
                  <a:miter/>
                </a:ln>
                <a:solidFill>
                  <a:srgbClr val="7f76f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：</a:t>
            </a:r>
            <a:endParaRPr b="0" lang="en-US" sz="1800" spc="1" strike="noStrike">
              <a:ln w="9360">
                <a:solidFill>
                  <a:srgbClr val="7f76f0"/>
                </a:solidFill>
                <a:miter/>
              </a:ln>
              <a:solidFill>
                <a:srgbClr val="7f76f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905120" y="304920"/>
                <a:ext cx="18493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4191120" y="228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其中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80880" y="914400"/>
                <a:ext cx="8404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3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4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57200" y="1447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试确定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有效数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819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计算不确定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648320" y="2895480"/>
                <a:ext cx="5490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09480" y="3505320"/>
                <a:ext cx="759168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4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4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1066680" y="2133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先计算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21240" y="1994040"/>
                <a:ext cx="34272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7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76320" y="525780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根据误差（不确定度）决定有效数字，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238480" y="6095880"/>
                <a:ext cx="2746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867040" y="4508640"/>
                <a:ext cx="31035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514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结果的有效数字与其底或被开方数的有效数字位数相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7524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ccff"/>
                </a:solidFill>
                <a:latin typeface="宋体"/>
              </a:rPr>
              <a:t>如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5562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</a:rPr>
              <a:t>错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86600" y="4038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</a:rPr>
              <a:t>正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7960" y="4525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宋体"/>
              </a:rPr>
              <a:t>运算规则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74880" y="1830240"/>
            <a:ext cx="42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100</a:t>
            </a:r>
            <a:r>
              <a:rPr b="1" lang="zh-CN" sz="4800" spc="-1" strike="noStrike" baseline="30000">
                <a:solidFill>
                  <a:srgbClr val="ffffff"/>
                </a:solidFill>
                <a:latin typeface="Amaze"/>
                <a:ea typeface="文鼎CS魏碑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=100</a:t>
            </a:r>
            <a:r>
              <a:rPr b="1" lang="zh-CN" sz="4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zh-CN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10</a:t>
            </a:r>
            <a:r>
              <a:rPr b="1" lang="zh-CN" sz="4800" spc="-1" strike="noStrike" baseline="30000">
                <a:solidFill>
                  <a:srgbClr val="ffffff"/>
                </a:solidFill>
                <a:latin typeface="Amaze"/>
                <a:ea typeface="文鼎CS魏碑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64240" y="2819520"/>
            <a:ext cx="5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26840" y="2209680"/>
            <a:ext cx="84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69800" y="2819520"/>
            <a:ext cx="279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100=10.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40360" y="3962520"/>
            <a:ext cx="5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6320" y="5410080"/>
            <a:ext cx="5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86040" y="3505320"/>
            <a:ext cx="72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2360" y="5027760"/>
            <a:ext cx="72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74800" y="403848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49 = 7.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06560" y="54864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49 = 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0760" y="3962520"/>
            <a:ext cx="23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4.0</a:t>
            </a:r>
            <a:r>
              <a:rPr b="1" lang="zh-CN" sz="4800" spc="-1" strike="noStrike" baseline="30000">
                <a:solidFill>
                  <a:srgbClr val="ffffff"/>
                </a:solidFill>
                <a:latin typeface="Amaze"/>
                <a:ea typeface="文鼎CS魏碑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=1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79000" y="5486400"/>
            <a:ext cx="282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4.0</a:t>
            </a:r>
            <a:r>
              <a:rPr b="1" lang="zh-CN" sz="4800" spc="-1" strike="noStrike" baseline="30000">
                <a:solidFill>
                  <a:srgbClr val="ffffff"/>
                </a:solidFill>
                <a:latin typeface="Amaze"/>
                <a:ea typeface="文鼎CS魏碑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=16.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18288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宋体"/>
              </a:rPr>
              <a:t>定义：在测量结果的数字表示中，由若干位可靠数字加一位可疑数字，便组成了有效数字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宋体"/>
              </a:rPr>
              <a:t>上述例子中的测量结果均为三位有效数字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98280" y="479520"/>
            <a:ext cx="167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ccff"/>
                </a:solidFill>
                <a:latin typeface="幼圆"/>
                <a:ea typeface="幼圆"/>
              </a:rPr>
              <a:t>一、有效数字的一般概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042920" y="555480"/>
            <a:ext cx="21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对数函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93040" y="1447920"/>
            <a:ext cx="526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宋体"/>
                <a:ea typeface="宋体"/>
              </a:rPr>
              <a:t>lgx</a:t>
            </a:r>
            <a:r>
              <a:rPr b="1" lang="zh-CN" sz="4000" spc="-1" strike="noStrike">
                <a:solidFill>
                  <a:srgbClr val="ccccff"/>
                </a:solidFill>
                <a:latin typeface="宋体"/>
                <a:ea typeface="宋体"/>
              </a:rPr>
              <a:t>的尾数与</a:t>
            </a:r>
            <a:r>
              <a:rPr b="1" lang="zh-CN" sz="4000" spc="-1" strike="noStrike">
                <a:solidFill>
                  <a:srgbClr val="ccccff"/>
                </a:solidFill>
                <a:latin typeface="宋体"/>
                <a:ea typeface="宋体"/>
              </a:rPr>
              <a:t>x</a:t>
            </a:r>
            <a:r>
              <a:rPr b="1" lang="zh-CN" sz="4000" spc="-1" strike="noStrike">
                <a:solidFill>
                  <a:srgbClr val="ccccff"/>
                </a:solidFill>
                <a:latin typeface="宋体"/>
                <a:ea typeface="宋体"/>
              </a:rPr>
              <a:t>的位数相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7680" y="30448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1200" y="2666880"/>
            <a:ext cx="10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ccff"/>
                </a:solidFill>
                <a:latin typeface="Times New Roman"/>
              </a:rPr>
              <a:t>例 </a:t>
            </a:r>
            <a:r>
              <a:rPr b="1" i="1" lang="zh-CN" sz="4400" spc="-1" strike="noStrike">
                <a:solidFill>
                  <a:srgbClr val="ccccff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59720" y="2590920"/>
            <a:ext cx="41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lg 100 = 2.0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3352680"/>
            <a:ext cx="876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lg 1.983 = 0.29732271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               </a:t>
            </a:r>
            <a:r>
              <a:rPr b="1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0.297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31640" y="4876920"/>
            <a:ext cx="628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lg 1983 = 3.2973271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             </a:t>
            </a:r>
            <a:r>
              <a:rPr b="1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maze"/>
                <a:ea typeface="文鼎CS魏碑"/>
              </a:rPr>
              <a:t>3.297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4572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990099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990099"/>
                </a:solidFill>
                <a:latin typeface="宋体"/>
              </a:rPr>
              <a:t>指数函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295280"/>
            <a:ext cx="784872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宋体"/>
                <a:ea typeface="宋体"/>
              </a:rPr>
              <a:t>10</a:t>
            </a:r>
            <a:r>
              <a:rPr b="1" lang="zh-CN" sz="4000" spc="-1" strike="noStrike" baseline="30000">
                <a:solidFill>
                  <a:srgbClr val="ccccff"/>
                </a:solidFill>
                <a:latin typeface="宋体"/>
                <a:ea typeface="宋体"/>
              </a:rPr>
              <a:t>x</a:t>
            </a:r>
            <a:r>
              <a:rPr b="1" lang="zh-CN" sz="4000" spc="-1" strike="noStrike">
                <a:solidFill>
                  <a:srgbClr val="ccccff"/>
                </a:solidFill>
                <a:latin typeface="宋体"/>
                <a:ea typeface="宋体"/>
              </a:rPr>
              <a:t>或</a:t>
            </a:r>
            <a:r>
              <a:rPr b="1" lang="zh-CN" sz="4000" spc="-1" strike="noStrike">
                <a:solidFill>
                  <a:srgbClr val="ccccff"/>
                </a:solidFill>
                <a:latin typeface="宋体"/>
                <a:ea typeface="宋体"/>
              </a:rPr>
              <a:t>e</a:t>
            </a:r>
            <a:r>
              <a:rPr b="1" lang="zh-CN" sz="4000" spc="-1" strike="noStrike" baseline="30000">
                <a:solidFill>
                  <a:srgbClr val="ccccff"/>
                </a:solidFill>
                <a:latin typeface="宋体"/>
                <a:ea typeface="宋体"/>
              </a:rPr>
              <a:t>x</a:t>
            </a:r>
            <a:r>
              <a:rPr b="1" lang="zh-CN" sz="4000" spc="-1" strike="noStrike">
                <a:solidFill>
                  <a:srgbClr val="ccccff"/>
                </a:solidFill>
                <a:latin typeface="宋体"/>
                <a:ea typeface="宋体"/>
              </a:rPr>
              <a:t>的位数和</a:t>
            </a:r>
            <a:r>
              <a:rPr b="1" lang="zh-CN" sz="4000" spc="-1" strike="noStrike">
                <a:solidFill>
                  <a:srgbClr val="ccccff"/>
                </a:solidFill>
                <a:latin typeface="宋体"/>
                <a:ea typeface="宋体"/>
              </a:rPr>
              <a:t>x</a:t>
            </a:r>
            <a:r>
              <a:rPr b="1" lang="zh-CN" sz="4000" spc="-1" strike="noStrike">
                <a:solidFill>
                  <a:srgbClr val="ccccff"/>
                </a:solidFill>
                <a:latin typeface="宋体"/>
                <a:ea typeface="宋体"/>
              </a:rPr>
              <a:t>小数点后的位数相同（包括紧接小数点后面的</a:t>
            </a:r>
            <a:r>
              <a:rPr b="1" lang="zh-CN" sz="4000" spc="-1" strike="noStrike">
                <a:solidFill>
                  <a:srgbClr val="ccccff"/>
                </a:solidFill>
                <a:latin typeface="宋体"/>
                <a:ea typeface="宋体"/>
              </a:rPr>
              <a:t>0</a:t>
            </a:r>
            <a:r>
              <a:rPr b="1" lang="zh-CN" sz="3600" spc="-1" strike="noStrike">
                <a:solidFill>
                  <a:srgbClr val="ccccff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1480" y="3429000"/>
            <a:ext cx="11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ccff"/>
                </a:solidFill>
                <a:latin typeface="Times New Roman"/>
              </a:rPr>
              <a:t>例 </a:t>
            </a:r>
            <a:r>
              <a:rPr b="1" i="1" lang="zh-CN" sz="4800" spc="-1" strike="noStrike">
                <a:solidFill>
                  <a:srgbClr val="ccccff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30240" y="4419720"/>
            <a:ext cx="913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maze"/>
                <a:ea typeface="文鼎CS魏碑"/>
              </a:rPr>
              <a:t>10</a:t>
            </a:r>
            <a:r>
              <a:rPr b="1" lang="zh-CN" sz="5400" spc="-1" strike="noStrike" baseline="30000">
                <a:solidFill>
                  <a:srgbClr val="ffffff"/>
                </a:solidFill>
                <a:latin typeface="Amaze"/>
                <a:ea typeface="文鼎CS魏碑"/>
              </a:rPr>
              <a:t>6.25</a:t>
            </a:r>
            <a:r>
              <a:rPr b="1" lang="zh-CN" sz="5400" spc="-1" strike="noStrike">
                <a:solidFill>
                  <a:srgbClr val="ffffff"/>
                </a:solidFill>
                <a:latin typeface="Amaze"/>
                <a:ea typeface="文鼎CS魏碑"/>
              </a:rPr>
              <a:t>=1778279.41 </a:t>
            </a:r>
            <a:r>
              <a:rPr b="1" lang="zh-CN" sz="5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zh-CN" sz="5400" spc="-1" strike="noStrike">
                <a:solidFill>
                  <a:srgbClr val="ffffff"/>
                </a:solidFill>
                <a:latin typeface="Amaze"/>
                <a:ea typeface="文鼎CS魏碑"/>
              </a:rPr>
              <a:t>1.8</a:t>
            </a:r>
            <a:r>
              <a:rPr b="1" lang="zh-CN" sz="5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zh-CN" sz="5400" spc="-1" strike="noStrike">
                <a:solidFill>
                  <a:srgbClr val="ffffff"/>
                </a:solidFill>
                <a:latin typeface="Amaze"/>
                <a:ea typeface="文鼎CS魏碑"/>
              </a:rPr>
              <a:t>10</a:t>
            </a:r>
            <a:r>
              <a:rPr b="1" lang="zh-CN" sz="5400" spc="-1" strike="noStrike" baseline="30000">
                <a:solidFill>
                  <a:srgbClr val="ffffff"/>
                </a:solidFill>
                <a:latin typeface="Amaze"/>
                <a:ea typeface="文鼎CS魏碑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40" y="5562720"/>
            <a:ext cx="82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maze"/>
                <a:ea typeface="文鼎CS魏碑"/>
              </a:rPr>
              <a:t>10</a:t>
            </a:r>
            <a:r>
              <a:rPr b="1" lang="zh-CN" sz="5400" spc="-1" strike="noStrike" baseline="30000">
                <a:solidFill>
                  <a:srgbClr val="ffffff"/>
                </a:solidFill>
                <a:latin typeface="Amaze"/>
                <a:ea typeface="文鼎CS魏碑"/>
              </a:rPr>
              <a:t>0.0035</a:t>
            </a:r>
            <a:r>
              <a:rPr b="1" lang="zh-CN" sz="5400" spc="-1" strike="noStrike">
                <a:solidFill>
                  <a:srgbClr val="ffffff"/>
                </a:solidFill>
                <a:latin typeface="Amaze"/>
                <a:ea typeface="文鼎CS魏碑"/>
              </a:rPr>
              <a:t>=1.0080961</a:t>
            </a:r>
            <a:r>
              <a:rPr b="1" lang="zh-CN" sz="5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zh-CN" sz="5400" spc="-1" strike="noStrike">
                <a:solidFill>
                  <a:srgbClr val="ffffff"/>
                </a:solidFill>
                <a:latin typeface="Amaze"/>
                <a:ea typeface="文鼎CS魏碑"/>
              </a:rPr>
              <a:t>1.00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0880" y="60948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ff"/>
                </a:solidFill>
                <a:latin typeface="幼圆"/>
                <a:ea typeface="幼圆"/>
              </a:rPr>
              <a:t>四、间接测量量有效数字的确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ff"/>
                </a:solidFill>
                <a:latin typeface="幼圆"/>
                <a:ea typeface="幼圆"/>
              </a:rPr>
              <a:t>      ——</a:t>
            </a:r>
            <a:r>
              <a:rPr b="1" lang="zh-CN" sz="4400" spc="-1" strike="noStrike">
                <a:solidFill>
                  <a:srgbClr val="ccccff"/>
                </a:solidFill>
                <a:latin typeface="幼圆"/>
                <a:ea typeface="幼圆"/>
              </a:rPr>
              <a:t>有效数字的运算法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63880" y="2286000"/>
            <a:ext cx="155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加减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63880" y="3200400"/>
            <a:ext cx="155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乘除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42080" y="40384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乘方与开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68640" y="4876920"/>
            <a:ext cx="18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函数运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5867280"/>
            <a:ext cx="23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自然数与常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3520" y="2286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宋体"/>
              </a:rPr>
              <a:t>①</a:t>
            </a:r>
            <a:r>
              <a:rPr b="1" lang="zh-CN" sz="3600" spc="-1" strike="noStrike">
                <a:solidFill>
                  <a:srgbClr val="ccccff"/>
                </a:solidFill>
                <a:latin typeface="宋体"/>
              </a:rPr>
              <a:t>自然数不是测量值，不存在误差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ccccff"/>
                </a:solidFill>
                <a:latin typeface="宋体"/>
              </a:rPr>
              <a:t>故有效数字是无穷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23623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ccccff"/>
                </a:solidFill>
                <a:latin typeface="宋体"/>
              </a:rPr>
              <a:t>②</a:t>
            </a:r>
            <a:r>
              <a:rPr b="1" lang="zh-CN" sz="3600" spc="-1" strike="noStrike">
                <a:solidFill>
                  <a:srgbClr val="ccccff"/>
                </a:solidFill>
                <a:latin typeface="宋体"/>
              </a:rPr>
              <a:t>常数</a:t>
            </a:r>
            <a:r>
              <a:rPr b="1" lang="zh-CN" sz="3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lang="zh-CN" sz="3600" spc="-1" strike="noStrike">
                <a:solidFill>
                  <a:srgbClr val="ccccff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ccccff"/>
                </a:solidFill>
                <a:latin typeface="宋体"/>
              </a:rPr>
              <a:t>e</a:t>
            </a:r>
            <a:r>
              <a:rPr b="1" lang="zh-CN" sz="3600" spc="-1" strike="noStrike">
                <a:solidFill>
                  <a:srgbClr val="ccccff"/>
                </a:solidFill>
                <a:latin typeface="宋体"/>
              </a:rPr>
              <a:t>等的位数可与参加运算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ccccff"/>
                </a:solidFill>
                <a:latin typeface="宋体"/>
              </a:rPr>
              <a:t>量中有效数字位数最少的位数相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ccccff"/>
                </a:solidFill>
                <a:latin typeface="宋体"/>
              </a:rPr>
              <a:t>或多取一位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16002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如在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D=2R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中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不是一位有效数字，而是无穷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6680" y="4191120"/>
            <a:ext cx="99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ccff"/>
                </a:solidFill>
                <a:latin typeface="Times New Roman"/>
              </a:rPr>
              <a:t>例 </a:t>
            </a:r>
            <a:r>
              <a:rPr b="1" i="1" lang="zh-CN" sz="4000" spc="-1" strike="noStrike">
                <a:solidFill>
                  <a:srgbClr val="ccccff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4267080"/>
            <a:ext cx="555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=2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R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其中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R=2.35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36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就应取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14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14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59640" y="579132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即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=2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142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35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0.148(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38080" y="3049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90033"/>
                </a:solidFill>
                <a:latin typeface="方正舒体"/>
              </a:rPr>
              <a:t>综合运算举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53240" y="1295280"/>
            <a:ext cx="720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50.00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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( 18.30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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16.3 )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32800" y="1981080"/>
            <a:ext cx="706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103 </a:t>
            </a:r>
            <a:r>
              <a:rPr b="1" lang="zh-CN" sz="4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3.0 ) </a:t>
            </a:r>
            <a:r>
              <a:rPr b="1" lang="zh-CN" sz="4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( 1.00 + 0.001 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16200" y="32004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75920" y="2895480"/>
            <a:ext cx="33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50.00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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2.0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35053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1" lang="zh-CN" sz="4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1.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6200" y="464832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7840" y="4343400"/>
            <a:ext cx="219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1.0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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10</a:t>
            </a:r>
            <a:r>
              <a:rPr b="1" lang="zh-CN" sz="44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57400" y="49528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5715000"/>
            <a:ext cx="176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=  1.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52480" y="457200"/>
            <a:ext cx="5061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   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10.0</a:t>
            </a:r>
            <a:r>
              <a:rPr b="1" lang="zh-CN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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lg100.0   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8840" y="1143000"/>
            <a:ext cx="373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7.3211 </a:t>
            </a:r>
            <a:r>
              <a:rPr b="1" lang="zh-CN" sz="4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27.3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30400" y="2590920"/>
            <a:ext cx="12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97080" y="259092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32400" y="2286000"/>
            <a:ext cx="383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100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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2.0000 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19520" y="2971800"/>
            <a:ext cx="116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0.0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23480" y="4114800"/>
            <a:ext cx="163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4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73000" y="4114800"/>
            <a:ext cx="12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97080" y="419112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97080" y="54100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99800" y="5410080"/>
            <a:ext cx="163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4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91640" y="6858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97080" y="762120"/>
            <a:ext cx="134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815480" y="2682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Times New Roman"/>
              </a:rPr>
              <a:t>试用有效数字计算结果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0480" y="1171440"/>
            <a:ext cx="635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23.98 - 40.456 + 7.8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30480" y="1143000"/>
            <a:ext cx="13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171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7600" y="2057400"/>
            <a:ext cx="34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lg10.00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63240" y="2057400"/>
            <a:ext cx="157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1.0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9080" y="2971800"/>
            <a:ext cx="607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789.30 × 50 ÷ 0.100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05880" y="2971800"/>
            <a:ext cx="17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3.9×10</a:t>
            </a:r>
            <a:r>
              <a:rPr b="1" lang="zh-CN" sz="4000" spc="-1" strike="noStrike" baseline="30000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200" y="3809880"/>
            <a:ext cx="293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00</a:t>
            </a:r>
            <a:r>
              <a:rPr b="1" lang="zh-CN" sz="4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06400" y="380988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1.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8360" y="4724280"/>
            <a:ext cx="128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600200" y="4648320"/>
                <a:ext cx="14479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3276720" y="4724280"/>
            <a:ext cx="107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1.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360" y="5638680"/>
            <a:ext cx="27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1" lang="zh-CN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76520" y="5638680"/>
            <a:ext cx="20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1.00×10</a:t>
            </a:r>
            <a:r>
              <a:rPr b="1" lang="zh-CN" sz="4000" spc="-1" strike="noStrike" baseline="30000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28600" y="457200"/>
            <a:ext cx="899964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计算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: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其中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7.3021 - 7.3021 = __________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Log 1000 = ___________,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式子的前一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981080" y="304920"/>
                <a:ext cx="69343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21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21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371600" y="4038480"/>
                <a:ext cx="55627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__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733920" y="5105520"/>
                <a:ext cx="50940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21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2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</m:t>
                    </m: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8002440" y="358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34480" y="1577880"/>
            <a:ext cx="18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Times New Roman"/>
              </a:rPr>
              <a:t>10.0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720" y="2797200"/>
            <a:ext cx="157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Times New Roman"/>
              </a:rPr>
              <a:t>3.0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773840" y="51814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43920" y="3962520"/>
            <a:ext cx="17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Times New Roman"/>
              </a:rPr>
              <a:t>0.1×10</a:t>
            </a:r>
            <a:r>
              <a:rPr b="1" i="1" lang="zh-CN" sz="40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457200"/>
            <a:ext cx="83818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计算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其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523880" y="457200"/>
                <a:ext cx="762012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e>
                        </m:rad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6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4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35160" y="2514600"/>
                <a:ext cx="49798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_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066680" y="3657600"/>
                <a:ext cx="66294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066680" y="4952880"/>
                <a:ext cx="627552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e>
                        </m:rad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6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7392600" y="81612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Times New Roman"/>
              </a:rPr>
              <a:t>0.0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91840" y="2492280"/>
            <a:ext cx="157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Times New Roman"/>
              </a:rPr>
              <a:t>10.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639400" y="3635280"/>
            <a:ext cx="157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Times New Roman"/>
              </a:rPr>
              <a:t>10.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10800" y="5388120"/>
            <a:ext cx="157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Times New Roman"/>
              </a:rPr>
              <a:t>1.0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33520" y="457200"/>
            <a:ext cx="807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在表达式                              中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100.00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的有效数字是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___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位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;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                               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中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100.00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的有效数字是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位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;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                              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中的有效数字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是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____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位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048120" y="609480"/>
                <a:ext cx="38098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09480" y="2514600"/>
                <a:ext cx="41148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609480" y="4495680"/>
                <a:ext cx="40388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5716440" y="9684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49360" y="50292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69080" y="30258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3808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ff"/>
                </a:solidFill>
                <a:latin typeface="幼圆"/>
                <a:ea typeface="幼圆"/>
              </a:rPr>
              <a:t>二、有效数字位数的确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2952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4366a"/>
                </a:solidFill>
                <a:latin typeface="宋体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74366a"/>
                </a:solidFill>
                <a:latin typeface="宋体"/>
                <a:ea typeface="楷体_GB2312"/>
              </a:rPr>
              <a:t>关于“</a:t>
            </a:r>
            <a:r>
              <a:rPr b="1" lang="zh-CN" sz="4400" spc="-1" strike="noStrike">
                <a:solidFill>
                  <a:srgbClr val="74366a"/>
                </a:solidFill>
                <a:latin typeface="宋体"/>
                <a:ea typeface="楷体_GB2312"/>
              </a:rPr>
              <a:t>0”</a:t>
            </a:r>
            <a:r>
              <a:rPr b="1" lang="zh-CN" sz="4400" spc="-1" strike="noStrike">
                <a:solidFill>
                  <a:srgbClr val="74366a"/>
                </a:solidFill>
                <a:latin typeface="宋体"/>
                <a:ea typeface="楷体_GB2312"/>
              </a:rPr>
              <a:t>的有效问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04920" y="2057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①</a:t>
            </a:r>
            <a:r>
              <a:rPr b="1" lang="zh-CN" sz="4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当“</a:t>
            </a:r>
            <a:r>
              <a:rPr b="1" lang="zh-CN" sz="4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0”</a:t>
            </a:r>
            <a:r>
              <a:rPr b="1" lang="zh-CN" sz="4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在数字中间或末尾时有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6668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如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76520" y="2743200"/>
                <a:ext cx="1935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114800" y="2666880"/>
                <a:ext cx="1996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553080" y="2743200"/>
                <a:ext cx="17686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581280" y="2666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2666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35268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等中的</a:t>
            </a: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0</a:t>
            </a: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均有效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1148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注意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：</a:t>
            </a:r>
            <a:r>
              <a:rPr b="1" i="1" lang="zh-CN" sz="3600" spc="-1" strike="noStrike">
                <a:solidFill>
                  <a:srgbClr val="ff33cc"/>
                </a:solidFill>
                <a:latin typeface="宋体"/>
              </a:rPr>
              <a:t>不能在数字的末尾随便加“</a:t>
            </a:r>
            <a:r>
              <a:rPr b="1" i="1" lang="zh-CN" sz="3600" spc="-1" strike="noStrike">
                <a:solidFill>
                  <a:srgbClr val="ff33cc"/>
                </a:solidFill>
                <a:latin typeface="宋体"/>
              </a:rPr>
              <a:t>0”</a:t>
            </a:r>
            <a:r>
              <a:rPr b="1" i="1" lang="zh-CN" sz="3600" spc="-1" strike="noStrike">
                <a:solidFill>
                  <a:srgbClr val="ff33cc"/>
                </a:solidFill>
                <a:latin typeface="宋体"/>
              </a:rPr>
              <a:t>或减“</a:t>
            </a:r>
            <a:r>
              <a:rPr b="1" i="1" lang="zh-CN" sz="3600" spc="-1" strike="noStrike">
                <a:solidFill>
                  <a:srgbClr val="ff33cc"/>
                </a:solidFill>
                <a:latin typeface="宋体"/>
              </a:rPr>
              <a:t>0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5105520"/>
                <a:ext cx="52815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609480" y="5105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数学上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791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物理上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286000" y="5791320"/>
                <a:ext cx="53132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0</m:t>
                    </m:r>
                    <m:r>
                      <m:t xml:space="preserve">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029200" y="632448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63244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00"/>
                            </p:stCondLst>
                            <p:childTnLst>
                              <p:par>
                                <p:cTn id="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"/>
                            </p:stCondLst>
                            <p:childTnLst>
                              <p:par>
                                <p:cTn id="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9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900800" y="533520"/>
            <a:ext cx="526752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对某数进行直接测量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有如下说法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,</a:t>
            </a:r>
            <a:br>
              <a:rPr sz="4000"/>
            </a:b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正确的是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(        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A.  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有效数字的位数是由所使用的量具所决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B.  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有效数字的位数是由被测量的大小决定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C.  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有效数字的位数由使用的量具与被测量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大小共同确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49560" y="11206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560960" y="838080"/>
            <a:ext cx="602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下列测量的结果表达正确的有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(       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57200" y="2057400"/>
                <a:ext cx="7953480" cy="341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60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Ω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7924680" y="9144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677960" y="4572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Times New Roman"/>
              </a:rPr>
              <a:t>改正下列错误写法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88080" y="1523880"/>
            <a:ext cx="53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L= 2.0Km ± 100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57800" y="2286000"/>
            <a:ext cx="351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L=(2.0±0.1)K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86280" y="32004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m=(72.3200±0.4)K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57440" y="3962520"/>
            <a:ext cx="368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m=(72.3±0.4)K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68280" y="5105520"/>
            <a:ext cx="54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v=1.23±0.015m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／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39440" y="5791320"/>
            <a:ext cx="42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v=(1.23±0.02)m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／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206800" y="3049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宋体"/>
              </a:rPr>
              <a:t>找出下列正确的数据记录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106200" y="1344600"/>
            <a:ext cx="965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9966"/>
              </a:buClr>
              <a:buFont typeface="宋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用分度值为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0.05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㎜的游标卡尺测物体长度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32.50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㎜；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32.48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㎜；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43.25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㎜；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32.5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㎜；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32.500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8320" y="286848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用分度值为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0.02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㎜的游标卡尺测物体长度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45.22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㎜；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52.78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㎜；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64.05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㎜；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84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㎜；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73.464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42800" y="4495680"/>
            <a:ext cx="630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(3)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用分度值为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0.01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㎜的螺旋测微计测物体长度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0.50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㎜；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0.5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㎜；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0.500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㎜；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0.324</a:t>
            </a:r>
            <a:r>
              <a:rPr b="1" lang="zh-CN" sz="3200" spc="-1" strike="noStrike">
                <a:solidFill>
                  <a:srgbClr val="339966"/>
                </a:solidFill>
                <a:latin typeface="宋体"/>
              </a:rPr>
              <a:t>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11680" y="152388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Times New Roman"/>
              </a:rPr>
              <a:t>—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0" y="14796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Times New Roman"/>
              </a:rPr>
              <a:t>—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40" y="30481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Times New Roman"/>
              </a:rPr>
              <a:t>—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06560" y="30481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Times New Roman"/>
              </a:rPr>
              <a:t>—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5880" y="46483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Times New Roman"/>
              </a:rPr>
              <a:t>—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30640" y="46483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Times New Roman"/>
              </a:rPr>
              <a:t>—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206800" y="3049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宋体"/>
              </a:rPr>
              <a:t>找出下列正确的数据记录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25320" y="4800600"/>
            <a:ext cx="119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Times New Roman"/>
              </a:rPr>
              <a:t>—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01840" y="3809880"/>
            <a:ext cx="119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Times New Roman"/>
              </a:rPr>
              <a:t>—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2600" y="1600200"/>
            <a:ext cx="7220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用量程为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100 mA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，刻有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小格的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0.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级表测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电流，指针指在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80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小格上；用量程为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100V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，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有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小格的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1.0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级表测量电压，指针指在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小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上，数据如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电流：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80mA;   80.0mA;   80.00m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电压：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80V;   80.0V;   80.00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304920" y="1600200"/>
            <a:ext cx="8915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②</a:t>
            </a:r>
            <a:r>
              <a:rPr b="1" lang="zh-CN" sz="4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小数点前面的“</a:t>
            </a:r>
            <a:r>
              <a:rPr b="1" lang="zh-CN" sz="4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0”</a:t>
            </a:r>
            <a:r>
              <a:rPr b="1" lang="zh-CN" sz="4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和紧接小数点后面的“</a:t>
            </a:r>
            <a:r>
              <a:rPr b="1" lang="zh-CN" sz="4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0”</a:t>
            </a:r>
            <a:r>
              <a:rPr b="1" lang="zh-CN" sz="4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不算作有效数字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0481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0.0123dm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0.123cm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0.00123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38098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均是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位有效数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7242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ccff"/>
                </a:solidFill>
                <a:latin typeface="宋体"/>
              </a:rPr>
              <a:t>注意：</a:t>
            </a:r>
            <a:r>
              <a:rPr b="1" i="1" lang="zh-CN" sz="4800" spc="-1" strike="noStrike">
                <a:solidFill>
                  <a:srgbClr val="ff33cc"/>
                </a:solidFill>
                <a:latin typeface="宋体"/>
              </a:rPr>
              <a:t>进行单位换算时，有效数字的位数不变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5335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4366a"/>
                </a:solidFill>
                <a:latin typeface="宋体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74366a"/>
                </a:solidFill>
                <a:latin typeface="宋体"/>
                <a:ea typeface="楷体_GB2312"/>
              </a:rPr>
              <a:t>数值的科学记数法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15238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数据过大或过小时，可以用科学表达式</a:t>
            </a:r>
            <a:r>
              <a:rPr b="0" lang="zh-CN" sz="3200" spc="-1" strike="noStrike">
                <a:solidFill>
                  <a:srgbClr val="ff33cc"/>
                </a:solidFill>
                <a:latin typeface="方正舒体"/>
                <a:ea typeface="方正舒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429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某电阻值为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000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欧姆），保留三位有效数字时写成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.00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3600" spc="-1" strike="noStrike" baseline="30000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76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又如数据为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0.0000325m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使用科学记数法写成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3.25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3600" spc="-1" strike="noStrike" baseline="30000">
                <a:solidFill>
                  <a:srgbClr val="ffffff"/>
                </a:solidFill>
                <a:latin typeface="宋体"/>
              </a:rPr>
              <a:t>-5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6680" y="3808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4366a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74366a"/>
                </a:solidFill>
                <a:latin typeface="楷体_GB2312"/>
                <a:ea typeface="楷体_GB2312"/>
              </a:rPr>
              <a:t>有效数字与仪器的关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380880" y="1371600"/>
            <a:ext cx="998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方正舒体"/>
                <a:ea typeface="仿宋_GB2312"/>
              </a:rPr>
              <a:t>有效数字的位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方正舒体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ff33cc"/>
                </a:solidFill>
                <a:latin typeface="方正舒体"/>
                <a:ea typeface="仿宋_GB2312"/>
              </a:rPr>
              <a:t>测量值本身的大小、仪器的准确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114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楷体_GB2312"/>
              </a:rPr>
              <a:t>分度游标卡尺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楷体_GB2312"/>
              </a:rPr>
              <a:t>L=2.525c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ccccff"/>
                </a:solidFill>
                <a:latin typeface="宋体"/>
                <a:ea typeface="楷体_GB2312"/>
              </a:rPr>
              <a:t>（四位有效数字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838080" y="5410080"/>
            <a:ext cx="944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楷体_GB2312"/>
              </a:rPr>
              <a:t>螺旋测微计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楷体_GB2312"/>
              </a:rPr>
              <a:t>L=2.5153c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楷体_GB2312"/>
              </a:rPr>
              <a:t>                </a:t>
            </a:r>
            <a:r>
              <a:rPr b="1" lang="zh-CN" sz="3600" spc="-1" strike="noStrike">
                <a:solidFill>
                  <a:srgbClr val="ccccff"/>
                </a:solidFill>
                <a:latin typeface="宋体"/>
                <a:ea typeface="楷体_GB2312"/>
              </a:rPr>
              <a:t>（五位有效数字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26680" y="2895480"/>
            <a:ext cx="57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米尺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L=2.52cm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ccccff"/>
                </a:solidFill>
                <a:latin typeface="楷体_GB2312"/>
                <a:ea typeface="楷体_GB2312"/>
              </a:rPr>
              <a:t>（三位有效数字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858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4.</a:t>
            </a: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不确定度的表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5120" y="1905120"/>
                <a:ext cx="3657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r>
                      <m:t xml:space="preserve">±</m:t>
                    </m:r>
                    <m:r>
                      <m:t xml:space="preserve">σ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单位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914400" y="28954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σ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取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Times New Roman"/>
                <a:ea typeface="楷体_GB2312"/>
              </a:rPr>
              <a:t>一个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有效数字，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σ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决定</a:t>
            </a:r>
            <a:r>
              <a:rPr b="1" i="1" lang="zh-CN" sz="3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的有效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79640" y="3903840"/>
                <a:ext cx="54133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81080" y="5257800"/>
                <a:ext cx="5092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629400" y="2819520"/>
                <a:ext cx="5335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83808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5.</a:t>
            </a: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相对误差的表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43200" y="1905120"/>
                <a:ext cx="3114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332000" y="3370320"/>
                <a:ext cx="476244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19320" y="4648320"/>
                <a:ext cx="54831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670572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位有效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4876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位有效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380880"/>
            <a:ext cx="1120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ccff"/>
                </a:solidFill>
                <a:latin typeface="幼圆"/>
                <a:ea typeface="幼圆"/>
              </a:rPr>
              <a:t>三、直接测量有效数字的确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ccff"/>
                </a:solidFill>
                <a:latin typeface="幼圆"/>
                <a:ea typeface="幼圆"/>
              </a:rPr>
              <a:t>         ——</a:t>
            </a:r>
            <a:r>
              <a:rPr b="1" lang="zh-CN" sz="4800" spc="-1" strike="noStrike">
                <a:solidFill>
                  <a:srgbClr val="ccccff"/>
                </a:solidFill>
                <a:latin typeface="幼圆"/>
                <a:ea typeface="幼圆"/>
              </a:rPr>
              <a:t>如何读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267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用米尺测长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3429000"/>
            <a:ext cx="838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7f76f0"/>
                  </a:solidFill>
                  <a:miter/>
                </a:ln>
                <a:solidFill>
                  <a:srgbClr val="7f76f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例：</a:t>
            </a:r>
            <a:endParaRPr b="0" lang="en-US" sz="1800" spc="1" strike="noStrike">
              <a:ln w="9360">
                <a:solidFill>
                  <a:srgbClr val="7f76f0"/>
                </a:solidFill>
                <a:miter/>
              </a:ln>
              <a:solidFill>
                <a:srgbClr val="7f76f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86840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4366a"/>
                </a:solidFill>
                <a:latin typeface="楷体_GB2312"/>
                <a:ea typeface="楷体_GB2312"/>
              </a:rPr>
              <a:t>读数的一般规则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4366a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74366a"/>
                </a:solidFill>
                <a:latin typeface="楷体_GB2312"/>
                <a:ea typeface="楷体_GB2312"/>
              </a:rPr>
              <a:t>读至仪器误差所在的位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有效数字 运算 法则</cp:keywords>
  <dc:language>en-US</dc:language>
  <cp:lastModifiedBy/>
  <cp:revision>0</cp:revision>
  <dc:subject/>
  <dc:title/>
</cp:coreProperties>
</file>