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TYPE.WAV" ContentType="audio/x-wav"/>
  <Override PartName="/ppt/media/image4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BEE-8AFB-436B-9C33-679FD8BE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C6E-8F48-4C38-A61B-E354C5F2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2A40-4304-42B6-88E4-D4BB1D32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94A9-34B1-4878-8936-5E7BDC13D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451-074C-496A-8DE7-B7B4B98A4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98BC-00C6-4FE4-BDFC-4454C114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F423-9459-4971-9898-0581CD91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2CC4-BA89-48FA-BF7D-756374B9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BA7B-5AD7-4688-ACE3-DF6AB21BF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3992-1587-4B83-9901-826612A6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AE5-DA97-4291-9E7F-54350356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B41B-B709-4F64-8D37-702A9B92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6C9B-DB12-45A9-AE7A-2CA0B3FDE9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3880" y="1676520"/>
            <a:ext cx="6248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纸币的产生和发展</a:t>
            </a:r>
            <a:endParaRPr b="0" lang="en-US" sz="4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0" name=""/>
          <p:cNvGraphicFramePr/>
          <p:nvPr/>
        </p:nvGraphicFramePr>
        <p:xfrm>
          <a:off x="990720" y="838080"/>
          <a:ext cx="7848360" cy="2590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838080"/>
                    <a:ext cx="78483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2" name=""/>
          <p:cNvSpPr/>
          <p:nvPr/>
        </p:nvSpPr>
        <p:spPr>
          <a:xfrm>
            <a:off x="2133720" y="22860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国民党政府法币发行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6668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法币的购买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762120" y="3429000"/>
          <a:ext cx="7543800" cy="3733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62120" y="3429000"/>
                    <a:ext cx="7543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8534520" y="3352680"/>
            <a:ext cx="0" cy="312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534520" y="3352680"/>
            <a:ext cx="0" cy="304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05920" y="34290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895480" y="304920"/>
            <a:ext cx="464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通货膨胀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85800" y="5029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97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      经济增长率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8.8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56386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98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      经济增长率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7.8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828800" y="1219320"/>
          <a:ext cx="6165720" cy="4160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219320"/>
                    <a:ext cx="6165720" cy="41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7543800" y="1143000"/>
            <a:ext cx="0" cy="3886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20120" y="1219320"/>
            <a:ext cx="0" cy="3962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001000" y="1219320"/>
            <a:ext cx="0" cy="3809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001000" y="1219320"/>
            <a:ext cx="0" cy="37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11430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91440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三</a:t>
            </a: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纸币的产生和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057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纸币的产生、含义、职能、优点和世界主要国家的货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3505320"/>
            <a:ext cx="67057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</a:rPr>
              <a:t>.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</a:rPr>
              <a:t>流通中所需要的货币量公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4572000"/>
            <a:ext cx="609588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</a:rPr>
              <a:t>通货膨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4864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正确对待货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previousslide"/>
          </p:cNvPr>
          <p:cNvSpPr/>
          <p:nvPr/>
        </p:nvSpPr>
        <p:spPr>
          <a:xfrm>
            <a:off x="1828800" y="6248520"/>
            <a:ext cx="1371600" cy="609480"/>
          </a:xfrm>
          <a:custGeom>
            <a:avLst/>
            <a:gdLst>
              <a:gd name="textAreaLeft" fmla="*/ 39240 w 1371600"/>
              <a:gd name="textAreaRight" fmla="*/ 1332360 w 13716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8594" h="21600">
                <a:moveTo>
                  <a:pt x="0" y="0"/>
                </a:moveTo>
                <a:lnTo>
                  <a:pt x="48594" y="0"/>
                </a:lnTo>
                <a:lnTo>
                  <a:pt x="48594" y="21600"/>
                </a:lnTo>
                <a:lnTo>
                  <a:pt x="0" y="21600"/>
                </a:lnTo>
                <a:close/>
              </a:path>
              <a:path fill="lightenLess" w="48594" h="21600">
                <a:moveTo>
                  <a:pt x="0" y="0"/>
                </a:moveTo>
                <a:lnTo>
                  <a:pt x="48594" y="0"/>
                </a:lnTo>
                <a:lnTo>
                  <a:pt x="47194" y="1400"/>
                </a:lnTo>
                <a:lnTo>
                  <a:pt x="1400" y="1400"/>
                </a:lnTo>
                <a:close/>
              </a:path>
              <a:path fill="darken" w="48594" h="21600">
                <a:moveTo>
                  <a:pt x="48594" y="0"/>
                </a:moveTo>
                <a:lnTo>
                  <a:pt x="48594" y="21600"/>
                </a:lnTo>
                <a:lnTo>
                  <a:pt x="47194" y="20200"/>
                </a:lnTo>
                <a:lnTo>
                  <a:pt x="47194" y="1400"/>
                </a:lnTo>
                <a:close/>
              </a:path>
              <a:path fill="darkenLess" w="48594" h="21600">
                <a:moveTo>
                  <a:pt x="485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94" y="20200"/>
                </a:lnTo>
                <a:close/>
              </a:path>
              <a:path fill="lighten" w="485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594" h="21600">
                <a:moveTo>
                  <a:pt x="17290" y="10800"/>
                </a:moveTo>
                <a:lnTo>
                  <a:pt x="31303" y="3794"/>
                </a:lnTo>
                <a:lnTo>
                  <a:pt x="31303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4572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(1).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纸币的产生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1430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金银条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124080" y="1143000"/>
            <a:ext cx="2895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</a:rPr>
              <a:t>铸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098960" y="254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14479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1143000"/>
            <a:ext cx="1752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</a:rPr>
              <a:t>纸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505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(3)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纸币的职能</a:t>
            </a:r>
            <a:r>
              <a:rPr b="0" lang="zh-CN" sz="2400" spc="-1" strike="noStrike">
                <a:solidFill>
                  <a:srgbClr val="ffff66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(P1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42670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纸币只按照它所代替的金属货币的价值执行流通手段的职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(4)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纸币的优点和主要国家的纸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057400"/>
            <a:ext cx="883908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纸币的含义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</a:rPr>
              <a:t>纸币是由国家发行的、强制使用的货币符号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(P19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559720" y="6629400"/>
            <a:ext cx="22860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09480" y="914400"/>
            <a:ext cx="65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A.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纸币必须由国家发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86000"/>
            <a:ext cx="86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B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必须是国家现在正在强制使用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35053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想一想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: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银圆和“壹万圆”人民币为什么现在不能使用</a:t>
            </a:r>
            <a:r>
              <a:rPr b="1" lang="zh-CN" sz="4400" spc="-1" strike="noStrike">
                <a:solidFill>
                  <a:srgbClr val="9900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648320" y="58672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47920" y="1295280"/>
            <a:ext cx="6080040" cy="40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31800" y="129528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31800" y="1295280"/>
            <a:ext cx="7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31800" y="12952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1800" y="129528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31800" y="1295280"/>
            <a:ext cx="7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31800" y="12952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39720" y="1295280"/>
            <a:ext cx="2003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9720" y="1295280"/>
            <a:ext cx="200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43480" y="129528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43480" y="1295280"/>
            <a:ext cx="7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543480" y="1295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51400" y="1295280"/>
            <a:ext cx="2019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51400" y="1295280"/>
            <a:ext cx="2019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70640" y="12952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70640" y="129528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570640" y="1295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6760" y="1295280"/>
            <a:ext cx="2027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76760" y="1295280"/>
            <a:ext cx="202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04280" y="129528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04280" y="1295280"/>
            <a:ext cx="7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04280" y="1295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04280" y="129528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04280" y="1295280"/>
            <a:ext cx="7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04280" y="12952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31800" y="1301760"/>
            <a:ext cx="7920" cy="13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31800" y="1301760"/>
            <a:ext cx="1800" cy="13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43480" y="1301760"/>
            <a:ext cx="7920" cy="13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43480" y="1301760"/>
            <a:ext cx="1440" cy="13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70640" y="1301760"/>
            <a:ext cx="6120" cy="13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70640" y="1301760"/>
            <a:ext cx="1440" cy="13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04280" y="1301760"/>
            <a:ext cx="7920" cy="133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04280" y="1301760"/>
            <a:ext cx="1440" cy="1330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674720" y="2819520"/>
            <a:ext cx="1599120" cy="439560"/>
            <a:chOff x="1674720" y="2819520"/>
            <a:chExt cx="1599120" cy="439560"/>
          </a:xfrm>
        </p:grpSpPr>
        <p:sp>
          <p:nvSpPr>
            <p:cNvPr id="99" name=""/>
            <p:cNvSpPr/>
            <p:nvPr/>
          </p:nvSpPr>
          <p:spPr>
            <a:xfrm>
              <a:off x="1674720" y="2819520"/>
              <a:ext cx="713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Times New Roman"/>
                </a:rPr>
                <a:t>1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46520" y="2832120"/>
              <a:ext cx="4273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00"/>
                  </a:solidFill>
                  <a:latin typeface="宋体"/>
                </a:rPr>
                <a:t>亿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037760" y="2819520"/>
            <a:ext cx="616680" cy="424440"/>
            <a:chOff x="4037760" y="2819520"/>
            <a:chExt cx="616680" cy="424440"/>
          </a:xfrm>
        </p:grpSpPr>
        <p:sp>
          <p:nvSpPr>
            <p:cNvPr id="102" name=""/>
            <p:cNvSpPr/>
            <p:nvPr/>
          </p:nvSpPr>
          <p:spPr>
            <a:xfrm>
              <a:off x="4037760" y="281952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47800" y="2832120"/>
              <a:ext cx="20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ff3300"/>
                  </a:solidFill>
                  <a:latin typeface="宋体"/>
                </a:rPr>
                <a:t>次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792400" y="2819520"/>
            <a:ext cx="1487520" cy="424440"/>
            <a:chOff x="5792400" y="2819520"/>
            <a:chExt cx="1487520" cy="424440"/>
          </a:xfrm>
        </p:grpSpPr>
        <p:sp>
          <p:nvSpPr>
            <p:cNvPr id="105" name=""/>
            <p:cNvSpPr/>
            <p:nvPr/>
          </p:nvSpPr>
          <p:spPr>
            <a:xfrm>
              <a:off x="5792400" y="2819520"/>
              <a:ext cx="689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Times New Roman"/>
                </a:rPr>
                <a:t>1000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867720" y="2832120"/>
              <a:ext cx="412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ff3300"/>
                  </a:solidFill>
                  <a:latin typeface="宋体"/>
                </a:rPr>
                <a:t>亿元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1531800" y="26319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31800" y="2631960"/>
            <a:ext cx="7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31800" y="263196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39720" y="2631960"/>
            <a:ext cx="2003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39720" y="2631960"/>
            <a:ext cx="2003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43480" y="26319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43480" y="2631960"/>
            <a:ext cx="7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43480" y="26319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51400" y="2631960"/>
            <a:ext cx="2019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51400" y="2631960"/>
            <a:ext cx="20192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70640" y="263196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70640" y="2631960"/>
            <a:ext cx="6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70640" y="26319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76760" y="2631960"/>
            <a:ext cx="2027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76760" y="2631960"/>
            <a:ext cx="202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04280" y="263196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04280" y="2631960"/>
            <a:ext cx="7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04280" y="263196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1800" y="2638440"/>
            <a:ext cx="7920" cy="78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31800" y="2638440"/>
            <a:ext cx="1800" cy="78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43480" y="2638440"/>
            <a:ext cx="7920" cy="78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43480" y="2638440"/>
            <a:ext cx="1440" cy="78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70640" y="2638440"/>
            <a:ext cx="6120" cy="78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70640" y="2638440"/>
            <a:ext cx="1440" cy="78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2638440"/>
            <a:ext cx="7920" cy="78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2638440"/>
            <a:ext cx="1440" cy="782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751040" y="3657600"/>
            <a:ext cx="1298160" cy="424440"/>
            <a:chOff x="1751040" y="3657600"/>
            <a:chExt cx="1298160" cy="424440"/>
          </a:xfrm>
        </p:grpSpPr>
        <p:sp>
          <p:nvSpPr>
            <p:cNvPr id="134" name=""/>
            <p:cNvSpPr/>
            <p:nvPr/>
          </p:nvSpPr>
          <p:spPr>
            <a:xfrm>
              <a:off x="1751040" y="3657600"/>
              <a:ext cx="5173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Times New Roman"/>
                </a:rPr>
                <a:t>700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7000" y="3670200"/>
              <a:ext cx="412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ff3300"/>
                  </a:solidFill>
                  <a:latin typeface="宋体"/>
                </a:rPr>
                <a:t>亿元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037760" y="3657600"/>
            <a:ext cx="616680" cy="424440"/>
            <a:chOff x="4037760" y="3657600"/>
            <a:chExt cx="616680" cy="424440"/>
          </a:xfrm>
        </p:grpSpPr>
        <p:sp>
          <p:nvSpPr>
            <p:cNvPr id="137" name=""/>
            <p:cNvSpPr/>
            <p:nvPr/>
          </p:nvSpPr>
          <p:spPr>
            <a:xfrm>
              <a:off x="4037760" y="365760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47800" y="3670200"/>
              <a:ext cx="20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ff3300"/>
                  </a:solidFill>
                  <a:latin typeface="宋体"/>
                </a:rPr>
                <a:t>次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5562720" y="3657600"/>
            <a:ext cx="1674720" cy="437400"/>
            <a:chOff x="5562720" y="3657600"/>
            <a:chExt cx="1674720" cy="437400"/>
          </a:xfrm>
        </p:grpSpPr>
        <p:sp>
          <p:nvSpPr>
            <p:cNvPr id="140" name=""/>
            <p:cNvSpPr/>
            <p:nvPr/>
          </p:nvSpPr>
          <p:spPr>
            <a:xfrm>
              <a:off x="5562720" y="3683160"/>
              <a:ext cx="15159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Times New Roman"/>
                </a:rPr>
                <a:t>700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53160" y="3657600"/>
              <a:ext cx="58428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ff3300"/>
                  </a:solidFill>
                  <a:latin typeface="宋体"/>
                </a:rPr>
                <a:t> </a:t>
              </a:r>
              <a:r>
                <a:rPr b="1" lang="zh-CN" sz="2700" spc="-1" strike="noStrike">
                  <a:solidFill>
                    <a:srgbClr val="ff3300"/>
                  </a:solidFill>
                  <a:latin typeface="宋体"/>
                </a:rPr>
                <a:t>亿元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531800" y="342108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31800" y="342108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31800" y="342108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39720" y="3421080"/>
            <a:ext cx="2003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39720" y="3421080"/>
            <a:ext cx="200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543480" y="342108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43480" y="342108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43480" y="34210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51400" y="3421080"/>
            <a:ext cx="2019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51400" y="3421080"/>
            <a:ext cx="2019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570640" y="342108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70640" y="342108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70640" y="34210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76760" y="3421080"/>
            <a:ext cx="2027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76760" y="3421080"/>
            <a:ext cx="202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04280" y="342108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04280" y="342108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04280" y="342108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31800" y="3427560"/>
            <a:ext cx="792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31800" y="342756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43480" y="3427560"/>
            <a:ext cx="792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43480" y="342756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70640" y="3427560"/>
            <a:ext cx="612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70640" y="342756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04280" y="3427560"/>
            <a:ext cx="792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04280" y="342756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618920" y="4419720"/>
            <a:ext cx="1488960" cy="424440"/>
            <a:chOff x="1618920" y="4419720"/>
            <a:chExt cx="1488960" cy="424440"/>
          </a:xfrm>
        </p:grpSpPr>
        <p:sp>
          <p:nvSpPr>
            <p:cNvPr id="169" name=""/>
            <p:cNvSpPr/>
            <p:nvPr/>
          </p:nvSpPr>
          <p:spPr>
            <a:xfrm>
              <a:off x="1618920" y="4419720"/>
              <a:ext cx="6894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Times New Roman"/>
                </a:rPr>
                <a:t>1000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95680" y="4432320"/>
              <a:ext cx="412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ff3300"/>
                  </a:solidFill>
                  <a:latin typeface="宋体"/>
                </a:rPr>
                <a:t>亿元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961800" y="4419720"/>
            <a:ext cx="616680" cy="424440"/>
            <a:chOff x="3961800" y="4419720"/>
            <a:chExt cx="616680" cy="424440"/>
          </a:xfrm>
        </p:grpSpPr>
        <p:sp>
          <p:nvSpPr>
            <p:cNvPr id="172" name=""/>
            <p:cNvSpPr/>
            <p:nvPr/>
          </p:nvSpPr>
          <p:spPr>
            <a:xfrm>
              <a:off x="3961800" y="4419720"/>
              <a:ext cx="1728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Times New Roman"/>
                </a:rPr>
                <a:t>4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371840" y="4432320"/>
              <a:ext cx="20664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ff3300"/>
                  </a:solidFill>
                  <a:latin typeface="宋体"/>
                </a:rPr>
                <a:t>次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5942160" y="4419720"/>
            <a:ext cx="1298160" cy="424440"/>
            <a:chOff x="5942160" y="4419720"/>
            <a:chExt cx="1298160" cy="424440"/>
          </a:xfrm>
        </p:grpSpPr>
        <p:sp>
          <p:nvSpPr>
            <p:cNvPr id="175" name=""/>
            <p:cNvSpPr/>
            <p:nvPr/>
          </p:nvSpPr>
          <p:spPr>
            <a:xfrm>
              <a:off x="5942160" y="4419720"/>
              <a:ext cx="5173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3300"/>
                  </a:solidFill>
                  <a:latin typeface="Times New Roman"/>
                </a:rPr>
                <a:t>250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28120" y="4432320"/>
              <a:ext cx="412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700" spc="-1" strike="noStrike">
                  <a:solidFill>
                    <a:srgbClr val="ff3300"/>
                  </a:solidFill>
                  <a:latin typeface="宋体"/>
                </a:rPr>
                <a:t>亿元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531800" y="42116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531800" y="421164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31800" y="421164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39720" y="4211640"/>
            <a:ext cx="2003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539720" y="4211640"/>
            <a:ext cx="200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543480" y="42116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43480" y="421164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43480" y="42116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51400" y="4211640"/>
            <a:ext cx="2019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51400" y="4211640"/>
            <a:ext cx="2019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570640" y="421164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70640" y="421164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70640" y="42116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76760" y="4211640"/>
            <a:ext cx="2027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576760" y="4211640"/>
            <a:ext cx="202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04280" y="421164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604280" y="421164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04280" y="421164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31800" y="4218120"/>
            <a:ext cx="792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31800" y="421812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31800" y="50022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31800" y="500220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31800" y="50022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31800" y="50022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531800" y="500220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31800" y="5002200"/>
            <a:ext cx="180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39720" y="5002200"/>
            <a:ext cx="2003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39720" y="5002200"/>
            <a:ext cx="2003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43480" y="4218120"/>
            <a:ext cx="792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43480" y="421812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543480" y="50022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43480" y="500220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43480" y="5002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51400" y="5002200"/>
            <a:ext cx="2019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51400" y="5002200"/>
            <a:ext cx="2019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70640" y="4218120"/>
            <a:ext cx="612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70640" y="421812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70640" y="5002200"/>
            <a:ext cx="61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70640" y="5002200"/>
            <a:ext cx="6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570640" y="5002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76760" y="5002200"/>
            <a:ext cx="20275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76760" y="5002200"/>
            <a:ext cx="202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04280" y="4218120"/>
            <a:ext cx="792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604280" y="42292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604280" y="50022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604280" y="500220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04280" y="5002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04280" y="5002200"/>
            <a:ext cx="79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04280" y="5002200"/>
            <a:ext cx="7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04280" y="5002200"/>
            <a:ext cx="1440" cy="6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463760" y="51696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假设市场上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2216880" y="1339920"/>
            <a:ext cx="4705560" cy="1272600"/>
            <a:chOff x="2216880" y="1339920"/>
            <a:chExt cx="4705560" cy="1272600"/>
          </a:xfrm>
        </p:grpSpPr>
        <p:sp>
          <p:nvSpPr>
            <p:cNvPr id="229" name=""/>
            <p:cNvSpPr/>
            <p:nvPr/>
          </p:nvSpPr>
          <p:spPr>
            <a:xfrm>
              <a:off x="2216880" y="205740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宋体"/>
                </a:rPr>
                <a:t>总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3832560" y="1339920"/>
              <a:ext cx="3089880" cy="1272600"/>
              <a:chOff x="3832560" y="1339920"/>
              <a:chExt cx="3089880" cy="127260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3832560" y="1339920"/>
                <a:ext cx="1527480" cy="1272600"/>
                <a:chOff x="3832560" y="1339920"/>
                <a:chExt cx="1527480" cy="12726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832560" y="1352520"/>
                  <a:ext cx="183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99"/>
                      </a:solidFill>
                      <a:latin typeface="宋体"/>
                    </a:rPr>
                    <a:t>每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349520" y="1339920"/>
                  <a:ext cx="1530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99"/>
                      </a:solidFill>
                      <a:latin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993560" y="1352520"/>
                  <a:ext cx="36648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99"/>
                      </a:solidFill>
                      <a:latin typeface="宋体"/>
                    </a:rPr>
                    <a:t>元货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163040" y="1797120"/>
                  <a:ext cx="73224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99"/>
                      </a:solidFill>
                      <a:latin typeface="宋体"/>
                    </a:rPr>
                    <a:t>币流通次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832560" y="2246400"/>
                  <a:ext cx="183600" cy="36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000099"/>
                      </a:solidFill>
                      <a:latin typeface="宋体"/>
                    </a:rPr>
                    <a:t>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6190200" y="1352520"/>
                <a:ext cx="73224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99"/>
                    </a:solidFill>
                    <a:latin typeface="宋体"/>
                  </a:rPr>
                  <a:t>所须货币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59720" y="1797120"/>
                <a:ext cx="183600" cy="36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99"/>
                    </a:solidFill>
                    <a:latin typeface="宋体"/>
                  </a:rPr>
                  <a:t>量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291400" y="1600200"/>
              <a:ext cx="732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99"/>
                  </a:solidFill>
                  <a:latin typeface="宋体"/>
                </a:rPr>
                <a:t>待售商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d2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1816200" y="914040"/>
            <a:ext cx="521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(1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决定流通中实际需要的货币量的因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63000" y="1675800"/>
            <a:ext cx="26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待售的商品数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95680" y="2437920"/>
            <a:ext cx="26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B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商品的价格水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0004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C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货币流通速度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（反比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351080" y="419040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流通中所需的货币量公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7400" y="5409360"/>
            <a:ext cx="250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流通中所需的货币量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172200" y="56386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7150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028040" y="51044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商品价格总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04840" y="58665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货币流通次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84360" y="5104440"/>
            <a:ext cx="25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商品数量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*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商品价格水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1600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正比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6708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正比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38080" y="167400"/>
            <a:ext cx="75279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假设一定时期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流通中实际需要的货币量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00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亿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纸币的发行量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00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亿元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67240" y="2818800"/>
            <a:ext cx="17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元纸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46960" y="2818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元货币购买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5360" y="2818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24800" y="3831840"/>
            <a:ext cx="37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纸币的发行量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000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亿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73720" y="4898520"/>
            <a:ext cx="171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元纸币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99240" y="48762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元货币购买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48762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0.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183320" y="914400"/>
            <a:ext cx="1722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通货膨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-457200" y="1676520"/>
            <a:ext cx="960120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纸币的发行量超过流通中所需要的货币量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从而引起纸币贬值，物价上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57200" y="3124080"/>
            <a:ext cx="228600" cy="7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533160" y="3124080"/>
            <a:ext cx="75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3124080"/>
            <a:ext cx="533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5800" y="320040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048120"/>
            <a:ext cx="83808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2120" y="3124080"/>
            <a:ext cx="533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752480"/>
            <a:ext cx="838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167652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86080" y="2895480"/>
            <a:ext cx="3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57480" y="3429000"/>
            <a:ext cx="51606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议一议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通货膨胀会给社会经济的发展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人民群众生活带来什么影响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75040" y="304920"/>
            <a:ext cx="1506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猪肉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斤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440880" y="609480"/>
            <a:ext cx="404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纸币发行量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流通中所需货币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1295280"/>
            <a:ext cx="67057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100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亿元      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100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亿元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465360" y="2057400"/>
            <a:ext cx="4385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              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58200" y="2743200"/>
            <a:ext cx="51991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                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元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17200" y="3429000"/>
            <a:ext cx="4043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纸币发行量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&gt;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流通中所需货币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577960" y="4114800"/>
            <a:ext cx="6007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200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亿元          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100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亿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84120" y="4800600"/>
            <a:ext cx="47282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              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0.5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6320" y="5562720"/>
            <a:ext cx="4727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                              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1560" y="1981080"/>
            <a:ext cx="1436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元购买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2600" y="2666880"/>
            <a:ext cx="1098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猪肉价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39280" y="4800600"/>
            <a:ext cx="14360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元购买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22600" y="5562720"/>
            <a:ext cx="1098000" cy="13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猪肉价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008160" y="2057400"/>
            <a:ext cx="61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55880" y="2666880"/>
            <a:ext cx="84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10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84480" y="4876920"/>
            <a:ext cx="61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55880" y="5638680"/>
            <a:ext cx="8416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20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纸币 产生 发展</cp:keywords>
  <dc:language>en-US</dc:language>
  <cp:lastModifiedBy/>
  <cp:revision>0</cp:revision>
  <dc:subject/>
  <dc:title/>
</cp:coreProperties>
</file>