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FA1-1177-45F1-9BD0-9A58156E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706-5525-4597-9151-BF28C738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3E7-3921-4563-8B5D-039EB7EE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9A8-EAB9-4425-ADAE-C754D5D3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8D8-FBA6-4BB6-BBA3-AA433CE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9C7-2DD2-47F6-A31D-FC688329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C01-9B1A-4A22-88A6-BF6E48B6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626-A96E-452B-A8CE-61CBA156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288-B23C-4A12-9F3F-820814B7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C93-C969-4785-9F15-70FE1BC5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BC5-85A7-4E58-B56D-2FAD3ED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5E0-006C-4522-B169-975EA096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C490-6BC1-46FC-9BFA-2296768933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60948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剪纸挂串制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2171880"/>
            <a:ext cx="3048120" cy="2933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00400" y="55767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主讲：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××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3808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六、分析和评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1066680"/>
          <a:ext cx="8305560" cy="5005440"/>
        </p:xfrm>
        <a:graphic>
          <a:graphicData uri="http://schemas.openxmlformats.org/drawingml/2006/table">
            <a:tbl>
              <a:tblPr/>
              <a:tblGrid>
                <a:gridCol w="1295280"/>
                <a:gridCol w="5334120"/>
                <a:gridCol w="16761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操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技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、在操作中是否先刻后剪、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细后粗、先里后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、整体效果是否协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劳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表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、带工具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、场景整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、注意安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52480" y="577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剪纸作品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214720"/>
            <a:ext cx="2895480" cy="2738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69000" y="2629080"/>
            <a:ext cx="1636920" cy="22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503520" y="2133720"/>
            <a:ext cx="2889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475080" cy="259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03320" cy="2819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10440" y="3733920"/>
            <a:ext cx="207144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352680" y="4308480"/>
            <a:ext cx="2532240" cy="186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62120" y="114300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048440" y="1143000"/>
            <a:ext cx="1714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3276720" cy="3087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05520" y="757080"/>
            <a:ext cx="3124080" cy="297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3463920" cy="2400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456160" y="4114800"/>
            <a:ext cx="24685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049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一、三种剪刻法：阴刻、阳刻、阴阳混合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447920"/>
            <a:ext cx="5257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剪刻要决：先刻后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先里后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先细后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千剪万剪剪不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4246560"/>
            <a:ext cx="3048120" cy="229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2286000" cy="223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657600" y="4254480"/>
            <a:ext cx="25146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457200"/>
            <a:ext cx="8610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二、中国剪纸挂串：应用串挂方式将剪纸作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   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连接在一起的装饰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0840" y="2438280"/>
            <a:ext cx="729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剪纸挂串部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895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482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3962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029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46022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304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步骤和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066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、折纸：用各色彩纸按照图中所示折成四面对称剪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77624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、画图：在折叠好的纸上分别把图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—7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中的五种图案画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不同的彩纸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24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、剪刻：在画好的纸样上进行剪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645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、粘贴：把线夹在剪纸中间，重叠粘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365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、点缀：下面结穗，上面打结，即可制作完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四、注意事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386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称剪纸，重叠粘贴必须平整，线要粘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71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细致、准确、切忌剪断或刻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0520" y="3429000"/>
            <a:ext cx="33732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321000" y="3352680"/>
            <a:ext cx="3003480" cy="3505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253200" y="3352680"/>
            <a:ext cx="2890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五、课堂安全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人人遵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在刻纸时，桌面上垫上一本废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209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手指不要紧提捏刀口，控制用刀的力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1240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准用刀对乱刻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038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刻刀割伤手指时，及时报告教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剪纸 制作</cp:keywords>
  <dc:language>en-US</dc:language>
  <cp:lastModifiedBy/>
  <cp:revision>0</cp:revision>
  <dc:subject/>
  <dc:title/>
</cp:coreProperties>
</file>