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%E6%B0%B4%E6%BB%B41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7DA-2617-4619-85BB-89AE33AF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976-EE60-4DBC-AFF9-A1553D49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5E8-5F58-4916-A47C-1B09E76C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9B5-0E84-472B-A7F9-4208BFD1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28AE-C9FB-4497-81C5-D6227831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22AC-3600-47B7-9E66-128DF2A3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0B9C-34CA-4372-8AF6-3E14CE45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D0B2-ACC5-49E5-AFC0-71F38736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5732-C893-4602-9B50-2D44DEFB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923E-DDA3-4E5E-A85F-C3F04362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7A39-E541-416E-8972-B5C01012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C3E-E640-432D-A728-2602501B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5F20-60DD-4550-B057-3D5B3200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1421-E764-4355-988C-581016BB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51B1-F19D-4ADD-980D-CD372DA6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3B0C-F51B-4BD3-90DC-BE893154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8167-D68D-41C5-92C7-B0F4E3A3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CA3-2020-47D1-A7F4-CD7A335F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9CD-914C-4876-BAB1-B96B07B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411-8F20-47BE-B79D-082AC7ED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66B-4F63-4C9F-9A39-65681095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C61-93EC-4AB5-82CB-09FA15D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97E-E567-40B9-BBE7-9850EBD6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0A0-AF91-4A0C-98D2-0EB17F2C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0BFF-AEC3-49BE-8306-BEFC05E5048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2B35-B6DC-4DD7-B751-F48530DD702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27700;&#28404;1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4720" y="2349360"/>
            <a:ext cx="719928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7572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中国的可持续发展道路</a:t>
            </a:r>
            <a:endParaRPr b="0" lang="en-US" sz="2400" spc="1" strike="noStrike">
              <a:ln w="0">
                <a:noFill/>
              </a:ln>
              <a:solidFill>
                <a:srgbClr val="007572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844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生态农业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830680"/>
            <a:ext cx="3505320" cy="82548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一种社会、经济与生态效益密切结合的现代农业模式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4267080"/>
            <a:ext cx="3726000" cy="605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中国是一个农业大国，农业的可持续发展，对于中国能否走上可持续发展道路至关重要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二、可持续发展的农业生产模式——生态农业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62864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留民营生态农业主要措施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565360"/>
            <a:ext cx="35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）调整产业结构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2852640"/>
            <a:ext cx="12193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2637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农林牧副渔全面发展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357336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）开展综合利用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3886200"/>
            <a:ext cx="12193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364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净化环境，保护土地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508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）广开源流，开发利用新能源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5445000"/>
            <a:ext cx="12193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51577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不同时空、多层次、多形式的新能源利用网络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二、可持续发展的农业生产模式——生态农业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2666880"/>
            <a:ext cx="9144000" cy="3837600"/>
            <a:chOff x="0" y="2666880"/>
            <a:chExt cx="9144000" cy="3837600"/>
          </a:xfrm>
        </p:grpSpPr>
        <p:sp>
          <p:nvSpPr>
            <p:cNvPr id="158" name="PPBand64"/>
            <p:cNvSpPr/>
            <p:nvPr/>
          </p:nvSpPr>
          <p:spPr>
            <a:xfrm>
              <a:off x="2286000" y="6136200"/>
              <a:ext cx="106668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种植场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59" name="PPBand65"/>
            <p:cNvSpPr/>
            <p:nvPr/>
          </p:nvSpPr>
          <p:spPr>
            <a:xfrm>
              <a:off x="6095880" y="3221640"/>
              <a:ext cx="114300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畜牧场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0" name="PPBand66"/>
            <p:cNvSpPr/>
            <p:nvPr/>
          </p:nvSpPr>
          <p:spPr>
            <a:xfrm>
              <a:off x="4191120" y="5095440"/>
              <a:ext cx="91440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沼气池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1" name="PPBand67"/>
            <p:cNvSpPr/>
            <p:nvPr/>
          </p:nvSpPr>
          <p:spPr>
            <a:xfrm>
              <a:off x="2057400" y="3291120"/>
              <a:ext cx="137160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饲料加工厂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2" name="PPBand68"/>
            <p:cNvSpPr/>
            <p:nvPr/>
          </p:nvSpPr>
          <p:spPr>
            <a:xfrm>
              <a:off x="4114800" y="3776760"/>
              <a:ext cx="83808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农民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3" name="PPBand69"/>
            <p:cNvSpPr/>
            <p:nvPr/>
          </p:nvSpPr>
          <p:spPr>
            <a:xfrm>
              <a:off x="2133720" y="4470840"/>
              <a:ext cx="144756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食品加工厂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819520" y="5025240"/>
              <a:ext cx="0" cy="9716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743200" y="3637800"/>
              <a:ext cx="0" cy="69372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99840" y="6344280"/>
              <a:ext cx="60948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05320" y="3429720"/>
              <a:ext cx="251460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029200" y="3776760"/>
              <a:ext cx="1295280" cy="117972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124080" y="5511240"/>
              <a:ext cx="914400" cy="4856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0" name="PPBand70"/>
            <p:cNvSpPr/>
            <p:nvPr/>
          </p:nvSpPr>
          <p:spPr>
            <a:xfrm>
              <a:off x="6172200" y="6066720"/>
              <a:ext cx="1143000" cy="3682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养鱼塘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76920" y="5581080"/>
              <a:ext cx="1143000" cy="485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429000" y="5581080"/>
              <a:ext cx="914400" cy="5547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57600" y="6274800"/>
              <a:ext cx="220968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43400" y="4262400"/>
              <a:ext cx="0" cy="6242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24280" y="4262040"/>
              <a:ext cx="0" cy="5547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257800" y="3846240"/>
              <a:ext cx="1447920" cy="131832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4262400"/>
              <a:ext cx="533520" cy="64260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肉奶蛋鱼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14400" y="4955040"/>
              <a:ext cx="533520" cy="91692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粮棉油菜果花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781680" y="5580720"/>
              <a:ext cx="685800" cy="3466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10280" y="3707640"/>
              <a:ext cx="609840" cy="3466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57200" y="2874960"/>
              <a:ext cx="3962520" cy="1873440"/>
              <a:chOff x="457200" y="2874960"/>
              <a:chExt cx="3962520" cy="1873440"/>
            </a:xfrm>
          </p:grpSpPr>
          <p:sp>
            <p:nvSpPr>
              <p:cNvPr id="182" name=""/>
              <p:cNvSpPr/>
              <p:nvPr/>
            </p:nvSpPr>
            <p:spPr>
              <a:xfrm>
                <a:off x="1263960" y="2874960"/>
                <a:ext cx="0" cy="187344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0240" y="2874960"/>
                <a:ext cx="3669120" cy="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7200" y="2874960"/>
                <a:ext cx="293040" cy="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19720" y="2874960"/>
                <a:ext cx="0" cy="83232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876920" y="2874600"/>
              <a:ext cx="4038480" cy="2012400"/>
              <a:chOff x="4876920" y="2874600"/>
              <a:chExt cx="4038480" cy="2012400"/>
            </a:xfrm>
          </p:grpSpPr>
          <p:sp>
            <p:nvSpPr>
              <p:cNvPr id="187" name=""/>
              <p:cNvSpPr/>
              <p:nvPr/>
            </p:nvSpPr>
            <p:spPr>
              <a:xfrm>
                <a:off x="7924680" y="4887000"/>
                <a:ext cx="533520" cy="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8458200" y="2874600"/>
                <a:ext cx="0" cy="201204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458200" y="4887000"/>
                <a:ext cx="457200" cy="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76920" y="2874960"/>
                <a:ext cx="3581280" cy="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76920" y="2874960"/>
                <a:ext cx="0" cy="86220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>
              <a:off x="0" y="2666880"/>
              <a:ext cx="533520" cy="8254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市场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610480" y="4887000"/>
              <a:ext cx="533520" cy="825480"/>
            </a:xfrm>
            <a:prstGeom prst="rect">
              <a:avLst/>
            </a:prstGeom>
            <a:noFill/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市场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116000" y="1700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留民营生态农业模式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0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二、可持续发展的农业生产模式——生态农业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1905120"/>
            <a:ext cx="549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66240" y="2205000"/>
            <a:ext cx="1277640" cy="20322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综合利用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44640" y="2666880"/>
            <a:ext cx="25146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44640" y="4114800"/>
            <a:ext cx="251460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改变了农田施肥结构、保护了土地资源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2240" y="1143000"/>
            <a:ext cx="175248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经济效益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02240" y="2819520"/>
            <a:ext cx="173376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环境效益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02240" y="4572000"/>
            <a:ext cx="175248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生态效益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10600" y="2349360"/>
            <a:ext cx="1277640" cy="20163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综合效益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1295280"/>
            <a:ext cx="228600" cy="3886200"/>
          </a:xfrm>
          <a:custGeom>
            <a:avLst/>
            <a:gdLst>
              <a:gd name="textAreaLeft" fmla="*/ 66960 w 228600"/>
              <a:gd name="textAreaRight" fmla="*/ 228960 w 228600"/>
              <a:gd name="textAreaTop" fmla="*/ 161640 h 3886200"/>
              <a:gd name="textAreaBottom" fmla="*/ 37245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1295280"/>
            <a:ext cx="228600" cy="3886200"/>
          </a:xfrm>
          <a:custGeom>
            <a:avLst/>
            <a:gdLst>
              <a:gd name="textAreaLeft" fmla="*/ 0 w 228600"/>
              <a:gd name="textAreaRight" fmla="*/ 160560 w 228600"/>
              <a:gd name="textAreaTop" fmla="*/ 161640 h 3886200"/>
              <a:gd name="textAreaBottom" fmla="*/ 3724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144792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312408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48769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907920"/>
            <a:ext cx="259272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促进了粮食、牲畜生产发展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2421000"/>
            <a:ext cx="2514600" cy="52056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降低了污染、净化了环境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042920" y="1700280"/>
          <a:ext cx="7467480" cy="485100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能源形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利用方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能源分类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沼气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沼气池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新能源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09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太阳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太阳灶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太阳能热水器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太阳能采暖房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生物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省柴灶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常规能源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1258920" y="6206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广开源流，开发利用新能源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16000" y="17733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留民营生态农业取得的成就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62120" y="2819520"/>
            <a:ext cx="1828800" cy="2609280"/>
            <a:chOff x="762120" y="2819520"/>
            <a:chExt cx="1828800" cy="2609280"/>
          </a:xfrm>
        </p:grpSpPr>
        <p:sp>
          <p:nvSpPr>
            <p:cNvPr id="215" name=""/>
            <p:cNvSpPr/>
            <p:nvPr/>
          </p:nvSpPr>
          <p:spPr>
            <a:xfrm>
              <a:off x="762120" y="2819520"/>
              <a:ext cx="18288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建设措施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8080" y="3505320"/>
              <a:ext cx="381240" cy="19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调整产业结构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920" y="3505320"/>
              <a:ext cx="380880" cy="19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开发综合利用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15720" y="3505320"/>
              <a:ext cx="41328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开发新能源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907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23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048120" y="2819520"/>
            <a:ext cx="1828800" cy="2590560"/>
            <a:chOff x="3048120" y="2819520"/>
            <a:chExt cx="1828800" cy="2590560"/>
          </a:xfrm>
        </p:grpSpPr>
        <p:sp>
          <p:nvSpPr>
            <p:cNvPr id="223" name=""/>
            <p:cNvSpPr/>
            <p:nvPr/>
          </p:nvSpPr>
          <p:spPr>
            <a:xfrm>
              <a:off x="3048120" y="2819520"/>
              <a:ext cx="18288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建设成就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0840" y="3505320"/>
              <a:ext cx="382680" cy="1904760"/>
            </a:xfrm>
            <a:prstGeom prst="rect">
              <a:avLst/>
            </a:prstGeom>
            <a:solidFill>
              <a:srgbClr val="43ceff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区域化种植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76400" y="3505320"/>
              <a:ext cx="382680" cy="1904760"/>
            </a:xfrm>
            <a:prstGeom prst="rect">
              <a:avLst/>
            </a:prstGeom>
            <a:solidFill>
              <a:srgbClr val="43ceff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规模化经营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4240" y="3505320"/>
              <a:ext cx="382680" cy="1904760"/>
            </a:xfrm>
            <a:prstGeom prst="rect">
              <a:avLst/>
            </a:prstGeom>
            <a:solidFill>
              <a:srgbClr val="43ceff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清洁化生产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67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25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8320" y="3200400"/>
              <a:ext cx="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400800" y="2819520"/>
            <a:ext cx="1752480" cy="2438280"/>
            <a:chOff x="6400800" y="2819520"/>
            <a:chExt cx="1752480" cy="2438280"/>
          </a:xfrm>
        </p:grpSpPr>
        <p:sp>
          <p:nvSpPr>
            <p:cNvPr id="231" name=""/>
            <p:cNvSpPr/>
            <p:nvPr/>
          </p:nvSpPr>
          <p:spPr>
            <a:xfrm>
              <a:off x="6400800" y="2819520"/>
              <a:ext cx="1752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绿色工程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10160" y="3809880"/>
              <a:ext cx="382680" cy="1447920"/>
            </a:xfrm>
            <a:prstGeom prst="rect">
              <a:avLst/>
            </a:prstGeom>
            <a:solidFill>
              <a:srgbClr val="03ffbd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绿色食品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84800" y="3809880"/>
              <a:ext cx="382680" cy="1447920"/>
            </a:xfrm>
            <a:prstGeom prst="rect">
              <a:avLst/>
            </a:prstGeom>
            <a:solidFill>
              <a:srgbClr val="03ffbd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农业观光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5800" y="3809880"/>
              <a:ext cx="382680" cy="1447920"/>
            </a:xfrm>
            <a:prstGeom prst="rect">
              <a:avLst/>
            </a:prstGeom>
            <a:solidFill>
              <a:srgbClr val="03ffbd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生态旅游</a:t>
              </a:r>
              <a:endParaRPr b="0" lang="en-US" sz="1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53080" y="3276720"/>
              <a:ext cx="0" cy="53316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38880" y="3276720"/>
              <a:ext cx="0" cy="53316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48720" y="3276720"/>
              <a:ext cx="0" cy="53316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477120" y="5257800"/>
            <a:ext cx="1752480" cy="914400"/>
            <a:chOff x="6477120" y="5257800"/>
            <a:chExt cx="1752480" cy="914400"/>
          </a:xfrm>
        </p:grpSpPr>
        <p:sp>
          <p:nvSpPr>
            <p:cNvPr id="239" name=""/>
            <p:cNvSpPr/>
            <p:nvPr/>
          </p:nvSpPr>
          <p:spPr>
            <a:xfrm>
              <a:off x="6477120" y="5715000"/>
              <a:ext cx="1752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66"/>
                  </a:solidFill>
                  <a:latin typeface="Tahoma"/>
                  <a:ea typeface="华文新魏"/>
                </a:rPr>
                <a:t>发展方向</a:t>
              </a: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705720" y="5257800"/>
              <a:ext cx="0" cy="45720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7238880" y="5257800"/>
              <a:ext cx="0" cy="45720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924680" y="5257800"/>
              <a:ext cx="0" cy="45720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590920" y="3048120"/>
            <a:ext cx="457200" cy="0"/>
          </a:xfrm>
          <a:prstGeom prst="line">
            <a:avLst/>
          </a:prstGeom>
          <a:ln w="28440">
            <a:solidFill>
              <a:srgbClr val="007572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876920" y="2895480"/>
            <a:ext cx="1523880" cy="1828800"/>
            <a:chOff x="4876920" y="2895480"/>
            <a:chExt cx="1523880" cy="1828800"/>
          </a:xfrm>
        </p:grpSpPr>
        <p:sp>
          <p:nvSpPr>
            <p:cNvPr id="245" name=""/>
            <p:cNvSpPr/>
            <p:nvPr/>
          </p:nvSpPr>
          <p:spPr>
            <a:xfrm>
              <a:off x="5105520" y="2895480"/>
              <a:ext cx="838080" cy="18288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良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性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发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展</a:t>
              </a:r>
              <a:endParaRPr b="0" lang="en-US" sz="20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6920" y="2971800"/>
              <a:ext cx="304560" cy="30492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943600" y="2971800"/>
              <a:ext cx="457200" cy="380880"/>
            </a:xfrm>
            <a:prstGeom prst="line">
              <a:avLst/>
            </a:prstGeom>
            <a:ln w="28440">
              <a:solidFill>
                <a:srgbClr val="007572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99640" y="772920"/>
            <a:ext cx="722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二、可持续发展的农业生产模式——生态农业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1371600"/>
            <a:ext cx="20574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人口压力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276720"/>
            <a:ext cx="20574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资源短缺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5105520"/>
            <a:ext cx="213372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环境危机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1720" y="685800"/>
            <a:ext cx="1277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中国走可持续发展道路的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必然性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1600200"/>
            <a:ext cx="2563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《中国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21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世纪议程》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3962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4267080"/>
            <a:ext cx="18288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生态农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362320"/>
            <a:ext cx="99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4648320"/>
            <a:ext cx="99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1981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36576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1676520"/>
            <a:ext cx="152640" cy="3886200"/>
          </a:xfrm>
          <a:custGeom>
            <a:avLst/>
            <a:gdLst>
              <a:gd name="textAreaLeft" fmla="*/ 0 w 152640"/>
              <a:gd name="textAreaRight" fmla="*/ 107280 w 152640"/>
              <a:gd name="textAreaTop" fmla="*/ 161640 h 3886200"/>
              <a:gd name="textAreaBottom" fmla="*/ 3724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228600"/>
            <a:ext cx="129564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228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方正舒体"/>
              </a:rPr>
              <a:t>小结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4120" y="1905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战略措施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农业模式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58920" y="1700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可持续发展思想源远流长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47640" y="3137760"/>
            <a:ext cx="7939080" cy="3555360"/>
            <a:chOff x="647640" y="3137760"/>
            <a:chExt cx="7939080" cy="3555360"/>
          </a:xfrm>
        </p:grpSpPr>
        <p:sp>
          <p:nvSpPr>
            <p:cNvPr id="84" name=""/>
            <p:cNvSpPr/>
            <p:nvPr/>
          </p:nvSpPr>
          <p:spPr>
            <a:xfrm rot="415200">
              <a:off x="1060200" y="3573000"/>
              <a:ext cx="7391520" cy="2684520"/>
            </a:xfrm>
            <a:prstGeom prst="rect">
              <a:avLst/>
            </a:prstGeom>
            <a:solidFill>
              <a:srgbClr val="c9c9c9"/>
            </a:solidFill>
            <a:ln w="1260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640" y="3429000"/>
              <a:ext cx="7848720" cy="2367720"/>
            </a:xfrm>
            <a:prstGeom prst="rect">
              <a:avLst/>
            </a:prstGeom>
            <a:solidFill>
              <a:srgbClr val="edfdc1"/>
            </a:solidFill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为人君而不能谨守其山林菹泽草莱，不可以立为天下王。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（《管子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·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轻重甲》）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斩伐养长，不失其时，故山林不童，而百姓有余材也。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（《荀子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·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王制篇》）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新魏"/>
                </a:rPr>
                <a:t>竭泽而渔，岂不得鱼，而明年无鱼；焚薮而田，岂不获得，而明年无兽。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（《吕氏春秋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·</a:t>
              </a:r>
              <a:r>
                <a:rPr b="0" lang="zh-CN" sz="2200" spc="-1" strike="noStrike">
                  <a:solidFill>
                    <a:srgbClr val="0033cc"/>
                  </a:solidFill>
                  <a:latin typeface="Tahoma"/>
                  <a:ea typeface="华文楷体"/>
                </a:rPr>
                <a:t>首时》）</a:t>
              </a:r>
              <a:endParaRPr b="0" lang="en-US" sz="2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600200" y="25909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Tahoma"/>
                <a:ea typeface="楷体_GB2312"/>
              </a:rPr>
              <a:t>说一说这些论述中都蕴含了哪些可持续发展的思想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484280"/>
            <a:ext cx="57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133720"/>
            <a:ext cx="57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①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庞大的人口压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00400" y="2819520"/>
          <a:ext cx="5656320" cy="37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819520"/>
                    <a:ext cx="5656320" cy="3762360"/>
                  </a:xfrm>
                  <a:prstGeom prst="rect">
                    <a:avLst/>
                  </a:prstGeom>
                  <a:ln w="9360">
                    <a:solidFill>
                      <a:srgbClr val="00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04920" y="5486400"/>
            <a:ext cx="2793960" cy="965160"/>
          </a:xfrm>
          <a:prstGeom prst="rect">
            <a:avLst/>
          </a:prstGeom>
          <a:solidFill>
            <a:srgbClr val="edfdc1"/>
          </a:solidFill>
          <a:ln w="57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1/4</a:t>
            </a:r>
            <a:r>
              <a:rPr b="1" lang="zh-CN" sz="2200" spc="-1" strike="noStrike">
                <a:solidFill>
                  <a:srgbClr val="0033cc"/>
                </a:solidFill>
                <a:latin typeface="Tahoma"/>
              </a:rPr>
              <a:t>的新增产值用来养活新增加的人口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7800" y="2919240"/>
            <a:ext cx="2740320" cy="529560"/>
          </a:xfrm>
          <a:prstGeom prst="rect">
            <a:avLst/>
          </a:prstGeom>
          <a:solidFill>
            <a:srgbClr val="edfdc1"/>
          </a:solidFill>
          <a:ln w="57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7%</a:t>
            </a:r>
            <a:r>
              <a:rPr b="1" lang="zh-CN" sz="2200" spc="-1" strike="noStrike">
                <a:solidFill>
                  <a:srgbClr val="0033cc"/>
                </a:solidFill>
                <a:latin typeface="Tahoma"/>
              </a:rPr>
              <a:t>的耕地养活</a:t>
            </a: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21%</a:t>
            </a:r>
            <a:r>
              <a:rPr b="1" lang="zh-CN" sz="2200" spc="-1" strike="noStrike">
                <a:solidFill>
                  <a:srgbClr val="0033cc"/>
                </a:solidFill>
                <a:latin typeface="Tahoma"/>
              </a:rPr>
              <a:t>的人口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3120" y="4267080"/>
            <a:ext cx="2820960" cy="965160"/>
          </a:xfrm>
          <a:prstGeom prst="rect">
            <a:avLst/>
          </a:prstGeom>
          <a:solidFill>
            <a:srgbClr val="edfdc1"/>
          </a:solidFill>
          <a:ln w="57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份</a:t>
            </a:r>
            <a:r>
              <a:rPr b="1" lang="zh-CN" sz="2200" spc="-1" strike="noStrike">
                <a:solidFill>
                  <a:srgbClr val="0033cc"/>
                </a:solidFill>
                <a:latin typeface="Tahoma"/>
              </a:rPr>
              <a:t>的世界平均财富养活</a:t>
            </a: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6</a:t>
            </a:r>
            <a:r>
              <a:rPr b="1" lang="zh-CN" sz="2200" spc="-1" strike="noStrike">
                <a:solidFill>
                  <a:srgbClr val="cc0066"/>
                </a:solidFill>
                <a:latin typeface="Tahoma"/>
              </a:rPr>
              <a:t>倍</a:t>
            </a:r>
            <a:r>
              <a:rPr b="1" lang="zh-CN" sz="2200" spc="-1" strike="noStrike">
                <a:solidFill>
                  <a:srgbClr val="0033cc"/>
                </a:solidFill>
                <a:latin typeface="Tahoma"/>
              </a:rPr>
              <a:t>的人口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2057400"/>
            <a:ext cx="4572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3800" y="1295280"/>
            <a:ext cx="606960" cy="388620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人口数量庞大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95800" y="533520"/>
            <a:ext cx="1460160" cy="243828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人均国民生产总值较低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22400" y="3505320"/>
            <a:ext cx="1033560" cy="251460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新增人口绝对数较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76880" y="533520"/>
            <a:ext cx="1460160" cy="251460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较少的财富养活较多人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53200" y="3429000"/>
            <a:ext cx="1460160" cy="281952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部分新增产值被新增人口消耗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9520" y="1600200"/>
            <a:ext cx="1033560" cy="327672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人口成为发展障碍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16600" y="533520"/>
            <a:ext cx="1033560" cy="243828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资源短缺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15160" y="3733920"/>
            <a:ext cx="1033560" cy="2514600"/>
          </a:xfrm>
          <a:prstGeom prst="rect">
            <a:avLst/>
          </a:prstGeom>
          <a:solidFill>
            <a:srgbClr val="e6e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环境危机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1981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45720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19810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5720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19810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45720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1981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5720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4920"/>
            <a:ext cx="16765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口压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6324480"/>
            <a:ext cx="380880" cy="533520"/>
          </a:xfrm>
          <a:custGeom>
            <a:avLst/>
            <a:gdLst>
              <a:gd name="textAreaLeft" fmla="*/ 0 w 380880"/>
              <a:gd name="textAreaRight" fmla="*/ 381240 w 3808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1628640"/>
            <a:ext cx="68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2421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②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资源短缺令人担忧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429000"/>
            <a:ext cx="1981440" cy="42912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cc"/>
                </a:solidFill>
                <a:latin typeface="华文楷体"/>
                <a:ea typeface="华文楷体"/>
              </a:rPr>
              <a:t>种类多，总量大、 类型全 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4195800"/>
            <a:ext cx="0" cy="9144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5110200"/>
            <a:ext cx="2209680" cy="76428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cc"/>
                </a:solidFill>
                <a:latin typeface="华文楷体"/>
                <a:ea typeface="华文楷体"/>
              </a:rPr>
              <a:t>利用率低，长期存在相对短缺 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 rot="5400000">
            <a:off x="6009840" y="1990440"/>
            <a:ext cx="1828800" cy="22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7d7da9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水</a:t>
            </a:r>
            <a:endParaRPr b="0" lang="en-US" sz="2400" spc="1" strike="noStrike">
              <a:ln w="9360">
                <a:solidFill>
                  <a:srgbClr val="7d7da9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343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全国缺水城市达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300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多个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87692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但工业用水重复利用率仅为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20%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～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30%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，单位产值用水量比发达国家高出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5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～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10</a:t>
            </a:r>
            <a:r>
              <a:rPr b="1" lang="zh-CN" sz="2000" spc="-1" strike="noStrike">
                <a:solidFill>
                  <a:srgbClr val="0033cc"/>
                </a:solidFill>
                <a:latin typeface="Tahoma"/>
              </a:rPr>
              <a:t>倍。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B0%B4%E6%BB%B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0" t="4448" r="0" b="9998"/>
          <a:stretch/>
        </p:blipFill>
        <p:spPr>
          <a:xfrm>
            <a:off x="1219320" y="2819520"/>
            <a:ext cx="7010280" cy="3860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1413000"/>
            <a:ext cx="68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060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②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资源短缺令人担忧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7280" y="234936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③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深刻的环境危机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403848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表现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3657600"/>
            <a:ext cx="4343400" cy="496080"/>
          </a:xfrm>
          <a:prstGeom prst="rect">
            <a:avLst/>
          </a:prstGeom>
          <a:noFill/>
          <a:ln w="93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66"/>
                </a:solidFill>
                <a:latin typeface="华文楷体"/>
                <a:ea typeface="华文楷体"/>
              </a:rPr>
              <a:t>一方面以城市为中心的环境污染在发展，并迅速向农村蔓延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4952880"/>
            <a:ext cx="4343400" cy="496080"/>
          </a:xfrm>
          <a:prstGeom prst="rect">
            <a:avLst/>
          </a:prstGeom>
          <a:noFill/>
          <a:ln w="93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66"/>
                </a:solidFill>
                <a:latin typeface="华文楷体"/>
                <a:ea typeface="华文楷体"/>
              </a:rPr>
              <a:t>另一方面，生态破坏的范围仍在扩大，程度在加剧。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68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86200" y="2743200"/>
            <a:ext cx="50292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1994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年，乡镇企业废水排放量达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43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亿吨，工业粉尘的排放量达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580</a:t>
            </a:r>
            <a:r>
              <a:rPr b="1" lang="zh-CN" sz="22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万吨。</a:t>
            </a:r>
            <a:endParaRPr b="0" lang="en-US" sz="2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404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2560" y="234936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③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深刻的环境危机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484280"/>
            <a:ext cx="68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819520"/>
            <a:ext cx="8147160" cy="1328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我国沙尘暴频起和荒漠化扩展的步伐是一致的，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世纪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5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至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6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年代，沙化土地每年扩展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156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平方千米；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7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至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年代沙化土地每年扩展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10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平方千米；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年代沙化土地每年以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460</a:t>
            </a:r>
            <a:r>
              <a:rPr b="1" lang="zh-CN" sz="2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平方千米的速度扩展，尤以西北地区为甚。沙尘暴就是土地荒漠化的警报，沙尘暴发生的频度和速度的增大则是敲响了生态危机的警钟。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04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隶书"/>
              </a:rPr>
              <a:t>一、中国走可持续发展道路的必然性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205000"/>
            <a:ext cx="36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③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深刻的环境危机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484280"/>
            <a:ext cx="68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隶书"/>
                <a:ea typeface="隶书"/>
              </a:rPr>
              <a:t>中国人地关系面临的重大问题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可持续发展 道路</cp:keywords>
  <dc:language>en-US</dc:language>
  <cp:lastModifiedBy/>
  <cp:revision>0</cp:revision>
  <dc:subject/>
  <dc:title/>
</cp:coreProperties>
</file>