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rbrake.wav" ContentType="audio/x-wav"/>
  <Override PartName="/ppt/media/chimes.wav" ContentType="audio/x-wav"/>
  <Override PartName="/ppt/media/gunsho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854-BC7C-4AEA-9291-9F7E5F22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6B5-E51B-4C19-B024-874F28B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153-E19A-4DE6-A79D-E8AA8E7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2EB-010A-4D99-A263-DFFC1F35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9942-FCEE-4E5B-96BA-BC9838AF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2841-A079-48D3-A69C-5CBDD392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FD0-4A46-4E8C-ADBB-B9CE3765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7F26-1A91-4C66-A2CD-EEF64E3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419-7EE4-430A-9FEE-9184B34C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2298-7AAB-45D9-AFE3-F6B543D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3FD4-A799-4BD1-ADEE-AC0D7D8F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841-2E0A-4E56-9DDB-C28D13D5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79F-393C-4ACD-8870-35476BDF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ED9-8F0D-4BCB-8846-0908EC2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9D53-8B91-4AE2-9AD1-D36828C4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F1E1-CF93-40FD-9D47-643EEB77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F061-1E1C-47F5-9A80-F1B476A2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E3E-9FD0-4C1D-96D3-B7DB5D02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0AE-CCC9-458B-9455-DF2F2D5B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803-7DBF-4042-B7D1-002889B1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528-658D-458E-8B7A-ECB5A32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B52-D791-4D6E-902C-5F9E0B4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274-5659-4826-A7C4-2613A43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5DE-EAE9-4E85-9C23-C4C3D76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E9D9-8C4B-4D18-8AE3-8B1B98144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EED1-0762-4447-AC41-470F20DB1DA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../../../download/&#31532;&#19968;&#31456;%2520&#36130;&#21153;&#20250;&#35745;&#30340;&#29702;&#35770;&#20307;&#31995;.ppt" TargetMode="External"/><Relationship Id="rId2" Type="http://schemas.openxmlformats.org/officeDocument/2006/relationships/hyperlink" Target="../../../download/&#31532;&#20108;&#31456;%2520%2520%2520&#36135;&#24065;&#36164;&#37329;&#21450;&#24212;&#25910;&#39044;&#20184;&#39033;&#30446;.ppt" TargetMode="External"/><Relationship Id="rId3" Type="http://schemas.openxmlformats.org/officeDocument/2006/relationships/hyperlink" Target="../../../download/&#31532;&#19977;&#31456;%2520%2520%2520&#23384;&#36135;.ppt" TargetMode="External"/><Relationship Id="rId4" Type="http://schemas.openxmlformats.org/officeDocument/2006/relationships/hyperlink" Target="../../../download/&#31532;&#22235;&#31456;%2520%2520%2520%2520&#25237;&#36164;.ppt" TargetMode="External"/><Relationship Id="rId5" Type="http://schemas.openxmlformats.org/officeDocument/2006/relationships/hyperlink" Target="../../../download/&#31532;&#20116;&#31456;%2520%2520&#22266;&#23450;&#36164;&#20135;.ppt" TargetMode="External"/><Relationship Id="rId6" Type="http://schemas.openxmlformats.org/officeDocument/2006/relationships/hyperlink" Target="../../../download/&#31532;&#20845;&#31456;%2520%2520&#26080;&#24418;&#36164;&#20135;.ppt" TargetMode="External"/><Relationship Id="rId7" Type="http://schemas.openxmlformats.org/officeDocument/2006/relationships/hyperlink" Target="../../../download/&#31532;&#19971;&#31456;%2520%2520&#27969;&#21160;&#36127;&#20538;.ppt" TargetMode="External"/><Relationship Id="rId8" Type="http://schemas.openxmlformats.org/officeDocument/2006/relationships/hyperlink" Target="../../../download/&#31532;&#20843;&#31456;%2520%2520&#38271;&#26399;&#36127;&#20538;.ppt" TargetMode="External"/><Relationship Id="rId9" Type="http://schemas.openxmlformats.org/officeDocument/2006/relationships/hyperlink" Target="../../../download/&#31532;&#20061;&#31456;%2520%2520&#36153;&#29992;&#25104;&#26412;.ppt" TargetMode="External"/><Relationship Id="rId10" Type="http://schemas.openxmlformats.org/officeDocument/2006/relationships/hyperlink" Target="../../../download/&#31532;&#21313;&#31456;%2520%2520&#25910;&#20837;&#21450;&#21033;&#28070;.ppt" TargetMode="External"/><Relationship Id="rId11" Type="http://schemas.openxmlformats.org/officeDocument/2006/relationships/hyperlink" Target="../../../download/&#31532;&#21313;&#19968;&#31456;%2520%2520&#25152;&#26377;&#32773;&#26435;&#30410;.ppt" TargetMode="External"/><Relationship Id="rId12" Type="http://schemas.openxmlformats.org/officeDocument/2006/relationships/hyperlink" Target="../../../download/&#31532;&#21313;&#20108;&#31456;%2520%2520&#36130;&#21153;&#25253;&#21578;&#27010;&#36848;.ppt" TargetMode="External"/><Relationship Id="rId13" Type="http://schemas.openxmlformats.org/officeDocument/2006/relationships/hyperlink" Target="../../../download/&#31532;&#21313;&#19977;&#31456;%2520%2520&#36164;&#20135;&#36127;&#20538;&#34920;&#21644;&#21033;&#28070;&#34920;.ppt" TargetMode="External"/><Relationship Id="rId14" Type="http://schemas.openxmlformats.org/officeDocument/2006/relationships/hyperlink" Target="../../../download/&#31532;&#21313;&#22235;&#31456;%2520%2520&#29616;&#37329;&#27969;&#37327;&#34920;.ppt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352320" y="68580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10abe"/>
                </a:solidFill>
                <a:latin typeface="Times New Roman"/>
              </a:rPr>
              <a:t>中级财务会计</a:t>
            </a:r>
            <a:br>
              <a:rPr sz="5400"/>
            </a:br>
            <a:r>
              <a:rPr b="1" lang="zh-CN" sz="5400" spc="-1" strike="noStrike">
                <a:solidFill>
                  <a:srgbClr val="310abe"/>
                </a:solidFill>
                <a:latin typeface="Times New Roman"/>
              </a:rPr>
              <a:t>课件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0920" y="2971800"/>
            <a:ext cx="53341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主讲人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X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院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TEL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XXXXXXXXXXX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第一章   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财务会计的理论体系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章的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于让读者了解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计理论的系统和一般结构，尤其是其中基本的概念框架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计理论重要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评价和发展会计准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解释和指导会计实务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12b6"/>
                </a:solidFill>
                <a:latin typeface="Times New Roman"/>
              </a:rPr>
              <a:t>二、主要内容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5760" y="2088720"/>
            <a:ext cx="7317000" cy="347364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一）会计理论的作用及构成要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二）财务会计概念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三） 会计准则和企业会计制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四） 会计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会计理论的作用及构成要素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作用——主要在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作为解释和评价现行会计实务（及其直接依据即会计准则）的一般依据，指导发展新的会计实务和程序（及其直接依据即会计准则）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39116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、会计理论的作用及构成要素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二）构成要素——分成三个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会计研究方法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证法、规范法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基础会计理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会计环境、本质、目标、职能、对象、要素、假设、原则、信息质量特征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应用会计理论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会计确认与计量，报告会计程序与方法、会计工作的组织结构、会计制度的设计等，会计理论作为解释和评价现行会计实务的一般依据，指导发展新的会计实务和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12b6"/>
                </a:solidFill>
                <a:latin typeface="Times New Roman"/>
              </a:rPr>
              <a:t>二、财务会计概念结构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934320" cy="449568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 财务会计概念结构图示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S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财务会计概念结构图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书观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计环境起点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会计环境（第四节介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会计假设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Accounting Postulate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原则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counting Principle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会计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会计职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4792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一） 财务会计概念结构图示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9810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财务会计概念结构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76520" y="1676520"/>
            <a:ext cx="6552720" cy="4495680"/>
            <a:chOff x="1676520" y="1676520"/>
            <a:chExt cx="6552720" cy="4495680"/>
          </a:xfrm>
        </p:grpSpPr>
        <p:sp>
          <p:nvSpPr>
            <p:cNvPr id="133" name=""/>
            <p:cNvSpPr/>
            <p:nvPr/>
          </p:nvSpPr>
          <p:spPr>
            <a:xfrm flipV="1">
              <a:off x="2660400" y="523800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8080" y="296388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661480" y="3576960"/>
              <a:ext cx="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6160" y="4412160"/>
              <a:ext cx="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76520" y="1676520"/>
              <a:ext cx="6552720" cy="4495680"/>
              <a:chOff x="1676520" y="1676520"/>
              <a:chExt cx="655272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5004000" y="4635360"/>
                <a:ext cx="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14520" y="1676520"/>
                <a:ext cx="1743840" cy="43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会计信息使用者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14520" y="2327040"/>
                <a:ext cx="1573560" cy="38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基本会计目标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76520" y="3183840"/>
                <a:ext cx="1977480" cy="40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会计信息质量特征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4200" y="3165840"/>
                <a:ext cx="2075040" cy="40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财务报表的基本要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38360" y="4047840"/>
                <a:ext cx="3103560" cy="38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财务报表中各要素的确认与计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90320" y="212292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0320" y="272340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2560" y="2963880"/>
                <a:ext cx="46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4989240" y="3802680"/>
                <a:ext cx="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62560" y="3804480"/>
                <a:ext cx="46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7317000" y="356220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2560" y="4667400"/>
                <a:ext cx="46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62560" y="466740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18080" y="466740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031480" y="4876920"/>
                <a:ext cx="1128960" cy="39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基本假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19640" y="4848480"/>
                <a:ext cx="1146960" cy="38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基本原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41800" y="4861800"/>
                <a:ext cx="1130040" cy="403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操作限制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4989240" y="549432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45640" y="5496480"/>
                <a:ext cx="465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317000" y="525384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73400" y="5256000"/>
                <a:ext cx="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8840" y="5752800"/>
                <a:ext cx="2108880" cy="41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详细会计原则及程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660400" y="294840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财务会计概念结构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739116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二）财务会计概念结构图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本书观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计环境起点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819520"/>
            <a:ext cx="7009920" cy="3276360"/>
            <a:chOff x="1828800" y="2819520"/>
            <a:chExt cx="7009920" cy="3276360"/>
          </a:xfrm>
        </p:grpSpPr>
        <p:sp>
          <p:nvSpPr>
            <p:cNvPr id="165" name=""/>
            <p:cNvSpPr/>
            <p:nvPr/>
          </p:nvSpPr>
          <p:spPr>
            <a:xfrm>
              <a:off x="1828800" y="2871000"/>
              <a:ext cx="3115440" cy="322488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217960" y="2819520"/>
              <a:ext cx="6620760" cy="2645280"/>
              <a:chOff x="2217960" y="2819520"/>
              <a:chExt cx="6620760" cy="2645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217960" y="2957040"/>
                <a:ext cx="2336400" cy="250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77520" y="3287880"/>
                <a:ext cx="1882080" cy="2009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80920" y="3049920"/>
                <a:ext cx="194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470920" y="2819520"/>
                <a:ext cx="3367800" cy="24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环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假设和原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目标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职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程序和方法（会计要素的确认与计量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80920" y="3459960"/>
                <a:ext cx="194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80920" y="3808080"/>
                <a:ext cx="194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97120" y="4183560"/>
                <a:ext cx="194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97120" y="4483440"/>
                <a:ext cx="194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41720" y="3969720"/>
                <a:ext cx="58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38320" y="4344120"/>
                <a:ext cx="9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、财务会计概念结构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会计假设与会计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2666880"/>
          <a:ext cx="6464520" cy="3527640"/>
        </p:xfrm>
        <a:graphic>
          <a:graphicData uri="http://schemas.openxmlformats.org/drawingml/2006/table">
            <a:tbl>
              <a:tblPr/>
              <a:tblGrid>
                <a:gridCol w="2273400"/>
                <a:gridCol w="2273400"/>
                <a:gridCol w="1917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计假设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计准则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条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计主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真实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关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可比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致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持续经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及时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明晰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权责发生制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配比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计分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谨慎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际成本计价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货币计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划分收益性支出与资本性支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要性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重于形式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新增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财务会计概念结构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会计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主要有两种观点：受托责任论和决策有用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决策有用论——直接导致同一层次的两个次级会计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一是会计（报表）要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亦即按会计对象进行的分类，也就是说会计应提供“什么信息”；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二是信息质量特征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也就是说“怎么样”的会计信息才是对决策者“有用”的信息。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财务会计概念结构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会计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财务会计职能——基本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即：反映（和监督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管理会计职能——广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即：预测、决策、预算、控制、分析及考核等职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371600" y="2590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el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XXXXXXXXXX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财务会计概念结构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会计程序和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含义——是指为实现会计的反映职能而特有的处理程序和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计程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——一般是指会计账务处理的具体步骤，如填制凭证、登记账簿、编制报表的基本程序，会计程序中的会计方法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更适合被称为会计核算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计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——是指会计主体在记录和反映某会计业务时所采用的技术方法，即会计要素（报表项目）的确认与计量，有时</a:t>
            </a:r>
            <a:r>
              <a:rPr b="1" lang="zh-CN" sz="2800" spc="-1" strike="noStrike">
                <a:solidFill>
                  <a:srgbClr val="d54f41"/>
                </a:solidFill>
                <a:latin typeface="宋体"/>
              </a:rPr>
              <a:t>又被称为会计政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ccounting Policy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三、 会计准则和企业会计制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739116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我国会计规范（标准）体系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全国人大常委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 国务院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/ 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财政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其中：企业财务报告条例——国务院（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XX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年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33720" y="2895480"/>
            <a:ext cx="5715000" cy="2514240"/>
            <a:chOff x="2133720" y="2895480"/>
            <a:chExt cx="5715000" cy="2514240"/>
          </a:xfrm>
        </p:grpSpPr>
        <p:sp>
          <p:nvSpPr>
            <p:cNvPr id="189" name=""/>
            <p:cNvSpPr/>
            <p:nvPr/>
          </p:nvSpPr>
          <p:spPr>
            <a:xfrm>
              <a:off x="5588640" y="4914360"/>
              <a:ext cx="180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133720" y="2895480"/>
              <a:ext cx="5715000" cy="2514240"/>
              <a:chOff x="2133720" y="2895480"/>
              <a:chExt cx="5715000" cy="2514240"/>
            </a:xfrm>
          </p:grpSpPr>
          <p:sp>
            <p:nvSpPr>
              <p:cNvPr id="191" name=""/>
              <p:cNvSpPr/>
              <p:nvPr/>
            </p:nvSpPr>
            <p:spPr>
              <a:xfrm>
                <a:off x="2133720" y="2895480"/>
                <a:ext cx="487800" cy="167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29440" y="388260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20280" y="3193560"/>
                <a:ext cx="540360" cy="221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9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企业会计准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386960" y="3395160"/>
                <a:ext cx="117828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基本准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16840" y="4572000"/>
                <a:ext cx="117828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具体准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79480" y="2895480"/>
                <a:ext cx="540360" cy="188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制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91160" y="3165480"/>
                <a:ext cx="457560" cy="185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会计工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29440" y="3105000"/>
                <a:ext cx="365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61000" y="3733560"/>
                <a:ext cx="5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76120" y="4894200"/>
                <a:ext cx="54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20200" y="3733560"/>
                <a:ext cx="54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11920" y="4050720"/>
                <a:ext cx="2880" cy="48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三、 会计准则和企业会计制度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4920" y="121896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我国会计准则的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47920" y="1828800"/>
            <a:ext cx="7314840" cy="3047760"/>
            <a:chOff x="1447920" y="1828800"/>
            <a:chExt cx="7314840" cy="3047760"/>
          </a:xfrm>
        </p:grpSpPr>
        <p:sp>
          <p:nvSpPr>
            <p:cNvPr id="206" name=""/>
            <p:cNvSpPr/>
            <p:nvPr/>
          </p:nvSpPr>
          <p:spPr>
            <a:xfrm>
              <a:off x="6150240" y="1828800"/>
              <a:ext cx="1045080" cy="3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基本前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50240" y="2287800"/>
              <a:ext cx="10450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一般原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0240" y="2736360"/>
              <a:ext cx="1045080" cy="3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会计要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0240" y="3175200"/>
              <a:ext cx="104508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财务报告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50240" y="3634200"/>
              <a:ext cx="1741680" cy="3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共性业务会计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50240" y="4078440"/>
              <a:ext cx="1393200" cy="3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会计报表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65000" y="4521600"/>
              <a:ext cx="2597760" cy="3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特殊行业、特殊业务会计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3320" y="2525400"/>
              <a:ext cx="1377720" cy="3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基本会计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453640" y="1973520"/>
              <a:ext cx="696600" cy="1449720"/>
              <a:chOff x="5453640" y="1973520"/>
              <a:chExt cx="696600" cy="144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5453640" y="1973520"/>
                <a:ext cx="0" cy="14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453640" y="1973520"/>
                <a:ext cx="69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453640" y="2913120"/>
                <a:ext cx="69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53640" y="2463840"/>
                <a:ext cx="69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453640" y="3423240"/>
                <a:ext cx="69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841120" y="2698200"/>
              <a:ext cx="682200" cy="1594440"/>
              <a:chOff x="2841120" y="2698200"/>
              <a:chExt cx="682200" cy="1594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841120" y="2698200"/>
                <a:ext cx="67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41120" y="2698200"/>
                <a:ext cx="0" cy="15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52280" y="4278600"/>
                <a:ext cx="67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938120" y="2698200"/>
              <a:ext cx="513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932360" y="4259160"/>
              <a:ext cx="121788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3640" y="47142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53640" y="3830400"/>
              <a:ext cx="69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53640" y="384408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3320" y="4113000"/>
              <a:ext cx="140760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具体会计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93000" y="3423240"/>
              <a:ext cx="3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7920" y="3300840"/>
              <a:ext cx="106632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会计准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232920"/>
            <a:ext cx="655344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会计环境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一）会计环境的含义及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计环境——是会计赖以产生，存在和发展的环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地，可分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2.1 .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会计外环境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主要是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外环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2.2 .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会计内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 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计环境发展至今显现出来的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两个重大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.1.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经济全球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.2 .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知识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  <p:sndAc>
      <p:stSnd>
        <p:snd r:embed="rId1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008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会计环境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58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二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会计环境对会计理论和准则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会计假设和原则方面的冲击——主要表现为通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膨胀会计、外币折算会计、合并报表会计三大难题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见突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会计目标的冲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会计程序和方法的冲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会计准则等规范的冲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  <p:sndAc>
      <p:stSnd>
        <p:snd r:embed="rId1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会计环境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三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相互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33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随着会计环境的发展，其影响涉及的范围会越来越广泛。总之，会计思想、会计技术方法的演变和完善，建立在相应经济环境需要的基础上，反过来，会计也对经济环境有一定的反作用，它们是一种长期共生与互动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：我国会计理论之现状——主要追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A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一、课程性质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财务会计的目标——通过财务会计报告，为信息使用者提供决策有用的信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以我国现行会计法律法规为主要依据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最新的会计准则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《企业会计准则——每股收益》（征求意见函）融入所涉的各章节，让学生理解会计准的中国特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d11b7"/>
                </a:solidFill>
                <a:latin typeface="Times New Roman"/>
              </a:rPr>
              <a:t>二、本书特色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41936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循“先浅后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序渐进”的教学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内容和方法上尽量将会计理论分析揉合在会计选择等过程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每章都安排一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介绍各会计要素在报表中的列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培养学生勤于思考问题，解决问题的能力，尤其针对本科学生要强调实际操作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d11b7"/>
                </a:solidFill>
                <a:latin typeface="Times New Roman"/>
              </a:rPr>
              <a:t>三、课程结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620120" cy="464796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讲述四大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⒈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计理论体系                         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（第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⒉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要素的确认、计量、记录及列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（第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2-11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⒊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企业财务报告及其编制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（第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12-14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计政策，会计估计及会计估计变更和会计差错更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（第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12b6"/>
                </a:solidFill>
                <a:latin typeface="Times New Roman"/>
              </a:rPr>
              <a:t>四、教学要求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971800" cy="495324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、对老师要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会计专业本科教育侧重理论与实际操作能力同时并重，我国大部分教材停留在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S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相关内容介绍，所以要求老师在上课过程中应将中外知识进行比较、分析，以利于学生“吸收精华，去其糟粕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1640" y="1523520"/>
            <a:ext cx="4419720" cy="495324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、对学生要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了解基本知识、理解基本概念、掌握基本的实务操作三个内容。凡是要求“重点理解、重点掌握”的部分均是学期末必须考试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课前预习，课后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多看参考书籍，多做习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切记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而不思则惘，思而不学则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、教学课时安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8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本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71600" y="1752480"/>
          <a:ext cx="7543800" cy="4727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611280"/>
                <a:gridCol w="608040"/>
                <a:gridCol w="2514600"/>
                <a:gridCol w="609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章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                   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章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                   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机             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             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912b6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>
            <a:hlinkClick r:id="rId1"/>
          </p:cNvPr>
          <p:cNvSpPr/>
          <p:nvPr/>
        </p:nvSpPr>
        <p:spPr>
          <a:xfrm>
            <a:off x="2500920" y="2286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财务会计的理论体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2057400" y="274320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货币资金及应收预付项目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2360160" y="3200400"/>
            <a:ext cx="7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存      货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/>
          </p:cNvPr>
          <p:cNvSpPr/>
          <p:nvPr/>
        </p:nvSpPr>
        <p:spPr>
          <a:xfrm>
            <a:off x="2360160" y="3678120"/>
            <a:ext cx="7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投      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5"/>
          </p:cNvPr>
          <p:cNvSpPr/>
          <p:nvPr/>
        </p:nvSpPr>
        <p:spPr>
          <a:xfrm>
            <a:off x="2353320" y="4100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固 定 资 产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6"/>
          </p:cNvPr>
          <p:cNvSpPr/>
          <p:nvPr/>
        </p:nvSpPr>
        <p:spPr>
          <a:xfrm>
            <a:off x="2499840" y="459252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无形资产与其他资产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7"/>
          </p:cNvPr>
          <p:cNvSpPr/>
          <p:nvPr/>
        </p:nvSpPr>
        <p:spPr>
          <a:xfrm>
            <a:off x="2445120" y="51814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流 动 负 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8"/>
          </p:cNvPr>
          <p:cNvSpPr/>
          <p:nvPr/>
        </p:nvSpPr>
        <p:spPr>
          <a:xfrm>
            <a:off x="2445120" y="565956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长 期 负 债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9"/>
          </p:cNvPr>
          <p:cNvSpPr/>
          <p:nvPr/>
        </p:nvSpPr>
        <p:spPr>
          <a:xfrm>
            <a:off x="2209680" y="601992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成 本 费 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0"/>
          </p:cNvPr>
          <p:cNvSpPr/>
          <p:nvPr/>
        </p:nvSpPr>
        <p:spPr>
          <a:xfrm>
            <a:off x="6223680" y="2362320"/>
            <a:ext cx="8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收入及利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1"/>
          </p:cNvPr>
          <p:cNvSpPr/>
          <p:nvPr/>
        </p:nvSpPr>
        <p:spPr>
          <a:xfrm>
            <a:off x="6019920" y="2743200"/>
            <a:ext cx="17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所 有 者 权 益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2"/>
          </p:cNvPr>
          <p:cNvSpPr/>
          <p:nvPr/>
        </p:nvSpPr>
        <p:spPr>
          <a:xfrm>
            <a:off x="6274080" y="320040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企业财务会计报告概述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/>
          </p:cNvPr>
          <p:cNvSpPr/>
          <p:nvPr/>
        </p:nvSpPr>
        <p:spPr>
          <a:xfrm>
            <a:off x="6314760" y="3657600"/>
            <a:ext cx="15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资产负债表及利润表编制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4"/>
          </p:cNvPr>
          <p:cNvSpPr/>
          <p:nvPr/>
        </p:nvSpPr>
        <p:spPr>
          <a:xfrm>
            <a:off x="6269040" y="4114800"/>
            <a:ext cx="12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现金流量表的编制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4956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会计政策、会计估计变更和会计差错更正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09720" y="518148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</a:rPr>
              <a:t>附注与其他财务报告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912b6"/>
                </a:solidFill>
                <a:latin typeface="Times New Roman"/>
              </a:rPr>
              <a:t>六、考试要求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cap="sq" w="12600">
            <a:solidFill>
              <a:srgbClr val="33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平时分占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20%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，期末考试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闭卷考试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单选、多选、判断、简答、业务处理及计算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考勤、平时作业、课堂讨论、案例分析等均为平时分的考察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638680" y="2819520"/>
            <a:ext cx="3505320" cy="4038480"/>
          </a:xfrm>
          <a:prstGeom prst="rect">
            <a:avLst/>
          </a:prstGeom>
          <a:solidFill>
            <a:srgbClr val="727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制作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主讲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大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X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学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mail:  XXXXXXXXXX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9280" y="398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0948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《中级财务会计》课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77080" y="1828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华文新魏"/>
                <a:ea typeface="华文新魏"/>
              </a:rPr>
              <a:t>第一章    财务会计的理论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财务 会计 课件</cp:keywords>
  <dc:language>en-US</dc:language>
  <cp:lastModifiedBy/>
  <cp:revision>0</cp:revision>
  <dc:subject/>
  <dc:title/>
</cp:coreProperties>
</file>