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52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0EC-C418-47E4-BE75-6C25BC71D9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；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C71-EC24-4180-B035-0AF74A37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4A8-9A80-42CD-9646-E41CA6F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AE9-FFCF-4E78-A34A-4C677AD6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ECD-9842-4259-8075-104E6D51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05AA-C62F-437E-A08E-CD92C3B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3B47-4A6B-4A7E-806D-6788A1ED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4CEA-EF59-463E-ADE0-365A8E4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ABE-BF4F-4A39-A07E-DD6966C9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F80-B7A4-46E3-8500-1342929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B36-E889-4627-886C-CA46762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C8BA-BD32-41B1-9805-7321E36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0B0-BC66-47AA-95AB-40A118A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623B-1875-48BF-AFE5-920AB30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790-817E-4EEB-A491-8BC45C4B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B3EC-3210-4BBC-B9B1-125B84E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AE3-70F3-4611-8857-751384BF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2818-A125-4E1F-8BDD-68A9609F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EC2-50C7-42E7-B2CA-4C7109A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8B1-5A3A-4950-929B-207069D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AA2-D877-43BF-AC0C-EC15C84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181-36F7-4FD2-AF85-EBCA4E0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5D2-B0E3-4BD1-821E-876712C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D4C-AAF1-46D6-A8FB-8AE8AE6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ADC-97F4-4F88-8120-CBD4C5B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F80B-A2C5-456E-9E45-ACCFF8B78C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545-27E7-4AE6-9591-99EAEAAA0D2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752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中期财务报告</a:t>
            </a:r>
            <a:br>
              <a:rPr sz="40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X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格式和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报表应是完整的会计报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不得简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应与上年报表相一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应按修改后的报表格式和内容编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比较报表也应作相应调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完整——不得简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报表      应一致——与上年报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格式和内容——按修改后（上年比较报表也应调整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458136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 合并会计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报表种类应与上年一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编合并会计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也应编合并会计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包括母公司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也应提供母公司报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中期内处置了所有子公司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只需提供母公司会计报表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但上年比较报表应包括合并报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报表种类应与上年一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                                                              中期——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若中期内处置了所有子公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比较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286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3526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733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675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比较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应提供以下比较会计报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末资产负债表和上年末资产负债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而非上年中期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中期末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可比本中期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初至可比本中期末利润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中期末现金流量表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初至可比本中期末的现金流量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华文新魏"/>
              </a:rPr>
              <a:t>三、附注之基本要求和内容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日后变化了的重要事项或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以“年初至本中期末”为基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的重要事项或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 附注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+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披露本中期重要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基本要求）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应遵循重要性原则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+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是上年后更新的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关联方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-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同时提供比较数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部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20040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85264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580536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附注应以“年初至本中期末”为基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仅披露本中期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4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对外进行重大投资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则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需披露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后事项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、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也需披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政策及变更                                                证券发行、回购和偿还情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变更                                                    分配利润情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大会计差错                                                     分部收入与盈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节性或周期性特征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报附注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日后非调整事项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关联方交易                                                          或有事项变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的范围变化                                         企业结构变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别或异常的报表项目                                      其他重大交易或事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中报至少应包括的内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2952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1371600"/>
            <a:ext cx="304560" cy="4343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①经营的季节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供暖、冷饮、农业、旅游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节性产品的零售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周期性特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滚动开发型的房地产开发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均需说明特征、相关收入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损益的影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企业经营受季节性因素影响明显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产和销售旺季集中在＊－＊月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他月份基本上处于半停产状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－＊月份共实现销售收入＊＊＊ 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中，＊月份＊＊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月份的销售收入和净利润分别占全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－＊月份销售收入和净利润的＊％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％。”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公司经营业务主要为房地产开发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而且每开发完成一个房地产项目之后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再开发下一个房地产项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公司于＊＊年＊月＊日开发＊＊项目，＊＊项目开发周期为＊年。同期无其他开发项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由于所开发的房地产在完工并实现对外销售之前不能确认收入，所以本公司在本季度无收入可予确认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372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                 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实施日期</a:t>
            </a:r>
            <a:r>
              <a:rPr b="1" lang="zh-CN" sz="1800" spc="-1" strike="noStrike">
                <a:solidFill>
                  <a:srgbClr val="ff0033"/>
                </a:solidFill>
                <a:latin typeface="Arial"/>
              </a:rPr>
              <a:t> ——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２００２年１月１日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上市的金融企业——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金融企业会计制度》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   会计新准则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上市公司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新制度（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2002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）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所有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上市公司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——   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中期财务报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准则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存货准则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实施范围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股份有限公司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固定资产准则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非金融外投企业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《企业会计制度》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外商投资企业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外投金融企业  ——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金融企业会计制度》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 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详见立信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003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年《会计一点通——会计新制度新准则逐条解析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816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00200" y="137160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20968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98108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12408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19112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 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    性质特别或金额异常的报表项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包括现金流量表项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 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性质特别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经理挪用公司资金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污染被罚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托经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承包经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科研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23520" y="14479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异常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变动幅度大，金额较大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地震等自然灾害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企业资产被征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④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披露内容、金额及影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公司在今年与……签订了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协议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司在本季度已投入了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**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万元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四、在年度会计报表中的披露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在其年报附注中披露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在最后中期的重大变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需要编制季报的企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第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第２）季度财务报告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②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需要编制半年报的企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下半年的财务报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报附注应披露——会计估计在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最后中期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重大变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季报的——第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第２）季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半年报的——下半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5516640"/>
            <a:ext cx="287280" cy="79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五、编中报的确认和计量原则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基本原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独立观（而非一体观）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①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各中期为独立的会计期间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②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采用与年报相一致的会计政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③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实际发生额作为费用确认和计量的基础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④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可靠但不配比（据实列支，不分配）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因此不易于调节利润但预测性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销售量集中在第４季度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与年报相一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变更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用变更了的会计政策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之间一般不得变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要素的确认与计量 —— 与年报一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报确认与计量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会计估计变更不追溯调整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报告频率  ——不影响年度计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节性、周期性或者偶然性取得的收入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年度中不均匀发生的费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413000"/>
            <a:ext cx="142920" cy="410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_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与年报相一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采用与年报相一致的会计政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企业在中期不得随意变更会计政策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持前后各期会计政策的一贯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18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、会计政策变更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用变更了的会计政策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之间一般不得变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变更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法律、法规或规章的要求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能提供更可靠、更相关的会计信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般不允许在同一年各中期之间随意变更会计政策（国家特殊规定除外。如要求部分上市公司从＊年第３季度起披露季报。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中期会计要素的确认与计量—— 与年报一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资产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过去（同负债）形成的资源，预期能带来未来经济利益的流入（区别于费用）。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根据以后中期将要发生的经济行为来判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Ｃ、不能利用中期报告人为均衡各中期收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待处理财产损溢的处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又如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概念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概述   意义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内容   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中报                    重要性原则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报表编制要求 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编制原则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方法    附注之基本要求和内容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在年报中的披露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确认与计量原则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中期会计政策变更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205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56536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429000"/>
            <a:ext cx="287280" cy="230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Ａ）存货：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末数量、成本的确认、计量原则相同。但可更多地估计。如：根据合同等可以预计购货折扣很可能发生，则可扣除购货折扣后作为购货成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Ｂ）资产减值：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测试、计提、转回标准与年末一致。但只需检查上年末以来发生的重大减值迹象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负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现时义务，预期会导致经济利益的流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把潜在义务确认为负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Ｃ、不能不确认现时义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预计负债的确认应与年末相一致，但最佳估计数发生变化时应调增或调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又如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772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3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或有事项确认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981080"/>
          <a:ext cx="8457840" cy="4255920"/>
        </p:xfrm>
        <a:graphic>
          <a:graphicData uri="http://schemas.openxmlformats.org/drawingml/2006/table">
            <a:tbl>
              <a:tblPr/>
              <a:tblGrid>
                <a:gridCol w="2819520"/>
                <a:gridCol w="2818800"/>
                <a:gridCol w="281952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 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确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基本确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资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很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9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有资产、负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有负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极小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212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某公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A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年４月被告侵权，法院受理并初步认定其侵权，根据法律应赔偿８００万元至１０００万元。则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于第２季度确认“预计负债”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经济利益很可能流出，且金额能可靠估计（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／２＝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万元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B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季度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审判决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赔偿９８０万元。则在３季度应再确认８０万元的负债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129528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所有者权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确认条件：净资产的增减变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④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收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末确认与计量原则相同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收入确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133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7920" y="190512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跨年度—完成合同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跨年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19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590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结果能可靠估计—完工百分比法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3809880"/>
            <a:ext cx="33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结果不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可靠估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505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876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成本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可补偿成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０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1295280"/>
            <a:ext cx="8763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日常活动形成的经济利益的总流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在各中期随意预计或递延收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图书出版公司收到订单和购书款与发送图书属于不同的中期，只能在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发送图书时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才能确认收入（与图书所有权有关的风险和报酬已转移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费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常活动所发生的经济利益的流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随意预提或待摊费用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所得税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报的确认和计量原则一致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所得税核算比较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676520"/>
          <a:ext cx="8610480" cy="243828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1600200"/>
                <a:gridCol w="2895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间性差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应交所得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应付税款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考虑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设置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＝所得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纳税影响会计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考虑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设置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＝所得税＋（－）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380880" y="4572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递延税大借：税法确认的数大则递延税款在借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cc66"/>
                </a:solidFill>
                <a:latin typeface="Arial"/>
              </a:rPr>
              <a:t>纳税影响会计法比较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2514600"/>
          <a:ext cx="9144000" cy="2895480"/>
        </p:xfrm>
        <a:graphic>
          <a:graphicData uri="http://schemas.openxmlformats.org/drawingml/2006/table">
            <a:tbl>
              <a:tblPr/>
              <a:tblGrid>
                <a:gridCol w="1143000"/>
                <a:gridCol w="1981080"/>
                <a:gridCol w="2438640"/>
                <a:gridCol w="358128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税率不变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未征新税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税率改变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开征新税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转回时间性差异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递延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递延税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金额相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调整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按当初税率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两个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债务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调整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按现行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个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第一节      概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楷体_GB2312"/>
              </a:rPr>
              <a:t>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楷体_GB2312"/>
              </a:rPr>
              <a:t>中报与年报比较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492280"/>
          <a:ext cx="9143640" cy="3673080"/>
        </p:xfrm>
        <a:graphic>
          <a:graphicData uri="http://schemas.openxmlformats.org/drawingml/2006/table">
            <a:tbl>
              <a:tblPr/>
              <a:tblGrid>
                <a:gridCol w="814680"/>
                <a:gridCol w="2578680"/>
                <a:gridCol w="905400"/>
                <a:gridCol w="885960"/>
                <a:gridCol w="1507680"/>
                <a:gridCol w="1508400"/>
                <a:gridCol w="942840"/>
              </a:tblGrid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完整的会计年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编报时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会计估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披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时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繁简程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中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≤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如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1-9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更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重大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事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简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年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=1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较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更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及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繁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6326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利润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46880" y="2225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反映中期经营成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执业查询可参见立信《会计一点通——会计新制度新准则逐条解析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报告频率    ——不影响年度计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计量基础——年初至本中期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“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财务报告频率不应影响年度结果计量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能因财务报告期间的缩短而改变会计要素的确认和计量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会计估计变更——不追溯调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变更－未来适用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季节性、周期性或者偶然性取得的收入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）一般不应在中报中预计或者递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在发生时予以确认和计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２）年末允许预计或者递延的除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与年报一致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</a:t>
            </a:r>
            <a:r>
              <a:rPr b="1" i="1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</a:t>
            </a:r>
            <a:r>
              <a:rPr b="1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不预计或递延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发生时确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节性、周期性或偶然性收入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特殊除外——年末允许预计或递延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9625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0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会计年度中不均匀发生的费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般不应在中报中预提或者待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在发生时予以确认和计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２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末允许预提或者待摊的除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         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某企业８月份发生培训费支出２０万元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直接计入８月份的损益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</a:t>
            </a:r>
            <a:r>
              <a:rPr b="1" i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不预提或待摊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发生时确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年度不均匀费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特殊除外——年末允许预提或待摊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670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32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中期会计估计的应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证会计信息可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要财务信息都能恰当披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应基于合理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４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比年报应用更多的会计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间限制和成本效益考虑，如存货的盘点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保证会计信息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可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估计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重要财务信息能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恰当披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合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比年报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更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41911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5280" y="549360"/>
            <a:ext cx="87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内部抵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制合并会计报表时，年报需进行全面而详细的抵销，中报则不需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特殊行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保险行业年报需精算（技术复杂）。中报则不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减值准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末需对各类资产作全面、详细的减值测试和计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六、中期会计政策变更的处理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一般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涉及以前中期的，也应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国家规定不调整则可不调整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——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政策变更    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涉及以前中期的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也追溯调整（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度除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国家规定不调整——不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3357720"/>
            <a:ext cx="216000" cy="172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  <a:ea typeface="华文彩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  <a:ea typeface="华文行楷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91540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 rot="6378600">
            <a:off x="270720" y="2472840"/>
            <a:ext cx="30481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大家！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31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73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一、概  念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半年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~9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短于一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月１日－１２月 ３１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影响——中期内开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业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末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的界定                              中间歇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受影响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间发行股票或上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437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300640"/>
            <a:ext cx="288720" cy="9241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3760 h 924120"/>
              <a:gd name="textAreaBottom" fmla="*/ 900360 h 9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1413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助于提高会计信息质量——不滞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编制中报的意义      有助于完善上市公司信息披露制度——透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助于规范企业行为——投资者利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213372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二、中期财务报告的内容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至少应包括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资产负债表   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利润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改成两栏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季度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现金流量表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季度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报表附注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内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9636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隶书"/>
                <a:ea typeface="隶书"/>
              </a:rPr>
              <a:t>第二节   中报的编制原则和方法</a:t>
            </a:r>
            <a:br>
              <a:rPr sz="4000"/>
            </a:br>
            <a:br>
              <a:rPr sz="2000"/>
            </a:br>
            <a:r>
              <a:rPr b="1" lang="zh-CN" sz="3600" spc="-1" strike="noStrike">
                <a:solidFill>
                  <a:srgbClr val="ffcc66"/>
                </a:solidFill>
                <a:latin typeface="隶书"/>
                <a:ea typeface="隶书"/>
              </a:rPr>
              <a:t>一、重 要 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遵循重要性原则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金额或比例或性质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)</a:t>
            </a: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以中期财务数据为基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应以预计的年度财务数据为基础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)</a:t>
            </a: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计量可更依赖于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证包括了报表理解相关信息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2003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CPA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书） 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）重要性需会计人员判断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</a:rPr>
              <a:t>·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需具体分析和判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华文新魏"/>
              </a:rPr>
              <a:t>二、中报的编制要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格式和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编制要求        报表种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比较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276640"/>
            <a:ext cx="287640" cy="2016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中期 财务 报告</cp:keywords>
  <dc:language>en-US</dc:language>
  <cp:lastModifiedBy/>
  <cp:revision>0</cp:revision>
  <dc:subject/>
  <dc:title/>
</cp:coreProperties>
</file>