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AE70-B561-47D6-83FF-C122B099D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E622-3A93-4E41-B02D-3F8407BC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5DAD-00D7-4DE3-B5C3-50780285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CC97-3F55-4234-9D39-1EEA54DF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5EEF-5F5F-4486-917D-7CA8CC58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0DED-BF9D-47E7-9962-87B91993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2913-18B6-4E4F-B018-BC1CBDEB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7D6F-6E07-4814-ABCE-F41B8A1D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C308-1507-4888-A85E-5EDC2B62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6EAF-64A9-4031-BCF9-D1D9AB92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518B-9752-4009-8536-58BA20A9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E2C4-2431-4724-9156-F599D67A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F616-9DF2-4BA9-BFC6-7EBE802A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4C97-7751-4DC2-B0DA-A320A6F6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BFCA-0070-47EE-A743-7D0E0F37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D166-F597-4C00-99D3-DC63EF08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73F2-726C-471C-B940-24173248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2CD1-2658-4FE6-929A-76C97C24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C6CF-55F0-4459-A674-5D177D27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4310-91C5-4A83-B65E-C5CC504F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0991-D4AE-46A8-945D-C2C02665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4D65-EF79-4FCE-AB6C-AB06BD56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DD73-5D62-433C-87A6-4911F719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A0B2-9D56-4CD9-920A-171AF772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7689-6C5C-46A2-8C77-0756DFEC7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3698-10E9-4A2B-B8AB-FD1CBEA00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1900080" y="1773360"/>
            <a:ext cx="52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8a"/>
                </a:solidFill>
                <a:latin typeface="黑体"/>
                <a:ea typeface="黑体"/>
              </a:rPr>
              <a:t>西师大版 三年级语文 下册 第四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32960" y="3141720"/>
            <a:ext cx="22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《扁鹊治病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11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“站了一会儿”说明扁鹊作了仔细观察后才下的结论，而并非信口开河，而蔡桓公“毫不在意”，说明了他盲目自信。他后来对扁鹊的评价，又说明了他的无知和偏见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9280" y="764640"/>
            <a:ext cx="86043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扁鹊第二、三次见蔡桓公，均隔十天左右。他又说了些什么话劝蔡桓公，结果又如何？短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后，蔡桓公的病情有何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（由肌肤到肠胃）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扁鹊第四次见到蔡桓公时，为什么掉头就跑？从这个动作，你感受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这个动作，间接看出蔡桓公病情已到了无可救药的程度，联系上下文又可见扁鹊医术高明、诊断准确、机警。）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EEE9-775A-4F60-9E73-D874459DD3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684360" y="549360"/>
            <a:ext cx="7559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蔡桓公讳疾忌医，最终是什么下场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前四次相见之隔为十来天，而这次只用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五天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</a:rPr>
              <a:t>说明蔡桓公病情急骤恶化，扁鹊诊断准确，说明上文扁鹊见蔡桓公掉头就跑，实在是事出有因。最后，蔡桓公病死了，是故事发展的结果，也是蔡桓公讳疾忌医的必然恶果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5050"/>
                </a:solidFill>
                <a:latin typeface="Arial"/>
                <a:ea typeface="华文行楷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921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了这篇课文，你有什么想对蔡桓公说的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这篇寓言，你受到了什么启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（要善于倾听别人的意见，要正视自己的缺点错误，不能拒绝别人的批评和帮助。）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611280" y="299736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会本课生字、新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确流利，有感情的朗读课文，读出人物的语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课文内容，体会扁鹊劝告蔡桓公治病的过程；教育同学们要学会善于倾听别人的意见，要相信医学，有病一定要及时医治的道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268360" y="213372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华文楷体"/>
                <a:ea typeface="华文楷体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5"/>
          <p:cNvSpPr/>
          <p:nvPr/>
        </p:nvSpPr>
        <p:spPr>
          <a:xfrm>
            <a:off x="3492360" y="256392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3792240" y="4868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扁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2"/>
          <a:stretch/>
        </p:blipFill>
        <p:spPr>
          <a:xfrm>
            <a:off x="2124000" y="1052640"/>
            <a:ext cx="4105440" cy="35287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0"/>
          <p:cNvSpPr/>
          <p:nvPr/>
        </p:nvSpPr>
        <p:spPr>
          <a:xfrm>
            <a:off x="2599920" y="6208560"/>
            <a:ext cx="33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573408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2844360" y="3933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扁鹊劝告蔡桓公治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bianque2"/>
          <p:cNvPicPr/>
          <p:nvPr/>
        </p:nvPicPr>
        <p:blipFill>
          <a:blip r:embed="rId2"/>
          <a:stretch/>
        </p:blipFill>
        <p:spPr>
          <a:xfrm>
            <a:off x="1979640" y="476280"/>
            <a:ext cx="4248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学习生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1341360"/>
            <a:ext cx="768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释（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sh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隶书"/>
              </a:rPr>
              <a:t>ì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    肉（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ròu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  睬（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cǎi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髓（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suǐ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   烫（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隶书"/>
              </a:rPr>
              <a:t>à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ng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 毫（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隶书"/>
              </a:rPr>
              <a:t>á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o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邀（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yāo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    剂（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j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隶书"/>
              </a:rPr>
              <a:t>ì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252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理解词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隶书"/>
                <a:ea typeface="隶书"/>
              </a:rPr>
              <a:t>拜见   毫不在意  邀功请赏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隶书"/>
                <a:ea typeface="隶书"/>
              </a:rPr>
              <a:t>理睬   深入骨髓  无能为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隶书"/>
                <a:ea typeface="隶书"/>
              </a:rPr>
              <a:t>讳疾忌医</a:t>
            </a:r>
            <a:r>
              <a:rPr b="0" lang="en-US" sz="3600" spc="-1" strike="noStrike">
                <a:solidFill>
                  <a:srgbClr val="ff33cc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9"/>
          <p:cNvSpPr/>
          <p:nvPr/>
        </p:nvSpPr>
        <p:spPr>
          <a:xfrm>
            <a:off x="971640" y="1557360"/>
            <a:ext cx="69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文写了什么内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扁鹊是谁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扁鹊给谁治病？扁鹊治病的结果是怎么样？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1116000" y="4046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Arial"/>
                <a:ea typeface="隶书"/>
              </a:rPr>
              <a:t>初读课文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849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华文行楷"/>
                <a:ea typeface="华文行楷"/>
              </a:rPr>
              <a:t>     </a:t>
            </a:r>
            <a:r>
              <a:rPr b="1" lang="zh-CN" sz="4000" spc="-1" strike="noStrike">
                <a:solidFill>
                  <a:srgbClr val="0099ff"/>
                </a:solidFill>
                <a:latin typeface="华文行楷"/>
                <a:ea typeface="华文行楷"/>
              </a:rPr>
              <a:t>这篇课文写的是春秋时期，名医扁鹊三番两次劝说蔡桓公要治病，但是由于蔡桓公不相信他的话，最终病入骨髓，无药可救的事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58560" y="260280"/>
            <a:ext cx="838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ff"/>
                </a:solidFill>
                <a:latin typeface="Arial"/>
                <a:ea typeface="隶书"/>
              </a:rPr>
              <a:t>学习课文第一，二自然段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扁鹊第一次见蔡桓公说了哪些话劝他应及时治疗？对于扁鹊的忠告，蔡桓公是怎么回答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认为扁鹊是以怎样的语气对蔡桓公说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（必恭必敬的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角色朗读课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9:31:59Z</dcterms:created>
  <dc:creator/>
  <dc:description/>
  <cp:keywords>幻灯片之家 http:/www.eeppt.com</cp:keywords>
  <dc:language>en-US</dc:language>
  <cp:lastModifiedBy/>
  <dcterms:modified xsi:type="dcterms:W3CDTF">2015-07-20T01:27:44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