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832-E971-42A3-A82A-0FA4038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590-DE96-4A80-8D53-855D10AB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763-4E0B-46C8-88AF-F1715A3D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EBC-A273-4D61-AC92-7B994B47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C81-0665-45BF-ADF7-2878FD46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16E-1706-4071-8444-94982C33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F7B-BE87-424F-98BF-22A07718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84B-FABD-47CA-AFDE-37A8B0E8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35E-1AB2-404D-9784-430203AA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51F6-62F9-420A-B48C-EDA8C3A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3CF-0164-4E71-8B06-E0FC7B58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318-E170-414C-8867-D321D78B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C58D-B20F-433C-AD79-CAC5DAE6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BJ_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762120" y="3808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6858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九年义务教育六年制小学语文第六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68360" y="2133720"/>
            <a:ext cx="522936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0080" y="191772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翠鸟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277164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Object 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56386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823840" y="541008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的颜色非常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鲜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Object 2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5602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-76320" y="342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）的爪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867280" y="14479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）的羽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）的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2286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）的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62120" y="3397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62120" y="380880"/>
            <a:ext cx="19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透亮灵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33520" y="228600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又尖又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4343040" y="228600"/>
            <a:ext cx="3429360" cy="685800"/>
            <a:chOff x="4343040" y="228600"/>
            <a:chExt cx="3429360" cy="685800"/>
          </a:xfrm>
        </p:grpSpPr>
        <p:sp>
          <p:nvSpPr>
            <p:cNvPr id="61" name="Text Box 13"/>
            <p:cNvSpPr/>
            <p:nvPr/>
          </p:nvSpPr>
          <p:spPr>
            <a:xfrm>
              <a:off x="6172200" y="2286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橄榄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 flipH="1">
              <a:off x="4343040" y="609480"/>
              <a:ext cx="160020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5333760" y="1447920"/>
            <a:ext cx="2438640" cy="609480"/>
            <a:chOff x="5333760" y="1447920"/>
            <a:chExt cx="2438640" cy="609480"/>
          </a:xfrm>
        </p:grpSpPr>
        <p:sp>
          <p:nvSpPr>
            <p:cNvPr id="64" name="Text Box 16"/>
            <p:cNvSpPr/>
            <p:nvPr/>
          </p:nvSpPr>
          <p:spPr>
            <a:xfrm>
              <a:off x="6172200" y="1447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浅绿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 flipH="1">
              <a:off x="5333760" y="1752840"/>
              <a:ext cx="68580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22"/>
          <p:cNvGrpSpPr/>
          <p:nvPr/>
        </p:nvGrpSpPr>
        <p:grpSpPr>
          <a:xfrm>
            <a:off x="4190760" y="2757600"/>
            <a:ext cx="3810240" cy="520560"/>
            <a:chOff x="4190760" y="2757600"/>
            <a:chExt cx="3810240" cy="520560"/>
          </a:xfrm>
        </p:grpSpPr>
        <p:sp>
          <p:nvSpPr>
            <p:cNvPr id="67" name="Text Box 19"/>
            <p:cNvSpPr/>
            <p:nvPr/>
          </p:nvSpPr>
          <p:spPr>
            <a:xfrm>
              <a:off x="6172200" y="27576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赤褐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0"/>
            <p:cNvSpPr/>
            <p:nvPr/>
          </p:nvSpPr>
          <p:spPr>
            <a:xfrm flipH="1">
              <a:off x="4190760" y="3048120"/>
              <a:ext cx="1981080" cy="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24"/>
          <p:cNvSpPr/>
          <p:nvPr/>
        </p:nvSpPr>
        <p:spPr>
          <a:xfrm>
            <a:off x="2976120" y="6033960"/>
            <a:ext cx="34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的颜色非常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鲜艳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7620120" y="457200"/>
            <a:ext cx="152280" cy="2743200"/>
          </a:xfrm>
          <a:custGeom>
            <a:avLst/>
            <a:gdLst>
              <a:gd name="textAreaLeft" fmla="*/ 0 w 152280"/>
              <a:gd name="textAreaRight" fmla="*/ 55080 w 1522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52578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038480" y="5181480"/>
            <a:ext cx="2590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514600" y="4876920"/>
            <a:ext cx="2057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105520" y="5105520"/>
            <a:ext cx="2666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崔鸟飞"/>
          <p:cNvPicPr/>
          <p:nvPr/>
        </p:nvPicPr>
        <p:blipFill>
          <a:blip r:embed="rId1"/>
          <a:stretch/>
        </p:blipFill>
        <p:spPr>
          <a:xfrm>
            <a:off x="4343400" y="0"/>
            <a:ext cx="4267080" cy="4006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60280" y="4572000"/>
            <a:ext cx="165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鸣声清脆，爱贴着水面疾飞，一眨眼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轻轻地停在苇秆上了。它一动不动地注视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着微波的水面，等待游到水面上来的小鱼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073160" y="9144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鸟鸣声清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253520" y="2286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叼鱼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6095880" y="510552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838080" y="556272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5334120" y="55627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A52-6FE6-421E-B928-7BF0EB746E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533520" y="21938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鱼悄悄地把头露出水面，吹了个小泡泡。尽管它这样机灵，还是难以逃脱翠鸟锐利的眼睛。翠鸟蹬开苇秆，像箭一样飞过去，叼起小鱼，贴着水面往远处飞走了。只有苇秆还在摇晃，水波还在荡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80880" y="7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读下面课文并思考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143000" y="1371600"/>
            <a:ext cx="73152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划出说明翠鸟动作敏捷的词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200400" y="37339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. . . 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85800" y="373392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238880" y="374796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209680" y="42670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117160" y="1143000"/>
            <a:ext cx="5301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真想捉一只翠鸟来饲养。老渔翁看了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说：“孩子们，你们知道翠鸟的家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沿着小溪上去，在那陡峭的石壁上。它从那么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方飞到这里来，是要和你们做朋友的呀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8:27:53Z</dcterms:created>
  <dc:creator/>
  <dc:description/>
  <cp:keywords>幻灯片之家 http:/www.eeppt.com</cp:keywords>
  <dc:language>en-US</dc:language>
  <cp:lastModifiedBy/>
  <dcterms:modified xsi:type="dcterms:W3CDTF">2015-07-04T02:58:4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