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DCC2-6D57-4C13-AA32-B26C39233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FDC9-E6BB-4390-91D5-E771D549F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A24D-CB63-478D-9587-25302D939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F9FC-6B13-4F9B-962B-0B3F2F1E3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B4BC-D084-446B-8055-CC8AFBCC4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E2C5-6142-4694-A04C-C7A7356E7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5B90-F908-4948-A2AA-3830D7E74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7306-3457-44FA-A672-8328D1A1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E9CA-E1B9-4C0F-A048-7E9122419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F571-B2A9-49DB-93D0-0C9550D6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6423-FFD0-4BE8-BF3E-EF4CB9A1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39AF-CDD9-43CD-8BA1-CB007562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FB8DB-7D7B-43A0-91CD-430CE4D40B4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ucai.dabaoku.com/zhiwu/hehua/web/038bl.htm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kpic.com/html/60/Show_2766.htm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zhongguofeng/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"/>
          <p:cNvSpPr/>
          <p:nvPr/>
        </p:nvSpPr>
        <p:spPr>
          <a:xfrm>
            <a:off x="2556000" y="2133720"/>
            <a:ext cx="309600" cy="21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236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74880" y="2997360"/>
            <a:ext cx="27730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8000"/>
                </a:solidFill>
                <a:latin typeface="Arial"/>
              </a:rPr>
              <a:t>《池上》</a:t>
            </a:r>
            <a:r>
              <a:rPr b="0" lang="en-US" sz="4500" spc="-1" strike="noStrike">
                <a:solidFill>
                  <a:srgbClr val="008000"/>
                </a:solidFill>
                <a:latin typeface="Arial"/>
              </a:rPr>
              <a:t>PPT</a:t>
            </a:r>
            <a:r>
              <a:rPr b="0" lang="zh-CN" sz="4500" spc="-1" strike="noStrike">
                <a:solidFill>
                  <a:srgbClr val="008000"/>
                </a:solidFill>
                <a:latin typeface="Arial"/>
              </a:rPr>
              <a:t>课件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7"/>
          <p:cNvSpPr/>
          <p:nvPr/>
        </p:nvSpPr>
        <p:spPr>
          <a:xfrm>
            <a:off x="1116000" y="166536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页脚占位符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5" descr="038b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035000"/>
            <a:ext cx="9753480" cy="78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页脚占位符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5" descr="abb7afcbbd321eff7a0ca9f7711d1207_m">
            <a:hlinkClick r:id="rId2"/>
          </p:cNvPr>
          <p:cNvPicPr/>
          <p:nvPr/>
        </p:nvPicPr>
        <p:blipFill>
          <a:blip r:embed="rId3"/>
          <a:srcRect l="0" t="0" r="0" b="874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49192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 Black"/>
              </a:rPr>
              <a:t>自学提示</a:t>
            </a: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: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3789000"/>
            <a:ext cx="83772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(1)</a:t>
            </a:r>
            <a:r>
              <a:rPr b="0" lang="zh-CN" sz="2800" spc="-1" strike="noStrike">
                <a:solidFill>
                  <a:srgbClr val="cc0099"/>
                </a:solidFill>
                <a:latin typeface="Arial"/>
              </a:rPr>
              <a:t>自由朗读古诗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cc0099"/>
                </a:solidFill>
                <a:latin typeface="Arial"/>
              </a:rPr>
              <a:t>借助拼音读准字音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cc0099"/>
                </a:solidFill>
                <a:latin typeface="Arial"/>
              </a:rPr>
              <a:t>把诗句读通顺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(2)</a:t>
            </a:r>
            <a:r>
              <a:rPr b="0" lang="zh-CN" sz="2800" spc="-1" strike="noStrike">
                <a:solidFill>
                  <a:srgbClr val="cc0099"/>
                </a:solidFill>
                <a:latin typeface="Arial"/>
              </a:rPr>
              <a:t>认读生字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cc0099"/>
                </a:solidFill>
                <a:latin typeface="Arial"/>
              </a:rPr>
              <a:t>学记生字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(3)</a:t>
            </a:r>
            <a:r>
              <a:rPr b="0" lang="zh-CN" sz="2800" spc="-1" strike="noStrike">
                <a:solidFill>
                  <a:srgbClr val="cc0099"/>
                </a:solidFill>
                <a:latin typeface="Arial"/>
              </a:rPr>
              <a:t>借助课前准备的资料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cc0099"/>
                </a:solidFill>
                <a:latin typeface="Arial"/>
              </a:rPr>
              <a:t>整体了解古诗大意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.</a:t>
            </a:r>
            <a:r>
              <a:rPr b="0" lang="zh-CN" sz="2800" spc="-1" strike="noStrike">
                <a:solidFill>
                  <a:srgbClr val="cc0099"/>
                </a:solidFill>
                <a:latin typeface="Arial"/>
              </a:rPr>
              <a:t>想一想池塘上发生了一件什么事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9640" y="1988640"/>
            <a:ext cx="83772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99"/>
                </a:solidFill>
                <a:latin typeface="Arial"/>
              </a:rPr>
              <a:t>chēng    tǐng      fú       píng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99"/>
                </a:solidFill>
                <a:latin typeface="Arial"/>
              </a:rPr>
              <a:t>  </a:t>
            </a:r>
            <a:r>
              <a:rPr b="0" lang="zh-CN" sz="4800" spc="-1" strike="noStrike">
                <a:solidFill>
                  <a:srgbClr val="cc0099"/>
                </a:solidFill>
                <a:latin typeface="Arial"/>
              </a:rPr>
              <a:t>撑         艇        浮       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Arial"/>
              </a:rPr>
              <a:t>撑腰       支撑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Arial"/>
              </a:rPr>
              <a:t>潜水艇       快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Arial"/>
              </a:rPr>
              <a:t>浮力         沉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Arial"/>
              </a:rPr>
              <a:t>萍水相逢          浮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28720" y="134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77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77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77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77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" dur="77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7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7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77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77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使用规范说明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99ff6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99ff6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16000" y="3645000"/>
            <a:ext cx="768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中国风ppt模板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8530-3FC7-414A-857B-F51E2E93795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251928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b7"/>
                </a:solidFill>
                <a:latin typeface="Arial Black"/>
              </a:rPr>
              <a:t>我会解词语</a:t>
            </a: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: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9640" y="2565360"/>
            <a:ext cx="83772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艇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比较轻便的船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不解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不懂得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藏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隐藏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一道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指浮萍被小船分开后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一时难以合拢而留下的踪迹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浮萍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一种漂浮在水面上的草本植物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2708280"/>
            <a:ext cx="187164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b7"/>
                </a:solidFill>
                <a:latin typeface="Arial Black"/>
              </a:rPr>
              <a:t>诗意</a:t>
            </a: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3933360"/>
            <a:ext cx="85946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Arial"/>
              </a:rPr>
              <a:t>一个小孩子撑着小船</a:t>
            </a: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cc0099"/>
                </a:solidFill>
                <a:latin typeface="Arial"/>
              </a:rPr>
              <a:t>偷偷地采了白莲回来</a:t>
            </a: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cc0099"/>
                </a:solidFill>
                <a:latin typeface="Arial"/>
              </a:rPr>
              <a:t>他不懂得隐藏踪迹</a:t>
            </a: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cc0099"/>
                </a:solidFill>
                <a:latin typeface="Arial"/>
              </a:rPr>
              <a:t>浮萍被他的小船荡开</a:t>
            </a: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cc0099"/>
                </a:solidFill>
                <a:latin typeface="Arial"/>
              </a:rPr>
              <a:t>留下一条长长的水路</a:t>
            </a: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99ff66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8T01:48:06Z</dcterms:created>
  <dc:creator/>
  <dc:description/>
  <cp:keywords>幻灯片之家 http:/www.eeppt.com</cp:keywords>
  <dc:language>en-US</dc:language>
  <cp:lastModifiedBy/>
  <dcterms:modified xsi:type="dcterms:W3CDTF">2015-07-20T01:31:52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6</vt:r8>
  </property>
</Properties>
</file>