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956-2377-464C-8856-8C32A9AA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3B7-1A3C-4B53-A227-8756074E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044-18F9-4A2A-9F62-ABD5879B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005-7641-4177-A191-1BE25468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9B3-259E-4119-9773-7BA4B66E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7C5-B57F-4F50-BD7F-10496026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981-6D2C-4766-90DA-A9330561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7B4-2A3C-4059-99F1-2330BACD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163-201D-420F-BEB3-7EAA986B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C34-5DEF-4733-8EB5-8C756A17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338-D860-44EC-BA6B-F97E6ECB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33E-E2F0-4C0E-9B04-92F10CC7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C625-A7F9-4E35-8D6D-A726B3B7D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1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2e06"/>
                </a:solidFill>
                <a:latin typeface="Arial"/>
                <a:ea typeface="王漢宗波卡體一空陰"/>
              </a:rPr>
              <a:t>《春望》</a:t>
            </a:r>
            <a:r>
              <a:rPr b="1" lang="en-US" sz="3600" spc="-1" strike="noStrike">
                <a:solidFill>
                  <a:srgbClr val="f42e06"/>
                </a:solidFill>
                <a:latin typeface="Arial"/>
                <a:ea typeface="王漢宗波卡體一空陰"/>
              </a:rPr>
              <a:t>PPT</a:t>
            </a:r>
            <a:r>
              <a:rPr b="1" lang="zh-CN" sz="3600" spc="-1" strike="noStrike">
                <a:solidFill>
                  <a:srgbClr val="f42e06"/>
                </a:solidFill>
                <a:latin typeface="Arial"/>
                <a:ea typeface="王漢宗波卡體一空陰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985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王漢宗波卡體一空陰"/>
                <a:ea typeface="王漢宗波卡體一空陰"/>
              </a:rPr>
              <a:t>      </a:t>
            </a:r>
            <a:r>
              <a:rPr b="0" lang="zh-TW" sz="4000" spc="-1" strike="noStrike">
                <a:solidFill>
                  <a:srgbClr val="0066ff"/>
                </a:solidFill>
                <a:latin typeface="王漢宗波卡體一空陰"/>
                <a:ea typeface="王漢宗波卡體一空陰"/>
              </a:rPr>
              <a:t>组员感想</a:t>
            </a:r>
            <a:r>
              <a:rPr b="0" lang="en-US" sz="4000" spc="-1" strike="noStrike">
                <a:solidFill>
                  <a:srgbClr val="0066ff"/>
                </a:solidFill>
                <a:latin typeface="王漢宗波卡體一空陰"/>
                <a:ea typeface="王漢宗波卡體一空陰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王漢宗波卡體一空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王漢宗波卡體一空陰"/>
                <a:ea typeface="王漢宗波卡體一空陰"/>
              </a:rPr>
              <a:t>我们看到这首诗，觉得这首诗表达了诗人为国事而感伤，为亲人而思念</a:t>
            </a:r>
            <a:r>
              <a:rPr b="0" lang="en-US" sz="4400" spc="-1" strike="noStrike">
                <a:solidFill>
                  <a:srgbClr val="000000"/>
                </a:solidFill>
                <a:latin typeface="王漢宗波卡體一空陰"/>
                <a:ea typeface="王漢宗波卡體一空陰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王漢宗波卡體一空陰"/>
                <a:ea typeface="王漢宗波卡體一空陰"/>
              </a:rPr>
              <a:t>痛恨叛军</a:t>
            </a:r>
            <a:r>
              <a:rPr b="0" lang="en-US" sz="4400" spc="-1" strike="noStrike">
                <a:solidFill>
                  <a:srgbClr val="000000"/>
                </a:solidFill>
                <a:latin typeface="王漢宗波卡體一空陰"/>
                <a:ea typeface="王漢宗波卡體一空陰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王漢宗波卡體一空陰"/>
                <a:ea typeface="王漢宗波卡體一空陰"/>
              </a:rPr>
              <a:t>忧国忧民的思想感情。我们觉得诗人非常爱国和非常挂念他的亲人，他当时的感情是伤感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7113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00cc00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组员</a:t>
            </a:r>
            <a:r>
              <a:rPr b="0" lang="en-US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:</a:t>
            </a: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张丽君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00cc00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      </a:t>
            </a: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简加进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00cc00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        </a:t>
            </a: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陈嘉仪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00cc00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          </a:t>
            </a: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李家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7956720" y="5373720"/>
            <a:ext cx="706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42e06"/>
                </a:solidFill>
                <a:latin typeface="Arial"/>
                <a:ea typeface="王漢宗波卡體一空陰"/>
              </a:rPr>
              <a:t>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2340000" y="2781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58560" y="1844280"/>
            <a:ext cx="6697800" cy="28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王漢宗新潮體一波浪"/>
                <a:ea typeface="王漢宗新潮體一波浪"/>
              </a:rPr>
              <a:t>国破山河在，城春草木深。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王漢宗新潮體一波浪"/>
                <a:ea typeface="王漢宗新潮體一波浪"/>
              </a:rPr>
              <a:t>感时花溅泪，恨别鸟惊心。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王漢宗新潮體一波浪"/>
                <a:ea typeface="王漢宗新潮體一波浪"/>
              </a:rPr>
              <a:t>烽火连三月，家书抵万金。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王漢宗新潮體一波浪"/>
                <a:ea typeface="王漢宗新潮體一波浪"/>
              </a:rPr>
              <a:t>白头搔更短，浑欲不胜簪。</a:t>
            </a:r>
            <a:r>
              <a:rPr b="1" lang="en-US" sz="4400" spc="-1" strike="noStrike">
                <a:solidFill>
                  <a:srgbClr val="ffffff"/>
                </a:solidFill>
                <a:latin typeface="文鼎古印體"/>
                <a:ea typeface="文鼎古印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700360" y="692280"/>
            <a:ext cx="432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9900"/>
                </a:solidFill>
                <a:latin typeface="王漢宗波卡體一空陰"/>
                <a:ea typeface="王漢宗波卡體一空陰"/>
              </a:rPr>
              <a:t>春望   杜甫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6165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CB8-6935-43C4-920D-8DAE6C5050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00"/>
                </a:solidFill>
                <a:latin typeface="文鼎勘亭流"/>
                <a:ea typeface="文鼎勘亭流"/>
              </a:rPr>
              <a:t>释文</a:t>
            </a:r>
            <a:r>
              <a:rPr b="0" lang="en-US" sz="4000" spc="-1" strike="noStrike">
                <a:solidFill>
                  <a:srgbClr val="ff9900"/>
                </a:solidFill>
                <a:latin typeface="文鼎勘亭流"/>
                <a:ea typeface="文鼎勘亭流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0000"/>
              </a:buClr>
              <a:buFont typeface="王漢宗波卡體一空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0000"/>
                </a:solidFill>
                <a:latin typeface="王漢宗波卡體一空陰"/>
                <a:ea typeface="王漢宗波卡體一空陰"/>
              </a:rPr>
              <a:t>国破山河在，城春草木深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0000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0000"/>
                </a:solidFill>
                <a:latin typeface="王漢宗新潮體一波浪"/>
                <a:ea typeface="王漢宗新潮體一波浪"/>
              </a:rPr>
              <a:t>京城虽然沦陷了，但山河依旧在，长安城春意盎然，草木仍然茂盛如昔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9900"/>
              </a:buClr>
              <a:buFont typeface="文鼎粗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文鼎粗隸"/>
                <a:ea typeface="文鼎粗隸"/>
              </a:rPr>
              <a:t>_____________________________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0000"/>
              </a:buClr>
              <a:buFont typeface="王漢宗波卡體一空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0000"/>
                </a:solidFill>
                <a:latin typeface="王漢宗波卡體一空陰"/>
                <a:ea typeface="王漢宗波卡體一空陰"/>
              </a:rPr>
              <a:t>感时花溅泪，恨别鸟惊心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0000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0000"/>
                </a:solidFill>
                <a:latin typeface="王漢宗新潮體一波浪"/>
                <a:ea typeface="王漢宗新潮體一波浪"/>
              </a:rPr>
              <a:t>感伤时事，看着繁华春花，也不禁伤心落泪，怨恨离别，纵使听见春鸟鸣叫，也令人心里懦懦不安。</a:t>
            </a:r>
            <a:r>
              <a:rPr b="0" lang="zh-TW" sz="3800" spc="-1" strike="noStrike">
                <a:solidFill>
                  <a:srgbClr val="0066ff"/>
                </a:solidFill>
                <a:latin typeface="文鼎勘亭流"/>
                <a:ea typeface="文鼎勘亭流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文鼎勘亭流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c66ff"/>
                </a:solidFill>
                <a:latin typeface="文鼎勘亭流"/>
                <a:ea typeface="文鼎勘亭流"/>
              </a:rPr>
              <a:t>烽火连三月，家书抵万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王漢宗波卡體一空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ff"/>
                </a:solidFill>
                <a:latin typeface="王漢宗波卡體一空陰"/>
                <a:ea typeface="王漢宗波卡體一空陰"/>
              </a:rPr>
              <a:t>战火接连三月不熄，此时一封家书就可抵上万金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文鼎粗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文鼎粗隸"/>
                <a:ea typeface="文鼎粗隸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文鼎勘亭流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c66ff"/>
                </a:solidFill>
                <a:latin typeface="文鼎勘亭流"/>
                <a:ea typeface="文鼎勘亭流"/>
              </a:rPr>
              <a:t>白头搔更短，浑欲不胜簪。</a:t>
            </a:r>
            <a:r>
              <a:rPr b="1" lang="zh-TW" sz="4000" spc="-1" strike="noStrike">
                <a:solidFill>
                  <a:srgbClr val="cc66ff"/>
                </a:solidFill>
                <a:latin typeface="文鼎粗隸"/>
                <a:ea typeface="文鼎粗隸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王漢宗波卡體一空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ff"/>
                </a:solidFill>
                <a:latin typeface="王漢宗波卡體一空陰"/>
                <a:ea typeface="王漢宗波卡體一空陰"/>
              </a:rPr>
              <a:t>头上的白发严重脱落，简直就要插不上玉簪了。</a:t>
            </a:r>
            <a:r>
              <a:rPr b="0" lang="zh-TW" sz="4000" spc="-1" strike="noStrike">
                <a:solidFill>
                  <a:srgbClr val="cc66ff"/>
                </a:solidFill>
                <a:latin typeface="文鼎粗隸"/>
                <a:ea typeface="文鼎粗隸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cc"/>
                </a:solidFill>
                <a:latin typeface="王漢宗波卡體一空陰"/>
                <a:ea typeface="王漢宗波卡體一空陰"/>
              </a:rPr>
              <a:t>作者简介</a:t>
            </a:r>
            <a:r>
              <a:rPr b="1" lang="en-US" sz="3600" spc="-1" strike="noStrike">
                <a:solidFill>
                  <a:srgbClr val="9900cc"/>
                </a:solidFill>
                <a:latin typeface="王漢宗波卡體一空陰"/>
                <a:ea typeface="王漢宗波卡體一空陰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華康流隸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cc"/>
                </a:solidFill>
                <a:latin typeface="華康流隸體"/>
                <a:ea typeface="華康流隸體"/>
              </a:rPr>
              <a:t>杜甫（</a:t>
            </a:r>
            <a:r>
              <a:rPr b="1" lang="en-US" sz="2800" spc="-1" strike="noStrike">
                <a:solidFill>
                  <a:srgbClr val="9900cc"/>
                </a:solidFill>
                <a:latin typeface="華康流隸體"/>
                <a:ea typeface="華康流隸體"/>
              </a:rPr>
              <a:t>712 - 770</a:t>
            </a:r>
            <a:r>
              <a:rPr b="1" lang="zh-TW" sz="2800" spc="-1" strike="noStrike">
                <a:solidFill>
                  <a:srgbClr val="9900cc"/>
                </a:solidFill>
                <a:latin typeface="華康流隸體"/>
                <a:ea typeface="華康流隸體"/>
              </a:rPr>
              <a:t>）</a:t>
            </a:r>
            <a:r>
              <a:rPr b="1" lang="zh-TW" sz="2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華康少女文字W5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華康少女文字W5(P)"/>
                <a:ea typeface="華康少女文字W5(P)"/>
              </a:rPr>
              <a:t>        </a:t>
            </a:r>
            <a:r>
              <a:rPr b="0" lang="zh-TW" sz="2800" spc="-1" strike="noStrike">
                <a:solidFill>
                  <a:srgbClr val="9900cc"/>
                </a:solidFill>
                <a:latin typeface="王漢宗新潮體一波浪"/>
                <a:ea typeface="王漢宗新潮體一波浪"/>
              </a:rPr>
              <a:t>字子美，号少陵，有诗圣之称。唐代诗人。祖籍湖北襄阳，出生于河南巩县。二十岁起漫游吴越，齐鲁等地，过着「裘马颇清狂」的生活。他受家庭熏陶和儒家思想影响，有志于「致君尧舜上，在市风俗淳」，走「达则兼善天下」的道路，但他</a:t>
            </a:r>
            <a:r>
              <a:rPr b="0" lang="en-US" sz="2800" spc="-1" strike="noStrike">
                <a:solidFill>
                  <a:srgbClr val="9900cc"/>
                </a:solidFill>
                <a:latin typeface="王漢宗新潮體一波浪"/>
                <a:ea typeface="王漢宗新潮體一波浪"/>
              </a:rPr>
              <a:t>35</a:t>
            </a:r>
            <a:r>
              <a:rPr b="0" lang="zh-TW" sz="2800" spc="-1" strike="noStrike">
                <a:solidFill>
                  <a:srgbClr val="9900cc"/>
                </a:solidFill>
                <a:latin typeface="王漢宗新潮體一波浪"/>
                <a:ea typeface="王漢宗新潮體一波浪"/>
              </a:rPr>
              <a:t>岁到长安应试落选，因守长安十年，经过多次奔走献赋，才得到右卫率府参军的小官。安史之乱起，杜甫将家小安置在姜村。只身投奔唐肃宗所在地，不幸被叛军浮获，冒险逃脱之后，终于「麻鞋见天子」，受认为左拾遗、工部员外郎，故亦称为杜工部。不久因言事触怒唐肃宗，被贬为华州司功参军。后来他弃官举家西去，经秦州，同谷到达成都，在城西浣花溪畔建成一座草堂，安居下来。由于成都战乱，他又迁离成都。晚年漂泊在四川，湖南，湖北一带。大历五年</a:t>
            </a:r>
            <a:r>
              <a:rPr b="0" lang="en-US" sz="2800" spc="-1" strike="noStrike">
                <a:solidFill>
                  <a:srgbClr val="9900cc"/>
                </a:solidFill>
                <a:latin typeface="王漢宗新潮體一波浪"/>
                <a:ea typeface="王漢宗新潮體一波浪"/>
              </a:rPr>
              <a:t>(770)</a:t>
            </a:r>
            <a:r>
              <a:rPr b="0" lang="zh-TW" sz="2800" spc="-1" strike="noStrike">
                <a:solidFill>
                  <a:srgbClr val="9900cc"/>
                </a:solidFill>
                <a:latin typeface="王漢宗新潮體一波浪"/>
                <a:ea typeface="王漢宗新潮體一波浪"/>
              </a:rPr>
              <a:t>病死在一条播船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266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cc"/>
                </a:solidFill>
                <a:latin typeface="王漢宗新潮體一波浪"/>
                <a:ea typeface="王漢宗新潮體一波浪"/>
              </a:rPr>
              <a:t>写作特色</a:t>
            </a:r>
            <a:r>
              <a:rPr b="0" lang="en-US" sz="3600" spc="-1" strike="noStrike">
                <a:solidFill>
                  <a:srgbClr val="0000cc"/>
                </a:solidFill>
                <a:latin typeface="王漢宗新潮體一波浪"/>
                <a:ea typeface="王漢宗新潮體一波浪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a5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100" spc="-1" strike="noStrike">
                <a:solidFill>
                  <a:srgbClr val="fa502e"/>
                </a:solidFill>
                <a:latin typeface="Arial"/>
                <a:ea typeface="王漢宗波卡體一空陰"/>
              </a:rPr>
              <a:t>杜甫诗歌的风格沉郁顿挫，语言精炼，格律严谨，穷绝工巧，感情真挚，平实雅谈，描写深刻，细腻感人，形象鲜明。</a:t>
            </a:r>
            <a:r>
              <a:rPr b="1" lang="en-US" sz="3100" spc="-1" strike="noStrike">
                <a:solidFill>
                  <a:srgbClr val="fa502e"/>
                </a:solidFill>
                <a:latin typeface="Arial"/>
                <a:ea typeface="王漢宗波卡體一空陰"/>
              </a:rPr>
              <a:t>『</a:t>
            </a:r>
            <a:r>
              <a:rPr b="1" lang="zh-TW" sz="3100" spc="-1" strike="noStrike">
                <a:solidFill>
                  <a:srgbClr val="fa502e"/>
                </a:solidFill>
                <a:latin typeface="Arial"/>
                <a:ea typeface="王漢宗波卡體一空陰"/>
              </a:rPr>
              <a:t>语不惊人死不休</a:t>
            </a:r>
            <a:r>
              <a:rPr b="1" lang="en-US" sz="3100" spc="-1" strike="noStrike">
                <a:solidFill>
                  <a:srgbClr val="fa502e"/>
                </a:solidFill>
                <a:latin typeface="Arial"/>
                <a:ea typeface="王漢宗波卡體一空陰"/>
              </a:rPr>
              <a:t>』</a:t>
            </a:r>
            <a:r>
              <a:rPr b="1" lang="zh-TW" sz="3100" spc="-1" strike="noStrike">
                <a:solidFill>
                  <a:srgbClr val="fa502e"/>
                </a:solidFill>
                <a:latin typeface="Arial"/>
                <a:ea typeface="王漢宗波卡體一空陰"/>
              </a:rPr>
              <a:t>是他的创作风格。杜甫留下的诗作中，为后人推崇、传诵的有许多是感时伤乱的作品，特别是那些表现作者仁爱之心和真挚之情的名篇。仁爱与真情永远是产生优秀诗歌的源泉，也是历史用以造就圣贤和明哲的两大元素。而这两篇都是杜甫在感受战火下的百姓惨痛而自己无法可施，音讯难传，有感而作，所以能传千古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-360" y="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110d"/>
                </a:solidFill>
                <a:latin typeface="PMingLiU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42e06"/>
              </a:buClr>
              <a:buFont typeface="典匠ＰＯＰ－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42e06"/>
                </a:solidFill>
                <a:latin typeface="典匠ＰＯＰ－４"/>
                <a:ea typeface="典匠ＰＯＰ－４"/>
              </a:rPr>
              <a:t>对偶</a:t>
            </a:r>
            <a:r>
              <a:rPr b="1" lang="en-US" sz="3800" spc="-1" strike="noStrike">
                <a:solidFill>
                  <a:srgbClr val="f42e06"/>
                </a:solidFill>
                <a:latin typeface="典匠ＰＯＰ－４"/>
                <a:ea typeface="典匠ＰＯＰ－４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42e06"/>
              </a:buClr>
              <a:buFont typeface="典匠ＰＯＰ－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42e06"/>
                </a:solidFill>
                <a:latin typeface="典匠ＰＯＰ－４"/>
                <a:ea typeface="典匠ＰＯＰ－４"/>
              </a:rPr>
              <a:t>国破山河在，城春草木深。</a:t>
            </a:r>
            <a:br>
              <a:rPr sz="3800"/>
            </a:br>
            <a:r>
              <a:rPr b="0" lang="zh-TW" sz="3800" spc="-1" strike="noStrike">
                <a:solidFill>
                  <a:srgbClr val="f42e06"/>
                </a:solidFill>
                <a:latin typeface="典匠ＰＯＰ－４"/>
                <a:ea typeface="典匠ＰＯＰ－４"/>
              </a:rPr>
              <a:t>感时花溅泪，恨别鸟惊心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9900"/>
              </a:buClr>
              <a:buFont typeface="典匠ＰＯＰ－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押韵</a:t>
            </a:r>
            <a:r>
              <a:rPr b="1" lang="en-US" sz="38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典匠ＰＯＰ－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深</a:t>
            </a:r>
            <a:r>
              <a:rPr b="0" lang="en-US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-</a:t>
            </a:r>
            <a:r>
              <a:rPr b="0" lang="zh-TW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心</a:t>
            </a:r>
            <a:r>
              <a:rPr b="0" lang="en-US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,</a:t>
            </a:r>
            <a:r>
              <a:rPr b="0" lang="zh-TW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金</a:t>
            </a:r>
            <a:r>
              <a:rPr b="0" lang="en-US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-</a:t>
            </a:r>
            <a:r>
              <a:rPr b="0" lang="zh-TW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99cc00"/>
              </a:buClr>
              <a:buFont typeface="華康POP1體W5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cc00"/>
                </a:solidFill>
                <a:latin typeface="華康POP1體W5(P)"/>
                <a:ea typeface="華康POP1體W5(P)"/>
              </a:rPr>
              <a:t>主旨</a:t>
            </a:r>
            <a:r>
              <a:rPr b="1" lang="en-US" sz="3800" spc="-1" strike="noStrike">
                <a:solidFill>
                  <a:srgbClr val="99cc00"/>
                </a:solidFill>
                <a:latin typeface="華康POP1體W5(P)"/>
                <a:ea typeface="華康POP1體W5(P)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華康POP1體W5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99cc00"/>
                </a:solidFill>
                <a:latin typeface="華康POP1體W5(P)"/>
                <a:ea typeface="華康POP1體W5(P)"/>
              </a:rPr>
              <a:t>国都残破的感慨和对亲人的挂念，这首诗能反映当时的民心，使读者有更深的体会。</a:t>
            </a:r>
            <a:r>
              <a:rPr b="1" lang="zh-TW" sz="3200" spc="-1" strike="noStrike">
                <a:solidFill>
                  <a:srgbClr val="000000"/>
                </a:solidFill>
                <a:latin typeface="王漢宗粗黑體一實陰"/>
                <a:ea typeface="王漢宗粗黑體一實陰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2808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9900cc"/>
                </a:solidFill>
                <a:latin typeface="王漢宗波卡體一空陰"/>
                <a:ea typeface="王漢宗波卡體一空陰"/>
              </a:rPr>
              <a:t>写作背景</a:t>
            </a:r>
            <a:r>
              <a:rPr b="1" lang="en-US" sz="4800" spc="-1" strike="noStrike">
                <a:solidFill>
                  <a:srgbClr val="9900cc"/>
                </a:solidFill>
                <a:latin typeface="王漢宗波卡體一空陰"/>
                <a:ea typeface="王漢宗波卡體一空陰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《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春望</a:t>
            </a:r>
            <a:r>
              <a:rPr b="0" lang="en-US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》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是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杜甫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被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安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 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史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叛军所俘虏，困居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长安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时写的。当时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长安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沦入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安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 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史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之手，虽然山河依旧，但已物是人非。虽然春光明媚，但国都残破，一片荒凉，令他倍添愁思，加上战事不断，家书不通，使他十分想念远方的家乡，所以他在诗中表达出伤感的情绪。</a:t>
            </a:r>
            <a:r>
              <a:rPr b="1" lang="zh-TW" sz="3200" spc="-1" strike="noStrike">
                <a:solidFill>
                  <a:srgbClr val="000000"/>
                </a:solidFill>
                <a:latin typeface="王漢宗新潮體一波浪"/>
                <a:ea typeface="王漢宗新潮體一波浪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3:57:12Z</dcterms:created>
  <dc:creator/>
  <dc:description/>
  <cp:keywords>幻灯片之家 http:/www.eeppt.com</cp:keywords>
  <dc:language>en-US</dc:language>
  <cp:lastModifiedBy/>
  <dcterms:modified xsi:type="dcterms:W3CDTF">2015-07-20T01:23:43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