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7967-AC98-4D8B-81B8-1EC0BC44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7AC-292E-4E27-98D5-CE7C2C5A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09C-6469-4550-9CF2-9F6220C2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B9DA-317B-4C53-91E2-037860DB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2F0-BE5E-49F5-B4F6-AE690873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E57-0B4F-42A0-81C0-9D9BDBB9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891-CBDF-47B0-BC5B-075285F2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F65-59E0-4464-97D6-09782152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21C7-3D8F-4A23-8894-F7818778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6DC2-B235-4F09-B54E-E48BDE45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51B2-9786-43F4-A08C-7DB9EEA6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4FC-9FEA-4274-9596-9E59C347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6346-3FA9-426C-AC39-E438443D0E8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390D-3F86-44C9-89BC-AB4AF03C8C8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7"/>
          <p:cNvGrpSpPr/>
          <p:nvPr/>
        </p:nvGrpSpPr>
        <p:grpSpPr>
          <a:xfrm>
            <a:off x="1835280" y="2725560"/>
            <a:ext cx="5549040" cy="432000"/>
            <a:chOff x="1835280" y="2725560"/>
            <a:chExt cx="5549040" cy="432000"/>
          </a:xfrm>
        </p:grpSpPr>
        <p:sp>
          <p:nvSpPr>
            <p:cNvPr id="42" name="AutoShape 38"/>
            <p:cNvSpPr/>
            <p:nvPr/>
          </p:nvSpPr>
          <p:spPr>
            <a:xfrm>
              <a:off x="1835280" y="2725560"/>
              <a:ext cx="5549040" cy="43200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39"/>
            <p:cNvSpPr/>
            <p:nvPr/>
          </p:nvSpPr>
          <p:spPr>
            <a:xfrm>
              <a:off x="1945080" y="2729520"/>
              <a:ext cx="532440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Text Box 23"/>
          <p:cNvSpPr/>
          <p:nvPr/>
        </p:nvSpPr>
        <p:spPr>
          <a:xfrm>
            <a:off x="2738520" y="2743200"/>
            <a:ext cx="4495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Gulim"/>
              </a:rPr>
              <a:t>Click to </a:t>
            </a:r>
            <a:r>
              <a:rPr b="0" lang="en-US" sz="2200" spc="-1" strike="noStrike">
                <a:solidFill>
                  <a:srgbClr val="ffffff"/>
                </a:solidFill>
                <a:latin typeface="Gulim"/>
                <a:ea typeface="Gulim"/>
              </a:rPr>
              <a:t>add</a:t>
            </a: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Gulim"/>
              </a:rPr>
              <a:t> title in here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1"/>
          <p:cNvSpPr/>
          <p:nvPr/>
        </p:nvSpPr>
        <p:spPr>
          <a:xfrm>
            <a:off x="1849320" y="2743200"/>
            <a:ext cx="870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Gulim"/>
                <a:ea typeface="Gulim"/>
              </a:rPr>
              <a:t>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12"/>
          <p:cNvGrpSpPr/>
          <p:nvPr/>
        </p:nvGrpSpPr>
        <p:grpSpPr>
          <a:xfrm>
            <a:off x="1835280" y="3335400"/>
            <a:ext cx="5549040" cy="431640"/>
            <a:chOff x="1835280" y="3335400"/>
            <a:chExt cx="5549040" cy="431640"/>
          </a:xfrm>
        </p:grpSpPr>
        <p:sp>
          <p:nvSpPr>
            <p:cNvPr id="47" name="AutoShape 113"/>
            <p:cNvSpPr/>
            <p:nvPr/>
          </p:nvSpPr>
          <p:spPr>
            <a:xfrm>
              <a:off x="1835280" y="3335400"/>
              <a:ext cx="5549040" cy="43164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14"/>
            <p:cNvSpPr/>
            <p:nvPr/>
          </p:nvSpPr>
          <p:spPr>
            <a:xfrm>
              <a:off x="1945080" y="3339360"/>
              <a:ext cx="532440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115"/>
          <p:cNvSpPr/>
          <p:nvPr/>
        </p:nvSpPr>
        <p:spPr>
          <a:xfrm>
            <a:off x="2738520" y="3352680"/>
            <a:ext cx="4495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Gulim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6"/>
          <p:cNvSpPr/>
          <p:nvPr/>
        </p:nvSpPr>
        <p:spPr>
          <a:xfrm>
            <a:off x="1849320" y="3352680"/>
            <a:ext cx="870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Gulim"/>
                <a:ea typeface="Gulim"/>
              </a:rPr>
              <a:t>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17"/>
          <p:cNvGrpSpPr/>
          <p:nvPr/>
        </p:nvGrpSpPr>
        <p:grpSpPr>
          <a:xfrm>
            <a:off x="1835280" y="3944880"/>
            <a:ext cx="5549040" cy="432000"/>
            <a:chOff x="1835280" y="3944880"/>
            <a:chExt cx="5549040" cy="432000"/>
          </a:xfrm>
        </p:grpSpPr>
        <p:sp>
          <p:nvSpPr>
            <p:cNvPr id="52" name="AutoShape 118"/>
            <p:cNvSpPr/>
            <p:nvPr/>
          </p:nvSpPr>
          <p:spPr>
            <a:xfrm>
              <a:off x="1835280" y="3944880"/>
              <a:ext cx="5549040" cy="43200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119"/>
            <p:cNvSpPr/>
            <p:nvPr/>
          </p:nvSpPr>
          <p:spPr>
            <a:xfrm>
              <a:off x="1945080" y="3948840"/>
              <a:ext cx="532440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20"/>
          <p:cNvSpPr/>
          <p:nvPr/>
        </p:nvSpPr>
        <p:spPr>
          <a:xfrm>
            <a:off x="2738520" y="3962520"/>
            <a:ext cx="4495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Gulim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1"/>
          <p:cNvSpPr/>
          <p:nvPr/>
        </p:nvSpPr>
        <p:spPr>
          <a:xfrm>
            <a:off x="1849320" y="3962520"/>
            <a:ext cx="870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Gulim"/>
                <a:ea typeface="Gulim"/>
              </a:rPr>
              <a:t>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22"/>
          <p:cNvGrpSpPr/>
          <p:nvPr/>
        </p:nvGrpSpPr>
        <p:grpSpPr>
          <a:xfrm>
            <a:off x="1835280" y="4554360"/>
            <a:ext cx="5549040" cy="432000"/>
            <a:chOff x="1835280" y="4554360"/>
            <a:chExt cx="5549040" cy="432000"/>
          </a:xfrm>
        </p:grpSpPr>
        <p:sp>
          <p:nvSpPr>
            <p:cNvPr id="57" name="AutoShape 123"/>
            <p:cNvSpPr/>
            <p:nvPr/>
          </p:nvSpPr>
          <p:spPr>
            <a:xfrm>
              <a:off x="1835280" y="4554360"/>
              <a:ext cx="5549040" cy="43200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24"/>
            <p:cNvSpPr/>
            <p:nvPr/>
          </p:nvSpPr>
          <p:spPr>
            <a:xfrm>
              <a:off x="1945080" y="4558320"/>
              <a:ext cx="532440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125"/>
          <p:cNvSpPr/>
          <p:nvPr/>
        </p:nvSpPr>
        <p:spPr>
          <a:xfrm>
            <a:off x="2738520" y="4572000"/>
            <a:ext cx="4495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Gulim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6"/>
          <p:cNvSpPr/>
          <p:nvPr/>
        </p:nvSpPr>
        <p:spPr>
          <a:xfrm>
            <a:off x="1849320" y="4572000"/>
            <a:ext cx="870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Gulim"/>
                <a:ea typeface="Gulim"/>
              </a:rPr>
              <a:t>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27"/>
          <p:cNvGrpSpPr/>
          <p:nvPr/>
        </p:nvGrpSpPr>
        <p:grpSpPr>
          <a:xfrm>
            <a:off x="1835280" y="5164200"/>
            <a:ext cx="5549040" cy="431640"/>
            <a:chOff x="1835280" y="5164200"/>
            <a:chExt cx="5549040" cy="431640"/>
          </a:xfrm>
        </p:grpSpPr>
        <p:sp>
          <p:nvSpPr>
            <p:cNvPr id="62" name="AutoShape 128"/>
            <p:cNvSpPr/>
            <p:nvPr/>
          </p:nvSpPr>
          <p:spPr>
            <a:xfrm>
              <a:off x="1835280" y="5164200"/>
              <a:ext cx="5549040" cy="43164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29"/>
            <p:cNvSpPr/>
            <p:nvPr/>
          </p:nvSpPr>
          <p:spPr>
            <a:xfrm>
              <a:off x="1945080" y="5168160"/>
              <a:ext cx="532440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30"/>
          <p:cNvSpPr/>
          <p:nvPr/>
        </p:nvSpPr>
        <p:spPr>
          <a:xfrm>
            <a:off x="2738520" y="5181480"/>
            <a:ext cx="4495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Gulim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1"/>
          <p:cNvSpPr/>
          <p:nvPr/>
        </p:nvSpPr>
        <p:spPr>
          <a:xfrm>
            <a:off x="1849320" y="5181480"/>
            <a:ext cx="870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Gulim"/>
                <a:ea typeface="Gulim"/>
              </a:rPr>
              <a:t>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2" descr="bar"/>
          <p:cNvPicPr/>
          <p:nvPr/>
        </p:nvPicPr>
        <p:blipFill>
          <a:blip r:embed="rId1"/>
          <a:stretch/>
        </p:blipFill>
        <p:spPr>
          <a:xfrm>
            <a:off x="1908000" y="1773360"/>
            <a:ext cx="5427720" cy="593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3"/>
          <p:cNvSpPr/>
          <p:nvPr/>
        </p:nvSpPr>
        <p:spPr>
          <a:xfrm>
            <a:off x="2414520" y="184464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1520" y="33336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常用目录列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ABA-C631-42DF-8770-3085CD42FE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10:21:09Z</dcterms:modified>
  <cp:revision>110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