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4487-FD18-42B3-9929-F83635951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C8C3-7188-4484-A660-71EFA460A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3EB5-000F-4DE9-AA88-2DC27E130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8247-17ED-4186-B269-1B198C0CC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DCCC-BD90-4A7D-9AAB-FD4BBA128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C18F-E7AD-421F-BDA0-A799C4E98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8595-DA42-4293-AF80-3480B036C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364F-70FC-4C36-B8EC-622F1D13D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57D8-C5C1-4336-83E0-29D0BA519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FA07-65D1-4380-9A8B-72123C5E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7979-1F01-47AF-8B56-B0C753749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9757-33B5-47BB-976C-59BAD8371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1C1B8-0CA9-42FA-AD4B-D9A873CE3AA1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69A4B-8BAB-47C7-9C1B-E7D656EB7B3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236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1880" y="1486080"/>
            <a:ext cx="567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动感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403280" y="4437000"/>
            <a:ext cx="443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免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7DC0-CA0A-4177-A228-C7A7AFEA858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6:53:45Z</dcterms:modified>
  <cp:revision>8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