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166-A6AE-4DC9-9F57-9115FAD7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9D6-B790-4D65-B105-E5C7239D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869-A779-4E9E-A904-D8ACA26A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D4D-4A90-4E8A-9DB2-C364F10D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24B-77A6-422A-90BA-C966EB31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FEC-90AE-4FCE-BB3B-9F05B86A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B45-16C3-4CAC-B2B0-9D8B6613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C70-8D16-4672-BA92-2E88D10A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F39-FEA8-4C78-B92F-E7AC4416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5AA-FBC1-4347-8DC7-9A3231A8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70A-78BA-436F-B924-C6EC2C4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01E-4899-4C1E-8903-D10BF36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6DE-DDE6-4444-9C2D-1B02D9F2BD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5883120" y="659124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.glzy8.com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海量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1"/>
          <p:cNvSpPr/>
          <p:nvPr/>
        </p:nvSpPr>
        <p:spPr>
          <a:xfrm>
            <a:off x="798480" y="-100080"/>
            <a:ext cx="8237520" cy="88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484200" y="1344600"/>
            <a:ext cx="708984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4508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79380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2254320" y="3379680"/>
            <a:ext cx="660240" cy="1157040"/>
            <a:chOff x="2254320" y="3379680"/>
            <a:chExt cx="660240" cy="1157040"/>
          </a:xfrm>
        </p:grpSpPr>
        <p:sp>
          <p:nvSpPr>
            <p:cNvPr id="47" name="Freeform 6"/>
            <p:cNvSpPr/>
            <p:nvPr/>
          </p:nvSpPr>
          <p:spPr>
            <a:xfrm>
              <a:off x="2254320" y="3604320"/>
              <a:ext cx="660240" cy="93240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8bfd"/>
                </a:gs>
                <a:gs pos="100000">
                  <a:srgbClr val="706ac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449440" y="3379680"/>
              <a:ext cx="221760" cy="24156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706a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8"/>
          <p:cNvSpPr/>
          <p:nvPr/>
        </p:nvSpPr>
        <p:spPr>
          <a:xfrm>
            <a:off x="48261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74056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75180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1571760" y="273384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706760" y="263196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3 statistics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3"/>
          <p:cNvSpPr/>
          <p:nvPr/>
        </p:nvSpPr>
        <p:spPr>
          <a:xfrm>
            <a:off x="4835520" y="271152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4962600" y="25909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3 statistics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359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737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16400" y="49737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4647240" y="49831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262240" y="369108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937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2101680" y="45831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09888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3"/>
          <p:cNvGrpSpPr/>
          <p:nvPr/>
        </p:nvGrpSpPr>
        <p:grpSpPr>
          <a:xfrm>
            <a:off x="3106800" y="2851200"/>
            <a:ext cx="969480" cy="1694880"/>
            <a:chOff x="3106800" y="2851200"/>
            <a:chExt cx="969480" cy="1694880"/>
          </a:xfrm>
        </p:grpSpPr>
        <p:sp>
          <p:nvSpPr>
            <p:cNvPr id="65" name="Freeform 24"/>
            <p:cNvSpPr/>
            <p:nvPr/>
          </p:nvSpPr>
          <p:spPr>
            <a:xfrm>
              <a:off x="3106800" y="3182400"/>
              <a:ext cx="969480" cy="136368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8bfd"/>
                </a:gs>
                <a:gs pos="100000">
                  <a:srgbClr val="706ac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 flipH="1">
              <a:off x="3393360" y="2851200"/>
              <a:ext cx="325440" cy="35208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706a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6"/>
          <p:cNvSpPr/>
          <p:nvPr/>
        </p:nvSpPr>
        <p:spPr>
          <a:xfrm>
            <a:off x="3129120" y="33703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1415880" y="3621240"/>
            <a:ext cx="519120" cy="910800"/>
            <a:chOff x="1415880" y="3621240"/>
            <a:chExt cx="519120" cy="910800"/>
          </a:xfrm>
        </p:grpSpPr>
        <p:sp>
          <p:nvSpPr>
            <p:cNvPr id="69" name="Freeform 28"/>
            <p:cNvSpPr/>
            <p:nvPr/>
          </p:nvSpPr>
          <p:spPr>
            <a:xfrm>
              <a:off x="1415880" y="3799080"/>
              <a:ext cx="519120" cy="73296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8bfd"/>
                </a:gs>
                <a:gs pos="100000">
                  <a:srgbClr val="706ac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 flipH="1">
              <a:off x="1569240" y="3621240"/>
              <a:ext cx="174600" cy="18864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706a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0"/>
          <p:cNvSpPr/>
          <p:nvPr/>
        </p:nvSpPr>
        <p:spPr>
          <a:xfrm>
            <a:off x="1349280" y="3879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1"/>
          <p:cNvGrpSpPr/>
          <p:nvPr/>
        </p:nvGrpSpPr>
        <p:grpSpPr>
          <a:xfrm>
            <a:off x="6807240" y="2809800"/>
            <a:ext cx="851040" cy="1698480"/>
            <a:chOff x="6807240" y="2809800"/>
            <a:chExt cx="851040" cy="1698480"/>
          </a:xfrm>
        </p:grpSpPr>
        <p:sp>
          <p:nvSpPr>
            <p:cNvPr id="73" name="Freeform 32"/>
            <p:cNvSpPr/>
            <p:nvPr/>
          </p:nvSpPr>
          <p:spPr>
            <a:xfrm>
              <a:off x="6807240" y="3106800"/>
              <a:ext cx="851040" cy="1401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480"/>
                <a:gd name="textAreaBottom" fmla="*/ 1401840 h 1401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80e7fc"/>
                </a:gs>
                <a:gs pos="100000">
                  <a:srgbClr val="13d3f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7059600" y="2809800"/>
              <a:ext cx="305640" cy="324360"/>
            </a:xfrm>
            <a:prstGeom prst="ellipse">
              <a:avLst/>
            </a:prstGeom>
            <a:gradFill rotWithShape="0">
              <a:gsLst>
                <a:gs pos="0">
                  <a:srgbClr val="80e7fc"/>
                </a:gs>
                <a:gs pos="100000">
                  <a:srgbClr val="13d3f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864480" y="33703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35"/>
          <p:cNvGrpSpPr/>
          <p:nvPr/>
        </p:nvGrpSpPr>
        <p:grpSpPr>
          <a:xfrm>
            <a:off x="5867280" y="3094200"/>
            <a:ext cx="717840" cy="1433160"/>
            <a:chOff x="5867280" y="3094200"/>
            <a:chExt cx="717840" cy="1433160"/>
          </a:xfrm>
        </p:grpSpPr>
        <p:sp>
          <p:nvSpPr>
            <p:cNvPr id="77" name="Freeform 36"/>
            <p:cNvSpPr/>
            <p:nvPr/>
          </p:nvSpPr>
          <p:spPr>
            <a:xfrm>
              <a:off x="5867280" y="3344760"/>
              <a:ext cx="717840" cy="118260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80e7fc"/>
                </a:gs>
                <a:gs pos="100000">
                  <a:srgbClr val="13d3f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6080040" y="309420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80e7fc"/>
                </a:gs>
                <a:gs pos="100000">
                  <a:srgbClr val="13d3f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8"/>
          <p:cNvGrpSpPr/>
          <p:nvPr/>
        </p:nvGrpSpPr>
        <p:grpSpPr>
          <a:xfrm>
            <a:off x="5030640" y="3467160"/>
            <a:ext cx="533520" cy="1064880"/>
            <a:chOff x="5030640" y="3467160"/>
            <a:chExt cx="533520" cy="1064880"/>
          </a:xfrm>
        </p:grpSpPr>
        <p:sp>
          <p:nvSpPr>
            <p:cNvPr id="80" name="Freeform 39"/>
            <p:cNvSpPr/>
            <p:nvPr/>
          </p:nvSpPr>
          <p:spPr>
            <a:xfrm>
              <a:off x="5030640" y="3652560"/>
              <a:ext cx="533520" cy="879480"/>
            </a:xfrm>
            <a:custGeom>
              <a:avLst/>
              <a:gdLst>
                <a:gd name="textAreaLeft" fmla="*/ 0 w 533520"/>
                <a:gd name="textAreaRight" fmla="*/ 533520 w 533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80e7fc"/>
                </a:gs>
                <a:gs pos="100000">
                  <a:srgbClr val="13d3f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0"/>
            <p:cNvSpPr/>
            <p:nvPr/>
          </p:nvSpPr>
          <p:spPr>
            <a:xfrm>
              <a:off x="5189760" y="3467160"/>
              <a:ext cx="191520" cy="203400"/>
            </a:xfrm>
            <a:prstGeom prst="ellipse">
              <a:avLst/>
            </a:prstGeom>
            <a:gradFill rotWithShape="0">
              <a:gsLst>
                <a:gs pos="0">
                  <a:srgbClr val="80e7fc"/>
                </a:gs>
                <a:gs pos="100000">
                  <a:srgbClr val="13d3f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41"/>
          <p:cNvSpPr/>
          <p:nvPr/>
        </p:nvSpPr>
        <p:spPr>
          <a:xfrm>
            <a:off x="5019840" y="380520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2"/>
          <p:cNvSpPr/>
          <p:nvPr/>
        </p:nvSpPr>
        <p:spPr>
          <a:xfrm>
            <a:off x="5896080" y="355932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749880" y="553896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3800" y="260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递进关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系图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510-1269-4FE4-A7DB-6132DE14F1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19:20Z</dcterms:modified>
  <cp:revision>6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