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3755-D63A-4ABA-A8F3-F004E090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2C1-5FD9-4AAF-9CD2-F267112B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40B-5BE8-443B-BA3E-49F1E068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9CA-5AB8-407F-95CA-CEA7B51F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7AD-751D-4C24-B912-EDFAD7CD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E05-21AF-4828-97B1-8E91E4F1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469-B0E9-4413-B41D-91B4BFE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C12-1AE8-486A-AC87-F1EB7803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B1D-A5B5-414B-B59F-82CE7081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01E-2E1E-4B55-82F8-BBA8729B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A85-8A4D-46B9-A313-0B5C454B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303-06FF-4D98-BA1F-E1FAE1D3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199F-DE52-4865-B9AC-AFD332B73C3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BBDC-8725-4971-B334-D7BFCFCB31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"/>
          <p:cNvGrpSpPr/>
          <p:nvPr/>
        </p:nvGrpSpPr>
        <p:grpSpPr>
          <a:xfrm>
            <a:off x="644400" y="782640"/>
            <a:ext cx="7809120" cy="5402160"/>
            <a:chOff x="644400" y="782640"/>
            <a:chExt cx="7809120" cy="5402160"/>
          </a:xfrm>
        </p:grpSpPr>
        <p:grpSp>
          <p:nvGrpSpPr>
            <p:cNvPr id="43" name="Gruppe 81"/>
            <p:cNvGrpSpPr/>
            <p:nvPr/>
          </p:nvGrpSpPr>
          <p:grpSpPr>
            <a:xfrm>
              <a:off x="832320" y="5134320"/>
              <a:ext cx="2012760" cy="636480"/>
              <a:chOff x="832320" y="5134320"/>
              <a:chExt cx="2012760" cy="636480"/>
            </a:xfrm>
          </p:grpSpPr>
          <p:sp>
            <p:nvSpPr>
              <p:cNvPr id="44" name="Rektangel 23"/>
              <p:cNvSpPr/>
              <p:nvPr/>
            </p:nvSpPr>
            <p:spPr>
              <a:xfrm flipH="1">
                <a:off x="831960" y="535680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gebenet trapez 25"/>
              <p:cNvSpPr/>
              <p:nvPr/>
            </p:nvSpPr>
            <p:spPr>
              <a:xfrm flipH="1" flipV="1">
                <a:off x="831960" y="513432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ktangel 23"/>
            <p:cNvSpPr/>
            <p:nvPr/>
          </p:nvSpPr>
          <p:spPr>
            <a:xfrm flipH="1">
              <a:off x="1488600" y="4942800"/>
              <a:ext cx="2004480" cy="41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gebenet trapez 25"/>
            <p:cNvSpPr/>
            <p:nvPr/>
          </p:nvSpPr>
          <p:spPr>
            <a:xfrm flipH="1" flipV="1">
              <a:off x="1487880" y="4720320"/>
              <a:ext cx="2012760" cy="222480"/>
            </a:xfrm>
            <a:custGeom>
              <a:avLst/>
              <a:gdLst>
                <a:gd name="textAreaLeft" fmla="*/ 362160 w 2012760"/>
                <a:gd name="textAreaRight" fmla="*/ 1650600 w 2012760"/>
                <a:gd name="textAreaTop" fmla="*/ 39960 h 222480"/>
                <a:gd name="textAreaBottom" fmla="*/ 182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55" y="21600"/>
                  </a:lnTo>
                  <a:lnTo>
                    <a:pt x="38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uppe 81"/>
            <p:cNvGrpSpPr/>
            <p:nvPr/>
          </p:nvGrpSpPr>
          <p:grpSpPr>
            <a:xfrm>
              <a:off x="2275560" y="4308840"/>
              <a:ext cx="2012760" cy="636480"/>
              <a:chOff x="2275560" y="4308840"/>
              <a:chExt cx="2012760" cy="636480"/>
            </a:xfrm>
          </p:grpSpPr>
          <p:sp>
            <p:nvSpPr>
              <p:cNvPr id="49" name="Rektangel 23"/>
              <p:cNvSpPr/>
              <p:nvPr/>
            </p:nvSpPr>
            <p:spPr>
              <a:xfrm flipH="1">
                <a:off x="2275200" y="453132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gebenet trapez 25"/>
              <p:cNvSpPr/>
              <p:nvPr/>
            </p:nvSpPr>
            <p:spPr>
              <a:xfrm flipH="1" flipV="1">
                <a:off x="2275200" y="430884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uppe 81"/>
            <p:cNvGrpSpPr/>
            <p:nvPr/>
          </p:nvGrpSpPr>
          <p:grpSpPr>
            <a:xfrm>
              <a:off x="3128040" y="3896280"/>
              <a:ext cx="2012760" cy="636480"/>
              <a:chOff x="3128040" y="3896280"/>
              <a:chExt cx="2012760" cy="636480"/>
            </a:xfrm>
          </p:grpSpPr>
          <p:sp>
            <p:nvSpPr>
              <p:cNvPr id="52" name="Rektangel 23"/>
              <p:cNvSpPr/>
              <p:nvPr/>
            </p:nvSpPr>
            <p:spPr>
              <a:xfrm flipH="1">
                <a:off x="3127680" y="411876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gebenet trapez 25"/>
              <p:cNvSpPr/>
              <p:nvPr/>
            </p:nvSpPr>
            <p:spPr>
              <a:xfrm flipH="1" flipV="1">
                <a:off x="3127680" y="389628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uppe 81"/>
            <p:cNvGrpSpPr/>
            <p:nvPr/>
          </p:nvGrpSpPr>
          <p:grpSpPr>
            <a:xfrm>
              <a:off x="3915360" y="3485160"/>
              <a:ext cx="2012760" cy="636480"/>
              <a:chOff x="3915360" y="3485160"/>
              <a:chExt cx="2012760" cy="636480"/>
            </a:xfrm>
          </p:grpSpPr>
          <p:sp>
            <p:nvSpPr>
              <p:cNvPr id="55" name="Rektangel 23"/>
              <p:cNvSpPr/>
              <p:nvPr/>
            </p:nvSpPr>
            <p:spPr>
              <a:xfrm flipH="1">
                <a:off x="3915000" y="370764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gebenet trapez 25"/>
              <p:cNvSpPr/>
              <p:nvPr/>
            </p:nvSpPr>
            <p:spPr>
              <a:xfrm flipH="1" flipV="1">
                <a:off x="3915000" y="348516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uppe 81"/>
            <p:cNvGrpSpPr/>
            <p:nvPr/>
          </p:nvGrpSpPr>
          <p:grpSpPr>
            <a:xfrm>
              <a:off x="4702320" y="3072600"/>
              <a:ext cx="2012760" cy="636480"/>
              <a:chOff x="4702320" y="3072600"/>
              <a:chExt cx="2012760" cy="636480"/>
            </a:xfrm>
          </p:grpSpPr>
          <p:sp>
            <p:nvSpPr>
              <p:cNvPr id="58" name="Rektangel 23"/>
              <p:cNvSpPr/>
              <p:nvPr/>
            </p:nvSpPr>
            <p:spPr>
              <a:xfrm flipH="1">
                <a:off x="4701960" y="329508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gebenet trapez 25"/>
              <p:cNvSpPr/>
              <p:nvPr/>
            </p:nvSpPr>
            <p:spPr>
              <a:xfrm flipH="1" flipV="1">
                <a:off x="4701960" y="307260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uppe 81"/>
            <p:cNvGrpSpPr/>
            <p:nvPr/>
          </p:nvGrpSpPr>
          <p:grpSpPr>
            <a:xfrm>
              <a:off x="5489280" y="2670840"/>
              <a:ext cx="2012760" cy="636480"/>
              <a:chOff x="5489280" y="2670840"/>
              <a:chExt cx="2012760" cy="636480"/>
            </a:xfrm>
          </p:grpSpPr>
          <p:sp>
            <p:nvSpPr>
              <p:cNvPr id="61" name="Rektangel 23"/>
              <p:cNvSpPr/>
              <p:nvPr/>
            </p:nvSpPr>
            <p:spPr>
              <a:xfrm flipH="1">
                <a:off x="5488920" y="289332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gebenet trapez 25"/>
              <p:cNvSpPr/>
              <p:nvPr/>
            </p:nvSpPr>
            <p:spPr>
              <a:xfrm flipH="1" flipV="1">
                <a:off x="5488920" y="267084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uppe 81"/>
            <p:cNvGrpSpPr/>
            <p:nvPr/>
          </p:nvGrpSpPr>
          <p:grpSpPr>
            <a:xfrm>
              <a:off x="6186240" y="2258280"/>
              <a:ext cx="2012760" cy="636480"/>
              <a:chOff x="6186240" y="2258280"/>
              <a:chExt cx="2012760" cy="636480"/>
            </a:xfrm>
          </p:grpSpPr>
          <p:sp>
            <p:nvSpPr>
              <p:cNvPr id="64" name="Rektangel 23"/>
              <p:cNvSpPr/>
              <p:nvPr/>
            </p:nvSpPr>
            <p:spPr>
              <a:xfrm flipH="1">
                <a:off x="6185880" y="248076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gebenet trapez 25"/>
              <p:cNvSpPr/>
              <p:nvPr/>
            </p:nvSpPr>
            <p:spPr>
              <a:xfrm flipH="1" flipV="1">
                <a:off x="6185880" y="225828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31"/>
            <p:cNvSpPr/>
            <p:nvPr/>
          </p:nvSpPr>
          <p:spPr>
            <a:xfrm>
              <a:off x="1234440" y="54540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32"/>
            <p:cNvSpPr/>
            <p:nvPr/>
          </p:nvSpPr>
          <p:spPr>
            <a:xfrm>
              <a:off x="1946520" y="504144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3"/>
            <p:cNvSpPr/>
            <p:nvPr/>
          </p:nvSpPr>
          <p:spPr>
            <a:xfrm>
              <a:off x="2743200" y="462996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4"/>
            <p:cNvSpPr/>
            <p:nvPr/>
          </p:nvSpPr>
          <p:spPr>
            <a:xfrm>
              <a:off x="3591720" y="421884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5"/>
            <p:cNvSpPr/>
            <p:nvPr/>
          </p:nvSpPr>
          <p:spPr>
            <a:xfrm>
              <a:off x="4347360" y="37980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5166000" y="33948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37"/>
            <p:cNvSpPr/>
            <p:nvPr/>
          </p:nvSpPr>
          <p:spPr>
            <a:xfrm>
              <a:off x="6039000" y="299196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38"/>
            <p:cNvSpPr/>
            <p:nvPr/>
          </p:nvSpPr>
          <p:spPr>
            <a:xfrm>
              <a:off x="6588360" y="25614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ktangel 23"/>
            <p:cNvSpPr/>
            <p:nvPr/>
          </p:nvSpPr>
          <p:spPr>
            <a:xfrm flipH="1">
              <a:off x="832680" y="5770800"/>
              <a:ext cx="2004480" cy="41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59"/>
            <p:cNvGrpSpPr/>
            <p:nvPr/>
          </p:nvGrpSpPr>
          <p:grpSpPr>
            <a:xfrm>
              <a:off x="6783840" y="1729440"/>
              <a:ext cx="848520" cy="733680"/>
              <a:chOff x="6783840" y="1729440"/>
              <a:chExt cx="848520" cy="733680"/>
            </a:xfrm>
          </p:grpSpPr>
          <p:sp>
            <p:nvSpPr>
              <p:cNvPr id="76" name="Ellipse 59"/>
              <p:cNvSpPr/>
              <p:nvPr/>
            </p:nvSpPr>
            <p:spPr>
              <a:xfrm>
                <a:off x="6783840" y="2292120"/>
                <a:ext cx="84852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5-Point Star 49"/>
              <p:cNvSpPr/>
              <p:nvPr/>
            </p:nvSpPr>
            <p:spPr>
              <a:xfrm>
                <a:off x="6917040" y="1729440"/>
                <a:ext cx="605880" cy="605520"/>
              </a:xfrm>
              <a:prstGeom prst="star5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1201320" y="4513680"/>
              <a:ext cx="360" cy="681480"/>
              <a:chOff x="1201320" y="4513680"/>
              <a:chExt cx="360" cy="681480"/>
            </a:xfrm>
          </p:grpSpPr>
          <p:sp>
            <p:nvSpPr>
              <p:cNvPr id="79" name="Line 33"/>
              <p:cNvSpPr/>
              <p:nvPr/>
            </p:nvSpPr>
            <p:spPr>
              <a:xfrm flipV="1">
                <a:off x="1201680" y="45136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 rot="10800000">
                <a:off x="1201320" y="45136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ktangel 64"/>
            <p:cNvSpPr/>
            <p:nvPr/>
          </p:nvSpPr>
          <p:spPr>
            <a:xfrm>
              <a:off x="644400" y="377352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321080" y="2934000"/>
              <a:ext cx="360" cy="681480"/>
              <a:chOff x="4321080" y="2934000"/>
              <a:chExt cx="360" cy="681480"/>
            </a:xfrm>
          </p:grpSpPr>
          <p:sp>
            <p:nvSpPr>
              <p:cNvPr id="83" name="Line 33"/>
              <p:cNvSpPr/>
              <p:nvPr/>
            </p:nvSpPr>
            <p:spPr>
              <a:xfrm flipV="1">
                <a:off x="4321440" y="293400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4321080" y="293400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ktangel 64"/>
            <p:cNvSpPr/>
            <p:nvPr/>
          </p:nvSpPr>
          <p:spPr>
            <a:xfrm>
              <a:off x="3763800" y="21938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675880" y="3748320"/>
              <a:ext cx="360" cy="681480"/>
              <a:chOff x="2675880" y="3748320"/>
              <a:chExt cx="360" cy="681480"/>
            </a:xfrm>
          </p:grpSpPr>
          <p:sp>
            <p:nvSpPr>
              <p:cNvPr id="87" name="Line 33"/>
              <p:cNvSpPr/>
              <p:nvPr/>
            </p:nvSpPr>
            <p:spPr>
              <a:xfrm flipV="1">
                <a:off x="2676240" y="374832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 rot="10800000">
                <a:off x="2675880" y="374832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Rektangel 64"/>
            <p:cNvSpPr/>
            <p:nvPr/>
          </p:nvSpPr>
          <p:spPr>
            <a:xfrm>
              <a:off x="2118600" y="300816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929120" y="4513680"/>
              <a:ext cx="360" cy="681480"/>
              <a:chOff x="4929120" y="4513680"/>
              <a:chExt cx="360" cy="681480"/>
            </a:xfrm>
          </p:grpSpPr>
          <p:sp>
            <p:nvSpPr>
              <p:cNvPr id="91" name="Line 33"/>
              <p:cNvSpPr/>
              <p:nvPr/>
            </p:nvSpPr>
            <p:spPr>
              <a:xfrm flipV="1">
                <a:off x="4929480" y="45136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 rot="10800000">
                <a:off x="4929120" y="45136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ktangel 64"/>
            <p:cNvSpPr/>
            <p:nvPr/>
          </p:nvSpPr>
          <p:spPr>
            <a:xfrm>
              <a:off x="4322880" y="51548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7819200" y="2891880"/>
              <a:ext cx="360" cy="681480"/>
              <a:chOff x="7819200" y="2891880"/>
              <a:chExt cx="360" cy="681480"/>
            </a:xfrm>
          </p:grpSpPr>
          <p:sp>
            <p:nvSpPr>
              <p:cNvPr id="95" name="Line 33"/>
              <p:cNvSpPr/>
              <p:nvPr/>
            </p:nvSpPr>
            <p:spPr>
              <a:xfrm flipV="1">
                <a:off x="7819560" y="28918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 rot="10800000">
                <a:off x="7819200" y="28918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ktangel 64"/>
            <p:cNvSpPr/>
            <p:nvPr/>
          </p:nvSpPr>
          <p:spPr>
            <a:xfrm>
              <a:off x="7212960" y="35150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128040" y="5356440"/>
              <a:ext cx="360" cy="681480"/>
              <a:chOff x="3128040" y="5356440"/>
              <a:chExt cx="360" cy="681480"/>
            </a:xfrm>
          </p:grpSpPr>
          <p:sp>
            <p:nvSpPr>
              <p:cNvPr id="99" name="Line 33"/>
              <p:cNvSpPr/>
              <p:nvPr/>
            </p:nvSpPr>
            <p:spPr>
              <a:xfrm flipV="1">
                <a:off x="3128400" y="535644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 rot="10800000">
                <a:off x="3128040" y="535644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Rektangel 64"/>
            <p:cNvSpPr/>
            <p:nvPr/>
          </p:nvSpPr>
          <p:spPr>
            <a:xfrm>
              <a:off x="3080520" y="569448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843520" y="2090880"/>
              <a:ext cx="360" cy="681480"/>
              <a:chOff x="5843520" y="2090880"/>
              <a:chExt cx="360" cy="681480"/>
            </a:xfrm>
          </p:grpSpPr>
          <p:sp>
            <p:nvSpPr>
              <p:cNvPr id="103" name="Line 33"/>
              <p:cNvSpPr/>
              <p:nvPr/>
            </p:nvSpPr>
            <p:spPr>
              <a:xfrm flipV="1">
                <a:off x="5843880" y="20908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 rot="10800000">
                <a:off x="5843520" y="20908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ktangel 64"/>
            <p:cNvSpPr/>
            <p:nvPr/>
          </p:nvSpPr>
          <p:spPr>
            <a:xfrm>
              <a:off x="5286240" y="135072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40680" y="3706200"/>
              <a:ext cx="360" cy="681480"/>
              <a:chOff x="6340680" y="3706200"/>
              <a:chExt cx="360" cy="681480"/>
            </a:xfrm>
          </p:grpSpPr>
          <p:sp>
            <p:nvSpPr>
              <p:cNvPr id="107" name="Line 33"/>
              <p:cNvSpPr/>
              <p:nvPr/>
            </p:nvSpPr>
            <p:spPr>
              <a:xfrm flipV="1">
                <a:off x="6341040" y="370620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 rot="10800000">
                <a:off x="6340680" y="370620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ktangel 64"/>
            <p:cNvSpPr/>
            <p:nvPr/>
          </p:nvSpPr>
          <p:spPr>
            <a:xfrm>
              <a:off x="5734440" y="430200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194960" y="1482120"/>
              <a:ext cx="360" cy="196560"/>
              <a:chOff x="7194960" y="1482120"/>
              <a:chExt cx="360" cy="196560"/>
            </a:xfrm>
          </p:grpSpPr>
          <p:sp>
            <p:nvSpPr>
              <p:cNvPr id="111" name="Line 33"/>
              <p:cNvSpPr/>
              <p:nvPr/>
            </p:nvSpPr>
            <p:spPr>
              <a:xfrm flipV="1">
                <a:off x="7195320" y="1482120"/>
                <a:ext cx="0" cy="19656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 rot="10800000">
                <a:off x="7194960" y="1482120"/>
                <a:ext cx="360" cy="19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ktangel 64"/>
            <p:cNvSpPr/>
            <p:nvPr/>
          </p:nvSpPr>
          <p:spPr>
            <a:xfrm>
              <a:off x="6656760" y="7826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25160" y="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递进关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079-FA06-48DF-8F95-A69B29478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20:15Z</dcterms:modified>
  <cp:revision>11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