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31A-6CC2-4C21-99DE-E380CDF2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209-C299-4299-8795-9FD2DCDF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2DC-CEEA-42EF-8608-BAF840A7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1F0-D6A6-491A-AFC0-6747D57C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0E5-7C94-4918-B990-6DB90F6D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3AB-CD4D-499C-B135-56E6DABB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9E6-ACCE-4F03-BA9A-A580909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F8A-68FA-4612-A691-09F1A695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146-73EF-41CB-8754-0188A23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4C86-ED08-4CC3-A57A-3FDC39D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719-270C-4CD3-843A-32DC92F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F09-B1A2-477B-953B-C555E656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0CE-AF71-440F-A908-FF2DFDC95DD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6C37-068A-4F64-9C3D-FC0F378CF8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36360" y="69372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4"/>
          <p:cNvGrpSpPr/>
          <p:nvPr/>
        </p:nvGrpSpPr>
        <p:grpSpPr>
          <a:xfrm>
            <a:off x="612720" y="3887640"/>
            <a:ext cx="3673080" cy="1726920"/>
            <a:chOff x="612720" y="3887640"/>
            <a:chExt cx="3673080" cy="1726920"/>
          </a:xfrm>
        </p:grpSpPr>
        <p:sp>
          <p:nvSpPr>
            <p:cNvPr id="43" name="Freeform 5"/>
            <p:cNvSpPr/>
            <p:nvPr/>
          </p:nvSpPr>
          <p:spPr>
            <a:xfrm>
              <a:off x="612720" y="3887640"/>
              <a:ext cx="3673080" cy="1726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>
              <a:off x="1071720" y="3887640"/>
              <a:ext cx="2754720" cy="690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Oval 7"/>
          <p:cNvSpPr/>
          <p:nvPr/>
        </p:nvSpPr>
        <p:spPr>
          <a:xfrm>
            <a:off x="1031760" y="3733920"/>
            <a:ext cx="2832120" cy="920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1224000" y="2879640"/>
            <a:ext cx="2484360" cy="1373400"/>
            <a:chOff x="1224000" y="2879640"/>
            <a:chExt cx="2484360" cy="1373400"/>
          </a:xfrm>
        </p:grpSpPr>
        <p:sp>
          <p:nvSpPr>
            <p:cNvPr id="47" name="Freeform 9"/>
            <p:cNvSpPr/>
            <p:nvPr/>
          </p:nvSpPr>
          <p:spPr>
            <a:xfrm>
              <a:off x="1224000" y="2879640"/>
              <a:ext cx="2484360" cy="13734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1638000" y="2879640"/>
              <a:ext cx="1656000" cy="42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Oval 11"/>
          <p:cNvSpPr/>
          <p:nvPr/>
        </p:nvSpPr>
        <p:spPr>
          <a:xfrm>
            <a:off x="1492200" y="2711520"/>
            <a:ext cx="1911240" cy="62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1751040" y="1558800"/>
            <a:ext cx="1430280" cy="1467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2107440" y="2484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1960200" y="35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958760" y="491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6372360" y="1811160"/>
            <a:ext cx="216036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文字内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75f8"/>
                </a:solidFill>
                <a:latin typeface="Arial"/>
                <a:ea typeface="微软雅黑"/>
              </a:rPr>
              <a:t>单击此处添加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6372360" y="439884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6372360" y="3132000"/>
            <a:ext cx="2160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内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9"/>
          <p:cNvGrpSpPr/>
          <p:nvPr/>
        </p:nvGrpSpPr>
        <p:grpSpPr>
          <a:xfrm>
            <a:off x="2771280" y="2227320"/>
            <a:ext cx="5801040" cy="2503080"/>
            <a:chOff x="2771280" y="2227320"/>
            <a:chExt cx="5801040" cy="2503080"/>
          </a:xfrm>
        </p:grpSpPr>
        <p:grpSp>
          <p:nvGrpSpPr>
            <p:cNvPr id="58" name=""/>
            <p:cNvGrpSpPr/>
            <p:nvPr/>
          </p:nvGrpSpPr>
          <p:grpSpPr>
            <a:xfrm>
              <a:off x="4051440" y="4728960"/>
              <a:ext cx="4520880" cy="1440"/>
              <a:chOff x="4051440" y="4728960"/>
              <a:chExt cx="4520880" cy="1440"/>
            </a:xfrm>
          </p:grpSpPr>
          <p:sp>
            <p:nvSpPr>
              <p:cNvPr id="59" name="Line 20"/>
              <p:cNvSpPr/>
              <p:nvPr/>
            </p:nvSpPr>
            <p:spPr>
              <a:xfrm flipH="1">
                <a:off x="4051440" y="4728960"/>
                <a:ext cx="4520520" cy="14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4051800" y="4728960"/>
                <a:ext cx="4520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771280" y="2227320"/>
              <a:ext cx="5801040" cy="1080"/>
              <a:chOff x="2771280" y="2227320"/>
              <a:chExt cx="5801040" cy="1080"/>
            </a:xfrm>
          </p:grpSpPr>
          <p:sp>
            <p:nvSpPr>
              <p:cNvPr id="62" name="Line 21"/>
              <p:cNvSpPr/>
              <p:nvPr/>
            </p:nvSpPr>
            <p:spPr>
              <a:xfrm flipH="1">
                <a:off x="2771280" y="2227320"/>
                <a:ext cx="5800680" cy="1080"/>
              </a:xfrm>
              <a:prstGeom prst="line">
                <a:avLst/>
              </a:prstGeom>
              <a:ln cap="rnd" w="25560">
                <a:solidFill>
                  <a:srgbClr val="0875f8"/>
                </a:solidFill>
                <a:custDash>
                  <a:ds d="100000" sp="1000"/>
                </a:custDash>
                <a:miter/>
                <a:headEnd len="med" type="triangle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 txBox="1"/>
              <p:nvPr/>
            </p:nvSpPr>
            <p:spPr>
              <a:xfrm>
                <a:off x="2771640" y="2227320"/>
                <a:ext cx="58006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416400" y="3477240"/>
              <a:ext cx="5155920" cy="1080"/>
              <a:chOff x="3416400" y="3477240"/>
              <a:chExt cx="5155920" cy="1080"/>
            </a:xfrm>
          </p:grpSpPr>
          <p:sp>
            <p:nvSpPr>
              <p:cNvPr id="65" name="Line 22"/>
              <p:cNvSpPr/>
              <p:nvPr/>
            </p:nvSpPr>
            <p:spPr>
              <a:xfrm flipH="1">
                <a:off x="3416400" y="3477240"/>
                <a:ext cx="5155920" cy="108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 txBox="1"/>
              <p:nvPr/>
            </p:nvSpPr>
            <p:spPr>
              <a:xfrm>
                <a:off x="3416400" y="3477240"/>
                <a:ext cx="5155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WordArt 38"/>
          <p:cNvSpPr/>
          <p:nvPr/>
        </p:nvSpPr>
        <p:spPr>
          <a:xfrm>
            <a:off x="4989600" y="1039680"/>
            <a:ext cx="3686040" cy="378000"/>
          </a:xfrm>
          <a:custGeom>
            <a:avLst/>
            <a:gdLst>
              <a:gd name="textAreaLeft" fmla="*/ 0 w 3686040"/>
              <a:gd name="textAreaRight" fmla="*/ 3686400 w 3686040"/>
              <a:gd name="textAreaTop" fmla="*/ 0 h 378000"/>
              <a:gd name="textAreaBottom" fmla="*/ 378360 h 37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6720" y="44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棱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A26-EBAF-4EB6-8141-1F04E043C2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38:24Z</dcterms:modified>
  <cp:revision>11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