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D297B-AF34-4C48-9720-B91E1A5CCC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6BD6D-D40E-4B7E-BEC0-8E474A65A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3593-A90D-486D-A732-4B3A7072E1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8501-AACB-4F7D-BD49-D357CA46D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7666-91A6-4D6C-B786-23BE65347B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4324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8120" y="11250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36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4324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8120" y="3736800"/>
            <a:ext cx="26424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66258-131D-4DEB-8736-2C45BEF693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5E9DC-6F72-43CF-9E1B-AE8C2F789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10AD3-DBC7-48C9-ACA1-74B239FFF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5832360" cy="27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A3C1-526D-4666-BD7A-DAEE865515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70A91-CB22-4EA0-AD5F-5E853524CB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880" y="37368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6CA7-E204-4C8E-BB54-90FB243438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880" y="1125000"/>
            <a:ext cx="400500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36800"/>
            <a:ext cx="8207280" cy="23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DCAA-B3C7-415C-B52A-E689B5BAB0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7308720" y="6288120"/>
            <a:ext cx="138924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089D63-FA3B-4CD5-B7F2-766416C5698E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1" descr="bg1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>
            <a:off x="468360" y="32400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a568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bbs.ruideppt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4608000"/>
            <a:ext cx="5398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68360" y="5687640"/>
            <a:ext cx="540072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>
            <a:hlinkClick r:id="rId1"/>
          </p:cNvPr>
          <p:cNvSpPr/>
          <p:nvPr/>
        </p:nvSpPr>
        <p:spPr>
          <a:xfrm>
            <a:off x="2340000" y="6535800"/>
            <a:ext cx="50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第一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i="1" lang="zh-CN" sz="1200" spc="-1" strike="noStrike">
                <a:solidFill>
                  <a:srgbClr val="ffffff"/>
                </a:solidFill>
                <a:latin typeface="Arial"/>
              </a:rPr>
              <a:t>模板网，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416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态动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0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0"/>
          <p:cNvSpPr/>
          <p:nvPr/>
        </p:nvSpPr>
        <p:spPr>
          <a:xfrm>
            <a:off x="46836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BCD68BBB-C2CC-41D3-9D23-A597FD2C312B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58323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072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5302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2850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285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860F-817C-43D4-9146-1B496F7C9D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7:08:20Z</dcterms:modified>
  <cp:revision>2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