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FCF-C11A-49CB-90B6-7E9F1F97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74D-4DD1-4B9D-A483-AAD4BFA4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BAC-717D-4DAA-883E-5DE9548B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999-71A7-463F-9CFF-0C18939A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FBC7-7B0A-4708-8A9B-1A3A8A5D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DA39-32F4-436B-AB89-E7A6AFDB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A8F-535F-4F50-928D-C42BEC4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7BC9-D6A6-4F27-8F96-6013E59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E430-F49F-4226-B1B6-03FD01A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9AB5-BC11-45F3-A7B8-1F6DE837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6CCD-BF04-4F21-B814-97D7459D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B7F-0BE6-4609-AA3F-3A050074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674D-E2B1-4A95-828F-3A97F8C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ECD3-E18B-4181-9B8E-285F5CD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7DAA-DF48-47A2-8BCE-13E675CC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08F-4741-4834-B314-C2CAE6C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41F0-30F9-48B5-B579-43CFEF26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71A-1CCE-45F8-8A07-C888084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14-9476-4DB9-A420-34C052AC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52B-44E6-476A-A88F-6D342365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70E-8F97-498B-AA93-E05E3B2E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C42-ABF6-470C-A8E3-9785390C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01A-FB59-44EA-A7E8-DBC5D324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191-E8B5-4939-8416-DE7FA49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6AC4-68F0-4FDD-A6C5-0579B141CC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5298-B5DE-4768-A580-E585F5A113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98864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7812000" y="412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084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PMingLiU"/>
              </a:rPr>
              <a:t>Slide Maste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PMingLiU"/>
              </a:rPr>
              <a:t>Print Maste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638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3a6b30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989000"/>
            <a:ext cx="3340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谢谢欣赏！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895480"/>
            <a:ext cx="28083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anks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a6b3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C48-1E98-4383-8B82-3EE695D64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21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9:4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