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1F9-83F5-419B-8691-9585B6A7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8BF-51EB-49CF-A92D-0D879771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23A-F1B2-4DF7-AFB8-44E5BD4A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289-B01D-4817-82A0-AA5AE4FB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FFA-A0F7-4066-8BF9-77E37DF6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211-0D4B-4C51-81A7-BADFB98B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420-DA27-4F77-8CEF-FCEC5BFE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BC1-F9CF-4009-B160-C550B8B7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5BE-E5D9-4967-9EE6-9A1C8CF4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A8C-958D-495C-AF6A-2BE2170C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D18-44B8-4FA6-B613-B71E02D9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56D-0E3E-47E4-AFEB-162290F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F428-1F0D-4621-9EAE-A6712D802722}" type="slidenum">
              <a:rPr b="0" lang="zh-CN" sz="1200" spc="-1" strike="noStrike">
                <a:solidFill>
                  <a:srgbClr val="8a8a8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26960" y="333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c0c"/>
                </a:solidFill>
                <a:latin typeface="Arial"/>
              </a:rPr>
              <a:t>动态动物</a:t>
            </a:r>
            <a:r>
              <a:rPr b="0" lang="zh-CN" sz="4000" spc="-1" strike="noStrike">
                <a:solidFill>
                  <a:srgbClr val="0c0c0c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c0c0c"/>
                </a:solidFill>
                <a:latin typeface="Arial"/>
              </a:rPr>
              <a:t>免费素材下载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5713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A47-C56D-4923-A510-5027431C7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07:03Z</dcterms:modified>
  <cp:revision>1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