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2A5-AAEB-4798-B679-A74B3D12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0CF8-AE60-4286-84F4-932DD530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782-3A4C-4969-8E41-312B61FF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BA9-EFE7-4A72-94AB-07BD9E7E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C09-D942-4D71-92CC-10155EFF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B3C-61CA-447A-B930-C8075C4C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E0D-5239-4A5D-AB07-E49125BC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673-9FB0-4039-B85D-95248A3F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A73-ADD8-497F-BD73-7EB3A88D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6CF-2DD6-499F-A3E9-9F9C45B6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C98-0B35-48EC-90CB-7C730287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E68-3C59-4DEC-8B6D-26F0BB72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D577-ADF8-4B3F-9BFD-E2FBE925B3F7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海洋鱼类</a:t>
            </a:r>
            <a:r>
              <a:rPr b="0" lang="en-US" sz="48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PPT</a:t>
            </a:r>
            <a:r>
              <a:rPr b="0" lang="zh-CN" sz="48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170172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2195640" y="6453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2D4B-7B5D-498D-95A3-607E8E4093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6:52:3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10:26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