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CB9-68D2-4C34-A74F-306E7A24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980720"/>
            <a:ext cx="6400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3851640"/>
            <a:ext cx="6400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F89-36A9-4372-ACE0-5D49EF14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980720"/>
            <a:ext cx="3123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5960" y="1980720"/>
            <a:ext cx="3123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3851640"/>
            <a:ext cx="3123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5960" y="3851640"/>
            <a:ext cx="3123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858-A776-481F-8410-FCB14D39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980720"/>
            <a:ext cx="2060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9960" y="1980720"/>
            <a:ext cx="2060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280" y="1980720"/>
            <a:ext cx="2060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3851640"/>
            <a:ext cx="2060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9960" y="3851640"/>
            <a:ext cx="2060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280" y="3851640"/>
            <a:ext cx="2060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B15-0E4A-424D-9AE2-9532ACA4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9E5-5BBB-43F2-95BA-E0AFF32F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9807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3D0-FCF4-4FFC-A8E7-FD601E80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980720"/>
            <a:ext cx="31233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5960" y="1980720"/>
            <a:ext cx="31233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3F0-2AD0-420D-AF4F-58ADD857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EF0-4D24-4506-8505-E4A85C47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34C-8081-422F-9FE1-E9F6ED0F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980720"/>
            <a:ext cx="3123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5960" y="1980720"/>
            <a:ext cx="31233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3851640"/>
            <a:ext cx="3123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767-8F87-401D-9B02-1C25AAA6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980720"/>
            <a:ext cx="31233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5960" y="1980720"/>
            <a:ext cx="3123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5960" y="3851640"/>
            <a:ext cx="3123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E9A-8097-4663-8502-9EE7D867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980720"/>
            <a:ext cx="3123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5960" y="1980720"/>
            <a:ext cx="3123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3851640"/>
            <a:ext cx="6400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48F-CBF6-4A6B-B0E1-7A3E355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9807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66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66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66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66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66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16E8-12AC-41AD-9D15-12A44D5557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2209680"/>
            <a:ext cx="5943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41280" y="3333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动态动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宋体"/>
              </a:rPr>
              <a:t>Heartbe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0" y="19807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宋体"/>
              </a:rPr>
              <a:t>Your sub topic goes here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宋体"/>
              </a:rPr>
              <a:t>This is the print page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0" y="19807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宋体"/>
              </a:rPr>
              <a:t>Add sub topics here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8720" y="465300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  <a:ea typeface="宋体"/>
              </a:rPr>
              <a:t>Transition page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CA3-FFD4-45D9-9FAC-F30D20B8D0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01:1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13:5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