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2EA-EAF6-41D1-B312-EC3A5B69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427-437F-4729-8E60-F4A8460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132-66A8-40DA-ACA1-F91E49C6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7AE-7D79-46BE-B152-E367921B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F32-8D1F-446B-AFB6-116D44D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86C-3836-40CE-8938-67DD301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BBA-75F1-4D19-BE25-AFBC7507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BCA-D55A-4CF3-8A52-AEF0E0B7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F4F-A81E-4483-AED0-8159F725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D14-3B0A-405D-875C-91BDC05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BBB-E0AD-43D8-99D0-E92EE1B1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2B5-8F5A-497D-919F-48EDEFF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BAE6-21E0-4797-9654-C54EF904D3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606-A736-4F0C-BCFF-B3AE63E6A3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72867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9144000" y="3772080"/>
            <a:ext cx="2260440" cy="2857320"/>
            <a:chOff x="9144000" y="3772080"/>
            <a:chExt cx="2260440" cy="2857320"/>
          </a:xfrm>
        </p:grpSpPr>
        <p:grpSp>
          <p:nvGrpSpPr>
            <p:cNvPr id="43" name=""/>
            <p:cNvGrpSpPr/>
            <p:nvPr/>
          </p:nvGrpSpPr>
          <p:grpSpPr>
            <a:xfrm>
              <a:off x="9594720" y="3851640"/>
              <a:ext cx="1609560" cy="2460960"/>
              <a:chOff x="9594720" y="3851640"/>
              <a:chExt cx="1609560" cy="246096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0184040" y="4925520"/>
                <a:ext cx="1020240" cy="788760"/>
                <a:chOff x="10184040" y="4925520"/>
                <a:chExt cx="1020240" cy="788760"/>
              </a:xfrm>
            </p:grpSpPr>
            <p:sp>
              <p:nvSpPr>
                <p:cNvPr id="45" name="Freeform 6"/>
                <p:cNvSpPr/>
                <p:nvPr/>
              </p:nvSpPr>
              <p:spPr>
                <a:xfrm>
                  <a:off x="10454400" y="4930200"/>
                  <a:ext cx="690840" cy="504720"/>
                </a:xfrm>
                <a:custGeom>
                  <a:avLst/>
                  <a:gdLst>
                    <a:gd name="textAreaLeft" fmla="*/ 0 w 690840"/>
                    <a:gd name="textAreaRight" fmla="*/ 691200 w 690840"/>
                    <a:gd name="textAreaTop" fmla="*/ 0 h 504720"/>
                    <a:gd name="textAreaBottom" fmla="*/ 505080 h 504720"/>
                  </a:gdLst>
                  <a:ahLst/>
                  <a:rect l="textAreaLeft" t="textAreaTop" r="textAreaRight" b="textAreaBottom"/>
                  <a:pathLst>
                    <a:path w="598" h="437">
                      <a:moveTo>
                        <a:pt x="54" y="310"/>
                      </a:moveTo>
                      <a:cubicBezTo>
                        <a:pt x="108" y="255"/>
                        <a:pt x="361" y="137"/>
                        <a:pt x="441" y="91"/>
                      </a:cubicBezTo>
                      <a:cubicBezTo>
                        <a:pt x="521" y="45"/>
                        <a:pt x="509" y="48"/>
                        <a:pt x="534" y="34"/>
                      </a:cubicBezTo>
                      <a:cubicBezTo>
                        <a:pt x="559" y="20"/>
                        <a:pt x="584" y="0"/>
                        <a:pt x="591" y="4"/>
                      </a:cubicBezTo>
                      <a:cubicBezTo>
                        <a:pt x="598" y="8"/>
                        <a:pt x="586" y="36"/>
                        <a:pt x="576" y="61"/>
                      </a:cubicBezTo>
                      <a:cubicBezTo>
                        <a:pt x="566" y="86"/>
                        <a:pt x="552" y="124"/>
                        <a:pt x="531" y="154"/>
                      </a:cubicBezTo>
                      <a:cubicBezTo>
                        <a:pt x="510" y="184"/>
                        <a:pt x="456" y="235"/>
                        <a:pt x="453" y="244"/>
                      </a:cubicBezTo>
                      <a:cubicBezTo>
                        <a:pt x="450" y="253"/>
                        <a:pt x="516" y="201"/>
                        <a:pt x="513" y="208"/>
                      </a:cubicBezTo>
                      <a:cubicBezTo>
                        <a:pt x="510" y="215"/>
                        <a:pt x="456" y="266"/>
                        <a:pt x="432" y="286"/>
                      </a:cubicBezTo>
                      <a:cubicBezTo>
                        <a:pt x="408" y="306"/>
                        <a:pt x="387" y="310"/>
                        <a:pt x="366" y="328"/>
                      </a:cubicBezTo>
                      <a:cubicBezTo>
                        <a:pt x="345" y="346"/>
                        <a:pt x="331" y="380"/>
                        <a:pt x="306" y="397"/>
                      </a:cubicBezTo>
                      <a:cubicBezTo>
                        <a:pt x="281" y="414"/>
                        <a:pt x="247" y="430"/>
                        <a:pt x="216" y="433"/>
                      </a:cubicBezTo>
                      <a:cubicBezTo>
                        <a:pt x="185" y="436"/>
                        <a:pt x="144" y="437"/>
                        <a:pt x="117" y="418"/>
                      </a:cubicBezTo>
                      <a:cubicBezTo>
                        <a:pt x="90" y="399"/>
                        <a:pt x="0" y="365"/>
                        <a:pt x="54" y="31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7"/>
                <p:cNvSpPr/>
                <p:nvPr/>
              </p:nvSpPr>
              <p:spPr>
                <a:xfrm>
                  <a:off x="10184040" y="4925520"/>
                  <a:ext cx="1020240" cy="672120"/>
                </a:xfrm>
                <a:custGeom>
                  <a:avLst/>
                  <a:gdLst>
                    <a:gd name="textAreaLeft" fmla="*/ 0 w 1020240"/>
                    <a:gd name="textAreaRight" fmla="*/ 1020600 w 1020240"/>
                    <a:gd name="textAreaTop" fmla="*/ 0 h 672120"/>
                    <a:gd name="textAreaBottom" fmla="*/ 672480 h 672120"/>
                  </a:gdLst>
                  <a:ahLst/>
                  <a:rect l="textAreaLeft" t="textAreaTop" r="textAreaRight" b="textAreaBottom"/>
                  <a:pathLst>
                    <a:path w="883" h="582">
                      <a:moveTo>
                        <a:pt x="54" y="353"/>
                      </a:moveTo>
                      <a:cubicBezTo>
                        <a:pt x="103" y="321"/>
                        <a:pt x="227" y="285"/>
                        <a:pt x="297" y="251"/>
                      </a:cubicBezTo>
                      <a:cubicBezTo>
                        <a:pt x="367" y="217"/>
                        <a:pt x="414" y="180"/>
                        <a:pt x="474" y="149"/>
                      </a:cubicBezTo>
                      <a:cubicBezTo>
                        <a:pt x="534" y="118"/>
                        <a:pt x="610" y="86"/>
                        <a:pt x="660" y="65"/>
                      </a:cubicBezTo>
                      <a:cubicBezTo>
                        <a:pt x="710" y="44"/>
                        <a:pt x="749" y="30"/>
                        <a:pt x="777" y="20"/>
                      </a:cubicBezTo>
                      <a:cubicBezTo>
                        <a:pt x="805" y="10"/>
                        <a:pt x="821" y="0"/>
                        <a:pt x="828" y="2"/>
                      </a:cubicBezTo>
                      <a:cubicBezTo>
                        <a:pt x="835" y="4"/>
                        <a:pt x="836" y="19"/>
                        <a:pt x="822" y="32"/>
                      </a:cubicBezTo>
                      <a:cubicBezTo>
                        <a:pt x="808" y="45"/>
                        <a:pt x="780" y="59"/>
                        <a:pt x="741" y="80"/>
                      </a:cubicBezTo>
                      <a:cubicBezTo>
                        <a:pt x="780" y="68"/>
                        <a:pt x="805" y="53"/>
                        <a:pt x="828" y="44"/>
                      </a:cubicBezTo>
                      <a:cubicBezTo>
                        <a:pt x="851" y="35"/>
                        <a:pt x="875" y="21"/>
                        <a:pt x="879" y="26"/>
                      </a:cubicBezTo>
                      <a:cubicBezTo>
                        <a:pt x="883" y="31"/>
                        <a:pt x="869" y="54"/>
                        <a:pt x="852" y="74"/>
                      </a:cubicBezTo>
                      <a:cubicBezTo>
                        <a:pt x="835" y="94"/>
                        <a:pt x="804" y="127"/>
                        <a:pt x="777" y="146"/>
                      </a:cubicBezTo>
                      <a:cubicBezTo>
                        <a:pt x="750" y="165"/>
                        <a:pt x="726" y="161"/>
                        <a:pt x="690" y="188"/>
                      </a:cubicBezTo>
                      <a:cubicBezTo>
                        <a:pt x="729" y="173"/>
                        <a:pt x="765" y="168"/>
                        <a:pt x="783" y="167"/>
                      </a:cubicBezTo>
                      <a:cubicBezTo>
                        <a:pt x="801" y="166"/>
                        <a:pt x="807" y="173"/>
                        <a:pt x="798" y="185"/>
                      </a:cubicBezTo>
                      <a:cubicBezTo>
                        <a:pt x="789" y="197"/>
                        <a:pt x="760" y="224"/>
                        <a:pt x="729" y="242"/>
                      </a:cubicBezTo>
                      <a:cubicBezTo>
                        <a:pt x="698" y="260"/>
                        <a:pt x="622" y="288"/>
                        <a:pt x="615" y="293"/>
                      </a:cubicBezTo>
                      <a:cubicBezTo>
                        <a:pt x="657" y="284"/>
                        <a:pt x="670" y="274"/>
                        <a:pt x="687" y="272"/>
                      </a:cubicBezTo>
                      <a:cubicBezTo>
                        <a:pt x="704" y="270"/>
                        <a:pt x="723" y="277"/>
                        <a:pt x="717" y="284"/>
                      </a:cubicBezTo>
                      <a:cubicBezTo>
                        <a:pt x="711" y="291"/>
                        <a:pt x="675" y="303"/>
                        <a:pt x="648" y="317"/>
                      </a:cubicBezTo>
                      <a:cubicBezTo>
                        <a:pt x="621" y="331"/>
                        <a:pt x="560" y="359"/>
                        <a:pt x="552" y="368"/>
                      </a:cubicBezTo>
                      <a:cubicBezTo>
                        <a:pt x="544" y="377"/>
                        <a:pt x="587" y="367"/>
                        <a:pt x="597" y="371"/>
                      </a:cubicBezTo>
                      <a:cubicBezTo>
                        <a:pt x="607" y="375"/>
                        <a:pt x="620" y="387"/>
                        <a:pt x="612" y="392"/>
                      </a:cubicBezTo>
                      <a:cubicBezTo>
                        <a:pt x="604" y="397"/>
                        <a:pt x="571" y="392"/>
                        <a:pt x="549" y="401"/>
                      </a:cubicBezTo>
                      <a:cubicBezTo>
                        <a:pt x="527" y="410"/>
                        <a:pt x="526" y="421"/>
                        <a:pt x="477" y="449"/>
                      </a:cubicBezTo>
                      <a:cubicBezTo>
                        <a:pt x="428" y="477"/>
                        <a:pt x="322" y="556"/>
                        <a:pt x="255" y="569"/>
                      </a:cubicBezTo>
                      <a:cubicBezTo>
                        <a:pt x="188" y="582"/>
                        <a:pt x="114" y="548"/>
                        <a:pt x="72" y="527"/>
                      </a:cubicBezTo>
                      <a:cubicBezTo>
                        <a:pt x="30" y="506"/>
                        <a:pt x="6" y="472"/>
                        <a:pt x="3" y="443"/>
                      </a:cubicBezTo>
                      <a:cubicBezTo>
                        <a:pt x="0" y="414"/>
                        <a:pt x="5" y="385"/>
                        <a:pt x="54" y="353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"/>
                <p:cNvSpPr/>
                <p:nvPr/>
              </p:nvSpPr>
              <p:spPr>
                <a:xfrm>
                  <a:off x="10190520" y="5341320"/>
                  <a:ext cx="646920" cy="372960"/>
                </a:xfrm>
                <a:custGeom>
                  <a:avLst/>
                  <a:gdLst>
                    <a:gd name="textAreaLeft" fmla="*/ 0 w 646920"/>
                    <a:gd name="textAreaRight" fmla="*/ 647280 w 64692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560" h="323">
                      <a:moveTo>
                        <a:pt x="6" y="182"/>
                      </a:moveTo>
                      <a:cubicBezTo>
                        <a:pt x="11" y="149"/>
                        <a:pt x="27" y="68"/>
                        <a:pt x="50" y="38"/>
                      </a:cubicBezTo>
                      <a:cubicBezTo>
                        <a:pt x="73" y="8"/>
                        <a:pt x="115" y="0"/>
                        <a:pt x="146" y="2"/>
                      </a:cubicBezTo>
                      <a:cubicBezTo>
                        <a:pt x="177" y="4"/>
                        <a:pt x="228" y="36"/>
                        <a:pt x="234" y="50"/>
                      </a:cubicBezTo>
                      <a:cubicBezTo>
                        <a:pt x="240" y="64"/>
                        <a:pt x="193" y="76"/>
                        <a:pt x="182" y="86"/>
                      </a:cubicBezTo>
                      <a:cubicBezTo>
                        <a:pt x="171" y="96"/>
                        <a:pt x="165" y="102"/>
                        <a:pt x="168" y="113"/>
                      </a:cubicBezTo>
                      <a:cubicBezTo>
                        <a:pt x="171" y="124"/>
                        <a:pt x="180" y="147"/>
                        <a:pt x="202" y="150"/>
                      </a:cubicBezTo>
                      <a:cubicBezTo>
                        <a:pt x="224" y="153"/>
                        <a:pt x="242" y="152"/>
                        <a:pt x="298" y="134"/>
                      </a:cubicBezTo>
                      <a:cubicBezTo>
                        <a:pt x="354" y="116"/>
                        <a:pt x="462" y="89"/>
                        <a:pt x="538" y="42"/>
                      </a:cubicBezTo>
                      <a:cubicBezTo>
                        <a:pt x="552" y="68"/>
                        <a:pt x="560" y="80"/>
                        <a:pt x="546" y="94"/>
                      </a:cubicBezTo>
                      <a:cubicBezTo>
                        <a:pt x="532" y="108"/>
                        <a:pt x="486" y="116"/>
                        <a:pt x="454" y="126"/>
                      </a:cubicBezTo>
                      <a:cubicBezTo>
                        <a:pt x="468" y="131"/>
                        <a:pt x="495" y="136"/>
                        <a:pt x="482" y="146"/>
                      </a:cubicBezTo>
                      <a:cubicBezTo>
                        <a:pt x="469" y="156"/>
                        <a:pt x="414" y="167"/>
                        <a:pt x="378" y="186"/>
                      </a:cubicBezTo>
                      <a:cubicBezTo>
                        <a:pt x="396" y="185"/>
                        <a:pt x="411" y="179"/>
                        <a:pt x="422" y="194"/>
                      </a:cubicBezTo>
                      <a:cubicBezTo>
                        <a:pt x="393" y="230"/>
                        <a:pt x="369" y="218"/>
                        <a:pt x="338" y="226"/>
                      </a:cubicBezTo>
                      <a:cubicBezTo>
                        <a:pt x="357" y="242"/>
                        <a:pt x="385" y="239"/>
                        <a:pt x="370" y="254"/>
                      </a:cubicBezTo>
                      <a:cubicBezTo>
                        <a:pt x="355" y="269"/>
                        <a:pt x="289" y="305"/>
                        <a:pt x="246" y="314"/>
                      </a:cubicBezTo>
                      <a:cubicBezTo>
                        <a:pt x="203" y="323"/>
                        <a:pt x="152" y="319"/>
                        <a:pt x="114" y="306"/>
                      </a:cubicBezTo>
                      <a:cubicBezTo>
                        <a:pt x="76" y="293"/>
                        <a:pt x="36" y="257"/>
                        <a:pt x="18" y="238"/>
                      </a:cubicBezTo>
                      <a:cubicBezTo>
                        <a:pt x="0" y="219"/>
                        <a:pt x="1" y="215"/>
                        <a:pt x="6" y="182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9594720" y="5236560"/>
                <a:ext cx="174960" cy="97920"/>
                <a:chOff x="9594720" y="5236560"/>
                <a:chExt cx="174960" cy="97920"/>
              </a:xfrm>
            </p:grpSpPr>
            <p:sp>
              <p:nvSpPr>
                <p:cNvPr id="49" name="Freeform 10"/>
                <p:cNvSpPr/>
                <p:nvPr/>
              </p:nvSpPr>
              <p:spPr>
                <a:xfrm>
                  <a:off x="9618840" y="5236560"/>
                  <a:ext cx="150840" cy="9684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11"/>
                <p:cNvSpPr/>
                <p:nvPr/>
              </p:nvSpPr>
              <p:spPr>
                <a:xfrm>
                  <a:off x="9594720" y="5245560"/>
                  <a:ext cx="164880" cy="77400"/>
                </a:xfrm>
                <a:custGeom>
                  <a:avLst/>
                  <a:gdLst>
                    <a:gd name="textAreaLeft" fmla="*/ 0 w 164880"/>
                    <a:gd name="textAreaRight" fmla="*/ 164880 w 164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2"/>
                <p:cNvSpPr/>
                <p:nvPr/>
              </p:nvSpPr>
              <p:spPr>
                <a:xfrm>
                  <a:off x="9596880" y="5270040"/>
                  <a:ext cx="156960" cy="6444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Freeform 13"/>
              <p:cNvSpPr/>
              <p:nvPr/>
            </p:nvSpPr>
            <p:spPr>
              <a:xfrm>
                <a:off x="9668520" y="4793760"/>
                <a:ext cx="1218960" cy="1518840"/>
              </a:xfrm>
              <a:custGeom>
                <a:avLst/>
                <a:gdLst>
                  <a:gd name="textAreaLeft" fmla="*/ 0 w 1218960"/>
                  <a:gd name="textAreaRight" fmla="*/ 1219320 w 1218960"/>
                  <a:gd name="textAreaTop" fmla="*/ 0 h 1518840"/>
                  <a:gd name="textAreaBottom" fmla="*/ 1519200 h 1518840"/>
                </a:gdLst>
                <a:ahLst/>
                <a:rect l="textAreaLeft" t="textAreaTop" r="textAreaRight" b="textAreaBottom"/>
                <a:pathLst>
                  <a:path w="1055" h="1314">
                    <a:moveTo>
                      <a:pt x="35" y="431"/>
                    </a:moveTo>
                    <a:cubicBezTo>
                      <a:pt x="9" y="437"/>
                      <a:pt x="0" y="446"/>
                      <a:pt x="8" y="461"/>
                    </a:cubicBezTo>
                    <a:cubicBezTo>
                      <a:pt x="16" y="476"/>
                      <a:pt x="57" y="505"/>
                      <a:pt x="80" y="524"/>
                    </a:cubicBezTo>
                    <a:cubicBezTo>
                      <a:pt x="103" y="543"/>
                      <a:pt x="125" y="543"/>
                      <a:pt x="146" y="572"/>
                    </a:cubicBezTo>
                    <a:cubicBezTo>
                      <a:pt x="167" y="601"/>
                      <a:pt x="180" y="657"/>
                      <a:pt x="206" y="698"/>
                    </a:cubicBezTo>
                    <a:cubicBezTo>
                      <a:pt x="232" y="739"/>
                      <a:pt x="254" y="778"/>
                      <a:pt x="302" y="818"/>
                    </a:cubicBezTo>
                    <a:cubicBezTo>
                      <a:pt x="350" y="858"/>
                      <a:pt x="436" y="903"/>
                      <a:pt x="497" y="935"/>
                    </a:cubicBezTo>
                    <a:cubicBezTo>
                      <a:pt x="558" y="967"/>
                      <a:pt x="632" y="993"/>
                      <a:pt x="668" y="1010"/>
                    </a:cubicBezTo>
                    <a:cubicBezTo>
                      <a:pt x="704" y="1027"/>
                      <a:pt x="695" y="1019"/>
                      <a:pt x="710" y="1037"/>
                    </a:cubicBezTo>
                    <a:cubicBezTo>
                      <a:pt x="725" y="1055"/>
                      <a:pt x="738" y="1087"/>
                      <a:pt x="758" y="1121"/>
                    </a:cubicBezTo>
                    <a:cubicBezTo>
                      <a:pt x="778" y="1155"/>
                      <a:pt x="812" y="1212"/>
                      <a:pt x="833" y="1241"/>
                    </a:cubicBezTo>
                    <a:cubicBezTo>
                      <a:pt x="854" y="1270"/>
                      <a:pt x="877" y="1291"/>
                      <a:pt x="884" y="1295"/>
                    </a:cubicBezTo>
                    <a:cubicBezTo>
                      <a:pt x="891" y="1299"/>
                      <a:pt x="887" y="1282"/>
                      <a:pt x="878" y="1265"/>
                    </a:cubicBezTo>
                    <a:cubicBezTo>
                      <a:pt x="869" y="1248"/>
                      <a:pt x="823" y="1185"/>
                      <a:pt x="830" y="1190"/>
                    </a:cubicBezTo>
                    <a:cubicBezTo>
                      <a:pt x="837" y="1195"/>
                      <a:pt x="898" y="1276"/>
                      <a:pt x="920" y="1295"/>
                    </a:cubicBezTo>
                    <a:cubicBezTo>
                      <a:pt x="942" y="1314"/>
                      <a:pt x="955" y="1306"/>
                      <a:pt x="962" y="1304"/>
                    </a:cubicBezTo>
                    <a:cubicBezTo>
                      <a:pt x="969" y="1302"/>
                      <a:pt x="956" y="1280"/>
                      <a:pt x="962" y="1280"/>
                    </a:cubicBezTo>
                    <a:cubicBezTo>
                      <a:pt x="968" y="1280"/>
                      <a:pt x="984" y="1301"/>
                      <a:pt x="998" y="1304"/>
                    </a:cubicBezTo>
                    <a:cubicBezTo>
                      <a:pt x="1012" y="1307"/>
                      <a:pt x="1040" y="1302"/>
                      <a:pt x="1046" y="1298"/>
                    </a:cubicBezTo>
                    <a:cubicBezTo>
                      <a:pt x="1052" y="1294"/>
                      <a:pt x="1055" y="1302"/>
                      <a:pt x="1034" y="1277"/>
                    </a:cubicBezTo>
                    <a:cubicBezTo>
                      <a:pt x="1013" y="1252"/>
                      <a:pt x="935" y="1183"/>
                      <a:pt x="917" y="1148"/>
                    </a:cubicBezTo>
                    <a:cubicBezTo>
                      <a:pt x="899" y="1113"/>
                      <a:pt x="937" y="1095"/>
                      <a:pt x="926" y="1067"/>
                    </a:cubicBezTo>
                    <a:cubicBezTo>
                      <a:pt x="915" y="1039"/>
                      <a:pt x="926" y="1043"/>
                      <a:pt x="851" y="980"/>
                    </a:cubicBezTo>
                    <a:cubicBezTo>
                      <a:pt x="776" y="917"/>
                      <a:pt x="526" y="750"/>
                      <a:pt x="476" y="686"/>
                    </a:cubicBezTo>
                    <a:cubicBezTo>
                      <a:pt x="426" y="622"/>
                      <a:pt x="532" y="620"/>
                      <a:pt x="551" y="596"/>
                    </a:cubicBezTo>
                    <a:cubicBezTo>
                      <a:pt x="570" y="572"/>
                      <a:pt x="577" y="549"/>
                      <a:pt x="593" y="542"/>
                    </a:cubicBezTo>
                    <a:cubicBezTo>
                      <a:pt x="609" y="535"/>
                      <a:pt x="632" y="553"/>
                      <a:pt x="647" y="551"/>
                    </a:cubicBezTo>
                    <a:cubicBezTo>
                      <a:pt x="662" y="549"/>
                      <a:pt x="681" y="535"/>
                      <a:pt x="686" y="527"/>
                    </a:cubicBezTo>
                    <a:cubicBezTo>
                      <a:pt x="691" y="519"/>
                      <a:pt x="687" y="519"/>
                      <a:pt x="677" y="503"/>
                    </a:cubicBezTo>
                    <a:cubicBezTo>
                      <a:pt x="667" y="487"/>
                      <a:pt x="613" y="456"/>
                      <a:pt x="623" y="431"/>
                    </a:cubicBezTo>
                    <a:cubicBezTo>
                      <a:pt x="633" y="406"/>
                      <a:pt x="705" y="389"/>
                      <a:pt x="737" y="353"/>
                    </a:cubicBezTo>
                    <a:cubicBezTo>
                      <a:pt x="769" y="317"/>
                      <a:pt x="809" y="236"/>
                      <a:pt x="815" y="218"/>
                    </a:cubicBezTo>
                    <a:cubicBezTo>
                      <a:pt x="821" y="200"/>
                      <a:pt x="774" y="252"/>
                      <a:pt x="776" y="245"/>
                    </a:cubicBezTo>
                    <a:cubicBezTo>
                      <a:pt x="778" y="238"/>
                      <a:pt x="816" y="203"/>
                      <a:pt x="830" y="176"/>
                    </a:cubicBezTo>
                    <a:cubicBezTo>
                      <a:pt x="844" y="149"/>
                      <a:pt x="862" y="107"/>
                      <a:pt x="863" y="80"/>
                    </a:cubicBezTo>
                    <a:cubicBezTo>
                      <a:pt x="864" y="53"/>
                      <a:pt x="889" y="0"/>
                      <a:pt x="839" y="11"/>
                    </a:cubicBezTo>
                    <a:cubicBezTo>
                      <a:pt x="789" y="22"/>
                      <a:pt x="614" y="83"/>
                      <a:pt x="560" y="146"/>
                    </a:cubicBezTo>
                    <a:cubicBezTo>
                      <a:pt x="506" y="209"/>
                      <a:pt x="537" y="341"/>
                      <a:pt x="515" y="389"/>
                    </a:cubicBezTo>
                    <a:cubicBezTo>
                      <a:pt x="493" y="437"/>
                      <a:pt x="461" y="427"/>
                      <a:pt x="425" y="434"/>
                    </a:cubicBezTo>
                    <a:cubicBezTo>
                      <a:pt x="389" y="441"/>
                      <a:pt x="339" y="436"/>
                      <a:pt x="296" y="434"/>
                    </a:cubicBezTo>
                    <a:cubicBezTo>
                      <a:pt x="253" y="432"/>
                      <a:pt x="209" y="427"/>
                      <a:pt x="167" y="425"/>
                    </a:cubicBezTo>
                    <a:cubicBezTo>
                      <a:pt x="125" y="423"/>
                      <a:pt x="61" y="425"/>
                      <a:pt x="35" y="431"/>
                    </a:cubicBezTo>
                    <a:close/>
                  </a:path>
                </a:pathLst>
              </a:cu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9662760" y="3851640"/>
                <a:ext cx="1474560" cy="2446920"/>
              </a:xfrm>
              <a:custGeom>
                <a:avLst/>
                <a:gdLst>
                  <a:gd name="textAreaLeft" fmla="*/ 0 w 1474560"/>
                  <a:gd name="textAreaRight" fmla="*/ 1474920 w 1474560"/>
                  <a:gd name="textAreaTop" fmla="*/ 0 h 2446920"/>
                  <a:gd name="textAreaBottom" fmla="*/ 2447280 h 2446920"/>
                </a:gdLst>
                <a:ahLst/>
                <a:rect l="textAreaLeft" t="textAreaTop" r="textAreaRight" b="textAreaBottom"/>
                <a:pathLst>
                  <a:path w="1276" h="2117">
                    <a:moveTo>
                      <a:pt x="1276" y="2026"/>
                    </a:moveTo>
                    <a:cubicBezTo>
                      <a:pt x="1243" y="1997"/>
                      <a:pt x="1124" y="1921"/>
                      <a:pt x="1060" y="1879"/>
                    </a:cubicBezTo>
                    <a:cubicBezTo>
                      <a:pt x="996" y="1837"/>
                      <a:pt x="935" y="1812"/>
                      <a:pt x="892" y="1777"/>
                    </a:cubicBezTo>
                    <a:cubicBezTo>
                      <a:pt x="849" y="1742"/>
                      <a:pt x="835" y="1710"/>
                      <a:pt x="802" y="1666"/>
                    </a:cubicBezTo>
                    <a:cubicBezTo>
                      <a:pt x="769" y="1622"/>
                      <a:pt x="723" y="1553"/>
                      <a:pt x="691" y="1513"/>
                    </a:cubicBezTo>
                    <a:cubicBezTo>
                      <a:pt x="659" y="1473"/>
                      <a:pt x="630" y="1443"/>
                      <a:pt x="610" y="1426"/>
                    </a:cubicBezTo>
                    <a:cubicBezTo>
                      <a:pt x="590" y="1409"/>
                      <a:pt x="571" y="1418"/>
                      <a:pt x="571" y="1408"/>
                    </a:cubicBezTo>
                    <a:cubicBezTo>
                      <a:pt x="571" y="1398"/>
                      <a:pt x="598" y="1375"/>
                      <a:pt x="609" y="1365"/>
                    </a:cubicBezTo>
                    <a:cubicBezTo>
                      <a:pt x="620" y="1355"/>
                      <a:pt x="631" y="1354"/>
                      <a:pt x="640" y="1345"/>
                    </a:cubicBezTo>
                    <a:cubicBezTo>
                      <a:pt x="649" y="1336"/>
                      <a:pt x="654" y="1315"/>
                      <a:pt x="661" y="1312"/>
                    </a:cubicBezTo>
                    <a:cubicBezTo>
                      <a:pt x="668" y="1309"/>
                      <a:pt x="679" y="1327"/>
                      <a:pt x="685" y="1327"/>
                    </a:cubicBezTo>
                    <a:cubicBezTo>
                      <a:pt x="691" y="1327"/>
                      <a:pt x="698" y="1315"/>
                      <a:pt x="697" y="1309"/>
                    </a:cubicBezTo>
                    <a:cubicBezTo>
                      <a:pt x="696" y="1303"/>
                      <a:pt x="674" y="1291"/>
                      <a:pt x="676" y="1288"/>
                    </a:cubicBezTo>
                    <a:cubicBezTo>
                      <a:pt x="678" y="1285"/>
                      <a:pt x="701" y="1295"/>
                      <a:pt x="709" y="1294"/>
                    </a:cubicBezTo>
                    <a:cubicBezTo>
                      <a:pt x="717" y="1293"/>
                      <a:pt x="724" y="1284"/>
                      <a:pt x="724" y="1279"/>
                    </a:cubicBezTo>
                    <a:cubicBezTo>
                      <a:pt x="724" y="1274"/>
                      <a:pt x="701" y="1268"/>
                      <a:pt x="706" y="1261"/>
                    </a:cubicBezTo>
                    <a:cubicBezTo>
                      <a:pt x="711" y="1254"/>
                      <a:pt x="744" y="1248"/>
                      <a:pt x="757" y="1237"/>
                    </a:cubicBezTo>
                    <a:cubicBezTo>
                      <a:pt x="770" y="1226"/>
                      <a:pt x="788" y="1203"/>
                      <a:pt x="784" y="1195"/>
                    </a:cubicBezTo>
                    <a:cubicBezTo>
                      <a:pt x="780" y="1187"/>
                      <a:pt x="734" y="1194"/>
                      <a:pt x="733" y="1189"/>
                    </a:cubicBezTo>
                    <a:cubicBezTo>
                      <a:pt x="732" y="1184"/>
                      <a:pt x="760" y="1176"/>
                      <a:pt x="775" y="1165"/>
                    </a:cubicBezTo>
                    <a:cubicBezTo>
                      <a:pt x="790" y="1154"/>
                      <a:pt x="819" y="1134"/>
                      <a:pt x="826" y="1123"/>
                    </a:cubicBezTo>
                    <a:cubicBezTo>
                      <a:pt x="833" y="1112"/>
                      <a:pt x="826" y="1097"/>
                      <a:pt x="814" y="1099"/>
                    </a:cubicBezTo>
                    <a:cubicBezTo>
                      <a:pt x="802" y="1101"/>
                      <a:pt x="753" y="1139"/>
                      <a:pt x="751" y="1135"/>
                    </a:cubicBezTo>
                    <a:cubicBezTo>
                      <a:pt x="749" y="1131"/>
                      <a:pt x="781" y="1097"/>
                      <a:pt x="799" y="1075"/>
                    </a:cubicBezTo>
                    <a:cubicBezTo>
                      <a:pt x="817" y="1053"/>
                      <a:pt x="853" y="1021"/>
                      <a:pt x="862" y="1003"/>
                    </a:cubicBezTo>
                    <a:cubicBezTo>
                      <a:pt x="871" y="985"/>
                      <a:pt x="865" y="965"/>
                      <a:pt x="856" y="967"/>
                    </a:cubicBezTo>
                    <a:cubicBezTo>
                      <a:pt x="847" y="969"/>
                      <a:pt x="821" y="1003"/>
                      <a:pt x="808" y="1015"/>
                    </a:cubicBezTo>
                    <a:cubicBezTo>
                      <a:pt x="795" y="1027"/>
                      <a:pt x="775" y="1037"/>
                      <a:pt x="775" y="1036"/>
                    </a:cubicBezTo>
                    <a:cubicBezTo>
                      <a:pt x="775" y="1035"/>
                      <a:pt x="791" y="1025"/>
                      <a:pt x="805" y="1009"/>
                    </a:cubicBezTo>
                    <a:cubicBezTo>
                      <a:pt x="819" y="993"/>
                      <a:pt x="841" y="967"/>
                      <a:pt x="856" y="943"/>
                    </a:cubicBezTo>
                    <a:cubicBezTo>
                      <a:pt x="871" y="919"/>
                      <a:pt x="891" y="880"/>
                      <a:pt x="895" y="865"/>
                    </a:cubicBezTo>
                    <a:cubicBezTo>
                      <a:pt x="899" y="850"/>
                      <a:pt x="874" y="863"/>
                      <a:pt x="877" y="853"/>
                    </a:cubicBezTo>
                    <a:cubicBezTo>
                      <a:pt x="880" y="843"/>
                      <a:pt x="901" y="823"/>
                      <a:pt x="913" y="805"/>
                    </a:cubicBezTo>
                    <a:cubicBezTo>
                      <a:pt x="925" y="787"/>
                      <a:pt x="944" y="764"/>
                      <a:pt x="949" y="748"/>
                    </a:cubicBezTo>
                    <a:cubicBezTo>
                      <a:pt x="954" y="732"/>
                      <a:pt x="950" y="711"/>
                      <a:pt x="943" y="709"/>
                    </a:cubicBezTo>
                    <a:cubicBezTo>
                      <a:pt x="936" y="707"/>
                      <a:pt x="903" y="744"/>
                      <a:pt x="904" y="733"/>
                    </a:cubicBezTo>
                    <a:cubicBezTo>
                      <a:pt x="905" y="722"/>
                      <a:pt x="943" y="666"/>
                      <a:pt x="952" y="640"/>
                    </a:cubicBezTo>
                    <a:cubicBezTo>
                      <a:pt x="961" y="614"/>
                      <a:pt x="964" y="582"/>
                      <a:pt x="958" y="577"/>
                    </a:cubicBezTo>
                    <a:cubicBezTo>
                      <a:pt x="952" y="572"/>
                      <a:pt x="929" y="599"/>
                      <a:pt x="916" y="610"/>
                    </a:cubicBezTo>
                    <a:cubicBezTo>
                      <a:pt x="903" y="621"/>
                      <a:pt x="881" y="648"/>
                      <a:pt x="883" y="640"/>
                    </a:cubicBezTo>
                    <a:cubicBezTo>
                      <a:pt x="885" y="632"/>
                      <a:pt x="914" y="591"/>
                      <a:pt x="925" y="562"/>
                    </a:cubicBezTo>
                    <a:cubicBezTo>
                      <a:pt x="936" y="533"/>
                      <a:pt x="946" y="488"/>
                      <a:pt x="949" y="466"/>
                    </a:cubicBezTo>
                    <a:cubicBezTo>
                      <a:pt x="952" y="444"/>
                      <a:pt x="957" y="416"/>
                      <a:pt x="943" y="427"/>
                    </a:cubicBezTo>
                    <a:cubicBezTo>
                      <a:pt x="929" y="438"/>
                      <a:pt x="889" y="493"/>
                      <a:pt x="865" y="532"/>
                    </a:cubicBezTo>
                    <a:cubicBezTo>
                      <a:pt x="877" y="499"/>
                      <a:pt x="878" y="483"/>
                      <a:pt x="886" y="454"/>
                    </a:cubicBezTo>
                    <a:cubicBezTo>
                      <a:pt x="894" y="425"/>
                      <a:pt x="911" y="375"/>
                      <a:pt x="913" y="355"/>
                    </a:cubicBezTo>
                    <a:cubicBezTo>
                      <a:pt x="915" y="335"/>
                      <a:pt x="911" y="322"/>
                      <a:pt x="901" y="331"/>
                    </a:cubicBezTo>
                    <a:cubicBezTo>
                      <a:pt x="891" y="340"/>
                      <a:pt x="864" y="386"/>
                      <a:pt x="850" y="409"/>
                    </a:cubicBezTo>
                    <a:cubicBezTo>
                      <a:pt x="836" y="432"/>
                      <a:pt x="815" y="473"/>
                      <a:pt x="814" y="469"/>
                    </a:cubicBezTo>
                    <a:cubicBezTo>
                      <a:pt x="813" y="465"/>
                      <a:pt x="837" y="416"/>
                      <a:pt x="847" y="385"/>
                    </a:cubicBezTo>
                    <a:cubicBezTo>
                      <a:pt x="857" y="354"/>
                      <a:pt x="871" y="307"/>
                      <a:pt x="874" y="283"/>
                    </a:cubicBezTo>
                    <a:cubicBezTo>
                      <a:pt x="877" y="259"/>
                      <a:pt x="886" y="222"/>
                      <a:pt x="868" y="241"/>
                    </a:cubicBezTo>
                    <a:cubicBezTo>
                      <a:pt x="850" y="260"/>
                      <a:pt x="774" y="394"/>
                      <a:pt x="766" y="394"/>
                    </a:cubicBezTo>
                    <a:cubicBezTo>
                      <a:pt x="784" y="334"/>
                      <a:pt x="805" y="297"/>
                      <a:pt x="817" y="244"/>
                    </a:cubicBezTo>
                    <a:cubicBezTo>
                      <a:pt x="829" y="191"/>
                      <a:pt x="853" y="67"/>
                      <a:pt x="838" y="76"/>
                    </a:cubicBezTo>
                    <a:cubicBezTo>
                      <a:pt x="823" y="85"/>
                      <a:pt x="748" y="241"/>
                      <a:pt x="724" y="298"/>
                    </a:cubicBezTo>
                    <a:cubicBezTo>
                      <a:pt x="748" y="223"/>
                      <a:pt x="780" y="140"/>
                      <a:pt x="790" y="91"/>
                    </a:cubicBezTo>
                    <a:cubicBezTo>
                      <a:pt x="800" y="42"/>
                      <a:pt x="797" y="0"/>
                      <a:pt x="784" y="4"/>
                    </a:cubicBezTo>
                    <a:cubicBezTo>
                      <a:pt x="771" y="8"/>
                      <a:pt x="743" y="52"/>
                      <a:pt x="709" y="118"/>
                    </a:cubicBezTo>
                    <a:cubicBezTo>
                      <a:pt x="675" y="184"/>
                      <a:pt x="615" y="312"/>
                      <a:pt x="577" y="403"/>
                    </a:cubicBezTo>
                    <a:cubicBezTo>
                      <a:pt x="539" y="494"/>
                      <a:pt x="506" y="576"/>
                      <a:pt x="481" y="661"/>
                    </a:cubicBezTo>
                    <a:cubicBezTo>
                      <a:pt x="456" y="746"/>
                      <a:pt x="443" y="830"/>
                      <a:pt x="427" y="916"/>
                    </a:cubicBezTo>
                    <a:cubicBezTo>
                      <a:pt x="411" y="1002"/>
                      <a:pt x="393" y="1118"/>
                      <a:pt x="382" y="1177"/>
                    </a:cubicBezTo>
                    <a:cubicBezTo>
                      <a:pt x="371" y="1236"/>
                      <a:pt x="364" y="1250"/>
                      <a:pt x="358" y="1273"/>
                    </a:cubicBezTo>
                    <a:cubicBezTo>
                      <a:pt x="352" y="1296"/>
                      <a:pt x="349" y="1318"/>
                      <a:pt x="346" y="1315"/>
                    </a:cubicBezTo>
                    <a:cubicBezTo>
                      <a:pt x="343" y="1312"/>
                      <a:pt x="342" y="1275"/>
                      <a:pt x="340" y="1254"/>
                    </a:cubicBezTo>
                    <a:cubicBezTo>
                      <a:pt x="291" y="1246"/>
                      <a:pt x="249" y="1238"/>
                      <a:pt x="208" y="1228"/>
                    </a:cubicBezTo>
                    <a:cubicBezTo>
                      <a:pt x="167" y="1218"/>
                      <a:pt x="122" y="1200"/>
                      <a:pt x="91" y="1195"/>
                    </a:cubicBezTo>
                    <a:cubicBezTo>
                      <a:pt x="60" y="1190"/>
                      <a:pt x="34" y="1189"/>
                      <a:pt x="19" y="1198"/>
                    </a:cubicBezTo>
                    <a:cubicBezTo>
                      <a:pt x="4" y="1207"/>
                      <a:pt x="0" y="1233"/>
                      <a:pt x="1" y="1249"/>
                    </a:cubicBezTo>
                    <a:cubicBezTo>
                      <a:pt x="2" y="1265"/>
                      <a:pt x="6" y="1282"/>
                      <a:pt x="25" y="1294"/>
                    </a:cubicBezTo>
                    <a:cubicBezTo>
                      <a:pt x="44" y="1306"/>
                      <a:pt x="87" y="1306"/>
                      <a:pt x="115" y="1321"/>
                    </a:cubicBezTo>
                    <a:cubicBezTo>
                      <a:pt x="143" y="1336"/>
                      <a:pt x="173" y="1367"/>
                      <a:pt x="193" y="1387"/>
                    </a:cubicBezTo>
                    <a:cubicBezTo>
                      <a:pt x="213" y="1407"/>
                      <a:pt x="230" y="1439"/>
                      <a:pt x="238" y="1444"/>
                    </a:cubicBezTo>
                    <a:cubicBezTo>
                      <a:pt x="246" y="1449"/>
                      <a:pt x="237" y="1431"/>
                      <a:pt x="241" y="1417"/>
                    </a:cubicBezTo>
                    <a:cubicBezTo>
                      <a:pt x="245" y="1403"/>
                      <a:pt x="260" y="1357"/>
                      <a:pt x="265" y="1357"/>
                    </a:cubicBezTo>
                    <a:cubicBezTo>
                      <a:pt x="270" y="1357"/>
                      <a:pt x="270" y="1400"/>
                      <a:pt x="274" y="1420"/>
                    </a:cubicBezTo>
                    <a:cubicBezTo>
                      <a:pt x="278" y="1440"/>
                      <a:pt x="265" y="1447"/>
                      <a:pt x="286" y="1477"/>
                    </a:cubicBezTo>
                    <a:cubicBezTo>
                      <a:pt x="307" y="1507"/>
                      <a:pt x="352" y="1561"/>
                      <a:pt x="400" y="1600"/>
                    </a:cubicBezTo>
                    <a:cubicBezTo>
                      <a:pt x="448" y="1639"/>
                      <a:pt x="531" y="1684"/>
                      <a:pt x="577" y="1711"/>
                    </a:cubicBezTo>
                    <a:cubicBezTo>
                      <a:pt x="623" y="1738"/>
                      <a:pt x="656" y="1748"/>
                      <a:pt x="679" y="1762"/>
                    </a:cubicBezTo>
                    <a:cubicBezTo>
                      <a:pt x="702" y="1776"/>
                      <a:pt x="696" y="1788"/>
                      <a:pt x="715" y="1798"/>
                    </a:cubicBezTo>
                    <a:cubicBezTo>
                      <a:pt x="734" y="1808"/>
                      <a:pt x="770" y="1818"/>
                      <a:pt x="793" y="1822"/>
                    </a:cubicBezTo>
                    <a:cubicBezTo>
                      <a:pt x="816" y="1826"/>
                      <a:pt x="851" y="1821"/>
                      <a:pt x="856" y="1825"/>
                    </a:cubicBezTo>
                    <a:cubicBezTo>
                      <a:pt x="861" y="1829"/>
                      <a:pt x="836" y="1839"/>
                      <a:pt x="826" y="1846"/>
                    </a:cubicBezTo>
                    <a:cubicBezTo>
                      <a:pt x="816" y="1853"/>
                      <a:pt x="792" y="1854"/>
                      <a:pt x="796" y="1867"/>
                    </a:cubicBezTo>
                    <a:cubicBezTo>
                      <a:pt x="800" y="1880"/>
                      <a:pt x="819" y="1891"/>
                      <a:pt x="850" y="1924"/>
                    </a:cubicBezTo>
                    <a:cubicBezTo>
                      <a:pt x="881" y="1957"/>
                      <a:pt x="948" y="2032"/>
                      <a:pt x="979" y="2062"/>
                    </a:cubicBezTo>
                    <a:cubicBezTo>
                      <a:pt x="1010" y="2092"/>
                      <a:pt x="1022" y="2098"/>
                      <a:pt x="1036" y="2107"/>
                    </a:cubicBezTo>
                    <a:cubicBezTo>
                      <a:pt x="1050" y="2116"/>
                      <a:pt x="1055" y="2116"/>
                      <a:pt x="1063" y="2116"/>
                    </a:cubicBezTo>
                    <a:cubicBezTo>
                      <a:pt x="1071" y="2116"/>
                      <a:pt x="1075" y="2117"/>
                      <a:pt x="1084" y="2107"/>
                    </a:cubicBezTo>
                    <a:cubicBezTo>
                      <a:pt x="1071" y="2091"/>
                      <a:pt x="989" y="2016"/>
                      <a:pt x="988" y="2017"/>
                    </a:cubicBezTo>
                    <a:cubicBezTo>
                      <a:pt x="987" y="2018"/>
                      <a:pt x="1069" y="2091"/>
                      <a:pt x="1093" y="2101"/>
                    </a:cubicBezTo>
                    <a:cubicBezTo>
                      <a:pt x="1107" y="2085"/>
                      <a:pt x="1111" y="2091"/>
                      <a:pt x="1132" y="2077"/>
                    </a:cubicBezTo>
                    <a:cubicBezTo>
                      <a:pt x="1103" y="2063"/>
                      <a:pt x="1034" y="2011"/>
                      <a:pt x="1036" y="2011"/>
                    </a:cubicBezTo>
                    <a:cubicBezTo>
                      <a:pt x="1038" y="2011"/>
                      <a:pt x="1113" y="2059"/>
                      <a:pt x="1147" y="2080"/>
                    </a:cubicBezTo>
                    <a:cubicBezTo>
                      <a:pt x="1185" y="2079"/>
                      <a:pt x="1203" y="2071"/>
                      <a:pt x="1246" y="2068"/>
                    </a:cubicBezTo>
                    <a:cubicBezTo>
                      <a:pt x="1227" y="2045"/>
                      <a:pt x="1120" y="1968"/>
                      <a:pt x="1123" y="1966"/>
                    </a:cubicBezTo>
                    <a:cubicBezTo>
                      <a:pt x="1126" y="1964"/>
                      <a:pt x="1236" y="2047"/>
                      <a:pt x="1261" y="2056"/>
                    </a:cubicBezTo>
                    <a:cubicBezTo>
                      <a:pt x="1269" y="2045"/>
                      <a:pt x="1273" y="2041"/>
                      <a:pt x="1276" y="2026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0134360" y="4393440"/>
                <a:ext cx="429840" cy="1108440"/>
                <a:chOff x="10134360" y="4393440"/>
                <a:chExt cx="429840" cy="11084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>
                  <a:off x="10134360" y="4393440"/>
                  <a:ext cx="429840" cy="110844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0 h 1108440"/>
                    <a:gd name="textAreaBottom" fmla="*/ 1108800 h 1108440"/>
                  </a:gdLst>
                  <a:ahLst/>
                  <a:rect l="textAreaLeft" t="textAreaTop" r="textAreaRight" b="textAreaBottom"/>
                  <a:pathLst>
                    <a:path w="372" h="959">
                      <a:moveTo>
                        <a:pt x="187" y="954"/>
                      </a:moveTo>
                      <a:cubicBezTo>
                        <a:pt x="170" y="959"/>
                        <a:pt x="117" y="945"/>
                        <a:pt x="91" y="936"/>
                      </a:cubicBezTo>
                      <a:cubicBezTo>
                        <a:pt x="65" y="927"/>
                        <a:pt x="43" y="912"/>
                        <a:pt x="28" y="900"/>
                      </a:cubicBezTo>
                      <a:cubicBezTo>
                        <a:pt x="13" y="888"/>
                        <a:pt x="0" y="881"/>
                        <a:pt x="1" y="867"/>
                      </a:cubicBezTo>
                      <a:cubicBezTo>
                        <a:pt x="2" y="853"/>
                        <a:pt x="24" y="849"/>
                        <a:pt x="34" y="816"/>
                      </a:cubicBezTo>
                      <a:cubicBezTo>
                        <a:pt x="44" y="783"/>
                        <a:pt x="58" y="734"/>
                        <a:pt x="64" y="669"/>
                      </a:cubicBezTo>
                      <a:cubicBezTo>
                        <a:pt x="70" y="604"/>
                        <a:pt x="40" y="533"/>
                        <a:pt x="73" y="423"/>
                      </a:cubicBezTo>
                      <a:cubicBezTo>
                        <a:pt x="106" y="313"/>
                        <a:pt x="244" y="0"/>
                        <a:pt x="265" y="6"/>
                      </a:cubicBezTo>
                      <a:cubicBezTo>
                        <a:pt x="286" y="12"/>
                        <a:pt x="257" y="141"/>
                        <a:pt x="265" y="162"/>
                      </a:cubicBezTo>
                      <a:cubicBezTo>
                        <a:pt x="273" y="183"/>
                        <a:pt x="307" y="118"/>
                        <a:pt x="316" y="132"/>
                      </a:cubicBezTo>
                      <a:cubicBezTo>
                        <a:pt x="325" y="146"/>
                        <a:pt x="311" y="234"/>
                        <a:pt x="319" y="249"/>
                      </a:cubicBezTo>
                      <a:cubicBezTo>
                        <a:pt x="327" y="264"/>
                        <a:pt x="359" y="205"/>
                        <a:pt x="361" y="225"/>
                      </a:cubicBezTo>
                      <a:cubicBezTo>
                        <a:pt x="363" y="245"/>
                        <a:pt x="329" y="348"/>
                        <a:pt x="331" y="369"/>
                      </a:cubicBezTo>
                      <a:cubicBezTo>
                        <a:pt x="333" y="390"/>
                        <a:pt x="368" y="327"/>
                        <a:pt x="370" y="351"/>
                      </a:cubicBezTo>
                      <a:cubicBezTo>
                        <a:pt x="372" y="375"/>
                        <a:pt x="359" y="466"/>
                        <a:pt x="343" y="516"/>
                      </a:cubicBezTo>
                      <a:cubicBezTo>
                        <a:pt x="327" y="566"/>
                        <a:pt x="282" y="627"/>
                        <a:pt x="277" y="648"/>
                      </a:cubicBezTo>
                      <a:cubicBezTo>
                        <a:pt x="272" y="669"/>
                        <a:pt x="304" y="627"/>
                        <a:pt x="313" y="642"/>
                      </a:cubicBezTo>
                      <a:cubicBezTo>
                        <a:pt x="322" y="657"/>
                        <a:pt x="254" y="721"/>
                        <a:pt x="247" y="741"/>
                      </a:cubicBezTo>
                      <a:cubicBezTo>
                        <a:pt x="240" y="761"/>
                        <a:pt x="290" y="734"/>
                        <a:pt x="271" y="762"/>
                      </a:cubicBezTo>
                      <a:cubicBezTo>
                        <a:pt x="252" y="790"/>
                        <a:pt x="142" y="888"/>
                        <a:pt x="130" y="912"/>
                      </a:cubicBezTo>
                      <a:cubicBezTo>
                        <a:pt x="118" y="936"/>
                        <a:pt x="187" y="900"/>
                        <a:pt x="196" y="906"/>
                      </a:cubicBezTo>
                      <a:cubicBezTo>
                        <a:pt x="193" y="936"/>
                        <a:pt x="204" y="949"/>
                        <a:pt x="187" y="954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>
                  <a:off x="10330920" y="4692600"/>
                  <a:ext cx="139680" cy="51192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121" h="443">
                      <a:moveTo>
                        <a:pt x="68" y="2"/>
                      </a:moveTo>
                      <a:cubicBezTo>
                        <a:pt x="72" y="0"/>
                        <a:pt x="76" y="32"/>
                        <a:pt x="74" y="50"/>
                      </a:cubicBezTo>
                      <a:cubicBezTo>
                        <a:pt x="72" y="68"/>
                        <a:pt x="65" y="95"/>
                        <a:pt x="56" y="110"/>
                      </a:cubicBezTo>
                      <a:cubicBezTo>
                        <a:pt x="74" y="107"/>
                        <a:pt x="88" y="91"/>
                        <a:pt x="95" y="101"/>
                      </a:cubicBezTo>
                      <a:cubicBezTo>
                        <a:pt x="102" y="111"/>
                        <a:pt x="101" y="145"/>
                        <a:pt x="98" y="170"/>
                      </a:cubicBezTo>
                      <a:cubicBezTo>
                        <a:pt x="95" y="195"/>
                        <a:pt x="92" y="224"/>
                        <a:pt x="74" y="251"/>
                      </a:cubicBezTo>
                      <a:cubicBezTo>
                        <a:pt x="89" y="248"/>
                        <a:pt x="111" y="226"/>
                        <a:pt x="116" y="233"/>
                      </a:cubicBezTo>
                      <a:cubicBezTo>
                        <a:pt x="121" y="240"/>
                        <a:pt x="109" y="277"/>
                        <a:pt x="104" y="293"/>
                      </a:cubicBezTo>
                      <a:cubicBezTo>
                        <a:pt x="99" y="309"/>
                        <a:pt x="84" y="322"/>
                        <a:pt x="83" y="332"/>
                      </a:cubicBezTo>
                      <a:cubicBezTo>
                        <a:pt x="82" y="342"/>
                        <a:pt x="102" y="343"/>
                        <a:pt x="98" y="356"/>
                      </a:cubicBezTo>
                      <a:cubicBezTo>
                        <a:pt x="94" y="369"/>
                        <a:pt x="73" y="397"/>
                        <a:pt x="59" y="410"/>
                      </a:cubicBezTo>
                      <a:cubicBezTo>
                        <a:pt x="45" y="423"/>
                        <a:pt x="14" y="443"/>
                        <a:pt x="14" y="437"/>
                      </a:cubicBezTo>
                      <a:cubicBezTo>
                        <a:pt x="14" y="431"/>
                        <a:pt x="54" y="389"/>
                        <a:pt x="56" y="371"/>
                      </a:cubicBezTo>
                      <a:cubicBezTo>
                        <a:pt x="58" y="353"/>
                        <a:pt x="30" y="351"/>
                        <a:pt x="26" y="326"/>
                      </a:cubicBezTo>
                      <a:cubicBezTo>
                        <a:pt x="22" y="301"/>
                        <a:pt x="36" y="248"/>
                        <a:pt x="32" y="221"/>
                      </a:cubicBezTo>
                      <a:cubicBezTo>
                        <a:pt x="28" y="194"/>
                        <a:pt x="0" y="187"/>
                        <a:pt x="2" y="161"/>
                      </a:cubicBezTo>
                      <a:cubicBezTo>
                        <a:pt x="4" y="135"/>
                        <a:pt x="36" y="89"/>
                        <a:pt x="47" y="62"/>
                      </a:cubicBezTo>
                      <a:cubicBezTo>
                        <a:pt x="58" y="35"/>
                        <a:pt x="64" y="4"/>
                        <a:pt x="68" y="2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>
                  <a:off x="10216080" y="5252040"/>
                  <a:ext cx="152280" cy="13968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32" h="121">
                      <a:moveTo>
                        <a:pt x="110" y="1"/>
                      </a:moveTo>
                      <a:cubicBezTo>
                        <a:pt x="115" y="2"/>
                        <a:pt x="132" y="20"/>
                        <a:pt x="131" y="28"/>
                      </a:cubicBezTo>
                      <a:cubicBezTo>
                        <a:pt x="130" y="36"/>
                        <a:pt x="104" y="40"/>
                        <a:pt x="101" y="49"/>
                      </a:cubicBezTo>
                      <a:cubicBezTo>
                        <a:pt x="98" y="58"/>
                        <a:pt x="120" y="71"/>
                        <a:pt x="113" y="82"/>
                      </a:cubicBezTo>
                      <a:cubicBezTo>
                        <a:pt x="106" y="93"/>
                        <a:pt x="80" y="109"/>
                        <a:pt x="62" y="115"/>
                      </a:cubicBezTo>
                      <a:cubicBezTo>
                        <a:pt x="44" y="121"/>
                        <a:pt x="4" y="119"/>
                        <a:pt x="2" y="118"/>
                      </a:cubicBezTo>
                      <a:cubicBezTo>
                        <a:pt x="0" y="117"/>
                        <a:pt x="37" y="111"/>
                        <a:pt x="50" y="106"/>
                      </a:cubicBezTo>
                      <a:cubicBezTo>
                        <a:pt x="63" y="101"/>
                        <a:pt x="82" y="95"/>
                        <a:pt x="83" y="85"/>
                      </a:cubicBezTo>
                      <a:cubicBezTo>
                        <a:pt x="84" y="75"/>
                        <a:pt x="57" y="57"/>
                        <a:pt x="59" y="46"/>
                      </a:cubicBezTo>
                      <a:cubicBezTo>
                        <a:pt x="61" y="35"/>
                        <a:pt x="90" y="28"/>
                        <a:pt x="98" y="19"/>
                      </a:cubicBezTo>
                      <a:cubicBezTo>
                        <a:pt x="106" y="10"/>
                        <a:pt x="105" y="0"/>
                        <a:pt x="110" y="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Oval 19"/>
              <p:cNvSpPr/>
              <p:nvPr/>
            </p:nvSpPr>
            <p:spPr>
              <a:xfrm>
                <a:off x="9678960" y="5267520"/>
                <a:ext cx="12240" cy="1224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20"/>
            <p:cNvSpPr/>
            <p:nvPr/>
          </p:nvSpPr>
          <p:spPr>
            <a:xfrm>
              <a:off x="9144000" y="3772080"/>
              <a:ext cx="226044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9144000" y="3772080"/>
            <a:ext cx="2260440" cy="2857320"/>
            <a:chOff x="9144000" y="3772080"/>
            <a:chExt cx="2260440" cy="2857320"/>
          </a:xfrm>
        </p:grpSpPr>
        <p:grpSp>
          <p:nvGrpSpPr>
            <p:cNvPr id="61" name=""/>
            <p:cNvGrpSpPr/>
            <p:nvPr/>
          </p:nvGrpSpPr>
          <p:grpSpPr>
            <a:xfrm>
              <a:off x="9506880" y="5224680"/>
              <a:ext cx="1633680" cy="1086480"/>
              <a:chOff x="9506880" y="5224680"/>
              <a:chExt cx="1633680" cy="10864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0257840" y="5505480"/>
                <a:ext cx="546120" cy="570240"/>
                <a:chOff x="10257840" y="5505480"/>
                <a:chExt cx="546120" cy="570240"/>
              </a:xfrm>
            </p:grpSpPr>
            <p:sp>
              <p:nvSpPr>
                <p:cNvPr id="63" name="Freeform 24"/>
                <p:cNvSpPr/>
                <p:nvPr/>
              </p:nvSpPr>
              <p:spPr>
                <a:xfrm>
                  <a:off x="10289520" y="5566320"/>
                  <a:ext cx="514440" cy="509400"/>
                </a:xfrm>
                <a:custGeom>
                  <a:avLst/>
                  <a:gdLst>
                    <a:gd name="textAreaLeft" fmla="*/ 0 w 514440"/>
                    <a:gd name="textAreaRight" fmla="*/ 514800 w 514440"/>
                    <a:gd name="textAreaTop" fmla="*/ 0 h 509400"/>
                    <a:gd name="textAreaBottom" fmla="*/ 509760 h 509400"/>
                  </a:gdLst>
                  <a:ahLst/>
                  <a:rect l="textAreaLeft" t="textAreaTop" r="textAreaRight" b="textAreaBottom"/>
                  <a:pathLst>
                    <a:path w="370" h="367">
                      <a:moveTo>
                        <a:pt x="296" y="20"/>
                      </a:moveTo>
                      <a:cubicBezTo>
                        <a:pt x="311" y="28"/>
                        <a:pt x="321" y="33"/>
                        <a:pt x="333" y="48"/>
                      </a:cubicBezTo>
                      <a:cubicBezTo>
                        <a:pt x="345" y="63"/>
                        <a:pt x="362" y="92"/>
                        <a:pt x="366" y="113"/>
                      </a:cubicBezTo>
                      <a:cubicBezTo>
                        <a:pt x="370" y="134"/>
                        <a:pt x="359" y="169"/>
                        <a:pt x="355" y="177"/>
                      </a:cubicBezTo>
                      <a:cubicBezTo>
                        <a:pt x="351" y="185"/>
                        <a:pt x="342" y="155"/>
                        <a:pt x="340" y="159"/>
                      </a:cubicBezTo>
                      <a:cubicBezTo>
                        <a:pt x="338" y="163"/>
                        <a:pt x="343" y="185"/>
                        <a:pt x="342" y="204"/>
                      </a:cubicBezTo>
                      <a:cubicBezTo>
                        <a:pt x="341" y="223"/>
                        <a:pt x="339" y="271"/>
                        <a:pt x="334" y="276"/>
                      </a:cubicBezTo>
                      <a:cubicBezTo>
                        <a:pt x="329" y="281"/>
                        <a:pt x="317" y="239"/>
                        <a:pt x="314" y="237"/>
                      </a:cubicBezTo>
                      <a:cubicBezTo>
                        <a:pt x="311" y="235"/>
                        <a:pt x="316" y="246"/>
                        <a:pt x="317" y="264"/>
                      </a:cubicBezTo>
                      <a:cubicBezTo>
                        <a:pt x="318" y="282"/>
                        <a:pt x="324" y="342"/>
                        <a:pt x="320" y="348"/>
                      </a:cubicBezTo>
                      <a:cubicBezTo>
                        <a:pt x="316" y="354"/>
                        <a:pt x="300" y="305"/>
                        <a:pt x="295" y="299"/>
                      </a:cubicBezTo>
                      <a:cubicBezTo>
                        <a:pt x="290" y="293"/>
                        <a:pt x="294" y="304"/>
                        <a:pt x="292" y="315"/>
                      </a:cubicBezTo>
                      <a:cubicBezTo>
                        <a:pt x="290" y="326"/>
                        <a:pt x="290" y="367"/>
                        <a:pt x="283" y="366"/>
                      </a:cubicBezTo>
                      <a:cubicBezTo>
                        <a:pt x="276" y="365"/>
                        <a:pt x="273" y="335"/>
                        <a:pt x="247" y="308"/>
                      </a:cubicBezTo>
                      <a:cubicBezTo>
                        <a:pt x="221" y="281"/>
                        <a:pt x="165" y="238"/>
                        <a:pt x="127" y="206"/>
                      </a:cubicBezTo>
                      <a:cubicBezTo>
                        <a:pt x="89" y="174"/>
                        <a:pt x="34" y="138"/>
                        <a:pt x="17" y="117"/>
                      </a:cubicBezTo>
                      <a:cubicBezTo>
                        <a:pt x="0" y="96"/>
                        <a:pt x="11" y="93"/>
                        <a:pt x="26" y="77"/>
                      </a:cubicBezTo>
                      <a:cubicBezTo>
                        <a:pt x="41" y="61"/>
                        <a:pt x="69" y="36"/>
                        <a:pt x="106" y="23"/>
                      </a:cubicBezTo>
                      <a:cubicBezTo>
                        <a:pt x="143" y="10"/>
                        <a:pt x="213" y="0"/>
                        <a:pt x="245" y="0"/>
                      </a:cubicBezTo>
                      <a:cubicBezTo>
                        <a:pt x="277" y="0"/>
                        <a:pt x="281" y="12"/>
                        <a:pt x="296" y="2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5"/>
                <p:cNvSpPr/>
                <p:nvPr/>
              </p:nvSpPr>
              <p:spPr>
                <a:xfrm>
                  <a:off x="10442520" y="5585760"/>
                  <a:ext cx="292320" cy="216360"/>
                </a:xfrm>
                <a:custGeom>
                  <a:avLst/>
                  <a:gdLst>
                    <a:gd name="textAreaLeft" fmla="*/ 0 w 292320"/>
                    <a:gd name="textAreaRight" fmla="*/ 292680 w 292320"/>
                    <a:gd name="textAreaTop" fmla="*/ 0 h 216360"/>
                    <a:gd name="textAreaBottom" fmla="*/ 216720 h 216360"/>
                  </a:gdLst>
                  <a:ahLst/>
                  <a:rect l="textAreaLeft" t="textAreaTop" r="textAreaRight" b="textAreaBottom"/>
                  <a:pathLst>
                    <a:path w="210" h="156">
                      <a:moveTo>
                        <a:pt x="32" y="78"/>
                      </a:moveTo>
                      <a:cubicBezTo>
                        <a:pt x="50" y="83"/>
                        <a:pt x="97" y="59"/>
                        <a:pt x="116" y="61"/>
                      </a:cubicBezTo>
                      <a:cubicBezTo>
                        <a:pt x="135" y="63"/>
                        <a:pt x="141" y="75"/>
                        <a:pt x="147" y="90"/>
                      </a:cubicBezTo>
                      <a:cubicBezTo>
                        <a:pt x="153" y="105"/>
                        <a:pt x="150" y="150"/>
                        <a:pt x="153" y="153"/>
                      </a:cubicBezTo>
                      <a:cubicBezTo>
                        <a:pt x="156" y="156"/>
                        <a:pt x="160" y="126"/>
                        <a:pt x="164" y="108"/>
                      </a:cubicBezTo>
                      <a:cubicBezTo>
                        <a:pt x="168" y="90"/>
                        <a:pt x="174" y="57"/>
                        <a:pt x="179" y="43"/>
                      </a:cubicBezTo>
                      <a:cubicBezTo>
                        <a:pt x="184" y="29"/>
                        <a:pt x="210" y="29"/>
                        <a:pt x="195" y="22"/>
                      </a:cubicBezTo>
                      <a:cubicBezTo>
                        <a:pt x="180" y="15"/>
                        <a:pt x="118" y="0"/>
                        <a:pt x="87" y="1"/>
                      </a:cubicBezTo>
                      <a:cubicBezTo>
                        <a:pt x="56" y="2"/>
                        <a:pt x="18" y="14"/>
                        <a:pt x="9" y="28"/>
                      </a:cubicBezTo>
                      <a:cubicBezTo>
                        <a:pt x="0" y="42"/>
                        <a:pt x="14" y="73"/>
                        <a:pt x="32" y="78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6"/>
                <p:cNvSpPr/>
                <p:nvPr/>
              </p:nvSpPr>
              <p:spPr>
                <a:xfrm>
                  <a:off x="10257840" y="5540040"/>
                  <a:ext cx="496080" cy="130680"/>
                </a:xfrm>
                <a:custGeom>
                  <a:avLst/>
                  <a:gdLst>
                    <a:gd name="textAreaLeft" fmla="*/ 0 w 496080"/>
                    <a:gd name="textAreaRight" fmla="*/ 496440 w 496080"/>
                    <a:gd name="textAreaTop" fmla="*/ 0 h 130680"/>
                    <a:gd name="textAreaBottom" fmla="*/ 131040 h 130680"/>
                  </a:gdLst>
                  <a:ahLst/>
                  <a:rect l="textAreaLeft" t="textAreaTop" r="textAreaRight" b="textAreaBottom"/>
                  <a:pathLst>
                    <a:path w="357" h="94">
                      <a:moveTo>
                        <a:pt x="27" y="46"/>
                      </a:moveTo>
                      <a:cubicBezTo>
                        <a:pt x="40" y="57"/>
                        <a:pt x="55" y="80"/>
                        <a:pt x="88" y="87"/>
                      </a:cubicBezTo>
                      <a:cubicBezTo>
                        <a:pt x="121" y="94"/>
                        <a:pt x="188" y="90"/>
                        <a:pt x="225" y="85"/>
                      </a:cubicBezTo>
                      <a:cubicBezTo>
                        <a:pt x="262" y="80"/>
                        <a:pt x="291" y="61"/>
                        <a:pt x="312" y="58"/>
                      </a:cubicBezTo>
                      <a:cubicBezTo>
                        <a:pt x="333" y="55"/>
                        <a:pt x="351" y="71"/>
                        <a:pt x="354" y="69"/>
                      </a:cubicBezTo>
                      <a:cubicBezTo>
                        <a:pt x="357" y="67"/>
                        <a:pt x="351" y="53"/>
                        <a:pt x="333" y="43"/>
                      </a:cubicBezTo>
                      <a:cubicBezTo>
                        <a:pt x="315" y="33"/>
                        <a:pt x="284" y="14"/>
                        <a:pt x="246" y="7"/>
                      </a:cubicBezTo>
                      <a:cubicBezTo>
                        <a:pt x="208" y="0"/>
                        <a:pt x="142" y="1"/>
                        <a:pt x="103" y="3"/>
                      </a:cubicBezTo>
                      <a:cubicBezTo>
                        <a:pt x="64" y="5"/>
                        <a:pt x="24" y="15"/>
                        <a:pt x="12" y="21"/>
                      </a:cubicBezTo>
                      <a:cubicBezTo>
                        <a:pt x="0" y="27"/>
                        <a:pt x="14" y="35"/>
                        <a:pt x="27" y="46"/>
                      </a:cubicBezTo>
                      <a:close/>
                    </a:path>
                  </a:pathLst>
                </a:custGeom>
                <a:solidFill>
                  <a:srgbClr val="d2d9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7"/>
                <p:cNvSpPr/>
                <p:nvPr/>
              </p:nvSpPr>
              <p:spPr>
                <a:xfrm>
                  <a:off x="10305000" y="5505480"/>
                  <a:ext cx="440640" cy="124920"/>
                </a:xfrm>
                <a:custGeom>
                  <a:avLst/>
                  <a:gdLst>
                    <a:gd name="textAreaLeft" fmla="*/ 0 w 440640"/>
                    <a:gd name="textAreaRight" fmla="*/ 441000 w 440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317" h="90">
                      <a:moveTo>
                        <a:pt x="20" y="5"/>
                      </a:moveTo>
                      <a:cubicBezTo>
                        <a:pt x="40" y="2"/>
                        <a:pt x="115" y="0"/>
                        <a:pt x="147" y="2"/>
                      </a:cubicBezTo>
                      <a:cubicBezTo>
                        <a:pt x="179" y="4"/>
                        <a:pt x="189" y="9"/>
                        <a:pt x="215" y="19"/>
                      </a:cubicBezTo>
                      <a:cubicBezTo>
                        <a:pt x="241" y="29"/>
                        <a:pt x="283" y="51"/>
                        <a:pt x="300" y="62"/>
                      </a:cubicBezTo>
                      <a:cubicBezTo>
                        <a:pt x="317" y="73"/>
                        <a:pt x="317" y="86"/>
                        <a:pt x="317" y="88"/>
                      </a:cubicBezTo>
                      <a:cubicBezTo>
                        <a:pt x="317" y="90"/>
                        <a:pt x="312" y="79"/>
                        <a:pt x="302" y="77"/>
                      </a:cubicBezTo>
                      <a:cubicBezTo>
                        <a:pt x="292" y="75"/>
                        <a:pt x="276" y="71"/>
                        <a:pt x="258" y="73"/>
                      </a:cubicBezTo>
                      <a:cubicBezTo>
                        <a:pt x="240" y="75"/>
                        <a:pt x="216" y="89"/>
                        <a:pt x="191" y="88"/>
                      </a:cubicBezTo>
                      <a:cubicBezTo>
                        <a:pt x="166" y="87"/>
                        <a:pt x="134" y="75"/>
                        <a:pt x="107" y="64"/>
                      </a:cubicBezTo>
                      <a:cubicBezTo>
                        <a:pt x="80" y="53"/>
                        <a:pt x="40" y="29"/>
                        <a:pt x="26" y="20"/>
                      </a:cubicBezTo>
                      <a:cubicBezTo>
                        <a:pt x="12" y="11"/>
                        <a:pt x="0" y="8"/>
                        <a:pt x="2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9597960" y="5224680"/>
                <a:ext cx="1542600" cy="1086480"/>
                <a:chOff x="9597960" y="5224680"/>
                <a:chExt cx="1542600" cy="1086480"/>
              </a:xfrm>
            </p:grpSpPr>
            <p:grpSp>
              <p:nvGrpSpPr>
                <p:cNvPr id="68" name=""/>
                <p:cNvGrpSpPr/>
                <p:nvPr/>
              </p:nvGrpSpPr>
              <p:grpSpPr>
                <a:xfrm>
                  <a:off x="9597960" y="5235120"/>
                  <a:ext cx="174960" cy="97920"/>
                  <a:chOff x="9597960" y="5235120"/>
                  <a:chExt cx="174960" cy="9792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>
                    <a:off x="9622080" y="5235120"/>
                    <a:ext cx="150840" cy="968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96840"/>
                      <a:gd name="textAreaBottom" fmla="*/ 97200 h 96840"/>
                    </a:gdLst>
                    <a:ahLst/>
                    <a:rect l="textAreaLeft" t="textAreaTop" r="textAreaRight" b="textAreaBottom"/>
                    <a:pathLst>
                      <a:path w="131" h="84">
                        <a:moveTo>
                          <a:pt x="107" y="81"/>
                        </a:moveTo>
                        <a:cubicBezTo>
                          <a:pt x="91" y="78"/>
                          <a:pt x="46" y="44"/>
                          <a:pt x="29" y="35"/>
                        </a:cubicBezTo>
                        <a:cubicBezTo>
                          <a:pt x="12" y="26"/>
                          <a:pt x="0" y="32"/>
                          <a:pt x="2" y="27"/>
                        </a:cubicBezTo>
                        <a:cubicBezTo>
                          <a:pt x="4" y="22"/>
                          <a:pt x="27" y="9"/>
                          <a:pt x="41" y="6"/>
                        </a:cubicBezTo>
                        <a:cubicBezTo>
                          <a:pt x="55" y="3"/>
                          <a:pt x="70" y="0"/>
                          <a:pt x="84" y="8"/>
                        </a:cubicBezTo>
                        <a:cubicBezTo>
                          <a:pt x="98" y="16"/>
                          <a:pt x="125" y="42"/>
                          <a:pt x="128" y="54"/>
                        </a:cubicBezTo>
                        <a:cubicBezTo>
                          <a:pt x="131" y="66"/>
                          <a:pt x="123" y="84"/>
                          <a:pt x="107" y="81"/>
                        </a:cubicBezTo>
                        <a:close/>
                      </a:path>
                    </a:pathLst>
                  </a:custGeom>
                  <a:solidFill>
                    <a:srgbClr val="91a9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>
                    <a:off x="9597960" y="5244120"/>
                    <a:ext cx="164880" cy="77400"/>
                  </a:xfrm>
                  <a:custGeom>
                    <a:avLst/>
                    <a:gdLst>
                      <a:gd name="textAreaLeft" fmla="*/ 0 w 164880"/>
                      <a:gd name="textAreaRight" fmla="*/ 164880 w 1648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143" h="67">
                        <a:moveTo>
                          <a:pt x="110" y="4"/>
                        </a:moveTo>
                        <a:cubicBezTo>
                          <a:pt x="99" y="3"/>
                          <a:pt x="56" y="11"/>
                          <a:pt x="47" y="10"/>
                        </a:cubicBezTo>
                        <a:cubicBezTo>
                          <a:pt x="38" y="9"/>
                          <a:pt x="59" y="0"/>
                          <a:pt x="54" y="1"/>
                        </a:cubicBezTo>
                        <a:cubicBezTo>
                          <a:pt x="49" y="2"/>
                          <a:pt x="27" y="12"/>
                          <a:pt x="18" y="16"/>
                        </a:cubicBezTo>
                        <a:cubicBezTo>
                          <a:pt x="9" y="20"/>
                          <a:pt x="0" y="24"/>
                          <a:pt x="2" y="28"/>
                        </a:cubicBezTo>
                        <a:cubicBezTo>
                          <a:pt x="4" y="32"/>
                          <a:pt x="18" y="35"/>
                          <a:pt x="30" y="40"/>
                        </a:cubicBezTo>
                        <a:cubicBezTo>
                          <a:pt x="42" y="45"/>
                          <a:pt x="59" y="57"/>
                          <a:pt x="77" y="60"/>
                        </a:cubicBezTo>
                        <a:cubicBezTo>
                          <a:pt x="95" y="63"/>
                          <a:pt x="131" y="67"/>
                          <a:pt x="137" y="60"/>
                        </a:cubicBezTo>
                        <a:cubicBezTo>
                          <a:pt x="143" y="53"/>
                          <a:pt x="115" y="27"/>
                          <a:pt x="111" y="18"/>
                        </a:cubicBezTo>
                        <a:cubicBezTo>
                          <a:pt x="107" y="9"/>
                          <a:pt x="121" y="5"/>
                          <a:pt x="110" y="4"/>
                        </a:cubicBezTo>
                        <a:close/>
                      </a:path>
                    </a:pathLst>
                  </a:custGeom>
                  <a:solidFill>
                    <a:srgbClr val="506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32"/>
                  <p:cNvSpPr/>
                  <p:nvPr/>
                </p:nvSpPr>
                <p:spPr>
                  <a:xfrm>
                    <a:off x="9600120" y="5268600"/>
                    <a:ext cx="156960" cy="64440"/>
                  </a:xfrm>
                  <a:custGeom>
                    <a:avLst/>
                    <a:gdLst>
                      <a:gd name="textAreaLeft" fmla="*/ 0 w 156960"/>
                      <a:gd name="textAreaRight" fmla="*/ 157320 w 156960"/>
                      <a:gd name="textAreaTop" fmla="*/ 0 h 64440"/>
                      <a:gd name="textAreaBottom" fmla="*/ 64800 h 64440"/>
                    </a:gdLst>
                    <a:ahLst/>
                    <a:rect l="textAreaLeft" t="textAreaTop" r="textAreaRight" b="textAreaBottom"/>
                    <a:pathLst>
                      <a:path w="136" h="56">
                        <a:moveTo>
                          <a:pt x="103" y="55"/>
                        </a:moveTo>
                        <a:cubicBezTo>
                          <a:pt x="90" y="56"/>
                          <a:pt x="66" y="40"/>
                          <a:pt x="52" y="34"/>
                        </a:cubicBezTo>
                        <a:cubicBezTo>
                          <a:pt x="38" y="28"/>
                          <a:pt x="16" y="17"/>
                          <a:pt x="16" y="16"/>
                        </a:cubicBezTo>
                        <a:cubicBezTo>
                          <a:pt x="16" y="15"/>
                          <a:pt x="39" y="24"/>
                          <a:pt x="52" y="25"/>
                        </a:cubicBezTo>
                        <a:cubicBezTo>
                          <a:pt x="65" y="26"/>
                          <a:pt x="100" y="25"/>
                          <a:pt x="97" y="22"/>
                        </a:cubicBezTo>
                        <a:cubicBezTo>
                          <a:pt x="94" y="19"/>
                          <a:pt x="46" y="9"/>
                          <a:pt x="31" y="7"/>
                        </a:cubicBezTo>
                        <a:cubicBezTo>
                          <a:pt x="16" y="5"/>
                          <a:pt x="0" y="8"/>
                          <a:pt x="7" y="7"/>
                        </a:cubicBezTo>
                        <a:cubicBezTo>
                          <a:pt x="14" y="6"/>
                          <a:pt x="53" y="0"/>
                          <a:pt x="73" y="4"/>
                        </a:cubicBezTo>
                        <a:cubicBezTo>
                          <a:pt x="93" y="8"/>
                          <a:pt x="124" y="24"/>
                          <a:pt x="130" y="31"/>
                        </a:cubicBezTo>
                        <a:cubicBezTo>
                          <a:pt x="136" y="38"/>
                          <a:pt x="116" y="54"/>
                          <a:pt x="103" y="55"/>
                        </a:cubicBezTo>
                        <a:close/>
                      </a:path>
                    </a:pathLst>
                  </a:custGeom>
                  <a:solidFill>
                    <a:srgbClr val="3a4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Freeform 33"/>
                <p:cNvSpPr/>
                <p:nvPr/>
              </p:nvSpPr>
              <p:spPr>
                <a:xfrm>
                  <a:off x="9671760" y="5235120"/>
                  <a:ext cx="1218960" cy="1076040"/>
                </a:xfrm>
                <a:custGeom>
                  <a:avLst/>
                  <a:gdLst>
                    <a:gd name="textAreaLeft" fmla="*/ 0 w 1218960"/>
                    <a:gd name="textAreaRight" fmla="*/ 1219320 w 1218960"/>
                    <a:gd name="textAreaTop" fmla="*/ 0 h 1076040"/>
                    <a:gd name="textAreaBottom" fmla="*/ 1076400 h 1076040"/>
                  </a:gdLst>
                  <a:ahLst/>
                  <a:rect l="textAreaLeft" t="textAreaTop" r="textAreaRight" b="textAreaBottom"/>
                  <a:pathLst>
                    <a:path w="1055" h="931">
                      <a:moveTo>
                        <a:pt x="167" y="42"/>
                      </a:moveTo>
                      <a:cubicBezTo>
                        <a:pt x="94" y="0"/>
                        <a:pt x="61" y="42"/>
                        <a:pt x="35" y="48"/>
                      </a:cubicBezTo>
                      <a:cubicBezTo>
                        <a:pt x="9" y="54"/>
                        <a:pt x="0" y="63"/>
                        <a:pt x="8" y="78"/>
                      </a:cubicBezTo>
                      <a:cubicBezTo>
                        <a:pt x="16" y="93"/>
                        <a:pt x="57" y="122"/>
                        <a:pt x="80" y="141"/>
                      </a:cubicBezTo>
                      <a:cubicBezTo>
                        <a:pt x="103" y="160"/>
                        <a:pt x="125" y="160"/>
                        <a:pt x="146" y="189"/>
                      </a:cubicBezTo>
                      <a:cubicBezTo>
                        <a:pt x="167" y="218"/>
                        <a:pt x="180" y="274"/>
                        <a:pt x="206" y="315"/>
                      </a:cubicBezTo>
                      <a:cubicBezTo>
                        <a:pt x="232" y="356"/>
                        <a:pt x="254" y="395"/>
                        <a:pt x="302" y="435"/>
                      </a:cubicBezTo>
                      <a:cubicBezTo>
                        <a:pt x="350" y="475"/>
                        <a:pt x="436" y="520"/>
                        <a:pt x="497" y="552"/>
                      </a:cubicBezTo>
                      <a:cubicBezTo>
                        <a:pt x="558" y="584"/>
                        <a:pt x="632" y="610"/>
                        <a:pt x="668" y="627"/>
                      </a:cubicBezTo>
                      <a:cubicBezTo>
                        <a:pt x="704" y="644"/>
                        <a:pt x="695" y="636"/>
                        <a:pt x="710" y="654"/>
                      </a:cubicBezTo>
                      <a:cubicBezTo>
                        <a:pt x="725" y="672"/>
                        <a:pt x="738" y="704"/>
                        <a:pt x="758" y="738"/>
                      </a:cubicBezTo>
                      <a:cubicBezTo>
                        <a:pt x="778" y="772"/>
                        <a:pt x="812" y="829"/>
                        <a:pt x="833" y="858"/>
                      </a:cubicBezTo>
                      <a:cubicBezTo>
                        <a:pt x="854" y="887"/>
                        <a:pt x="877" y="908"/>
                        <a:pt x="884" y="912"/>
                      </a:cubicBezTo>
                      <a:cubicBezTo>
                        <a:pt x="891" y="916"/>
                        <a:pt x="887" y="899"/>
                        <a:pt x="878" y="882"/>
                      </a:cubicBezTo>
                      <a:cubicBezTo>
                        <a:pt x="869" y="865"/>
                        <a:pt x="823" y="802"/>
                        <a:pt x="830" y="807"/>
                      </a:cubicBezTo>
                      <a:cubicBezTo>
                        <a:pt x="837" y="812"/>
                        <a:pt x="898" y="893"/>
                        <a:pt x="920" y="912"/>
                      </a:cubicBezTo>
                      <a:cubicBezTo>
                        <a:pt x="942" y="931"/>
                        <a:pt x="955" y="923"/>
                        <a:pt x="962" y="921"/>
                      </a:cubicBezTo>
                      <a:cubicBezTo>
                        <a:pt x="969" y="919"/>
                        <a:pt x="956" y="897"/>
                        <a:pt x="962" y="897"/>
                      </a:cubicBezTo>
                      <a:cubicBezTo>
                        <a:pt x="968" y="897"/>
                        <a:pt x="984" y="918"/>
                        <a:pt x="998" y="921"/>
                      </a:cubicBezTo>
                      <a:cubicBezTo>
                        <a:pt x="1012" y="924"/>
                        <a:pt x="1040" y="919"/>
                        <a:pt x="1046" y="915"/>
                      </a:cubicBezTo>
                      <a:cubicBezTo>
                        <a:pt x="1052" y="911"/>
                        <a:pt x="1055" y="919"/>
                        <a:pt x="1034" y="894"/>
                      </a:cubicBezTo>
                      <a:cubicBezTo>
                        <a:pt x="1013" y="869"/>
                        <a:pt x="935" y="800"/>
                        <a:pt x="917" y="765"/>
                      </a:cubicBezTo>
                      <a:cubicBezTo>
                        <a:pt x="899" y="730"/>
                        <a:pt x="937" y="712"/>
                        <a:pt x="926" y="684"/>
                      </a:cubicBezTo>
                      <a:cubicBezTo>
                        <a:pt x="915" y="656"/>
                        <a:pt x="926" y="660"/>
                        <a:pt x="851" y="597"/>
                      </a:cubicBezTo>
                      <a:cubicBezTo>
                        <a:pt x="776" y="534"/>
                        <a:pt x="590" y="395"/>
                        <a:pt x="476" y="303"/>
                      </a:cubicBezTo>
                      <a:cubicBezTo>
                        <a:pt x="362" y="211"/>
                        <a:pt x="240" y="84"/>
                        <a:pt x="167" y="42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9666000" y="5224680"/>
                  <a:ext cx="1474560" cy="1072440"/>
                </a:xfrm>
                <a:custGeom>
                  <a:avLst/>
                  <a:gdLst>
                    <a:gd name="textAreaLeft" fmla="*/ 0 w 1474560"/>
                    <a:gd name="textAreaRight" fmla="*/ 1474920 w 1474560"/>
                    <a:gd name="textAreaTop" fmla="*/ 0 h 1072440"/>
                    <a:gd name="textAreaBottom" fmla="*/ 1072800 h 1072440"/>
                  </a:gdLst>
                  <a:ahLst/>
                  <a:rect l="textAreaLeft" t="textAreaTop" r="textAreaRight" b="textAreaBottom"/>
                  <a:pathLst>
                    <a:path w="1276" h="928">
                      <a:moveTo>
                        <a:pt x="208" y="39"/>
                      </a:moveTo>
                      <a:cubicBezTo>
                        <a:pt x="134" y="10"/>
                        <a:pt x="122" y="11"/>
                        <a:pt x="91" y="6"/>
                      </a:cubicBezTo>
                      <a:cubicBezTo>
                        <a:pt x="60" y="1"/>
                        <a:pt x="34" y="0"/>
                        <a:pt x="19" y="9"/>
                      </a:cubicBezTo>
                      <a:cubicBezTo>
                        <a:pt x="4" y="18"/>
                        <a:pt x="0" y="44"/>
                        <a:pt x="1" y="60"/>
                      </a:cubicBezTo>
                      <a:cubicBezTo>
                        <a:pt x="2" y="76"/>
                        <a:pt x="6" y="93"/>
                        <a:pt x="25" y="105"/>
                      </a:cubicBezTo>
                      <a:cubicBezTo>
                        <a:pt x="44" y="117"/>
                        <a:pt x="87" y="117"/>
                        <a:pt x="115" y="132"/>
                      </a:cubicBezTo>
                      <a:cubicBezTo>
                        <a:pt x="143" y="147"/>
                        <a:pt x="173" y="178"/>
                        <a:pt x="193" y="198"/>
                      </a:cubicBezTo>
                      <a:cubicBezTo>
                        <a:pt x="213" y="218"/>
                        <a:pt x="230" y="250"/>
                        <a:pt x="238" y="255"/>
                      </a:cubicBezTo>
                      <a:cubicBezTo>
                        <a:pt x="246" y="260"/>
                        <a:pt x="237" y="242"/>
                        <a:pt x="241" y="228"/>
                      </a:cubicBezTo>
                      <a:cubicBezTo>
                        <a:pt x="245" y="214"/>
                        <a:pt x="260" y="168"/>
                        <a:pt x="265" y="168"/>
                      </a:cubicBezTo>
                      <a:cubicBezTo>
                        <a:pt x="270" y="168"/>
                        <a:pt x="270" y="211"/>
                        <a:pt x="274" y="231"/>
                      </a:cubicBezTo>
                      <a:cubicBezTo>
                        <a:pt x="278" y="251"/>
                        <a:pt x="265" y="258"/>
                        <a:pt x="286" y="288"/>
                      </a:cubicBezTo>
                      <a:cubicBezTo>
                        <a:pt x="307" y="318"/>
                        <a:pt x="352" y="372"/>
                        <a:pt x="400" y="411"/>
                      </a:cubicBezTo>
                      <a:cubicBezTo>
                        <a:pt x="448" y="450"/>
                        <a:pt x="531" y="495"/>
                        <a:pt x="577" y="522"/>
                      </a:cubicBezTo>
                      <a:cubicBezTo>
                        <a:pt x="623" y="549"/>
                        <a:pt x="656" y="559"/>
                        <a:pt x="679" y="573"/>
                      </a:cubicBezTo>
                      <a:cubicBezTo>
                        <a:pt x="702" y="587"/>
                        <a:pt x="696" y="599"/>
                        <a:pt x="715" y="609"/>
                      </a:cubicBezTo>
                      <a:cubicBezTo>
                        <a:pt x="734" y="619"/>
                        <a:pt x="770" y="629"/>
                        <a:pt x="793" y="633"/>
                      </a:cubicBezTo>
                      <a:cubicBezTo>
                        <a:pt x="816" y="637"/>
                        <a:pt x="851" y="632"/>
                        <a:pt x="856" y="636"/>
                      </a:cubicBezTo>
                      <a:cubicBezTo>
                        <a:pt x="861" y="640"/>
                        <a:pt x="836" y="650"/>
                        <a:pt x="826" y="657"/>
                      </a:cubicBezTo>
                      <a:cubicBezTo>
                        <a:pt x="816" y="664"/>
                        <a:pt x="792" y="665"/>
                        <a:pt x="796" y="678"/>
                      </a:cubicBezTo>
                      <a:cubicBezTo>
                        <a:pt x="800" y="691"/>
                        <a:pt x="819" y="702"/>
                        <a:pt x="850" y="735"/>
                      </a:cubicBezTo>
                      <a:cubicBezTo>
                        <a:pt x="881" y="768"/>
                        <a:pt x="948" y="843"/>
                        <a:pt x="979" y="873"/>
                      </a:cubicBezTo>
                      <a:cubicBezTo>
                        <a:pt x="1010" y="903"/>
                        <a:pt x="1022" y="909"/>
                        <a:pt x="1036" y="918"/>
                      </a:cubicBezTo>
                      <a:cubicBezTo>
                        <a:pt x="1050" y="927"/>
                        <a:pt x="1055" y="927"/>
                        <a:pt x="1063" y="927"/>
                      </a:cubicBezTo>
                      <a:cubicBezTo>
                        <a:pt x="1071" y="927"/>
                        <a:pt x="1075" y="928"/>
                        <a:pt x="1084" y="918"/>
                      </a:cubicBezTo>
                      <a:cubicBezTo>
                        <a:pt x="1071" y="902"/>
                        <a:pt x="989" y="827"/>
                        <a:pt x="988" y="828"/>
                      </a:cubicBezTo>
                      <a:cubicBezTo>
                        <a:pt x="987" y="829"/>
                        <a:pt x="1069" y="902"/>
                        <a:pt x="1093" y="912"/>
                      </a:cubicBezTo>
                      <a:cubicBezTo>
                        <a:pt x="1107" y="896"/>
                        <a:pt x="1111" y="902"/>
                        <a:pt x="1132" y="888"/>
                      </a:cubicBezTo>
                      <a:cubicBezTo>
                        <a:pt x="1103" y="874"/>
                        <a:pt x="1034" y="822"/>
                        <a:pt x="1036" y="822"/>
                      </a:cubicBezTo>
                      <a:cubicBezTo>
                        <a:pt x="1038" y="822"/>
                        <a:pt x="1113" y="870"/>
                        <a:pt x="1147" y="891"/>
                      </a:cubicBezTo>
                      <a:cubicBezTo>
                        <a:pt x="1185" y="890"/>
                        <a:pt x="1203" y="882"/>
                        <a:pt x="1246" y="879"/>
                      </a:cubicBezTo>
                      <a:cubicBezTo>
                        <a:pt x="1227" y="856"/>
                        <a:pt x="1120" y="779"/>
                        <a:pt x="1123" y="777"/>
                      </a:cubicBezTo>
                      <a:cubicBezTo>
                        <a:pt x="1126" y="775"/>
                        <a:pt x="1236" y="858"/>
                        <a:pt x="1261" y="867"/>
                      </a:cubicBezTo>
                      <a:cubicBezTo>
                        <a:pt x="1269" y="856"/>
                        <a:pt x="1273" y="852"/>
                        <a:pt x="1276" y="837"/>
                      </a:cubicBezTo>
                      <a:cubicBezTo>
                        <a:pt x="1243" y="808"/>
                        <a:pt x="1124" y="732"/>
                        <a:pt x="1060" y="690"/>
                      </a:cubicBezTo>
                      <a:cubicBezTo>
                        <a:pt x="996" y="648"/>
                        <a:pt x="935" y="623"/>
                        <a:pt x="892" y="588"/>
                      </a:cubicBezTo>
                      <a:cubicBezTo>
                        <a:pt x="849" y="553"/>
                        <a:pt x="835" y="521"/>
                        <a:pt x="802" y="477"/>
                      </a:cubicBezTo>
                      <a:cubicBezTo>
                        <a:pt x="769" y="433"/>
                        <a:pt x="735" y="373"/>
                        <a:pt x="691" y="324"/>
                      </a:cubicBezTo>
                      <a:cubicBezTo>
                        <a:pt x="647" y="275"/>
                        <a:pt x="619" y="230"/>
                        <a:pt x="538" y="182"/>
                      </a:cubicBezTo>
                      <a:cubicBezTo>
                        <a:pt x="457" y="134"/>
                        <a:pt x="282" y="68"/>
                        <a:pt x="208" y="39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Oval 35"/>
                <p:cNvSpPr/>
                <p:nvPr/>
              </p:nvSpPr>
              <p:spPr>
                <a:xfrm>
                  <a:off x="9682200" y="5266080"/>
                  <a:ext cx="12240" cy="12240"/>
                </a:xfrm>
                <a:prstGeom prst="ellipse">
                  <a:avLst/>
                </a:prstGeom>
                <a:solidFill>
                  <a:srgbClr val="3540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9506880" y="5263920"/>
                <a:ext cx="977400" cy="617760"/>
                <a:chOff x="9506880" y="5263920"/>
                <a:chExt cx="977400" cy="617760"/>
              </a:xfrm>
            </p:grpSpPr>
            <p:sp>
              <p:nvSpPr>
                <p:cNvPr id="76" name="Freeform 37"/>
                <p:cNvSpPr/>
                <p:nvPr/>
              </p:nvSpPr>
              <p:spPr>
                <a:xfrm>
                  <a:off x="10161000" y="5308200"/>
                  <a:ext cx="323280" cy="369360"/>
                </a:xfrm>
                <a:custGeom>
                  <a:avLst/>
                  <a:gdLst>
                    <a:gd name="textAreaLeft" fmla="*/ 0 w 323280"/>
                    <a:gd name="textAreaRight" fmla="*/ 323640 w 323280"/>
                    <a:gd name="textAreaTop" fmla="*/ 0 h 369360"/>
                    <a:gd name="textAreaBottom" fmla="*/ 369720 h 369360"/>
                  </a:gdLst>
                  <a:ahLst/>
                  <a:rect l="textAreaLeft" t="textAreaTop" r="textAreaRight" b="textAreaBottom"/>
                  <a:pathLst>
                    <a:path w="233" h="266">
                      <a:moveTo>
                        <a:pt x="48" y="8"/>
                      </a:moveTo>
                      <a:cubicBezTo>
                        <a:pt x="69" y="15"/>
                        <a:pt x="110" y="37"/>
                        <a:pt x="133" y="55"/>
                      </a:cubicBezTo>
                      <a:cubicBezTo>
                        <a:pt x="156" y="73"/>
                        <a:pt x="175" y="102"/>
                        <a:pt x="187" y="116"/>
                      </a:cubicBezTo>
                      <a:cubicBezTo>
                        <a:pt x="199" y="130"/>
                        <a:pt x="204" y="135"/>
                        <a:pt x="204" y="139"/>
                      </a:cubicBezTo>
                      <a:cubicBezTo>
                        <a:pt x="204" y="143"/>
                        <a:pt x="189" y="138"/>
                        <a:pt x="189" y="140"/>
                      </a:cubicBezTo>
                      <a:cubicBezTo>
                        <a:pt x="189" y="142"/>
                        <a:pt x="200" y="144"/>
                        <a:pt x="207" y="149"/>
                      </a:cubicBezTo>
                      <a:cubicBezTo>
                        <a:pt x="214" y="154"/>
                        <a:pt x="231" y="166"/>
                        <a:pt x="232" y="170"/>
                      </a:cubicBezTo>
                      <a:cubicBezTo>
                        <a:pt x="233" y="174"/>
                        <a:pt x="221" y="173"/>
                        <a:pt x="214" y="172"/>
                      </a:cubicBezTo>
                      <a:cubicBezTo>
                        <a:pt x="207" y="171"/>
                        <a:pt x="193" y="160"/>
                        <a:pt x="192" y="161"/>
                      </a:cubicBezTo>
                      <a:cubicBezTo>
                        <a:pt x="191" y="162"/>
                        <a:pt x="201" y="169"/>
                        <a:pt x="207" y="178"/>
                      </a:cubicBezTo>
                      <a:cubicBezTo>
                        <a:pt x="213" y="187"/>
                        <a:pt x="227" y="209"/>
                        <a:pt x="228" y="217"/>
                      </a:cubicBezTo>
                      <a:cubicBezTo>
                        <a:pt x="229" y="225"/>
                        <a:pt x="219" y="224"/>
                        <a:pt x="214" y="224"/>
                      </a:cubicBezTo>
                      <a:cubicBezTo>
                        <a:pt x="209" y="224"/>
                        <a:pt x="200" y="217"/>
                        <a:pt x="198" y="218"/>
                      </a:cubicBezTo>
                      <a:cubicBezTo>
                        <a:pt x="196" y="219"/>
                        <a:pt x="201" y="222"/>
                        <a:pt x="202" y="229"/>
                      </a:cubicBezTo>
                      <a:cubicBezTo>
                        <a:pt x="203" y="236"/>
                        <a:pt x="207" y="260"/>
                        <a:pt x="204" y="263"/>
                      </a:cubicBezTo>
                      <a:cubicBezTo>
                        <a:pt x="201" y="266"/>
                        <a:pt x="193" y="254"/>
                        <a:pt x="186" y="248"/>
                      </a:cubicBezTo>
                      <a:cubicBezTo>
                        <a:pt x="179" y="242"/>
                        <a:pt x="165" y="226"/>
                        <a:pt x="159" y="224"/>
                      </a:cubicBezTo>
                      <a:cubicBezTo>
                        <a:pt x="153" y="222"/>
                        <a:pt x="149" y="232"/>
                        <a:pt x="147" y="238"/>
                      </a:cubicBezTo>
                      <a:cubicBezTo>
                        <a:pt x="145" y="244"/>
                        <a:pt x="148" y="258"/>
                        <a:pt x="145" y="259"/>
                      </a:cubicBezTo>
                      <a:cubicBezTo>
                        <a:pt x="142" y="260"/>
                        <a:pt x="133" y="245"/>
                        <a:pt x="127" y="244"/>
                      </a:cubicBezTo>
                      <a:cubicBezTo>
                        <a:pt x="121" y="243"/>
                        <a:pt x="113" y="255"/>
                        <a:pt x="108" y="254"/>
                      </a:cubicBezTo>
                      <a:cubicBezTo>
                        <a:pt x="103" y="253"/>
                        <a:pt x="102" y="243"/>
                        <a:pt x="96" y="235"/>
                      </a:cubicBezTo>
                      <a:cubicBezTo>
                        <a:pt x="90" y="227"/>
                        <a:pt x="79" y="215"/>
                        <a:pt x="69" y="203"/>
                      </a:cubicBezTo>
                      <a:cubicBezTo>
                        <a:pt x="59" y="191"/>
                        <a:pt x="46" y="180"/>
                        <a:pt x="36" y="160"/>
                      </a:cubicBezTo>
                      <a:cubicBezTo>
                        <a:pt x="26" y="140"/>
                        <a:pt x="12" y="105"/>
                        <a:pt x="7" y="80"/>
                      </a:cubicBezTo>
                      <a:cubicBezTo>
                        <a:pt x="2" y="55"/>
                        <a:pt x="0" y="26"/>
                        <a:pt x="7" y="13"/>
                      </a:cubicBezTo>
                      <a:cubicBezTo>
                        <a:pt x="14" y="0"/>
                        <a:pt x="27" y="1"/>
                        <a:pt x="48" y="8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8"/>
                <p:cNvSpPr/>
                <p:nvPr/>
              </p:nvSpPr>
              <p:spPr>
                <a:xfrm>
                  <a:off x="9512280" y="5334480"/>
                  <a:ext cx="849600" cy="547200"/>
                </a:xfrm>
                <a:custGeom>
                  <a:avLst/>
                  <a:gdLst>
                    <a:gd name="textAreaLeft" fmla="*/ 0 w 849600"/>
                    <a:gd name="textAreaRight" fmla="*/ 849960 w 849600"/>
                    <a:gd name="textAreaTop" fmla="*/ 0 h 547200"/>
                    <a:gd name="textAreaBottom" fmla="*/ 547560 h 547200"/>
                  </a:gdLst>
                  <a:ahLst/>
                  <a:rect l="textAreaLeft" t="textAreaTop" r="textAreaRight" b="textAreaBottom"/>
                  <a:pathLst>
                    <a:path w="612" h="394">
                      <a:moveTo>
                        <a:pt x="119" y="186"/>
                      </a:moveTo>
                      <a:cubicBezTo>
                        <a:pt x="100" y="206"/>
                        <a:pt x="72" y="254"/>
                        <a:pt x="53" y="283"/>
                      </a:cubicBezTo>
                      <a:cubicBezTo>
                        <a:pt x="34" y="312"/>
                        <a:pt x="6" y="351"/>
                        <a:pt x="3" y="361"/>
                      </a:cubicBezTo>
                      <a:cubicBezTo>
                        <a:pt x="0" y="371"/>
                        <a:pt x="36" y="341"/>
                        <a:pt x="38" y="345"/>
                      </a:cubicBezTo>
                      <a:cubicBezTo>
                        <a:pt x="40" y="349"/>
                        <a:pt x="17" y="382"/>
                        <a:pt x="17" y="388"/>
                      </a:cubicBezTo>
                      <a:cubicBezTo>
                        <a:pt x="17" y="394"/>
                        <a:pt x="26" y="390"/>
                        <a:pt x="41" y="382"/>
                      </a:cubicBezTo>
                      <a:cubicBezTo>
                        <a:pt x="56" y="374"/>
                        <a:pt x="89" y="354"/>
                        <a:pt x="107" y="342"/>
                      </a:cubicBezTo>
                      <a:cubicBezTo>
                        <a:pt x="125" y="330"/>
                        <a:pt x="136" y="319"/>
                        <a:pt x="147" y="309"/>
                      </a:cubicBezTo>
                      <a:cubicBezTo>
                        <a:pt x="158" y="299"/>
                        <a:pt x="175" y="280"/>
                        <a:pt x="174" y="283"/>
                      </a:cubicBezTo>
                      <a:cubicBezTo>
                        <a:pt x="173" y="286"/>
                        <a:pt x="150" y="313"/>
                        <a:pt x="141" y="325"/>
                      </a:cubicBezTo>
                      <a:cubicBezTo>
                        <a:pt x="132" y="337"/>
                        <a:pt x="119" y="350"/>
                        <a:pt x="120" y="354"/>
                      </a:cubicBezTo>
                      <a:cubicBezTo>
                        <a:pt x="121" y="358"/>
                        <a:pt x="135" y="352"/>
                        <a:pt x="147" y="348"/>
                      </a:cubicBezTo>
                      <a:cubicBezTo>
                        <a:pt x="159" y="344"/>
                        <a:pt x="177" y="336"/>
                        <a:pt x="194" y="327"/>
                      </a:cubicBezTo>
                      <a:cubicBezTo>
                        <a:pt x="211" y="318"/>
                        <a:pt x="235" y="300"/>
                        <a:pt x="248" y="292"/>
                      </a:cubicBezTo>
                      <a:cubicBezTo>
                        <a:pt x="261" y="284"/>
                        <a:pt x="272" y="276"/>
                        <a:pt x="272" y="279"/>
                      </a:cubicBezTo>
                      <a:cubicBezTo>
                        <a:pt x="272" y="282"/>
                        <a:pt x="253" y="304"/>
                        <a:pt x="248" y="312"/>
                      </a:cubicBezTo>
                      <a:cubicBezTo>
                        <a:pt x="243" y="320"/>
                        <a:pt x="236" y="330"/>
                        <a:pt x="240" y="330"/>
                      </a:cubicBezTo>
                      <a:cubicBezTo>
                        <a:pt x="244" y="330"/>
                        <a:pt x="262" y="321"/>
                        <a:pt x="275" y="312"/>
                      </a:cubicBezTo>
                      <a:cubicBezTo>
                        <a:pt x="288" y="303"/>
                        <a:pt x="306" y="289"/>
                        <a:pt x="321" y="277"/>
                      </a:cubicBezTo>
                      <a:cubicBezTo>
                        <a:pt x="336" y="265"/>
                        <a:pt x="355" y="248"/>
                        <a:pt x="366" y="238"/>
                      </a:cubicBezTo>
                      <a:cubicBezTo>
                        <a:pt x="377" y="228"/>
                        <a:pt x="382" y="216"/>
                        <a:pt x="384" y="217"/>
                      </a:cubicBezTo>
                      <a:cubicBezTo>
                        <a:pt x="386" y="218"/>
                        <a:pt x="378" y="234"/>
                        <a:pt x="377" y="243"/>
                      </a:cubicBezTo>
                      <a:cubicBezTo>
                        <a:pt x="376" y="252"/>
                        <a:pt x="372" y="272"/>
                        <a:pt x="378" y="273"/>
                      </a:cubicBezTo>
                      <a:cubicBezTo>
                        <a:pt x="384" y="274"/>
                        <a:pt x="400" y="262"/>
                        <a:pt x="413" y="247"/>
                      </a:cubicBezTo>
                      <a:cubicBezTo>
                        <a:pt x="426" y="232"/>
                        <a:pt x="445" y="204"/>
                        <a:pt x="455" y="184"/>
                      </a:cubicBezTo>
                      <a:cubicBezTo>
                        <a:pt x="465" y="164"/>
                        <a:pt x="468" y="144"/>
                        <a:pt x="471" y="129"/>
                      </a:cubicBezTo>
                      <a:cubicBezTo>
                        <a:pt x="474" y="114"/>
                        <a:pt x="469" y="89"/>
                        <a:pt x="473" y="97"/>
                      </a:cubicBezTo>
                      <a:cubicBezTo>
                        <a:pt x="477" y="105"/>
                        <a:pt x="492" y="157"/>
                        <a:pt x="497" y="175"/>
                      </a:cubicBezTo>
                      <a:cubicBezTo>
                        <a:pt x="502" y="193"/>
                        <a:pt x="502" y="209"/>
                        <a:pt x="504" y="208"/>
                      </a:cubicBezTo>
                      <a:cubicBezTo>
                        <a:pt x="506" y="207"/>
                        <a:pt x="508" y="190"/>
                        <a:pt x="509" y="171"/>
                      </a:cubicBezTo>
                      <a:cubicBezTo>
                        <a:pt x="510" y="152"/>
                        <a:pt x="510" y="112"/>
                        <a:pt x="510" y="96"/>
                      </a:cubicBezTo>
                      <a:cubicBezTo>
                        <a:pt x="510" y="80"/>
                        <a:pt x="506" y="72"/>
                        <a:pt x="510" y="76"/>
                      </a:cubicBezTo>
                      <a:cubicBezTo>
                        <a:pt x="514" y="80"/>
                        <a:pt x="529" y="104"/>
                        <a:pt x="537" y="121"/>
                      </a:cubicBezTo>
                      <a:cubicBezTo>
                        <a:pt x="545" y="138"/>
                        <a:pt x="553" y="178"/>
                        <a:pt x="557" y="177"/>
                      </a:cubicBezTo>
                      <a:cubicBezTo>
                        <a:pt x="561" y="176"/>
                        <a:pt x="564" y="129"/>
                        <a:pt x="564" y="112"/>
                      </a:cubicBezTo>
                      <a:cubicBezTo>
                        <a:pt x="564" y="95"/>
                        <a:pt x="553" y="76"/>
                        <a:pt x="555" y="72"/>
                      </a:cubicBezTo>
                      <a:cubicBezTo>
                        <a:pt x="557" y="68"/>
                        <a:pt x="571" y="81"/>
                        <a:pt x="579" y="90"/>
                      </a:cubicBezTo>
                      <a:cubicBezTo>
                        <a:pt x="587" y="99"/>
                        <a:pt x="598" y="127"/>
                        <a:pt x="603" y="127"/>
                      </a:cubicBezTo>
                      <a:cubicBezTo>
                        <a:pt x="608" y="127"/>
                        <a:pt x="608" y="101"/>
                        <a:pt x="608" y="87"/>
                      </a:cubicBezTo>
                      <a:cubicBezTo>
                        <a:pt x="608" y="73"/>
                        <a:pt x="612" y="54"/>
                        <a:pt x="602" y="43"/>
                      </a:cubicBezTo>
                      <a:cubicBezTo>
                        <a:pt x="592" y="32"/>
                        <a:pt x="577" y="23"/>
                        <a:pt x="549" y="18"/>
                      </a:cubicBezTo>
                      <a:cubicBezTo>
                        <a:pt x="521" y="13"/>
                        <a:pt x="471" y="0"/>
                        <a:pt x="431" y="13"/>
                      </a:cubicBezTo>
                      <a:cubicBezTo>
                        <a:pt x="391" y="26"/>
                        <a:pt x="352" y="69"/>
                        <a:pt x="308" y="94"/>
                      </a:cubicBezTo>
                      <a:cubicBezTo>
                        <a:pt x="264" y="119"/>
                        <a:pt x="198" y="150"/>
                        <a:pt x="168" y="165"/>
                      </a:cubicBezTo>
                      <a:cubicBezTo>
                        <a:pt x="138" y="180"/>
                        <a:pt x="138" y="166"/>
                        <a:pt x="119" y="186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9"/>
                <p:cNvSpPr/>
                <p:nvPr/>
              </p:nvSpPr>
              <p:spPr>
                <a:xfrm>
                  <a:off x="9506880" y="5263920"/>
                  <a:ext cx="927720" cy="591840"/>
                </a:xfrm>
                <a:custGeom>
                  <a:avLst/>
                  <a:gdLst>
                    <a:gd name="textAreaLeft" fmla="*/ 0 w 927720"/>
                    <a:gd name="textAreaRight" fmla="*/ 928080 w 927720"/>
                    <a:gd name="textAreaTop" fmla="*/ 0 h 591840"/>
                    <a:gd name="textAreaBottom" fmla="*/ 592200 h 591840"/>
                  </a:gdLst>
                  <a:ahLst/>
                  <a:rect l="textAreaLeft" t="textAreaTop" r="textAreaRight" b="textAreaBottom"/>
                  <a:pathLst>
                    <a:path w="668" h="426">
                      <a:moveTo>
                        <a:pt x="447" y="1"/>
                      </a:moveTo>
                      <a:cubicBezTo>
                        <a:pt x="417" y="2"/>
                        <a:pt x="380" y="6"/>
                        <a:pt x="339" y="28"/>
                      </a:cubicBezTo>
                      <a:cubicBezTo>
                        <a:pt x="298" y="50"/>
                        <a:pt x="243" y="93"/>
                        <a:pt x="201" y="132"/>
                      </a:cubicBezTo>
                      <a:cubicBezTo>
                        <a:pt x="159" y="171"/>
                        <a:pt x="111" y="231"/>
                        <a:pt x="85" y="261"/>
                      </a:cubicBezTo>
                      <a:cubicBezTo>
                        <a:pt x="59" y="291"/>
                        <a:pt x="58" y="293"/>
                        <a:pt x="48" y="310"/>
                      </a:cubicBezTo>
                      <a:cubicBezTo>
                        <a:pt x="38" y="327"/>
                        <a:pt x="32" y="345"/>
                        <a:pt x="24" y="363"/>
                      </a:cubicBezTo>
                      <a:cubicBezTo>
                        <a:pt x="16" y="381"/>
                        <a:pt x="2" y="410"/>
                        <a:pt x="1" y="418"/>
                      </a:cubicBezTo>
                      <a:cubicBezTo>
                        <a:pt x="0" y="426"/>
                        <a:pt x="5" y="424"/>
                        <a:pt x="16" y="412"/>
                      </a:cubicBezTo>
                      <a:cubicBezTo>
                        <a:pt x="27" y="400"/>
                        <a:pt x="55" y="365"/>
                        <a:pt x="69" y="346"/>
                      </a:cubicBezTo>
                      <a:cubicBezTo>
                        <a:pt x="83" y="327"/>
                        <a:pt x="107" y="291"/>
                        <a:pt x="102" y="300"/>
                      </a:cubicBezTo>
                      <a:cubicBezTo>
                        <a:pt x="97" y="309"/>
                        <a:pt x="51" y="382"/>
                        <a:pt x="39" y="403"/>
                      </a:cubicBezTo>
                      <a:cubicBezTo>
                        <a:pt x="27" y="424"/>
                        <a:pt x="27" y="426"/>
                        <a:pt x="30" y="426"/>
                      </a:cubicBezTo>
                      <a:cubicBezTo>
                        <a:pt x="33" y="426"/>
                        <a:pt x="39" y="419"/>
                        <a:pt x="58" y="403"/>
                      </a:cubicBezTo>
                      <a:cubicBezTo>
                        <a:pt x="77" y="387"/>
                        <a:pt x="121" y="351"/>
                        <a:pt x="144" y="333"/>
                      </a:cubicBezTo>
                      <a:cubicBezTo>
                        <a:pt x="167" y="315"/>
                        <a:pt x="180" y="305"/>
                        <a:pt x="195" y="295"/>
                      </a:cubicBezTo>
                      <a:cubicBezTo>
                        <a:pt x="210" y="285"/>
                        <a:pt x="229" y="273"/>
                        <a:pt x="232" y="274"/>
                      </a:cubicBezTo>
                      <a:cubicBezTo>
                        <a:pt x="235" y="275"/>
                        <a:pt x="222" y="291"/>
                        <a:pt x="213" y="304"/>
                      </a:cubicBezTo>
                      <a:cubicBezTo>
                        <a:pt x="204" y="317"/>
                        <a:pt x="177" y="350"/>
                        <a:pt x="178" y="355"/>
                      </a:cubicBezTo>
                      <a:cubicBezTo>
                        <a:pt x="179" y="360"/>
                        <a:pt x="197" y="353"/>
                        <a:pt x="220" y="337"/>
                      </a:cubicBezTo>
                      <a:cubicBezTo>
                        <a:pt x="243" y="321"/>
                        <a:pt x="294" y="275"/>
                        <a:pt x="316" y="259"/>
                      </a:cubicBezTo>
                      <a:cubicBezTo>
                        <a:pt x="338" y="243"/>
                        <a:pt x="345" y="235"/>
                        <a:pt x="351" y="238"/>
                      </a:cubicBezTo>
                      <a:cubicBezTo>
                        <a:pt x="357" y="241"/>
                        <a:pt x="348" y="270"/>
                        <a:pt x="351" y="276"/>
                      </a:cubicBezTo>
                      <a:cubicBezTo>
                        <a:pt x="354" y="282"/>
                        <a:pt x="359" y="285"/>
                        <a:pt x="369" y="277"/>
                      </a:cubicBezTo>
                      <a:cubicBezTo>
                        <a:pt x="379" y="269"/>
                        <a:pt x="397" y="249"/>
                        <a:pt x="411" y="229"/>
                      </a:cubicBezTo>
                      <a:cubicBezTo>
                        <a:pt x="425" y="209"/>
                        <a:pt x="449" y="180"/>
                        <a:pt x="456" y="159"/>
                      </a:cubicBezTo>
                      <a:cubicBezTo>
                        <a:pt x="463" y="138"/>
                        <a:pt x="448" y="103"/>
                        <a:pt x="454" y="100"/>
                      </a:cubicBezTo>
                      <a:cubicBezTo>
                        <a:pt x="460" y="97"/>
                        <a:pt x="488" y="141"/>
                        <a:pt x="495" y="141"/>
                      </a:cubicBezTo>
                      <a:cubicBezTo>
                        <a:pt x="502" y="141"/>
                        <a:pt x="490" y="97"/>
                        <a:pt x="499" y="97"/>
                      </a:cubicBezTo>
                      <a:cubicBezTo>
                        <a:pt x="508" y="97"/>
                        <a:pt x="541" y="134"/>
                        <a:pt x="552" y="142"/>
                      </a:cubicBezTo>
                      <a:cubicBezTo>
                        <a:pt x="563" y="150"/>
                        <a:pt x="565" y="152"/>
                        <a:pt x="567" y="148"/>
                      </a:cubicBezTo>
                      <a:cubicBezTo>
                        <a:pt x="569" y="144"/>
                        <a:pt x="566" y="130"/>
                        <a:pt x="564" y="120"/>
                      </a:cubicBezTo>
                      <a:cubicBezTo>
                        <a:pt x="562" y="110"/>
                        <a:pt x="548" y="87"/>
                        <a:pt x="552" y="85"/>
                      </a:cubicBezTo>
                      <a:cubicBezTo>
                        <a:pt x="556" y="83"/>
                        <a:pt x="577" y="107"/>
                        <a:pt x="586" y="111"/>
                      </a:cubicBezTo>
                      <a:cubicBezTo>
                        <a:pt x="595" y="115"/>
                        <a:pt x="599" y="109"/>
                        <a:pt x="604" y="109"/>
                      </a:cubicBezTo>
                      <a:cubicBezTo>
                        <a:pt x="609" y="109"/>
                        <a:pt x="608" y="103"/>
                        <a:pt x="618" y="111"/>
                      </a:cubicBezTo>
                      <a:cubicBezTo>
                        <a:pt x="628" y="119"/>
                        <a:pt x="664" y="157"/>
                        <a:pt x="666" y="156"/>
                      </a:cubicBezTo>
                      <a:cubicBezTo>
                        <a:pt x="668" y="155"/>
                        <a:pt x="645" y="120"/>
                        <a:pt x="631" y="105"/>
                      </a:cubicBezTo>
                      <a:cubicBezTo>
                        <a:pt x="617" y="90"/>
                        <a:pt x="601" y="76"/>
                        <a:pt x="582" y="63"/>
                      </a:cubicBezTo>
                      <a:cubicBezTo>
                        <a:pt x="563" y="50"/>
                        <a:pt x="541" y="34"/>
                        <a:pt x="519" y="24"/>
                      </a:cubicBezTo>
                      <a:cubicBezTo>
                        <a:pt x="497" y="14"/>
                        <a:pt x="477" y="0"/>
                        <a:pt x="447" y="1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" name="Rectangle 40"/>
            <p:cNvSpPr/>
            <p:nvPr/>
          </p:nvSpPr>
          <p:spPr>
            <a:xfrm>
              <a:off x="9144000" y="3772080"/>
              <a:ext cx="226044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9144000" y="3772080"/>
            <a:ext cx="2260440" cy="2857320"/>
            <a:chOff x="9144000" y="3772080"/>
            <a:chExt cx="2260440" cy="2857320"/>
          </a:xfrm>
        </p:grpSpPr>
        <p:grpSp>
          <p:nvGrpSpPr>
            <p:cNvPr id="81" name=""/>
            <p:cNvGrpSpPr/>
            <p:nvPr/>
          </p:nvGrpSpPr>
          <p:grpSpPr>
            <a:xfrm>
              <a:off x="9303480" y="5225760"/>
              <a:ext cx="1833840" cy="1258920"/>
              <a:chOff x="9303480" y="5225760"/>
              <a:chExt cx="1833840" cy="12589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764640" y="5261760"/>
                <a:ext cx="118080" cy="77040"/>
                <a:chOff x="9764640" y="5261760"/>
                <a:chExt cx="118080" cy="770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603000">
                  <a:off x="9783000" y="5269320"/>
                  <a:ext cx="95040" cy="6156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603000">
                  <a:off x="9767880" y="5273280"/>
                  <a:ext cx="104040" cy="489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603000">
                  <a:off x="9767160" y="5288400"/>
                  <a:ext cx="99000" cy="4104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41040"/>
                    <a:gd name="textAreaBottom" fmla="*/ 41040 h 4104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0033560" y="5521680"/>
                <a:ext cx="337320" cy="963000"/>
                <a:chOff x="10033560" y="5521680"/>
                <a:chExt cx="337320" cy="963000"/>
              </a:xfrm>
            </p:grpSpPr>
            <p:sp>
              <p:nvSpPr>
                <p:cNvPr id="87" name="Freeform 48"/>
                <p:cNvSpPr/>
                <p:nvPr/>
              </p:nvSpPr>
              <p:spPr>
                <a:xfrm>
                  <a:off x="10033560" y="5521680"/>
                  <a:ext cx="337320" cy="96300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963000"/>
                    <a:gd name="textAreaBottom" fmla="*/ 963360 h 963000"/>
                  </a:gdLst>
                  <a:ahLst/>
                  <a:rect l="textAreaLeft" t="textAreaTop" r="textAreaRight" b="textAreaBottom"/>
                  <a:pathLst>
                    <a:path w="256" h="730">
                      <a:moveTo>
                        <a:pt x="52" y="47"/>
                      </a:moveTo>
                      <a:cubicBezTo>
                        <a:pt x="42" y="94"/>
                        <a:pt x="50" y="230"/>
                        <a:pt x="44" y="309"/>
                      </a:cubicBezTo>
                      <a:cubicBezTo>
                        <a:pt x="38" y="388"/>
                        <a:pt x="21" y="467"/>
                        <a:pt x="14" y="523"/>
                      </a:cubicBezTo>
                      <a:cubicBezTo>
                        <a:pt x="7" y="579"/>
                        <a:pt x="0" y="629"/>
                        <a:pt x="2" y="643"/>
                      </a:cubicBezTo>
                      <a:cubicBezTo>
                        <a:pt x="4" y="657"/>
                        <a:pt x="26" y="603"/>
                        <a:pt x="28" y="605"/>
                      </a:cubicBezTo>
                      <a:cubicBezTo>
                        <a:pt x="30" y="607"/>
                        <a:pt x="17" y="635"/>
                        <a:pt x="14" y="653"/>
                      </a:cubicBezTo>
                      <a:cubicBezTo>
                        <a:pt x="11" y="671"/>
                        <a:pt x="10" y="702"/>
                        <a:pt x="12" y="713"/>
                      </a:cubicBezTo>
                      <a:cubicBezTo>
                        <a:pt x="14" y="724"/>
                        <a:pt x="18" y="730"/>
                        <a:pt x="24" y="721"/>
                      </a:cubicBezTo>
                      <a:cubicBezTo>
                        <a:pt x="30" y="712"/>
                        <a:pt x="44" y="663"/>
                        <a:pt x="46" y="661"/>
                      </a:cubicBezTo>
                      <a:cubicBezTo>
                        <a:pt x="48" y="659"/>
                        <a:pt x="38" y="706"/>
                        <a:pt x="40" y="711"/>
                      </a:cubicBezTo>
                      <a:cubicBezTo>
                        <a:pt x="42" y="716"/>
                        <a:pt x="54" y="705"/>
                        <a:pt x="60" y="693"/>
                      </a:cubicBezTo>
                      <a:cubicBezTo>
                        <a:pt x="66" y="681"/>
                        <a:pt x="69" y="663"/>
                        <a:pt x="74" y="641"/>
                      </a:cubicBezTo>
                      <a:cubicBezTo>
                        <a:pt x="79" y="619"/>
                        <a:pt x="86" y="579"/>
                        <a:pt x="90" y="561"/>
                      </a:cubicBezTo>
                      <a:cubicBezTo>
                        <a:pt x="94" y="543"/>
                        <a:pt x="94" y="528"/>
                        <a:pt x="96" y="533"/>
                      </a:cubicBezTo>
                      <a:cubicBezTo>
                        <a:pt x="98" y="538"/>
                        <a:pt x="98" y="573"/>
                        <a:pt x="100" y="591"/>
                      </a:cubicBezTo>
                      <a:cubicBezTo>
                        <a:pt x="102" y="609"/>
                        <a:pt x="103" y="636"/>
                        <a:pt x="106" y="639"/>
                      </a:cubicBezTo>
                      <a:cubicBezTo>
                        <a:pt x="109" y="642"/>
                        <a:pt x="114" y="624"/>
                        <a:pt x="118" y="611"/>
                      </a:cubicBezTo>
                      <a:cubicBezTo>
                        <a:pt x="122" y="598"/>
                        <a:pt x="127" y="580"/>
                        <a:pt x="130" y="563"/>
                      </a:cubicBezTo>
                      <a:cubicBezTo>
                        <a:pt x="133" y="546"/>
                        <a:pt x="135" y="508"/>
                        <a:pt x="138" y="507"/>
                      </a:cubicBezTo>
                      <a:cubicBezTo>
                        <a:pt x="141" y="506"/>
                        <a:pt x="142" y="550"/>
                        <a:pt x="146" y="555"/>
                      </a:cubicBezTo>
                      <a:cubicBezTo>
                        <a:pt x="150" y="560"/>
                        <a:pt x="159" y="549"/>
                        <a:pt x="164" y="539"/>
                      </a:cubicBezTo>
                      <a:cubicBezTo>
                        <a:pt x="169" y="529"/>
                        <a:pt x="172" y="516"/>
                        <a:pt x="174" y="495"/>
                      </a:cubicBezTo>
                      <a:cubicBezTo>
                        <a:pt x="176" y="474"/>
                        <a:pt x="175" y="420"/>
                        <a:pt x="176" y="411"/>
                      </a:cubicBezTo>
                      <a:cubicBezTo>
                        <a:pt x="177" y="402"/>
                        <a:pt x="179" y="439"/>
                        <a:pt x="182" y="443"/>
                      </a:cubicBezTo>
                      <a:cubicBezTo>
                        <a:pt x="185" y="447"/>
                        <a:pt x="191" y="430"/>
                        <a:pt x="194" y="433"/>
                      </a:cubicBezTo>
                      <a:cubicBezTo>
                        <a:pt x="197" y="436"/>
                        <a:pt x="198" y="460"/>
                        <a:pt x="200" y="459"/>
                      </a:cubicBezTo>
                      <a:cubicBezTo>
                        <a:pt x="202" y="458"/>
                        <a:pt x="204" y="444"/>
                        <a:pt x="206" y="427"/>
                      </a:cubicBezTo>
                      <a:cubicBezTo>
                        <a:pt x="208" y="410"/>
                        <a:pt x="209" y="373"/>
                        <a:pt x="210" y="357"/>
                      </a:cubicBezTo>
                      <a:cubicBezTo>
                        <a:pt x="211" y="341"/>
                        <a:pt x="209" y="338"/>
                        <a:pt x="210" y="331"/>
                      </a:cubicBezTo>
                      <a:cubicBezTo>
                        <a:pt x="211" y="324"/>
                        <a:pt x="218" y="324"/>
                        <a:pt x="218" y="317"/>
                      </a:cubicBezTo>
                      <a:cubicBezTo>
                        <a:pt x="218" y="310"/>
                        <a:pt x="209" y="299"/>
                        <a:pt x="212" y="289"/>
                      </a:cubicBezTo>
                      <a:cubicBezTo>
                        <a:pt x="215" y="279"/>
                        <a:pt x="230" y="276"/>
                        <a:pt x="236" y="255"/>
                      </a:cubicBezTo>
                      <a:cubicBezTo>
                        <a:pt x="242" y="234"/>
                        <a:pt x="256" y="187"/>
                        <a:pt x="246" y="161"/>
                      </a:cubicBezTo>
                      <a:cubicBezTo>
                        <a:pt x="236" y="135"/>
                        <a:pt x="199" y="122"/>
                        <a:pt x="176" y="99"/>
                      </a:cubicBezTo>
                      <a:cubicBezTo>
                        <a:pt x="153" y="76"/>
                        <a:pt x="126" y="33"/>
                        <a:pt x="106" y="25"/>
                      </a:cubicBezTo>
                      <a:cubicBezTo>
                        <a:pt x="86" y="17"/>
                        <a:pt x="62" y="0"/>
                        <a:pt x="52" y="47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>
                  <a:off x="10128240" y="5629680"/>
                  <a:ext cx="226440" cy="424800"/>
                </a:xfrm>
                <a:custGeom>
                  <a:avLst/>
                  <a:gdLst>
                    <a:gd name="textAreaLeft" fmla="*/ 0 w 226440"/>
                    <a:gd name="textAreaRight" fmla="*/ 226800 w 226440"/>
                    <a:gd name="textAreaTop" fmla="*/ 0 h 424800"/>
                    <a:gd name="textAreaBottom" fmla="*/ 425160 h 424800"/>
                  </a:gdLst>
                  <a:ahLst/>
                  <a:rect l="textAreaLeft" t="textAreaTop" r="textAreaRight" b="textAreaBottom"/>
                  <a:pathLst>
                    <a:path w="172" h="322">
                      <a:moveTo>
                        <a:pt x="46" y="21"/>
                      </a:moveTo>
                      <a:cubicBezTo>
                        <a:pt x="38" y="42"/>
                        <a:pt x="18" y="113"/>
                        <a:pt x="10" y="149"/>
                      </a:cubicBezTo>
                      <a:cubicBezTo>
                        <a:pt x="2" y="185"/>
                        <a:pt x="0" y="211"/>
                        <a:pt x="0" y="239"/>
                      </a:cubicBezTo>
                      <a:cubicBezTo>
                        <a:pt x="0" y="267"/>
                        <a:pt x="8" y="308"/>
                        <a:pt x="12" y="315"/>
                      </a:cubicBezTo>
                      <a:cubicBezTo>
                        <a:pt x="16" y="322"/>
                        <a:pt x="18" y="292"/>
                        <a:pt x="22" y="285"/>
                      </a:cubicBezTo>
                      <a:cubicBezTo>
                        <a:pt x="26" y="278"/>
                        <a:pt x="33" y="284"/>
                        <a:pt x="36" y="275"/>
                      </a:cubicBezTo>
                      <a:cubicBezTo>
                        <a:pt x="39" y="266"/>
                        <a:pt x="36" y="236"/>
                        <a:pt x="40" y="229"/>
                      </a:cubicBezTo>
                      <a:cubicBezTo>
                        <a:pt x="44" y="222"/>
                        <a:pt x="56" y="236"/>
                        <a:pt x="60" y="233"/>
                      </a:cubicBezTo>
                      <a:cubicBezTo>
                        <a:pt x="64" y="230"/>
                        <a:pt x="61" y="214"/>
                        <a:pt x="66" y="209"/>
                      </a:cubicBezTo>
                      <a:cubicBezTo>
                        <a:pt x="71" y="204"/>
                        <a:pt x="86" y="207"/>
                        <a:pt x="92" y="201"/>
                      </a:cubicBezTo>
                      <a:cubicBezTo>
                        <a:pt x="98" y="195"/>
                        <a:pt x="91" y="182"/>
                        <a:pt x="100" y="175"/>
                      </a:cubicBezTo>
                      <a:cubicBezTo>
                        <a:pt x="109" y="168"/>
                        <a:pt x="132" y="174"/>
                        <a:pt x="144" y="161"/>
                      </a:cubicBezTo>
                      <a:cubicBezTo>
                        <a:pt x="156" y="148"/>
                        <a:pt x="172" y="120"/>
                        <a:pt x="172" y="97"/>
                      </a:cubicBezTo>
                      <a:cubicBezTo>
                        <a:pt x="172" y="74"/>
                        <a:pt x="161" y="36"/>
                        <a:pt x="142" y="23"/>
                      </a:cubicBezTo>
                      <a:cubicBezTo>
                        <a:pt x="123" y="10"/>
                        <a:pt x="76" y="22"/>
                        <a:pt x="60" y="21"/>
                      </a:cubicBezTo>
                      <a:cubicBezTo>
                        <a:pt x="44" y="20"/>
                        <a:pt x="54" y="0"/>
                        <a:pt x="46" y="2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Oval 50"/>
              <p:cNvSpPr/>
              <p:nvPr/>
            </p:nvSpPr>
            <p:spPr>
              <a:xfrm>
                <a:off x="9831240" y="5290200"/>
                <a:ext cx="12600" cy="12240"/>
              </a:xfrm>
              <a:prstGeom prst="ellipse">
                <a:avLst/>
              </a:pr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9594360" y="5236200"/>
                <a:ext cx="175320" cy="97920"/>
                <a:chOff x="9594360" y="5236200"/>
                <a:chExt cx="175320" cy="97920"/>
              </a:xfrm>
            </p:grpSpPr>
            <p:sp>
              <p:nvSpPr>
                <p:cNvPr id="91" name="Freeform 52"/>
                <p:cNvSpPr/>
                <p:nvPr/>
              </p:nvSpPr>
              <p:spPr>
                <a:xfrm>
                  <a:off x="9618480" y="5236200"/>
                  <a:ext cx="151200" cy="96840"/>
                </a:xfrm>
                <a:custGeom>
                  <a:avLst/>
                  <a:gdLst>
                    <a:gd name="textAreaLeft" fmla="*/ 0 w 151200"/>
                    <a:gd name="textAreaRight" fmla="*/ 151560 w 151200"/>
                    <a:gd name="textAreaTop" fmla="*/ 0 h 96840"/>
                    <a:gd name="textAreaBottom" fmla="*/ 97200 h 9684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3"/>
                <p:cNvSpPr/>
                <p:nvPr/>
              </p:nvSpPr>
              <p:spPr>
                <a:xfrm>
                  <a:off x="9594360" y="5245200"/>
                  <a:ext cx="165240" cy="7740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4"/>
                <p:cNvSpPr/>
                <p:nvPr/>
              </p:nvSpPr>
              <p:spPr>
                <a:xfrm>
                  <a:off x="9596520" y="5269680"/>
                  <a:ext cx="157320" cy="64440"/>
                </a:xfrm>
                <a:custGeom>
                  <a:avLst/>
                  <a:gdLst>
                    <a:gd name="textAreaLeft" fmla="*/ 0 w 157320"/>
                    <a:gd name="textAreaRight" fmla="*/ 157680 w 157320"/>
                    <a:gd name="textAreaTop" fmla="*/ 0 h 64440"/>
                    <a:gd name="textAreaBottom" fmla="*/ 64800 h 6444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Freeform 55"/>
              <p:cNvSpPr/>
              <p:nvPr/>
            </p:nvSpPr>
            <p:spPr>
              <a:xfrm>
                <a:off x="9668520" y="5236200"/>
                <a:ext cx="1219320" cy="107604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076040"/>
                  <a:gd name="textAreaBottom" fmla="*/ 1076400 h 1076040"/>
                </a:gdLst>
                <a:ahLst/>
                <a:rect l="textAreaLeft" t="textAreaTop" r="textAreaRight" b="textAreaBottom"/>
                <a:pathLst>
                  <a:path w="1055" h="931">
                    <a:moveTo>
                      <a:pt x="167" y="42"/>
                    </a:moveTo>
                    <a:cubicBezTo>
                      <a:pt x="94" y="0"/>
                      <a:pt x="61" y="42"/>
                      <a:pt x="35" y="48"/>
                    </a:cubicBezTo>
                    <a:cubicBezTo>
                      <a:pt x="9" y="54"/>
                      <a:pt x="0" y="63"/>
                      <a:pt x="8" y="78"/>
                    </a:cubicBezTo>
                    <a:cubicBezTo>
                      <a:pt x="16" y="93"/>
                      <a:pt x="57" y="122"/>
                      <a:pt x="80" y="141"/>
                    </a:cubicBezTo>
                    <a:cubicBezTo>
                      <a:pt x="103" y="160"/>
                      <a:pt x="125" y="160"/>
                      <a:pt x="146" y="189"/>
                    </a:cubicBezTo>
                    <a:cubicBezTo>
                      <a:pt x="167" y="218"/>
                      <a:pt x="180" y="274"/>
                      <a:pt x="206" y="315"/>
                    </a:cubicBezTo>
                    <a:cubicBezTo>
                      <a:pt x="232" y="356"/>
                      <a:pt x="254" y="395"/>
                      <a:pt x="302" y="435"/>
                    </a:cubicBezTo>
                    <a:cubicBezTo>
                      <a:pt x="350" y="475"/>
                      <a:pt x="436" y="520"/>
                      <a:pt x="497" y="552"/>
                    </a:cubicBezTo>
                    <a:cubicBezTo>
                      <a:pt x="558" y="584"/>
                      <a:pt x="632" y="610"/>
                      <a:pt x="668" y="627"/>
                    </a:cubicBezTo>
                    <a:cubicBezTo>
                      <a:pt x="704" y="644"/>
                      <a:pt x="695" y="636"/>
                      <a:pt x="710" y="654"/>
                    </a:cubicBezTo>
                    <a:cubicBezTo>
                      <a:pt x="725" y="672"/>
                      <a:pt x="738" y="704"/>
                      <a:pt x="758" y="738"/>
                    </a:cubicBezTo>
                    <a:cubicBezTo>
                      <a:pt x="778" y="772"/>
                      <a:pt x="812" y="829"/>
                      <a:pt x="833" y="858"/>
                    </a:cubicBezTo>
                    <a:cubicBezTo>
                      <a:pt x="854" y="887"/>
                      <a:pt x="877" y="908"/>
                      <a:pt x="884" y="912"/>
                    </a:cubicBezTo>
                    <a:cubicBezTo>
                      <a:pt x="891" y="916"/>
                      <a:pt x="887" y="899"/>
                      <a:pt x="878" y="882"/>
                    </a:cubicBezTo>
                    <a:cubicBezTo>
                      <a:pt x="869" y="865"/>
                      <a:pt x="823" y="802"/>
                      <a:pt x="830" y="807"/>
                    </a:cubicBezTo>
                    <a:cubicBezTo>
                      <a:pt x="837" y="812"/>
                      <a:pt x="898" y="893"/>
                      <a:pt x="920" y="912"/>
                    </a:cubicBezTo>
                    <a:cubicBezTo>
                      <a:pt x="942" y="931"/>
                      <a:pt x="955" y="923"/>
                      <a:pt x="962" y="921"/>
                    </a:cubicBezTo>
                    <a:cubicBezTo>
                      <a:pt x="969" y="919"/>
                      <a:pt x="956" y="897"/>
                      <a:pt x="962" y="897"/>
                    </a:cubicBezTo>
                    <a:cubicBezTo>
                      <a:pt x="968" y="897"/>
                      <a:pt x="984" y="918"/>
                      <a:pt x="998" y="921"/>
                    </a:cubicBezTo>
                    <a:cubicBezTo>
                      <a:pt x="1012" y="924"/>
                      <a:pt x="1040" y="919"/>
                      <a:pt x="1046" y="915"/>
                    </a:cubicBezTo>
                    <a:cubicBezTo>
                      <a:pt x="1052" y="911"/>
                      <a:pt x="1055" y="919"/>
                      <a:pt x="1034" y="894"/>
                    </a:cubicBezTo>
                    <a:cubicBezTo>
                      <a:pt x="1013" y="869"/>
                      <a:pt x="935" y="800"/>
                      <a:pt x="917" y="765"/>
                    </a:cubicBezTo>
                    <a:cubicBezTo>
                      <a:pt x="899" y="730"/>
                      <a:pt x="937" y="712"/>
                      <a:pt x="926" y="684"/>
                    </a:cubicBezTo>
                    <a:cubicBezTo>
                      <a:pt x="915" y="656"/>
                      <a:pt x="926" y="660"/>
                      <a:pt x="851" y="597"/>
                    </a:cubicBezTo>
                    <a:cubicBezTo>
                      <a:pt x="776" y="534"/>
                      <a:pt x="590" y="395"/>
                      <a:pt x="476" y="303"/>
                    </a:cubicBezTo>
                    <a:cubicBezTo>
                      <a:pt x="362" y="211"/>
                      <a:pt x="240" y="84"/>
                      <a:pt x="167" y="42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9662760" y="5225760"/>
                <a:ext cx="1474560" cy="1072800"/>
              </a:xfrm>
              <a:custGeom>
                <a:avLst/>
                <a:gdLst>
                  <a:gd name="textAreaLeft" fmla="*/ 0 w 1474560"/>
                  <a:gd name="textAreaRight" fmla="*/ 1474920 w 1474560"/>
                  <a:gd name="textAreaTop" fmla="*/ 0 h 1072800"/>
                  <a:gd name="textAreaBottom" fmla="*/ 1073160 h 1072800"/>
                </a:gdLst>
                <a:ahLst/>
                <a:rect l="textAreaLeft" t="textAreaTop" r="textAreaRight" b="textAreaBottom"/>
                <a:pathLst>
                  <a:path w="1276" h="928">
                    <a:moveTo>
                      <a:pt x="208" y="39"/>
                    </a:moveTo>
                    <a:cubicBezTo>
                      <a:pt x="134" y="10"/>
                      <a:pt x="122" y="11"/>
                      <a:pt x="91" y="6"/>
                    </a:cubicBezTo>
                    <a:cubicBezTo>
                      <a:pt x="60" y="1"/>
                      <a:pt x="34" y="0"/>
                      <a:pt x="19" y="9"/>
                    </a:cubicBezTo>
                    <a:cubicBezTo>
                      <a:pt x="4" y="18"/>
                      <a:pt x="0" y="44"/>
                      <a:pt x="1" y="60"/>
                    </a:cubicBezTo>
                    <a:cubicBezTo>
                      <a:pt x="2" y="76"/>
                      <a:pt x="6" y="93"/>
                      <a:pt x="25" y="105"/>
                    </a:cubicBezTo>
                    <a:cubicBezTo>
                      <a:pt x="44" y="117"/>
                      <a:pt x="89" y="120"/>
                      <a:pt x="115" y="132"/>
                    </a:cubicBezTo>
                    <a:cubicBezTo>
                      <a:pt x="141" y="144"/>
                      <a:pt x="163" y="165"/>
                      <a:pt x="178" y="179"/>
                    </a:cubicBezTo>
                    <a:cubicBezTo>
                      <a:pt x="193" y="193"/>
                      <a:pt x="197" y="211"/>
                      <a:pt x="205" y="215"/>
                    </a:cubicBezTo>
                    <a:cubicBezTo>
                      <a:pt x="213" y="219"/>
                      <a:pt x="213" y="212"/>
                      <a:pt x="226" y="206"/>
                    </a:cubicBezTo>
                    <a:cubicBezTo>
                      <a:pt x="239" y="200"/>
                      <a:pt x="275" y="172"/>
                      <a:pt x="283" y="176"/>
                    </a:cubicBezTo>
                    <a:cubicBezTo>
                      <a:pt x="291" y="180"/>
                      <a:pt x="273" y="212"/>
                      <a:pt x="274" y="231"/>
                    </a:cubicBezTo>
                    <a:cubicBezTo>
                      <a:pt x="275" y="250"/>
                      <a:pt x="265" y="258"/>
                      <a:pt x="286" y="288"/>
                    </a:cubicBezTo>
                    <a:cubicBezTo>
                      <a:pt x="307" y="318"/>
                      <a:pt x="352" y="372"/>
                      <a:pt x="400" y="411"/>
                    </a:cubicBezTo>
                    <a:cubicBezTo>
                      <a:pt x="448" y="450"/>
                      <a:pt x="531" y="495"/>
                      <a:pt x="577" y="522"/>
                    </a:cubicBezTo>
                    <a:cubicBezTo>
                      <a:pt x="623" y="549"/>
                      <a:pt x="656" y="559"/>
                      <a:pt x="679" y="573"/>
                    </a:cubicBezTo>
                    <a:cubicBezTo>
                      <a:pt x="702" y="587"/>
                      <a:pt x="696" y="599"/>
                      <a:pt x="715" y="609"/>
                    </a:cubicBezTo>
                    <a:cubicBezTo>
                      <a:pt x="734" y="619"/>
                      <a:pt x="770" y="629"/>
                      <a:pt x="793" y="633"/>
                    </a:cubicBezTo>
                    <a:cubicBezTo>
                      <a:pt x="816" y="637"/>
                      <a:pt x="851" y="632"/>
                      <a:pt x="856" y="636"/>
                    </a:cubicBezTo>
                    <a:cubicBezTo>
                      <a:pt x="861" y="640"/>
                      <a:pt x="836" y="650"/>
                      <a:pt x="826" y="657"/>
                    </a:cubicBezTo>
                    <a:cubicBezTo>
                      <a:pt x="816" y="664"/>
                      <a:pt x="792" y="665"/>
                      <a:pt x="796" y="678"/>
                    </a:cubicBezTo>
                    <a:cubicBezTo>
                      <a:pt x="800" y="691"/>
                      <a:pt x="819" y="702"/>
                      <a:pt x="850" y="735"/>
                    </a:cubicBezTo>
                    <a:cubicBezTo>
                      <a:pt x="881" y="768"/>
                      <a:pt x="948" y="843"/>
                      <a:pt x="979" y="873"/>
                    </a:cubicBezTo>
                    <a:cubicBezTo>
                      <a:pt x="1010" y="903"/>
                      <a:pt x="1022" y="909"/>
                      <a:pt x="1036" y="918"/>
                    </a:cubicBezTo>
                    <a:cubicBezTo>
                      <a:pt x="1050" y="927"/>
                      <a:pt x="1055" y="927"/>
                      <a:pt x="1063" y="927"/>
                    </a:cubicBezTo>
                    <a:cubicBezTo>
                      <a:pt x="1071" y="927"/>
                      <a:pt x="1075" y="928"/>
                      <a:pt x="1084" y="918"/>
                    </a:cubicBezTo>
                    <a:cubicBezTo>
                      <a:pt x="1071" y="902"/>
                      <a:pt x="989" y="827"/>
                      <a:pt x="988" y="828"/>
                    </a:cubicBezTo>
                    <a:cubicBezTo>
                      <a:pt x="987" y="829"/>
                      <a:pt x="1069" y="902"/>
                      <a:pt x="1093" y="912"/>
                    </a:cubicBezTo>
                    <a:cubicBezTo>
                      <a:pt x="1107" y="896"/>
                      <a:pt x="1111" y="902"/>
                      <a:pt x="1132" y="888"/>
                    </a:cubicBezTo>
                    <a:cubicBezTo>
                      <a:pt x="1103" y="874"/>
                      <a:pt x="1034" y="822"/>
                      <a:pt x="1036" y="822"/>
                    </a:cubicBezTo>
                    <a:cubicBezTo>
                      <a:pt x="1038" y="822"/>
                      <a:pt x="1113" y="870"/>
                      <a:pt x="1147" y="891"/>
                    </a:cubicBezTo>
                    <a:cubicBezTo>
                      <a:pt x="1185" y="890"/>
                      <a:pt x="1203" y="882"/>
                      <a:pt x="1246" y="879"/>
                    </a:cubicBezTo>
                    <a:cubicBezTo>
                      <a:pt x="1227" y="856"/>
                      <a:pt x="1120" y="779"/>
                      <a:pt x="1123" y="777"/>
                    </a:cubicBezTo>
                    <a:cubicBezTo>
                      <a:pt x="1126" y="775"/>
                      <a:pt x="1236" y="858"/>
                      <a:pt x="1261" y="867"/>
                    </a:cubicBezTo>
                    <a:cubicBezTo>
                      <a:pt x="1269" y="856"/>
                      <a:pt x="1273" y="852"/>
                      <a:pt x="1276" y="837"/>
                    </a:cubicBezTo>
                    <a:cubicBezTo>
                      <a:pt x="1243" y="808"/>
                      <a:pt x="1124" y="732"/>
                      <a:pt x="1060" y="690"/>
                    </a:cubicBezTo>
                    <a:cubicBezTo>
                      <a:pt x="996" y="648"/>
                      <a:pt x="935" y="623"/>
                      <a:pt x="892" y="588"/>
                    </a:cubicBezTo>
                    <a:cubicBezTo>
                      <a:pt x="849" y="553"/>
                      <a:pt x="835" y="521"/>
                      <a:pt x="802" y="477"/>
                    </a:cubicBezTo>
                    <a:cubicBezTo>
                      <a:pt x="769" y="433"/>
                      <a:pt x="735" y="373"/>
                      <a:pt x="691" y="324"/>
                    </a:cubicBezTo>
                    <a:cubicBezTo>
                      <a:pt x="647" y="275"/>
                      <a:pt x="619" y="230"/>
                      <a:pt x="538" y="182"/>
                    </a:cubicBezTo>
                    <a:cubicBezTo>
                      <a:pt x="457" y="134"/>
                      <a:pt x="282" y="68"/>
                      <a:pt x="208" y="39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9678960" y="5267160"/>
                <a:ext cx="12600" cy="1224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9309240" y="5508720"/>
                <a:ext cx="805320" cy="841680"/>
              </a:xfrm>
              <a:custGeom>
                <a:avLst/>
                <a:gdLst>
                  <a:gd name="textAreaLeft" fmla="*/ 0 w 805320"/>
                  <a:gd name="textAreaRight" fmla="*/ 805680 w 805320"/>
                  <a:gd name="textAreaTop" fmla="*/ 0 h 841680"/>
                  <a:gd name="textAreaBottom" fmla="*/ 842040 h 841680"/>
                </a:gdLst>
                <a:ahLst/>
                <a:rect l="textAreaLeft" t="textAreaTop" r="textAreaRight" b="textAreaBottom"/>
                <a:pathLst>
                  <a:path w="697" h="728">
                    <a:moveTo>
                      <a:pt x="585" y="7"/>
                    </a:moveTo>
                    <a:cubicBezTo>
                      <a:pt x="550" y="6"/>
                      <a:pt x="519" y="97"/>
                      <a:pt x="487" y="157"/>
                    </a:cubicBezTo>
                    <a:cubicBezTo>
                      <a:pt x="455" y="218"/>
                      <a:pt x="438" y="313"/>
                      <a:pt x="386" y="367"/>
                    </a:cubicBezTo>
                    <a:cubicBezTo>
                      <a:pt x="335" y="420"/>
                      <a:pt x="241" y="434"/>
                      <a:pt x="181" y="481"/>
                    </a:cubicBezTo>
                    <a:cubicBezTo>
                      <a:pt x="122" y="527"/>
                      <a:pt x="44" y="622"/>
                      <a:pt x="29" y="645"/>
                    </a:cubicBezTo>
                    <a:cubicBezTo>
                      <a:pt x="13" y="668"/>
                      <a:pt x="84" y="605"/>
                      <a:pt x="86" y="615"/>
                    </a:cubicBezTo>
                    <a:cubicBezTo>
                      <a:pt x="87" y="625"/>
                      <a:pt x="50" y="690"/>
                      <a:pt x="38" y="709"/>
                    </a:cubicBezTo>
                    <a:cubicBezTo>
                      <a:pt x="25" y="727"/>
                      <a:pt x="0" y="728"/>
                      <a:pt x="8" y="727"/>
                    </a:cubicBezTo>
                    <a:cubicBezTo>
                      <a:pt x="16" y="726"/>
                      <a:pt x="63" y="718"/>
                      <a:pt x="83" y="704"/>
                    </a:cubicBezTo>
                    <a:cubicBezTo>
                      <a:pt x="104" y="690"/>
                      <a:pt x="105" y="665"/>
                      <a:pt x="131" y="643"/>
                    </a:cubicBezTo>
                    <a:cubicBezTo>
                      <a:pt x="157" y="620"/>
                      <a:pt x="202" y="599"/>
                      <a:pt x="241" y="567"/>
                    </a:cubicBezTo>
                    <a:cubicBezTo>
                      <a:pt x="279" y="535"/>
                      <a:pt x="347" y="451"/>
                      <a:pt x="361" y="451"/>
                    </a:cubicBezTo>
                    <a:cubicBezTo>
                      <a:pt x="376" y="451"/>
                      <a:pt x="328" y="548"/>
                      <a:pt x="327" y="567"/>
                    </a:cubicBezTo>
                    <a:cubicBezTo>
                      <a:pt x="326" y="587"/>
                      <a:pt x="342" y="575"/>
                      <a:pt x="352" y="570"/>
                    </a:cubicBezTo>
                    <a:cubicBezTo>
                      <a:pt x="363" y="564"/>
                      <a:pt x="375" y="551"/>
                      <a:pt x="391" y="531"/>
                    </a:cubicBezTo>
                    <a:cubicBezTo>
                      <a:pt x="407" y="510"/>
                      <a:pt x="438" y="464"/>
                      <a:pt x="450" y="444"/>
                    </a:cubicBezTo>
                    <a:cubicBezTo>
                      <a:pt x="463" y="425"/>
                      <a:pt x="465" y="415"/>
                      <a:pt x="466" y="417"/>
                    </a:cubicBezTo>
                    <a:cubicBezTo>
                      <a:pt x="467" y="419"/>
                      <a:pt x="450" y="456"/>
                      <a:pt x="455" y="460"/>
                    </a:cubicBezTo>
                    <a:cubicBezTo>
                      <a:pt x="459" y="465"/>
                      <a:pt x="482" y="455"/>
                      <a:pt x="496" y="442"/>
                    </a:cubicBezTo>
                    <a:cubicBezTo>
                      <a:pt x="510" y="429"/>
                      <a:pt x="522" y="408"/>
                      <a:pt x="537" y="385"/>
                    </a:cubicBezTo>
                    <a:cubicBezTo>
                      <a:pt x="552" y="362"/>
                      <a:pt x="578" y="316"/>
                      <a:pt x="585" y="308"/>
                    </a:cubicBezTo>
                    <a:cubicBezTo>
                      <a:pt x="592" y="300"/>
                      <a:pt x="571" y="337"/>
                      <a:pt x="576" y="339"/>
                    </a:cubicBezTo>
                    <a:cubicBezTo>
                      <a:pt x="580" y="342"/>
                      <a:pt x="600" y="333"/>
                      <a:pt x="610" y="321"/>
                    </a:cubicBezTo>
                    <a:cubicBezTo>
                      <a:pt x="620" y="310"/>
                      <a:pt x="631" y="293"/>
                      <a:pt x="640" y="271"/>
                    </a:cubicBezTo>
                    <a:cubicBezTo>
                      <a:pt x="649" y="249"/>
                      <a:pt x="656" y="199"/>
                      <a:pt x="661" y="192"/>
                    </a:cubicBezTo>
                    <a:cubicBezTo>
                      <a:pt x="666" y="185"/>
                      <a:pt x="664" y="226"/>
                      <a:pt x="669" y="230"/>
                    </a:cubicBezTo>
                    <a:cubicBezTo>
                      <a:pt x="674" y="234"/>
                      <a:pt x="686" y="233"/>
                      <a:pt x="690" y="216"/>
                    </a:cubicBezTo>
                    <a:cubicBezTo>
                      <a:pt x="694" y="199"/>
                      <a:pt x="696" y="162"/>
                      <a:pt x="694" y="129"/>
                    </a:cubicBezTo>
                    <a:cubicBezTo>
                      <a:pt x="692" y="96"/>
                      <a:pt x="697" y="40"/>
                      <a:pt x="679" y="20"/>
                    </a:cubicBezTo>
                    <a:cubicBezTo>
                      <a:pt x="661" y="0"/>
                      <a:pt x="604" y="9"/>
                      <a:pt x="585" y="7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9303480" y="5400360"/>
                <a:ext cx="870120" cy="992880"/>
              </a:xfrm>
              <a:custGeom>
                <a:avLst/>
                <a:gdLst>
                  <a:gd name="textAreaLeft" fmla="*/ 0 w 870120"/>
                  <a:gd name="textAreaRight" fmla="*/ 870480 w 87012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660" h="753">
                    <a:moveTo>
                      <a:pt x="644" y="93"/>
                    </a:moveTo>
                    <a:cubicBezTo>
                      <a:pt x="660" y="115"/>
                      <a:pt x="621" y="135"/>
                      <a:pt x="611" y="156"/>
                    </a:cubicBezTo>
                    <a:cubicBezTo>
                      <a:pt x="601" y="177"/>
                      <a:pt x="596" y="200"/>
                      <a:pt x="587" y="218"/>
                    </a:cubicBezTo>
                    <a:cubicBezTo>
                      <a:pt x="578" y="236"/>
                      <a:pt x="563" y="255"/>
                      <a:pt x="555" y="262"/>
                    </a:cubicBezTo>
                    <a:cubicBezTo>
                      <a:pt x="547" y="269"/>
                      <a:pt x="544" y="265"/>
                      <a:pt x="541" y="260"/>
                    </a:cubicBezTo>
                    <a:cubicBezTo>
                      <a:pt x="538" y="255"/>
                      <a:pt x="540" y="231"/>
                      <a:pt x="537" y="232"/>
                    </a:cubicBezTo>
                    <a:cubicBezTo>
                      <a:pt x="534" y="233"/>
                      <a:pt x="535" y="247"/>
                      <a:pt x="523" y="268"/>
                    </a:cubicBezTo>
                    <a:cubicBezTo>
                      <a:pt x="511" y="289"/>
                      <a:pt x="490" y="328"/>
                      <a:pt x="465" y="356"/>
                    </a:cubicBezTo>
                    <a:cubicBezTo>
                      <a:pt x="440" y="384"/>
                      <a:pt x="399" y="406"/>
                      <a:pt x="373" y="436"/>
                    </a:cubicBezTo>
                    <a:cubicBezTo>
                      <a:pt x="347" y="466"/>
                      <a:pt x="333" y="497"/>
                      <a:pt x="307" y="534"/>
                    </a:cubicBezTo>
                    <a:cubicBezTo>
                      <a:pt x="281" y="571"/>
                      <a:pt x="239" y="637"/>
                      <a:pt x="217" y="660"/>
                    </a:cubicBezTo>
                    <a:cubicBezTo>
                      <a:pt x="195" y="683"/>
                      <a:pt x="181" y="678"/>
                      <a:pt x="177" y="674"/>
                    </a:cubicBezTo>
                    <a:cubicBezTo>
                      <a:pt x="173" y="670"/>
                      <a:pt x="195" y="638"/>
                      <a:pt x="193" y="638"/>
                    </a:cubicBezTo>
                    <a:cubicBezTo>
                      <a:pt x="191" y="638"/>
                      <a:pt x="177" y="663"/>
                      <a:pt x="165" y="674"/>
                    </a:cubicBezTo>
                    <a:cubicBezTo>
                      <a:pt x="153" y="685"/>
                      <a:pt x="132" y="701"/>
                      <a:pt x="123" y="706"/>
                    </a:cubicBezTo>
                    <a:cubicBezTo>
                      <a:pt x="114" y="711"/>
                      <a:pt x="109" y="707"/>
                      <a:pt x="109" y="702"/>
                    </a:cubicBezTo>
                    <a:cubicBezTo>
                      <a:pt x="109" y="697"/>
                      <a:pt x="123" y="672"/>
                      <a:pt x="121" y="674"/>
                    </a:cubicBezTo>
                    <a:cubicBezTo>
                      <a:pt x="119" y="676"/>
                      <a:pt x="106" y="701"/>
                      <a:pt x="95" y="714"/>
                    </a:cubicBezTo>
                    <a:cubicBezTo>
                      <a:pt x="84" y="727"/>
                      <a:pt x="62" y="747"/>
                      <a:pt x="55" y="750"/>
                    </a:cubicBezTo>
                    <a:cubicBezTo>
                      <a:pt x="48" y="753"/>
                      <a:pt x="47" y="742"/>
                      <a:pt x="51" y="730"/>
                    </a:cubicBezTo>
                    <a:cubicBezTo>
                      <a:pt x="55" y="718"/>
                      <a:pt x="70" y="696"/>
                      <a:pt x="81" y="678"/>
                    </a:cubicBezTo>
                    <a:cubicBezTo>
                      <a:pt x="92" y="660"/>
                      <a:pt x="115" y="621"/>
                      <a:pt x="115" y="620"/>
                    </a:cubicBezTo>
                    <a:cubicBezTo>
                      <a:pt x="115" y="619"/>
                      <a:pt x="92" y="653"/>
                      <a:pt x="79" y="670"/>
                    </a:cubicBezTo>
                    <a:cubicBezTo>
                      <a:pt x="66" y="687"/>
                      <a:pt x="48" y="710"/>
                      <a:pt x="35" y="720"/>
                    </a:cubicBezTo>
                    <a:cubicBezTo>
                      <a:pt x="22" y="730"/>
                      <a:pt x="6" y="734"/>
                      <a:pt x="3" y="730"/>
                    </a:cubicBezTo>
                    <a:cubicBezTo>
                      <a:pt x="0" y="726"/>
                      <a:pt x="9" y="712"/>
                      <a:pt x="19" y="696"/>
                    </a:cubicBezTo>
                    <a:cubicBezTo>
                      <a:pt x="29" y="680"/>
                      <a:pt x="52" y="652"/>
                      <a:pt x="65" y="632"/>
                    </a:cubicBezTo>
                    <a:cubicBezTo>
                      <a:pt x="78" y="612"/>
                      <a:pt x="95" y="575"/>
                      <a:pt x="95" y="574"/>
                    </a:cubicBezTo>
                    <a:cubicBezTo>
                      <a:pt x="95" y="573"/>
                      <a:pt x="76" y="609"/>
                      <a:pt x="63" y="624"/>
                    </a:cubicBezTo>
                    <a:cubicBezTo>
                      <a:pt x="50" y="639"/>
                      <a:pt x="25" y="664"/>
                      <a:pt x="19" y="664"/>
                    </a:cubicBezTo>
                    <a:cubicBezTo>
                      <a:pt x="13" y="664"/>
                      <a:pt x="16" y="649"/>
                      <a:pt x="29" y="624"/>
                    </a:cubicBezTo>
                    <a:cubicBezTo>
                      <a:pt x="42" y="599"/>
                      <a:pt x="69" y="557"/>
                      <a:pt x="97" y="514"/>
                    </a:cubicBezTo>
                    <a:cubicBezTo>
                      <a:pt x="125" y="471"/>
                      <a:pt x="167" y="410"/>
                      <a:pt x="197" y="366"/>
                    </a:cubicBezTo>
                    <a:cubicBezTo>
                      <a:pt x="227" y="322"/>
                      <a:pt x="246" y="284"/>
                      <a:pt x="275" y="248"/>
                    </a:cubicBezTo>
                    <a:cubicBezTo>
                      <a:pt x="304" y="212"/>
                      <a:pt x="339" y="182"/>
                      <a:pt x="373" y="150"/>
                    </a:cubicBezTo>
                    <a:cubicBezTo>
                      <a:pt x="407" y="118"/>
                      <a:pt x="451" y="82"/>
                      <a:pt x="481" y="58"/>
                    </a:cubicBezTo>
                    <a:cubicBezTo>
                      <a:pt x="511" y="34"/>
                      <a:pt x="528" y="0"/>
                      <a:pt x="555" y="6"/>
                    </a:cubicBezTo>
                    <a:cubicBezTo>
                      <a:pt x="582" y="12"/>
                      <a:pt x="625" y="75"/>
                      <a:pt x="644" y="93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60"/>
            <p:cNvSpPr/>
            <p:nvPr/>
          </p:nvSpPr>
          <p:spPr>
            <a:xfrm>
              <a:off x="9144000" y="3772080"/>
              <a:ext cx="226044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039480" y="3543480"/>
            <a:ext cx="3105000" cy="3924000"/>
            <a:chOff x="12039480" y="3543480"/>
            <a:chExt cx="3105000" cy="3924000"/>
          </a:xfrm>
        </p:grpSpPr>
        <p:grpSp>
          <p:nvGrpSpPr>
            <p:cNvPr id="101" name=""/>
            <p:cNvGrpSpPr/>
            <p:nvPr/>
          </p:nvGrpSpPr>
          <p:grpSpPr>
            <a:xfrm>
              <a:off x="12658680" y="3652560"/>
              <a:ext cx="2211480" cy="3379680"/>
              <a:chOff x="12658680" y="3652560"/>
              <a:chExt cx="2211480" cy="33796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3468320" y="5127480"/>
                <a:ext cx="1401840" cy="1083600"/>
                <a:chOff x="13468320" y="5127480"/>
                <a:chExt cx="1401840" cy="1083600"/>
              </a:xfrm>
            </p:grpSpPr>
            <p:sp>
              <p:nvSpPr>
                <p:cNvPr id="103" name="Freeform 64"/>
                <p:cNvSpPr/>
                <p:nvPr/>
              </p:nvSpPr>
              <p:spPr>
                <a:xfrm>
                  <a:off x="13839840" y="5133600"/>
                  <a:ext cx="949320" cy="69336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598" h="437">
                      <a:moveTo>
                        <a:pt x="54" y="310"/>
                      </a:moveTo>
                      <a:cubicBezTo>
                        <a:pt x="108" y="255"/>
                        <a:pt x="361" y="137"/>
                        <a:pt x="441" y="91"/>
                      </a:cubicBezTo>
                      <a:cubicBezTo>
                        <a:pt x="521" y="45"/>
                        <a:pt x="509" y="48"/>
                        <a:pt x="534" y="34"/>
                      </a:cubicBezTo>
                      <a:cubicBezTo>
                        <a:pt x="559" y="20"/>
                        <a:pt x="584" y="0"/>
                        <a:pt x="591" y="4"/>
                      </a:cubicBezTo>
                      <a:cubicBezTo>
                        <a:pt x="598" y="8"/>
                        <a:pt x="586" y="36"/>
                        <a:pt x="576" y="61"/>
                      </a:cubicBezTo>
                      <a:cubicBezTo>
                        <a:pt x="566" y="86"/>
                        <a:pt x="552" y="124"/>
                        <a:pt x="531" y="154"/>
                      </a:cubicBezTo>
                      <a:cubicBezTo>
                        <a:pt x="510" y="184"/>
                        <a:pt x="456" y="235"/>
                        <a:pt x="453" y="244"/>
                      </a:cubicBezTo>
                      <a:cubicBezTo>
                        <a:pt x="450" y="253"/>
                        <a:pt x="516" y="201"/>
                        <a:pt x="513" y="208"/>
                      </a:cubicBezTo>
                      <a:cubicBezTo>
                        <a:pt x="510" y="215"/>
                        <a:pt x="456" y="266"/>
                        <a:pt x="432" y="286"/>
                      </a:cubicBezTo>
                      <a:cubicBezTo>
                        <a:pt x="408" y="306"/>
                        <a:pt x="387" y="310"/>
                        <a:pt x="366" y="328"/>
                      </a:cubicBezTo>
                      <a:cubicBezTo>
                        <a:pt x="345" y="346"/>
                        <a:pt x="331" y="380"/>
                        <a:pt x="306" y="397"/>
                      </a:cubicBezTo>
                      <a:cubicBezTo>
                        <a:pt x="281" y="414"/>
                        <a:pt x="247" y="430"/>
                        <a:pt x="216" y="433"/>
                      </a:cubicBezTo>
                      <a:cubicBezTo>
                        <a:pt x="185" y="436"/>
                        <a:pt x="144" y="437"/>
                        <a:pt x="117" y="418"/>
                      </a:cubicBezTo>
                      <a:cubicBezTo>
                        <a:pt x="90" y="399"/>
                        <a:pt x="0" y="365"/>
                        <a:pt x="54" y="31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65"/>
                <p:cNvSpPr/>
                <p:nvPr/>
              </p:nvSpPr>
              <p:spPr>
                <a:xfrm>
                  <a:off x="13468320" y="5127480"/>
                  <a:ext cx="1401840" cy="923400"/>
                </a:xfrm>
                <a:custGeom>
                  <a:avLst/>
                  <a:gdLst>
                    <a:gd name="textAreaLeft" fmla="*/ 0 w 1401840"/>
                    <a:gd name="textAreaRight" fmla="*/ 1402200 w 1401840"/>
                    <a:gd name="textAreaTop" fmla="*/ 0 h 923400"/>
                    <a:gd name="textAreaBottom" fmla="*/ 923760 h 923400"/>
                  </a:gdLst>
                  <a:ahLst/>
                  <a:rect l="textAreaLeft" t="textAreaTop" r="textAreaRight" b="textAreaBottom"/>
                  <a:pathLst>
                    <a:path w="883" h="582">
                      <a:moveTo>
                        <a:pt x="54" y="353"/>
                      </a:moveTo>
                      <a:cubicBezTo>
                        <a:pt x="103" y="321"/>
                        <a:pt x="227" y="285"/>
                        <a:pt x="297" y="251"/>
                      </a:cubicBezTo>
                      <a:cubicBezTo>
                        <a:pt x="367" y="217"/>
                        <a:pt x="414" y="180"/>
                        <a:pt x="474" y="149"/>
                      </a:cubicBezTo>
                      <a:cubicBezTo>
                        <a:pt x="534" y="118"/>
                        <a:pt x="610" y="86"/>
                        <a:pt x="660" y="65"/>
                      </a:cubicBezTo>
                      <a:cubicBezTo>
                        <a:pt x="710" y="44"/>
                        <a:pt x="749" y="30"/>
                        <a:pt x="777" y="20"/>
                      </a:cubicBezTo>
                      <a:cubicBezTo>
                        <a:pt x="805" y="10"/>
                        <a:pt x="821" y="0"/>
                        <a:pt x="828" y="2"/>
                      </a:cubicBezTo>
                      <a:cubicBezTo>
                        <a:pt x="835" y="4"/>
                        <a:pt x="836" y="19"/>
                        <a:pt x="822" y="32"/>
                      </a:cubicBezTo>
                      <a:cubicBezTo>
                        <a:pt x="808" y="45"/>
                        <a:pt x="780" y="59"/>
                        <a:pt x="741" y="80"/>
                      </a:cubicBezTo>
                      <a:cubicBezTo>
                        <a:pt x="780" y="68"/>
                        <a:pt x="805" y="53"/>
                        <a:pt x="828" y="44"/>
                      </a:cubicBezTo>
                      <a:cubicBezTo>
                        <a:pt x="851" y="35"/>
                        <a:pt x="875" y="21"/>
                        <a:pt x="879" y="26"/>
                      </a:cubicBezTo>
                      <a:cubicBezTo>
                        <a:pt x="883" y="31"/>
                        <a:pt x="869" y="54"/>
                        <a:pt x="852" y="74"/>
                      </a:cubicBezTo>
                      <a:cubicBezTo>
                        <a:pt x="835" y="94"/>
                        <a:pt x="804" y="127"/>
                        <a:pt x="777" y="146"/>
                      </a:cubicBezTo>
                      <a:cubicBezTo>
                        <a:pt x="750" y="165"/>
                        <a:pt x="726" y="161"/>
                        <a:pt x="690" y="188"/>
                      </a:cubicBezTo>
                      <a:cubicBezTo>
                        <a:pt x="729" y="173"/>
                        <a:pt x="765" y="168"/>
                        <a:pt x="783" y="167"/>
                      </a:cubicBezTo>
                      <a:cubicBezTo>
                        <a:pt x="801" y="166"/>
                        <a:pt x="807" y="173"/>
                        <a:pt x="798" y="185"/>
                      </a:cubicBezTo>
                      <a:cubicBezTo>
                        <a:pt x="789" y="197"/>
                        <a:pt x="760" y="224"/>
                        <a:pt x="729" y="242"/>
                      </a:cubicBezTo>
                      <a:cubicBezTo>
                        <a:pt x="698" y="260"/>
                        <a:pt x="622" y="288"/>
                        <a:pt x="615" y="293"/>
                      </a:cubicBezTo>
                      <a:cubicBezTo>
                        <a:pt x="657" y="284"/>
                        <a:pt x="670" y="274"/>
                        <a:pt x="687" y="272"/>
                      </a:cubicBezTo>
                      <a:cubicBezTo>
                        <a:pt x="704" y="270"/>
                        <a:pt x="723" y="277"/>
                        <a:pt x="717" y="284"/>
                      </a:cubicBezTo>
                      <a:cubicBezTo>
                        <a:pt x="711" y="291"/>
                        <a:pt x="675" y="303"/>
                        <a:pt x="648" y="317"/>
                      </a:cubicBezTo>
                      <a:cubicBezTo>
                        <a:pt x="621" y="331"/>
                        <a:pt x="560" y="359"/>
                        <a:pt x="552" y="368"/>
                      </a:cubicBezTo>
                      <a:cubicBezTo>
                        <a:pt x="544" y="377"/>
                        <a:pt x="587" y="367"/>
                        <a:pt x="597" y="371"/>
                      </a:cubicBezTo>
                      <a:cubicBezTo>
                        <a:pt x="607" y="375"/>
                        <a:pt x="620" y="387"/>
                        <a:pt x="612" y="392"/>
                      </a:cubicBezTo>
                      <a:cubicBezTo>
                        <a:pt x="604" y="397"/>
                        <a:pt x="571" y="392"/>
                        <a:pt x="549" y="401"/>
                      </a:cubicBezTo>
                      <a:cubicBezTo>
                        <a:pt x="527" y="410"/>
                        <a:pt x="526" y="421"/>
                        <a:pt x="477" y="449"/>
                      </a:cubicBezTo>
                      <a:cubicBezTo>
                        <a:pt x="428" y="477"/>
                        <a:pt x="322" y="556"/>
                        <a:pt x="255" y="569"/>
                      </a:cubicBezTo>
                      <a:cubicBezTo>
                        <a:pt x="188" y="582"/>
                        <a:pt x="114" y="548"/>
                        <a:pt x="72" y="527"/>
                      </a:cubicBezTo>
                      <a:cubicBezTo>
                        <a:pt x="30" y="506"/>
                        <a:pt x="6" y="472"/>
                        <a:pt x="3" y="443"/>
                      </a:cubicBezTo>
                      <a:cubicBezTo>
                        <a:pt x="0" y="414"/>
                        <a:pt x="5" y="385"/>
                        <a:pt x="54" y="353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66"/>
                <p:cNvSpPr/>
                <p:nvPr/>
              </p:nvSpPr>
              <p:spPr>
                <a:xfrm>
                  <a:off x="13477680" y="5698800"/>
                  <a:ext cx="889200" cy="512280"/>
                </a:xfrm>
                <a:custGeom>
                  <a:avLst/>
                  <a:gdLst>
                    <a:gd name="textAreaLeft" fmla="*/ 0 w 889200"/>
                    <a:gd name="textAreaRight" fmla="*/ 889560 w 88920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560" h="323">
                      <a:moveTo>
                        <a:pt x="6" y="182"/>
                      </a:moveTo>
                      <a:cubicBezTo>
                        <a:pt x="11" y="149"/>
                        <a:pt x="27" y="68"/>
                        <a:pt x="50" y="38"/>
                      </a:cubicBezTo>
                      <a:cubicBezTo>
                        <a:pt x="73" y="8"/>
                        <a:pt x="115" y="0"/>
                        <a:pt x="146" y="2"/>
                      </a:cubicBezTo>
                      <a:cubicBezTo>
                        <a:pt x="177" y="4"/>
                        <a:pt x="228" y="36"/>
                        <a:pt x="234" y="50"/>
                      </a:cubicBezTo>
                      <a:cubicBezTo>
                        <a:pt x="240" y="64"/>
                        <a:pt x="193" y="76"/>
                        <a:pt x="182" y="86"/>
                      </a:cubicBezTo>
                      <a:cubicBezTo>
                        <a:pt x="171" y="96"/>
                        <a:pt x="165" y="102"/>
                        <a:pt x="168" y="113"/>
                      </a:cubicBezTo>
                      <a:cubicBezTo>
                        <a:pt x="171" y="124"/>
                        <a:pt x="180" y="147"/>
                        <a:pt x="202" y="150"/>
                      </a:cubicBezTo>
                      <a:cubicBezTo>
                        <a:pt x="224" y="153"/>
                        <a:pt x="242" y="152"/>
                        <a:pt x="298" y="134"/>
                      </a:cubicBezTo>
                      <a:cubicBezTo>
                        <a:pt x="354" y="116"/>
                        <a:pt x="462" y="89"/>
                        <a:pt x="538" y="42"/>
                      </a:cubicBezTo>
                      <a:cubicBezTo>
                        <a:pt x="552" y="68"/>
                        <a:pt x="560" y="80"/>
                        <a:pt x="546" y="94"/>
                      </a:cubicBezTo>
                      <a:cubicBezTo>
                        <a:pt x="532" y="108"/>
                        <a:pt x="486" y="116"/>
                        <a:pt x="454" y="126"/>
                      </a:cubicBezTo>
                      <a:cubicBezTo>
                        <a:pt x="468" y="131"/>
                        <a:pt x="495" y="136"/>
                        <a:pt x="482" y="146"/>
                      </a:cubicBezTo>
                      <a:cubicBezTo>
                        <a:pt x="469" y="156"/>
                        <a:pt x="414" y="167"/>
                        <a:pt x="378" y="186"/>
                      </a:cubicBezTo>
                      <a:cubicBezTo>
                        <a:pt x="396" y="185"/>
                        <a:pt x="411" y="179"/>
                        <a:pt x="422" y="194"/>
                      </a:cubicBezTo>
                      <a:cubicBezTo>
                        <a:pt x="393" y="230"/>
                        <a:pt x="369" y="218"/>
                        <a:pt x="338" y="226"/>
                      </a:cubicBezTo>
                      <a:cubicBezTo>
                        <a:pt x="357" y="242"/>
                        <a:pt x="385" y="239"/>
                        <a:pt x="370" y="254"/>
                      </a:cubicBezTo>
                      <a:cubicBezTo>
                        <a:pt x="355" y="269"/>
                        <a:pt x="289" y="305"/>
                        <a:pt x="246" y="314"/>
                      </a:cubicBezTo>
                      <a:cubicBezTo>
                        <a:pt x="203" y="323"/>
                        <a:pt x="152" y="319"/>
                        <a:pt x="114" y="306"/>
                      </a:cubicBezTo>
                      <a:cubicBezTo>
                        <a:pt x="76" y="293"/>
                        <a:pt x="36" y="257"/>
                        <a:pt x="18" y="238"/>
                      </a:cubicBezTo>
                      <a:cubicBezTo>
                        <a:pt x="0" y="219"/>
                        <a:pt x="1" y="215"/>
                        <a:pt x="6" y="182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2658680" y="5554440"/>
                <a:ext cx="241200" cy="135000"/>
                <a:chOff x="12658680" y="5554440"/>
                <a:chExt cx="241200" cy="135000"/>
              </a:xfrm>
            </p:grpSpPr>
            <p:sp>
              <p:nvSpPr>
                <p:cNvPr id="107" name="Freeform 68"/>
                <p:cNvSpPr/>
                <p:nvPr/>
              </p:nvSpPr>
              <p:spPr>
                <a:xfrm>
                  <a:off x="12692160" y="5554440"/>
                  <a:ext cx="207720" cy="1332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9"/>
                <p:cNvSpPr/>
                <p:nvPr/>
              </p:nvSpPr>
              <p:spPr>
                <a:xfrm>
                  <a:off x="12658680" y="5567040"/>
                  <a:ext cx="227160" cy="106560"/>
                </a:xfrm>
                <a:custGeom>
                  <a:avLst/>
                  <a:gdLst>
                    <a:gd name="textAreaLeft" fmla="*/ 0 w 227160"/>
                    <a:gd name="textAreaRight" fmla="*/ 227160 w 2271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70"/>
                <p:cNvSpPr/>
                <p:nvPr/>
              </p:nvSpPr>
              <p:spPr>
                <a:xfrm>
                  <a:off x="12661920" y="5600520"/>
                  <a:ext cx="216000" cy="8892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71"/>
              <p:cNvSpPr/>
              <p:nvPr/>
            </p:nvSpPr>
            <p:spPr>
              <a:xfrm>
                <a:off x="12760200" y="4946400"/>
                <a:ext cx="1674720" cy="208584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2085840"/>
                  <a:gd name="textAreaBottom" fmla="*/ 2086200 h 2085840"/>
                </a:gdLst>
                <a:ahLst/>
                <a:rect l="textAreaLeft" t="textAreaTop" r="textAreaRight" b="textAreaBottom"/>
                <a:pathLst>
                  <a:path w="1055" h="1314">
                    <a:moveTo>
                      <a:pt x="35" y="431"/>
                    </a:moveTo>
                    <a:cubicBezTo>
                      <a:pt x="9" y="437"/>
                      <a:pt x="0" y="446"/>
                      <a:pt x="8" y="461"/>
                    </a:cubicBezTo>
                    <a:cubicBezTo>
                      <a:pt x="16" y="476"/>
                      <a:pt x="57" y="505"/>
                      <a:pt x="80" y="524"/>
                    </a:cubicBezTo>
                    <a:cubicBezTo>
                      <a:pt x="103" y="543"/>
                      <a:pt x="125" y="543"/>
                      <a:pt x="146" y="572"/>
                    </a:cubicBezTo>
                    <a:cubicBezTo>
                      <a:pt x="167" y="601"/>
                      <a:pt x="180" y="657"/>
                      <a:pt x="206" y="698"/>
                    </a:cubicBezTo>
                    <a:cubicBezTo>
                      <a:pt x="232" y="739"/>
                      <a:pt x="254" y="778"/>
                      <a:pt x="302" y="818"/>
                    </a:cubicBezTo>
                    <a:cubicBezTo>
                      <a:pt x="350" y="858"/>
                      <a:pt x="436" y="903"/>
                      <a:pt x="497" y="935"/>
                    </a:cubicBezTo>
                    <a:cubicBezTo>
                      <a:pt x="558" y="967"/>
                      <a:pt x="632" y="993"/>
                      <a:pt x="668" y="1010"/>
                    </a:cubicBezTo>
                    <a:cubicBezTo>
                      <a:pt x="704" y="1027"/>
                      <a:pt x="695" y="1019"/>
                      <a:pt x="710" y="1037"/>
                    </a:cubicBezTo>
                    <a:cubicBezTo>
                      <a:pt x="725" y="1055"/>
                      <a:pt x="738" y="1087"/>
                      <a:pt x="758" y="1121"/>
                    </a:cubicBezTo>
                    <a:cubicBezTo>
                      <a:pt x="778" y="1155"/>
                      <a:pt x="812" y="1212"/>
                      <a:pt x="833" y="1241"/>
                    </a:cubicBezTo>
                    <a:cubicBezTo>
                      <a:pt x="854" y="1270"/>
                      <a:pt x="877" y="1291"/>
                      <a:pt x="884" y="1295"/>
                    </a:cubicBezTo>
                    <a:cubicBezTo>
                      <a:pt x="891" y="1299"/>
                      <a:pt x="887" y="1282"/>
                      <a:pt x="878" y="1265"/>
                    </a:cubicBezTo>
                    <a:cubicBezTo>
                      <a:pt x="869" y="1248"/>
                      <a:pt x="823" y="1185"/>
                      <a:pt x="830" y="1190"/>
                    </a:cubicBezTo>
                    <a:cubicBezTo>
                      <a:pt x="837" y="1195"/>
                      <a:pt x="898" y="1276"/>
                      <a:pt x="920" y="1295"/>
                    </a:cubicBezTo>
                    <a:cubicBezTo>
                      <a:pt x="942" y="1314"/>
                      <a:pt x="955" y="1306"/>
                      <a:pt x="962" y="1304"/>
                    </a:cubicBezTo>
                    <a:cubicBezTo>
                      <a:pt x="969" y="1302"/>
                      <a:pt x="956" y="1280"/>
                      <a:pt x="962" y="1280"/>
                    </a:cubicBezTo>
                    <a:cubicBezTo>
                      <a:pt x="968" y="1280"/>
                      <a:pt x="984" y="1301"/>
                      <a:pt x="998" y="1304"/>
                    </a:cubicBezTo>
                    <a:cubicBezTo>
                      <a:pt x="1012" y="1307"/>
                      <a:pt x="1040" y="1302"/>
                      <a:pt x="1046" y="1298"/>
                    </a:cubicBezTo>
                    <a:cubicBezTo>
                      <a:pt x="1052" y="1294"/>
                      <a:pt x="1055" y="1302"/>
                      <a:pt x="1034" y="1277"/>
                    </a:cubicBezTo>
                    <a:cubicBezTo>
                      <a:pt x="1013" y="1252"/>
                      <a:pt x="935" y="1183"/>
                      <a:pt x="917" y="1148"/>
                    </a:cubicBezTo>
                    <a:cubicBezTo>
                      <a:pt x="899" y="1113"/>
                      <a:pt x="937" y="1095"/>
                      <a:pt x="926" y="1067"/>
                    </a:cubicBezTo>
                    <a:cubicBezTo>
                      <a:pt x="915" y="1039"/>
                      <a:pt x="926" y="1043"/>
                      <a:pt x="851" y="980"/>
                    </a:cubicBezTo>
                    <a:cubicBezTo>
                      <a:pt x="776" y="917"/>
                      <a:pt x="526" y="750"/>
                      <a:pt x="476" y="686"/>
                    </a:cubicBezTo>
                    <a:cubicBezTo>
                      <a:pt x="426" y="622"/>
                      <a:pt x="532" y="620"/>
                      <a:pt x="551" y="596"/>
                    </a:cubicBezTo>
                    <a:cubicBezTo>
                      <a:pt x="570" y="572"/>
                      <a:pt x="577" y="549"/>
                      <a:pt x="593" y="542"/>
                    </a:cubicBezTo>
                    <a:cubicBezTo>
                      <a:pt x="609" y="535"/>
                      <a:pt x="632" y="553"/>
                      <a:pt x="647" y="551"/>
                    </a:cubicBezTo>
                    <a:cubicBezTo>
                      <a:pt x="662" y="549"/>
                      <a:pt x="681" y="535"/>
                      <a:pt x="686" y="527"/>
                    </a:cubicBezTo>
                    <a:cubicBezTo>
                      <a:pt x="691" y="519"/>
                      <a:pt x="687" y="519"/>
                      <a:pt x="677" y="503"/>
                    </a:cubicBezTo>
                    <a:cubicBezTo>
                      <a:pt x="667" y="487"/>
                      <a:pt x="613" y="456"/>
                      <a:pt x="623" y="431"/>
                    </a:cubicBezTo>
                    <a:cubicBezTo>
                      <a:pt x="633" y="406"/>
                      <a:pt x="705" y="389"/>
                      <a:pt x="737" y="353"/>
                    </a:cubicBezTo>
                    <a:cubicBezTo>
                      <a:pt x="769" y="317"/>
                      <a:pt x="809" y="236"/>
                      <a:pt x="815" y="218"/>
                    </a:cubicBezTo>
                    <a:cubicBezTo>
                      <a:pt x="821" y="200"/>
                      <a:pt x="774" y="252"/>
                      <a:pt x="776" y="245"/>
                    </a:cubicBezTo>
                    <a:cubicBezTo>
                      <a:pt x="778" y="238"/>
                      <a:pt x="816" y="203"/>
                      <a:pt x="830" y="176"/>
                    </a:cubicBezTo>
                    <a:cubicBezTo>
                      <a:pt x="844" y="149"/>
                      <a:pt x="862" y="107"/>
                      <a:pt x="863" y="80"/>
                    </a:cubicBezTo>
                    <a:cubicBezTo>
                      <a:pt x="864" y="53"/>
                      <a:pt x="889" y="0"/>
                      <a:pt x="839" y="11"/>
                    </a:cubicBezTo>
                    <a:cubicBezTo>
                      <a:pt x="789" y="22"/>
                      <a:pt x="614" y="83"/>
                      <a:pt x="560" y="146"/>
                    </a:cubicBezTo>
                    <a:cubicBezTo>
                      <a:pt x="506" y="209"/>
                      <a:pt x="537" y="341"/>
                      <a:pt x="515" y="389"/>
                    </a:cubicBezTo>
                    <a:cubicBezTo>
                      <a:pt x="493" y="437"/>
                      <a:pt x="461" y="427"/>
                      <a:pt x="425" y="434"/>
                    </a:cubicBezTo>
                    <a:cubicBezTo>
                      <a:pt x="389" y="441"/>
                      <a:pt x="339" y="436"/>
                      <a:pt x="296" y="434"/>
                    </a:cubicBezTo>
                    <a:cubicBezTo>
                      <a:pt x="253" y="432"/>
                      <a:pt x="209" y="427"/>
                      <a:pt x="167" y="425"/>
                    </a:cubicBezTo>
                    <a:cubicBezTo>
                      <a:pt x="125" y="423"/>
                      <a:pt x="61" y="425"/>
                      <a:pt x="35" y="431"/>
                    </a:cubicBezTo>
                    <a:close/>
                  </a:path>
                </a:pathLst>
              </a:cu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2"/>
              <p:cNvSpPr/>
              <p:nvPr/>
            </p:nvSpPr>
            <p:spPr>
              <a:xfrm>
                <a:off x="12752280" y="3652560"/>
                <a:ext cx="2025720" cy="336060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3360600"/>
                  <a:gd name="textAreaBottom" fmla="*/ 3360960 h 3360600"/>
                </a:gdLst>
                <a:ahLst/>
                <a:rect l="textAreaLeft" t="textAreaTop" r="textAreaRight" b="textAreaBottom"/>
                <a:pathLst>
                  <a:path w="1276" h="2117">
                    <a:moveTo>
                      <a:pt x="1276" y="2026"/>
                    </a:moveTo>
                    <a:cubicBezTo>
                      <a:pt x="1243" y="1997"/>
                      <a:pt x="1124" y="1921"/>
                      <a:pt x="1060" y="1879"/>
                    </a:cubicBezTo>
                    <a:cubicBezTo>
                      <a:pt x="996" y="1837"/>
                      <a:pt x="935" y="1812"/>
                      <a:pt x="892" y="1777"/>
                    </a:cubicBezTo>
                    <a:cubicBezTo>
                      <a:pt x="849" y="1742"/>
                      <a:pt x="835" y="1710"/>
                      <a:pt x="802" y="1666"/>
                    </a:cubicBezTo>
                    <a:cubicBezTo>
                      <a:pt x="769" y="1622"/>
                      <a:pt x="723" y="1553"/>
                      <a:pt x="691" y="1513"/>
                    </a:cubicBezTo>
                    <a:cubicBezTo>
                      <a:pt x="659" y="1473"/>
                      <a:pt x="630" y="1443"/>
                      <a:pt x="610" y="1426"/>
                    </a:cubicBezTo>
                    <a:cubicBezTo>
                      <a:pt x="590" y="1409"/>
                      <a:pt x="571" y="1418"/>
                      <a:pt x="571" y="1408"/>
                    </a:cubicBezTo>
                    <a:cubicBezTo>
                      <a:pt x="571" y="1398"/>
                      <a:pt x="598" y="1375"/>
                      <a:pt x="609" y="1365"/>
                    </a:cubicBezTo>
                    <a:cubicBezTo>
                      <a:pt x="620" y="1355"/>
                      <a:pt x="631" y="1354"/>
                      <a:pt x="640" y="1345"/>
                    </a:cubicBezTo>
                    <a:cubicBezTo>
                      <a:pt x="649" y="1336"/>
                      <a:pt x="654" y="1315"/>
                      <a:pt x="661" y="1312"/>
                    </a:cubicBezTo>
                    <a:cubicBezTo>
                      <a:pt x="668" y="1309"/>
                      <a:pt x="679" y="1327"/>
                      <a:pt x="685" y="1327"/>
                    </a:cubicBezTo>
                    <a:cubicBezTo>
                      <a:pt x="691" y="1327"/>
                      <a:pt x="698" y="1315"/>
                      <a:pt x="697" y="1309"/>
                    </a:cubicBezTo>
                    <a:cubicBezTo>
                      <a:pt x="696" y="1303"/>
                      <a:pt x="674" y="1291"/>
                      <a:pt x="676" y="1288"/>
                    </a:cubicBezTo>
                    <a:cubicBezTo>
                      <a:pt x="678" y="1285"/>
                      <a:pt x="701" y="1295"/>
                      <a:pt x="709" y="1294"/>
                    </a:cubicBezTo>
                    <a:cubicBezTo>
                      <a:pt x="717" y="1293"/>
                      <a:pt x="724" y="1284"/>
                      <a:pt x="724" y="1279"/>
                    </a:cubicBezTo>
                    <a:cubicBezTo>
                      <a:pt x="724" y="1274"/>
                      <a:pt x="701" y="1268"/>
                      <a:pt x="706" y="1261"/>
                    </a:cubicBezTo>
                    <a:cubicBezTo>
                      <a:pt x="711" y="1254"/>
                      <a:pt x="744" y="1248"/>
                      <a:pt x="757" y="1237"/>
                    </a:cubicBezTo>
                    <a:cubicBezTo>
                      <a:pt x="770" y="1226"/>
                      <a:pt x="788" y="1203"/>
                      <a:pt x="784" y="1195"/>
                    </a:cubicBezTo>
                    <a:cubicBezTo>
                      <a:pt x="780" y="1187"/>
                      <a:pt x="734" y="1194"/>
                      <a:pt x="733" y="1189"/>
                    </a:cubicBezTo>
                    <a:cubicBezTo>
                      <a:pt x="732" y="1184"/>
                      <a:pt x="760" y="1176"/>
                      <a:pt x="775" y="1165"/>
                    </a:cubicBezTo>
                    <a:cubicBezTo>
                      <a:pt x="790" y="1154"/>
                      <a:pt x="819" y="1134"/>
                      <a:pt x="826" y="1123"/>
                    </a:cubicBezTo>
                    <a:cubicBezTo>
                      <a:pt x="833" y="1112"/>
                      <a:pt x="826" y="1097"/>
                      <a:pt x="814" y="1099"/>
                    </a:cubicBezTo>
                    <a:cubicBezTo>
                      <a:pt x="802" y="1101"/>
                      <a:pt x="753" y="1139"/>
                      <a:pt x="751" y="1135"/>
                    </a:cubicBezTo>
                    <a:cubicBezTo>
                      <a:pt x="749" y="1131"/>
                      <a:pt x="781" y="1097"/>
                      <a:pt x="799" y="1075"/>
                    </a:cubicBezTo>
                    <a:cubicBezTo>
                      <a:pt x="817" y="1053"/>
                      <a:pt x="853" y="1021"/>
                      <a:pt x="862" y="1003"/>
                    </a:cubicBezTo>
                    <a:cubicBezTo>
                      <a:pt x="871" y="985"/>
                      <a:pt x="865" y="965"/>
                      <a:pt x="856" y="967"/>
                    </a:cubicBezTo>
                    <a:cubicBezTo>
                      <a:pt x="847" y="969"/>
                      <a:pt x="821" y="1003"/>
                      <a:pt x="808" y="1015"/>
                    </a:cubicBezTo>
                    <a:cubicBezTo>
                      <a:pt x="795" y="1027"/>
                      <a:pt x="775" y="1037"/>
                      <a:pt x="775" y="1036"/>
                    </a:cubicBezTo>
                    <a:cubicBezTo>
                      <a:pt x="775" y="1035"/>
                      <a:pt x="791" y="1025"/>
                      <a:pt x="805" y="1009"/>
                    </a:cubicBezTo>
                    <a:cubicBezTo>
                      <a:pt x="819" y="993"/>
                      <a:pt x="841" y="967"/>
                      <a:pt x="856" y="943"/>
                    </a:cubicBezTo>
                    <a:cubicBezTo>
                      <a:pt x="871" y="919"/>
                      <a:pt x="891" y="880"/>
                      <a:pt x="895" y="865"/>
                    </a:cubicBezTo>
                    <a:cubicBezTo>
                      <a:pt x="899" y="850"/>
                      <a:pt x="874" y="863"/>
                      <a:pt x="877" y="853"/>
                    </a:cubicBezTo>
                    <a:cubicBezTo>
                      <a:pt x="880" y="843"/>
                      <a:pt x="901" y="823"/>
                      <a:pt x="913" y="805"/>
                    </a:cubicBezTo>
                    <a:cubicBezTo>
                      <a:pt x="925" y="787"/>
                      <a:pt x="944" y="764"/>
                      <a:pt x="949" y="748"/>
                    </a:cubicBezTo>
                    <a:cubicBezTo>
                      <a:pt x="954" y="732"/>
                      <a:pt x="950" y="711"/>
                      <a:pt x="943" y="709"/>
                    </a:cubicBezTo>
                    <a:cubicBezTo>
                      <a:pt x="936" y="707"/>
                      <a:pt x="903" y="744"/>
                      <a:pt x="904" y="733"/>
                    </a:cubicBezTo>
                    <a:cubicBezTo>
                      <a:pt x="905" y="722"/>
                      <a:pt x="943" y="666"/>
                      <a:pt x="952" y="640"/>
                    </a:cubicBezTo>
                    <a:cubicBezTo>
                      <a:pt x="961" y="614"/>
                      <a:pt x="964" y="582"/>
                      <a:pt x="958" y="577"/>
                    </a:cubicBezTo>
                    <a:cubicBezTo>
                      <a:pt x="952" y="572"/>
                      <a:pt x="929" y="599"/>
                      <a:pt x="916" y="610"/>
                    </a:cubicBezTo>
                    <a:cubicBezTo>
                      <a:pt x="903" y="621"/>
                      <a:pt x="881" y="648"/>
                      <a:pt x="883" y="640"/>
                    </a:cubicBezTo>
                    <a:cubicBezTo>
                      <a:pt x="885" y="632"/>
                      <a:pt x="914" y="591"/>
                      <a:pt x="925" y="562"/>
                    </a:cubicBezTo>
                    <a:cubicBezTo>
                      <a:pt x="936" y="533"/>
                      <a:pt x="946" y="488"/>
                      <a:pt x="949" y="466"/>
                    </a:cubicBezTo>
                    <a:cubicBezTo>
                      <a:pt x="952" y="444"/>
                      <a:pt x="957" y="416"/>
                      <a:pt x="943" y="427"/>
                    </a:cubicBezTo>
                    <a:cubicBezTo>
                      <a:pt x="929" y="438"/>
                      <a:pt x="889" y="493"/>
                      <a:pt x="865" y="532"/>
                    </a:cubicBezTo>
                    <a:cubicBezTo>
                      <a:pt x="877" y="499"/>
                      <a:pt x="878" y="483"/>
                      <a:pt x="886" y="454"/>
                    </a:cubicBezTo>
                    <a:cubicBezTo>
                      <a:pt x="894" y="425"/>
                      <a:pt x="911" y="375"/>
                      <a:pt x="913" y="355"/>
                    </a:cubicBezTo>
                    <a:cubicBezTo>
                      <a:pt x="915" y="335"/>
                      <a:pt x="911" y="322"/>
                      <a:pt x="901" y="331"/>
                    </a:cubicBezTo>
                    <a:cubicBezTo>
                      <a:pt x="891" y="340"/>
                      <a:pt x="864" y="386"/>
                      <a:pt x="850" y="409"/>
                    </a:cubicBezTo>
                    <a:cubicBezTo>
                      <a:pt x="836" y="432"/>
                      <a:pt x="815" y="473"/>
                      <a:pt x="814" y="469"/>
                    </a:cubicBezTo>
                    <a:cubicBezTo>
                      <a:pt x="813" y="465"/>
                      <a:pt x="837" y="416"/>
                      <a:pt x="847" y="385"/>
                    </a:cubicBezTo>
                    <a:cubicBezTo>
                      <a:pt x="857" y="354"/>
                      <a:pt x="871" y="307"/>
                      <a:pt x="874" y="283"/>
                    </a:cubicBezTo>
                    <a:cubicBezTo>
                      <a:pt x="877" y="259"/>
                      <a:pt x="886" y="222"/>
                      <a:pt x="868" y="241"/>
                    </a:cubicBezTo>
                    <a:cubicBezTo>
                      <a:pt x="850" y="260"/>
                      <a:pt x="774" y="394"/>
                      <a:pt x="766" y="394"/>
                    </a:cubicBezTo>
                    <a:cubicBezTo>
                      <a:pt x="784" y="334"/>
                      <a:pt x="805" y="297"/>
                      <a:pt x="817" y="244"/>
                    </a:cubicBezTo>
                    <a:cubicBezTo>
                      <a:pt x="829" y="191"/>
                      <a:pt x="853" y="67"/>
                      <a:pt x="838" y="76"/>
                    </a:cubicBezTo>
                    <a:cubicBezTo>
                      <a:pt x="823" y="85"/>
                      <a:pt x="748" y="241"/>
                      <a:pt x="724" y="298"/>
                    </a:cubicBezTo>
                    <a:cubicBezTo>
                      <a:pt x="748" y="223"/>
                      <a:pt x="780" y="140"/>
                      <a:pt x="790" y="91"/>
                    </a:cubicBezTo>
                    <a:cubicBezTo>
                      <a:pt x="800" y="42"/>
                      <a:pt x="797" y="0"/>
                      <a:pt x="784" y="4"/>
                    </a:cubicBezTo>
                    <a:cubicBezTo>
                      <a:pt x="771" y="8"/>
                      <a:pt x="743" y="52"/>
                      <a:pt x="709" y="118"/>
                    </a:cubicBezTo>
                    <a:cubicBezTo>
                      <a:pt x="675" y="184"/>
                      <a:pt x="615" y="312"/>
                      <a:pt x="577" y="403"/>
                    </a:cubicBezTo>
                    <a:cubicBezTo>
                      <a:pt x="539" y="494"/>
                      <a:pt x="506" y="576"/>
                      <a:pt x="481" y="661"/>
                    </a:cubicBezTo>
                    <a:cubicBezTo>
                      <a:pt x="456" y="746"/>
                      <a:pt x="443" y="830"/>
                      <a:pt x="427" y="916"/>
                    </a:cubicBezTo>
                    <a:cubicBezTo>
                      <a:pt x="411" y="1002"/>
                      <a:pt x="393" y="1118"/>
                      <a:pt x="382" y="1177"/>
                    </a:cubicBezTo>
                    <a:cubicBezTo>
                      <a:pt x="371" y="1236"/>
                      <a:pt x="364" y="1250"/>
                      <a:pt x="358" y="1273"/>
                    </a:cubicBezTo>
                    <a:cubicBezTo>
                      <a:pt x="352" y="1296"/>
                      <a:pt x="349" y="1318"/>
                      <a:pt x="346" y="1315"/>
                    </a:cubicBezTo>
                    <a:cubicBezTo>
                      <a:pt x="343" y="1312"/>
                      <a:pt x="342" y="1275"/>
                      <a:pt x="340" y="1254"/>
                    </a:cubicBezTo>
                    <a:cubicBezTo>
                      <a:pt x="291" y="1246"/>
                      <a:pt x="249" y="1238"/>
                      <a:pt x="208" y="1228"/>
                    </a:cubicBezTo>
                    <a:cubicBezTo>
                      <a:pt x="167" y="1218"/>
                      <a:pt x="122" y="1200"/>
                      <a:pt x="91" y="1195"/>
                    </a:cubicBezTo>
                    <a:cubicBezTo>
                      <a:pt x="60" y="1190"/>
                      <a:pt x="34" y="1189"/>
                      <a:pt x="19" y="1198"/>
                    </a:cubicBezTo>
                    <a:cubicBezTo>
                      <a:pt x="4" y="1207"/>
                      <a:pt x="0" y="1233"/>
                      <a:pt x="1" y="1249"/>
                    </a:cubicBezTo>
                    <a:cubicBezTo>
                      <a:pt x="2" y="1265"/>
                      <a:pt x="6" y="1282"/>
                      <a:pt x="25" y="1294"/>
                    </a:cubicBezTo>
                    <a:cubicBezTo>
                      <a:pt x="44" y="1306"/>
                      <a:pt x="87" y="1306"/>
                      <a:pt x="115" y="1321"/>
                    </a:cubicBezTo>
                    <a:cubicBezTo>
                      <a:pt x="143" y="1336"/>
                      <a:pt x="173" y="1367"/>
                      <a:pt x="193" y="1387"/>
                    </a:cubicBezTo>
                    <a:cubicBezTo>
                      <a:pt x="213" y="1407"/>
                      <a:pt x="230" y="1439"/>
                      <a:pt x="238" y="1444"/>
                    </a:cubicBezTo>
                    <a:cubicBezTo>
                      <a:pt x="246" y="1449"/>
                      <a:pt x="237" y="1431"/>
                      <a:pt x="241" y="1417"/>
                    </a:cubicBezTo>
                    <a:cubicBezTo>
                      <a:pt x="245" y="1403"/>
                      <a:pt x="260" y="1357"/>
                      <a:pt x="265" y="1357"/>
                    </a:cubicBezTo>
                    <a:cubicBezTo>
                      <a:pt x="270" y="1357"/>
                      <a:pt x="270" y="1400"/>
                      <a:pt x="274" y="1420"/>
                    </a:cubicBezTo>
                    <a:cubicBezTo>
                      <a:pt x="278" y="1440"/>
                      <a:pt x="265" y="1447"/>
                      <a:pt x="286" y="1477"/>
                    </a:cubicBezTo>
                    <a:cubicBezTo>
                      <a:pt x="307" y="1507"/>
                      <a:pt x="352" y="1561"/>
                      <a:pt x="400" y="1600"/>
                    </a:cubicBezTo>
                    <a:cubicBezTo>
                      <a:pt x="448" y="1639"/>
                      <a:pt x="531" y="1684"/>
                      <a:pt x="577" y="1711"/>
                    </a:cubicBezTo>
                    <a:cubicBezTo>
                      <a:pt x="623" y="1738"/>
                      <a:pt x="656" y="1748"/>
                      <a:pt x="679" y="1762"/>
                    </a:cubicBezTo>
                    <a:cubicBezTo>
                      <a:pt x="702" y="1776"/>
                      <a:pt x="696" y="1788"/>
                      <a:pt x="715" y="1798"/>
                    </a:cubicBezTo>
                    <a:cubicBezTo>
                      <a:pt x="734" y="1808"/>
                      <a:pt x="770" y="1818"/>
                      <a:pt x="793" y="1822"/>
                    </a:cubicBezTo>
                    <a:cubicBezTo>
                      <a:pt x="816" y="1826"/>
                      <a:pt x="851" y="1821"/>
                      <a:pt x="856" y="1825"/>
                    </a:cubicBezTo>
                    <a:cubicBezTo>
                      <a:pt x="861" y="1829"/>
                      <a:pt x="836" y="1839"/>
                      <a:pt x="826" y="1846"/>
                    </a:cubicBezTo>
                    <a:cubicBezTo>
                      <a:pt x="816" y="1853"/>
                      <a:pt x="792" y="1854"/>
                      <a:pt x="796" y="1867"/>
                    </a:cubicBezTo>
                    <a:cubicBezTo>
                      <a:pt x="800" y="1880"/>
                      <a:pt x="819" y="1891"/>
                      <a:pt x="850" y="1924"/>
                    </a:cubicBezTo>
                    <a:cubicBezTo>
                      <a:pt x="881" y="1957"/>
                      <a:pt x="948" y="2032"/>
                      <a:pt x="979" y="2062"/>
                    </a:cubicBezTo>
                    <a:cubicBezTo>
                      <a:pt x="1010" y="2092"/>
                      <a:pt x="1022" y="2098"/>
                      <a:pt x="1036" y="2107"/>
                    </a:cubicBezTo>
                    <a:cubicBezTo>
                      <a:pt x="1050" y="2116"/>
                      <a:pt x="1055" y="2116"/>
                      <a:pt x="1063" y="2116"/>
                    </a:cubicBezTo>
                    <a:cubicBezTo>
                      <a:pt x="1071" y="2116"/>
                      <a:pt x="1075" y="2117"/>
                      <a:pt x="1084" y="2107"/>
                    </a:cubicBezTo>
                    <a:cubicBezTo>
                      <a:pt x="1071" y="2091"/>
                      <a:pt x="989" y="2016"/>
                      <a:pt x="988" y="2017"/>
                    </a:cubicBezTo>
                    <a:cubicBezTo>
                      <a:pt x="987" y="2018"/>
                      <a:pt x="1069" y="2091"/>
                      <a:pt x="1093" y="2101"/>
                    </a:cubicBezTo>
                    <a:cubicBezTo>
                      <a:pt x="1107" y="2085"/>
                      <a:pt x="1111" y="2091"/>
                      <a:pt x="1132" y="2077"/>
                    </a:cubicBezTo>
                    <a:cubicBezTo>
                      <a:pt x="1103" y="2063"/>
                      <a:pt x="1034" y="2011"/>
                      <a:pt x="1036" y="2011"/>
                    </a:cubicBezTo>
                    <a:cubicBezTo>
                      <a:pt x="1038" y="2011"/>
                      <a:pt x="1113" y="2059"/>
                      <a:pt x="1147" y="2080"/>
                    </a:cubicBezTo>
                    <a:cubicBezTo>
                      <a:pt x="1185" y="2079"/>
                      <a:pt x="1203" y="2071"/>
                      <a:pt x="1246" y="2068"/>
                    </a:cubicBezTo>
                    <a:cubicBezTo>
                      <a:pt x="1227" y="2045"/>
                      <a:pt x="1120" y="1968"/>
                      <a:pt x="1123" y="1966"/>
                    </a:cubicBezTo>
                    <a:cubicBezTo>
                      <a:pt x="1126" y="1964"/>
                      <a:pt x="1236" y="2047"/>
                      <a:pt x="1261" y="2056"/>
                    </a:cubicBezTo>
                    <a:cubicBezTo>
                      <a:pt x="1269" y="2045"/>
                      <a:pt x="1273" y="2041"/>
                      <a:pt x="1276" y="2026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13399920" y="4397040"/>
                <a:ext cx="590400" cy="1522440"/>
                <a:chOff x="13399920" y="4397040"/>
                <a:chExt cx="590400" cy="1522440"/>
              </a:xfrm>
            </p:grpSpPr>
            <p:sp>
              <p:nvSpPr>
                <p:cNvPr id="113" name="Freeform 74"/>
                <p:cNvSpPr/>
                <p:nvPr/>
              </p:nvSpPr>
              <p:spPr>
                <a:xfrm>
                  <a:off x="13399920" y="4397040"/>
                  <a:ext cx="590400" cy="1522440"/>
                </a:xfrm>
                <a:custGeom>
                  <a:avLst/>
                  <a:gdLst>
                    <a:gd name="textAreaLeft" fmla="*/ 0 w 590400"/>
                    <a:gd name="textAreaRight" fmla="*/ 590760 w 590400"/>
                    <a:gd name="textAreaTop" fmla="*/ 0 h 1522440"/>
                    <a:gd name="textAreaBottom" fmla="*/ 1522800 h 1522440"/>
                  </a:gdLst>
                  <a:ahLst/>
                  <a:rect l="textAreaLeft" t="textAreaTop" r="textAreaRight" b="textAreaBottom"/>
                  <a:pathLst>
                    <a:path w="372" h="959">
                      <a:moveTo>
                        <a:pt x="187" y="954"/>
                      </a:moveTo>
                      <a:cubicBezTo>
                        <a:pt x="170" y="959"/>
                        <a:pt x="117" y="945"/>
                        <a:pt x="91" y="936"/>
                      </a:cubicBezTo>
                      <a:cubicBezTo>
                        <a:pt x="65" y="927"/>
                        <a:pt x="43" y="912"/>
                        <a:pt x="28" y="900"/>
                      </a:cubicBezTo>
                      <a:cubicBezTo>
                        <a:pt x="13" y="888"/>
                        <a:pt x="0" y="881"/>
                        <a:pt x="1" y="867"/>
                      </a:cubicBezTo>
                      <a:cubicBezTo>
                        <a:pt x="2" y="853"/>
                        <a:pt x="24" y="849"/>
                        <a:pt x="34" y="816"/>
                      </a:cubicBezTo>
                      <a:cubicBezTo>
                        <a:pt x="44" y="783"/>
                        <a:pt x="58" y="734"/>
                        <a:pt x="64" y="669"/>
                      </a:cubicBezTo>
                      <a:cubicBezTo>
                        <a:pt x="70" y="604"/>
                        <a:pt x="40" y="533"/>
                        <a:pt x="73" y="423"/>
                      </a:cubicBezTo>
                      <a:cubicBezTo>
                        <a:pt x="106" y="313"/>
                        <a:pt x="244" y="0"/>
                        <a:pt x="265" y="6"/>
                      </a:cubicBezTo>
                      <a:cubicBezTo>
                        <a:pt x="286" y="12"/>
                        <a:pt x="257" y="141"/>
                        <a:pt x="265" y="162"/>
                      </a:cubicBezTo>
                      <a:cubicBezTo>
                        <a:pt x="273" y="183"/>
                        <a:pt x="307" y="118"/>
                        <a:pt x="316" y="132"/>
                      </a:cubicBezTo>
                      <a:cubicBezTo>
                        <a:pt x="325" y="146"/>
                        <a:pt x="311" y="234"/>
                        <a:pt x="319" y="249"/>
                      </a:cubicBezTo>
                      <a:cubicBezTo>
                        <a:pt x="327" y="264"/>
                        <a:pt x="359" y="205"/>
                        <a:pt x="361" y="225"/>
                      </a:cubicBezTo>
                      <a:cubicBezTo>
                        <a:pt x="363" y="245"/>
                        <a:pt x="329" y="348"/>
                        <a:pt x="331" y="369"/>
                      </a:cubicBezTo>
                      <a:cubicBezTo>
                        <a:pt x="333" y="390"/>
                        <a:pt x="368" y="327"/>
                        <a:pt x="370" y="351"/>
                      </a:cubicBezTo>
                      <a:cubicBezTo>
                        <a:pt x="372" y="375"/>
                        <a:pt x="359" y="466"/>
                        <a:pt x="343" y="516"/>
                      </a:cubicBezTo>
                      <a:cubicBezTo>
                        <a:pt x="327" y="566"/>
                        <a:pt x="282" y="627"/>
                        <a:pt x="277" y="648"/>
                      </a:cubicBezTo>
                      <a:cubicBezTo>
                        <a:pt x="272" y="669"/>
                        <a:pt x="304" y="627"/>
                        <a:pt x="313" y="642"/>
                      </a:cubicBezTo>
                      <a:cubicBezTo>
                        <a:pt x="322" y="657"/>
                        <a:pt x="254" y="721"/>
                        <a:pt x="247" y="741"/>
                      </a:cubicBezTo>
                      <a:cubicBezTo>
                        <a:pt x="240" y="761"/>
                        <a:pt x="290" y="734"/>
                        <a:pt x="271" y="762"/>
                      </a:cubicBezTo>
                      <a:cubicBezTo>
                        <a:pt x="252" y="790"/>
                        <a:pt x="142" y="888"/>
                        <a:pt x="130" y="912"/>
                      </a:cubicBezTo>
                      <a:cubicBezTo>
                        <a:pt x="118" y="936"/>
                        <a:pt x="187" y="900"/>
                        <a:pt x="196" y="906"/>
                      </a:cubicBezTo>
                      <a:cubicBezTo>
                        <a:pt x="193" y="936"/>
                        <a:pt x="204" y="949"/>
                        <a:pt x="187" y="954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75"/>
                <p:cNvSpPr/>
                <p:nvPr/>
              </p:nvSpPr>
              <p:spPr>
                <a:xfrm>
                  <a:off x="13669920" y="4808160"/>
                  <a:ext cx="191880" cy="70344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703440"/>
                    <a:gd name="textAreaBottom" fmla="*/ 703800 h 703440"/>
                  </a:gdLst>
                  <a:ahLst/>
                  <a:rect l="textAreaLeft" t="textAreaTop" r="textAreaRight" b="textAreaBottom"/>
                  <a:pathLst>
                    <a:path w="121" h="443">
                      <a:moveTo>
                        <a:pt x="68" y="2"/>
                      </a:moveTo>
                      <a:cubicBezTo>
                        <a:pt x="72" y="0"/>
                        <a:pt x="76" y="32"/>
                        <a:pt x="74" y="50"/>
                      </a:cubicBezTo>
                      <a:cubicBezTo>
                        <a:pt x="72" y="68"/>
                        <a:pt x="65" y="95"/>
                        <a:pt x="56" y="110"/>
                      </a:cubicBezTo>
                      <a:cubicBezTo>
                        <a:pt x="74" y="107"/>
                        <a:pt x="88" y="91"/>
                        <a:pt x="95" y="101"/>
                      </a:cubicBezTo>
                      <a:cubicBezTo>
                        <a:pt x="102" y="111"/>
                        <a:pt x="101" y="145"/>
                        <a:pt x="98" y="170"/>
                      </a:cubicBezTo>
                      <a:cubicBezTo>
                        <a:pt x="95" y="195"/>
                        <a:pt x="92" y="224"/>
                        <a:pt x="74" y="251"/>
                      </a:cubicBezTo>
                      <a:cubicBezTo>
                        <a:pt x="89" y="248"/>
                        <a:pt x="111" y="226"/>
                        <a:pt x="116" y="233"/>
                      </a:cubicBezTo>
                      <a:cubicBezTo>
                        <a:pt x="121" y="240"/>
                        <a:pt x="109" y="277"/>
                        <a:pt x="104" y="293"/>
                      </a:cubicBezTo>
                      <a:cubicBezTo>
                        <a:pt x="99" y="309"/>
                        <a:pt x="84" y="322"/>
                        <a:pt x="83" y="332"/>
                      </a:cubicBezTo>
                      <a:cubicBezTo>
                        <a:pt x="82" y="342"/>
                        <a:pt x="102" y="343"/>
                        <a:pt x="98" y="356"/>
                      </a:cubicBezTo>
                      <a:cubicBezTo>
                        <a:pt x="94" y="369"/>
                        <a:pt x="73" y="397"/>
                        <a:pt x="59" y="410"/>
                      </a:cubicBezTo>
                      <a:cubicBezTo>
                        <a:pt x="45" y="423"/>
                        <a:pt x="14" y="443"/>
                        <a:pt x="14" y="437"/>
                      </a:cubicBezTo>
                      <a:cubicBezTo>
                        <a:pt x="14" y="431"/>
                        <a:pt x="54" y="389"/>
                        <a:pt x="56" y="371"/>
                      </a:cubicBezTo>
                      <a:cubicBezTo>
                        <a:pt x="58" y="353"/>
                        <a:pt x="30" y="351"/>
                        <a:pt x="26" y="326"/>
                      </a:cubicBezTo>
                      <a:cubicBezTo>
                        <a:pt x="22" y="301"/>
                        <a:pt x="36" y="248"/>
                        <a:pt x="32" y="221"/>
                      </a:cubicBezTo>
                      <a:cubicBezTo>
                        <a:pt x="28" y="194"/>
                        <a:pt x="0" y="187"/>
                        <a:pt x="2" y="161"/>
                      </a:cubicBezTo>
                      <a:cubicBezTo>
                        <a:pt x="4" y="135"/>
                        <a:pt x="36" y="89"/>
                        <a:pt x="47" y="62"/>
                      </a:cubicBezTo>
                      <a:cubicBezTo>
                        <a:pt x="58" y="35"/>
                        <a:pt x="64" y="4"/>
                        <a:pt x="68" y="2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76"/>
                <p:cNvSpPr/>
                <p:nvPr/>
              </p:nvSpPr>
              <p:spPr>
                <a:xfrm>
                  <a:off x="13512600" y="5576400"/>
                  <a:ext cx="209520" cy="19224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32" h="121">
                      <a:moveTo>
                        <a:pt x="110" y="1"/>
                      </a:moveTo>
                      <a:cubicBezTo>
                        <a:pt x="115" y="2"/>
                        <a:pt x="132" y="20"/>
                        <a:pt x="131" y="28"/>
                      </a:cubicBezTo>
                      <a:cubicBezTo>
                        <a:pt x="130" y="36"/>
                        <a:pt x="104" y="40"/>
                        <a:pt x="101" y="49"/>
                      </a:cubicBezTo>
                      <a:cubicBezTo>
                        <a:pt x="98" y="58"/>
                        <a:pt x="120" y="71"/>
                        <a:pt x="113" y="82"/>
                      </a:cubicBezTo>
                      <a:cubicBezTo>
                        <a:pt x="106" y="93"/>
                        <a:pt x="80" y="109"/>
                        <a:pt x="62" y="115"/>
                      </a:cubicBezTo>
                      <a:cubicBezTo>
                        <a:pt x="44" y="121"/>
                        <a:pt x="4" y="119"/>
                        <a:pt x="2" y="118"/>
                      </a:cubicBezTo>
                      <a:cubicBezTo>
                        <a:pt x="0" y="117"/>
                        <a:pt x="37" y="111"/>
                        <a:pt x="50" y="106"/>
                      </a:cubicBezTo>
                      <a:cubicBezTo>
                        <a:pt x="63" y="101"/>
                        <a:pt x="82" y="95"/>
                        <a:pt x="83" y="85"/>
                      </a:cubicBezTo>
                      <a:cubicBezTo>
                        <a:pt x="84" y="75"/>
                        <a:pt x="57" y="57"/>
                        <a:pt x="59" y="46"/>
                      </a:cubicBezTo>
                      <a:cubicBezTo>
                        <a:pt x="61" y="35"/>
                        <a:pt x="90" y="28"/>
                        <a:pt x="98" y="19"/>
                      </a:cubicBezTo>
                      <a:cubicBezTo>
                        <a:pt x="106" y="10"/>
                        <a:pt x="105" y="0"/>
                        <a:pt x="110" y="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Oval 77"/>
              <p:cNvSpPr/>
              <p:nvPr/>
            </p:nvSpPr>
            <p:spPr>
              <a:xfrm>
                <a:off x="12774600" y="5597280"/>
                <a:ext cx="17280" cy="172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Rectangle 78"/>
            <p:cNvSpPr/>
            <p:nvPr/>
          </p:nvSpPr>
          <p:spPr>
            <a:xfrm>
              <a:off x="12039480" y="3543480"/>
              <a:ext cx="3105000" cy="39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039480" y="3543480"/>
            <a:ext cx="3105000" cy="3924000"/>
            <a:chOff x="12039480" y="3543480"/>
            <a:chExt cx="3105000" cy="3924000"/>
          </a:xfrm>
        </p:grpSpPr>
        <p:grpSp>
          <p:nvGrpSpPr>
            <p:cNvPr id="119" name=""/>
            <p:cNvGrpSpPr/>
            <p:nvPr/>
          </p:nvGrpSpPr>
          <p:grpSpPr>
            <a:xfrm>
              <a:off x="12538080" y="5538600"/>
              <a:ext cx="2244600" cy="1491480"/>
              <a:chOff x="12538080" y="5538600"/>
              <a:chExt cx="2244600" cy="149148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13569840" y="5924160"/>
                <a:ext cx="750600" cy="783360"/>
                <a:chOff x="13569840" y="5924160"/>
                <a:chExt cx="750600" cy="783360"/>
              </a:xfrm>
            </p:grpSpPr>
            <p:sp>
              <p:nvSpPr>
                <p:cNvPr id="121" name="Freeform 82"/>
                <p:cNvSpPr/>
                <p:nvPr/>
              </p:nvSpPr>
              <p:spPr>
                <a:xfrm>
                  <a:off x="13613400" y="6008040"/>
                  <a:ext cx="707040" cy="699480"/>
                </a:xfrm>
                <a:custGeom>
                  <a:avLst/>
                  <a:gdLst>
                    <a:gd name="textAreaLeft" fmla="*/ 0 w 707040"/>
                    <a:gd name="textAreaRight" fmla="*/ 707400 w 707040"/>
                    <a:gd name="textAreaTop" fmla="*/ 0 h 699480"/>
                    <a:gd name="textAreaBottom" fmla="*/ 699840 h 699480"/>
                  </a:gdLst>
                  <a:ahLst/>
                  <a:rect l="textAreaLeft" t="textAreaTop" r="textAreaRight" b="textAreaBottom"/>
                  <a:pathLst>
                    <a:path w="370" h="367">
                      <a:moveTo>
                        <a:pt x="296" y="20"/>
                      </a:moveTo>
                      <a:cubicBezTo>
                        <a:pt x="311" y="28"/>
                        <a:pt x="321" y="33"/>
                        <a:pt x="333" y="48"/>
                      </a:cubicBezTo>
                      <a:cubicBezTo>
                        <a:pt x="345" y="63"/>
                        <a:pt x="362" y="92"/>
                        <a:pt x="366" y="113"/>
                      </a:cubicBezTo>
                      <a:cubicBezTo>
                        <a:pt x="370" y="134"/>
                        <a:pt x="359" y="169"/>
                        <a:pt x="355" y="177"/>
                      </a:cubicBezTo>
                      <a:cubicBezTo>
                        <a:pt x="351" y="185"/>
                        <a:pt x="342" y="155"/>
                        <a:pt x="340" y="159"/>
                      </a:cubicBezTo>
                      <a:cubicBezTo>
                        <a:pt x="338" y="163"/>
                        <a:pt x="343" y="185"/>
                        <a:pt x="342" y="204"/>
                      </a:cubicBezTo>
                      <a:cubicBezTo>
                        <a:pt x="341" y="223"/>
                        <a:pt x="339" y="271"/>
                        <a:pt x="334" y="276"/>
                      </a:cubicBezTo>
                      <a:cubicBezTo>
                        <a:pt x="329" y="281"/>
                        <a:pt x="317" y="239"/>
                        <a:pt x="314" y="237"/>
                      </a:cubicBezTo>
                      <a:cubicBezTo>
                        <a:pt x="311" y="235"/>
                        <a:pt x="316" y="246"/>
                        <a:pt x="317" y="264"/>
                      </a:cubicBezTo>
                      <a:cubicBezTo>
                        <a:pt x="318" y="282"/>
                        <a:pt x="324" y="342"/>
                        <a:pt x="320" y="348"/>
                      </a:cubicBezTo>
                      <a:cubicBezTo>
                        <a:pt x="316" y="354"/>
                        <a:pt x="300" y="305"/>
                        <a:pt x="295" y="299"/>
                      </a:cubicBezTo>
                      <a:cubicBezTo>
                        <a:pt x="290" y="293"/>
                        <a:pt x="294" y="304"/>
                        <a:pt x="292" y="315"/>
                      </a:cubicBezTo>
                      <a:cubicBezTo>
                        <a:pt x="290" y="326"/>
                        <a:pt x="290" y="367"/>
                        <a:pt x="283" y="366"/>
                      </a:cubicBezTo>
                      <a:cubicBezTo>
                        <a:pt x="276" y="365"/>
                        <a:pt x="273" y="335"/>
                        <a:pt x="247" y="308"/>
                      </a:cubicBezTo>
                      <a:cubicBezTo>
                        <a:pt x="221" y="281"/>
                        <a:pt x="165" y="238"/>
                        <a:pt x="127" y="206"/>
                      </a:cubicBezTo>
                      <a:cubicBezTo>
                        <a:pt x="89" y="174"/>
                        <a:pt x="34" y="138"/>
                        <a:pt x="17" y="117"/>
                      </a:cubicBezTo>
                      <a:cubicBezTo>
                        <a:pt x="0" y="96"/>
                        <a:pt x="11" y="93"/>
                        <a:pt x="26" y="77"/>
                      </a:cubicBezTo>
                      <a:cubicBezTo>
                        <a:pt x="41" y="61"/>
                        <a:pt x="69" y="36"/>
                        <a:pt x="106" y="23"/>
                      </a:cubicBezTo>
                      <a:cubicBezTo>
                        <a:pt x="143" y="10"/>
                        <a:pt x="213" y="0"/>
                        <a:pt x="245" y="0"/>
                      </a:cubicBezTo>
                      <a:cubicBezTo>
                        <a:pt x="277" y="0"/>
                        <a:pt x="281" y="12"/>
                        <a:pt x="296" y="2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83"/>
                <p:cNvSpPr/>
                <p:nvPr/>
              </p:nvSpPr>
              <p:spPr>
                <a:xfrm>
                  <a:off x="13823640" y="6034680"/>
                  <a:ext cx="401400" cy="29736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210" h="156">
                      <a:moveTo>
                        <a:pt x="32" y="78"/>
                      </a:moveTo>
                      <a:cubicBezTo>
                        <a:pt x="50" y="83"/>
                        <a:pt x="97" y="59"/>
                        <a:pt x="116" y="61"/>
                      </a:cubicBezTo>
                      <a:cubicBezTo>
                        <a:pt x="135" y="63"/>
                        <a:pt x="141" y="75"/>
                        <a:pt x="147" y="90"/>
                      </a:cubicBezTo>
                      <a:cubicBezTo>
                        <a:pt x="153" y="105"/>
                        <a:pt x="150" y="150"/>
                        <a:pt x="153" y="153"/>
                      </a:cubicBezTo>
                      <a:cubicBezTo>
                        <a:pt x="156" y="156"/>
                        <a:pt x="160" y="126"/>
                        <a:pt x="164" y="108"/>
                      </a:cubicBezTo>
                      <a:cubicBezTo>
                        <a:pt x="168" y="90"/>
                        <a:pt x="174" y="57"/>
                        <a:pt x="179" y="43"/>
                      </a:cubicBezTo>
                      <a:cubicBezTo>
                        <a:pt x="184" y="29"/>
                        <a:pt x="210" y="29"/>
                        <a:pt x="195" y="22"/>
                      </a:cubicBezTo>
                      <a:cubicBezTo>
                        <a:pt x="180" y="15"/>
                        <a:pt x="118" y="0"/>
                        <a:pt x="87" y="1"/>
                      </a:cubicBezTo>
                      <a:cubicBezTo>
                        <a:pt x="56" y="2"/>
                        <a:pt x="18" y="14"/>
                        <a:pt x="9" y="28"/>
                      </a:cubicBezTo>
                      <a:cubicBezTo>
                        <a:pt x="0" y="42"/>
                        <a:pt x="14" y="73"/>
                        <a:pt x="32" y="78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84"/>
                <p:cNvSpPr/>
                <p:nvPr/>
              </p:nvSpPr>
              <p:spPr>
                <a:xfrm>
                  <a:off x="13569840" y="5971680"/>
                  <a:ext cx="681840" cy="179280"/>
                </a:xfrm>
                <a:custGeom>
                  <a:avLst/>
                  <a:gdLst>
                    <a:gd name="textAreaLeft" fmla="*/ 0 w 681840"/>
                    <a:gd name="textAreaRight" fmla="*/ 682200 w 6818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57" h="94">
                      <a:moveTo>
                        <a:pt x="27" y="46"/>
                      </a:moveTo>
                      <a:cubicBezTo>
                        <a:pt x="40" y="57"/>
                        <a:pt x="55" y="80"/>
                        <a:pt x="88" y="87"/>
                      </a:cubicBezTo>
                      <a:cubicBezTo>
                        <a:pt x="121" y="94"/>
                        <a:pt x="188" y="90"/>
                        <a:pt x="225" y="85"/>
                      </a:cubicBezTo>
                      <a:cubicBezTo>
                        <a:pt x="262" y="80"/>
                        <a:pt x="291" y="61"/>
                        <a:pt x="312" y="58"/>
                      </a:cubicBezTo>
                      <a:cubicBezTo>
                        <a:pt x="333" y="55"/>
                        <a:pt x="351" y="71"/>
                        <a:pt x="354" y="69"/>
                      </a:cubicBezTo>
                      <a:cubicBezTo>
                        <a:pt x="357" y="67"/>
                        <a:pt x="351" y="53"/>
                        <a:pt x="333" y="43"/>
                      </a:cubicBezTo>
                      <a:cubicBezTo>
                        <a:pt x="315" y="33"/>
                        <a:pt x="284" y="14"/>
                        <a:pt x="246" y="7"/>
                      </a:cubicBezTo>
                      <a:cubicBezTo>
                        <a:pt x="208" y="0"/>
                        <a:pt x="142" y="1"/>
                        <a:pt x="103" y="3"/>
                      </a:cubicBezTo>
                      <a:cubicBezTo>
                        <a:pt x="64" y="5"/>
                        <a:pt x="24" y="15"/>
                        <a:pt x="12" y="21"/>
                      </a:cubicBezTo>
                      <a:cubicBezTo>
                        <a:pt x="0" y="27"/>
                        <a:pt x="14" y="35"/>
                        <a:pt x="27" y="46"/>
                      </a:cubicBezTo>
                      <a:close/>
                    </a:path>
                  </a:pathLst>
                </a:custGeom>
                <a:solidFill>
                  <a:srgbClr val="d2d9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85"/>
                <p:cNvSpPr/>
                <p:nvPr/>
              </p:nvSpPr>
              <p:spPr>
                <a:xfrm>
                  <a:off x="13634640" y="5924160"/>
                  <a:ext cx="605520" cy="171360"/>
                </a:xfrm>
                <a:custGeom>
                  <a:avLst/>
                  <a:gdLst>
                    <a:gd name="textAreaLeft" fmla="*/ 0 w 605520"/>
                    <a:gd name="textAreaRight" fmla="*/ 605880 w 60552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317" h="90">
                      <a:moveTo>
                        <a:pt x="20" y="5"/>
                      </a:moveTo>
                      <a:cubicBezTo>
                        <a:pt x="40" y="2"/>
                        <a:pt x="115" y="0"/>
                        <a:pt x="147" y="2"/>
                      </a:cubicBezTo>
                      <a:cubicBezTo>
                        <a:pt x="179" y="4"/>
                        <a:pt x="189" y="9"/>
                        <a:pt x="215" y="19"/>
                      </a:cubicBezTo>
                      <a:cubicBezTo>
                        <a:pt x="241" y="29"/>
                        <a:pt x="283" y="51"/>
                        <a:pt x="300" y="62"/>
                      </a:cubicBezTo>
                      <a:cubicBezTo>
                        <a:pt x="317" y="73"/>
                        <a:pt x="317" y="86"/>
                        <a:pt x="317" y="88"/>
                      </a:cubicBezTo>
                      <a:cubicBezTo>
                        <a:pt x="317" y="90"/>
                        <a:pt x="312" y="79"/>
                        <a:pt x="302" y="77"/>
                      </a:cubicBezTo>
                      <a:cubicBezTo>
                        <a:pt x="292" y="75"/>
                        <a:pt x="276" y="71"/>
                        <a:pt x="258" y="73"/>
                      </a:cubicBezTo>
                      <a:cubicBezTo>
                        <a:pt x="240" y="75"/>
                        <a:pt x="216" y="89"/>
                        <a:pt x="191" y="88"/>
                      </a:cubicBezTo>
                      <a:cubicBezTo>
                        <a:pt x="166" y="87"/>
                        <a:pt x="134" y="75"/>
                        <a:pt x="107" y="64"/>
                      </a:cubicBezTo>
                      <a:cubicBezTo>
                        <a:pt x="80" y="53"/>
                        <a:pt x="40" y="29"/>
                        <a:pt x="26" y="20"/>
                      </a:cubicBezTo>
                      <a:cubicBezTo>
                        <a:pt x="12" y="11"/>
                        <a:pt x="0" y="8"/>
                        <a:pt x="2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2663360" y="5538600"/>
                <a:ext cx="2119320" cy="1491480"/>
                <a:chOff x="12663360" y="5538600"/>
                <a:chExt cx="2119320" cy="149148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12663360" y="5552640"/>
                  <a:ext cx="241200" cy="134280"/>
                  <a:chOff x="12663360" y="5552640"/>
                  <a:chExt cx="241200" cy="134280"/>
                </a:xfrm>
              </p:grpSpPr>
              <p:sp>
                <p:nvSpPr>
                  <p:cNvPr id="127" name="Freeform 88"/>
                  <p:cNvSpPr/>
                  <p:nvPr/>
                </p:nvSpPr>
                <p:spPr>
                  <a:xfrm>
                    <a:off x="12696840" y="5552640"/>
                    <a:ext cx="207720" cy="132840"/>
                  </a:xfrm>
                  <a:custGeom>
                    <a:avLst/>
                    <a:gdLst>
                      <a:gd name="textAreaLeft" fmla="*/ 0 w 207720"/>
                      <a:gd name="textAreaRight" fmla="*/ 208080 w 207720"/>
                      <a:gd name="textAreaTop" fmla="*/ 0 h 132840"/>
                      <a:gd name="textAreaBottom" fmla="*/ 133200 h 132840"/>
                    </a:gdLst>
                    <a:ahLst/>
                    <a:rect l="textAreaLeft" t="textAreaTop" r="textAreaRight" b="textAreaBottom"/>
                    <a:pathLst>
                      <a:path w="131" h="84">
                        <a:moveTo>
                          <a:pt x="107" y="81"/>
                        </a:moveTo>
                        <a:cubicBezTo>
                          <a:pt x="91" y="78"/>
                          <a:pt x="46" y="44"/>
                          <a:pt x="29" y="35"/>
                        </a:cubicBezTo>
                        <a:cubicBezTo>
                          <a:pt x="12" y="26"/>
                          <a:pt x="0" y="32"/>
                          <a:pt x="2" y="27"/>
                        </a:cubicBezTo>
                        <a:cubicBezTo>
                          <a:pt x="4" y="22"/>
                          <a:pt x="27" y="9"/>
                          <a:pt x="41" y="6"/>
                        </a:cubicBezTo>
                        <a:cubicBezTo>
                          <a:pt x="55" y="3"/>
                          <a:pt x="70" y="0"/>
                          <a:pt x="84" y="8"/>
                        </a:cubicBezTo>
                        <a:cubicBezTo>
                          <a:pt x="98" y="16"/>
                          <a:pt x="125" y="42"/>
                          <a:pt x="128" y="54"/>
                        </a:cubicBezTo>
                        <a:cubicBezTo>
                          <a:pt x="131" y="66"/>
                          <a:pt x="123" y="84"/>
                          <a:pt x="107" y="81"/>
                        </a:cubicBezTo>
                        <a:close/>
                      </a:path>
                    </a:pathLst>
                  </a:custGeom>
                  <a:solidFill>
                    <a:srgbClr val="91a9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89"/>
                  <p:cNvSpPr/>
                  <p:nvPr/>
                </p:nvSpPr>
                <p:spPr>
                  <a:xfrm>
                    <a:off x="12663360" y="5564880"/>
                    <a:ext cx="227160" cy="106200"/>
                  </a:xfrm>
                  <a:custGeom>
                    <a:avLst/>
                    <a:gdLst>
                      <a:gd name="textAreaLeft" fmla="*/ 0 w 227160"/>
                      <a:gd name="textAreaRight" fmla="*/ 227160 w 22716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43" h="67">
                        <a:moveTo>
                          <a:pt x="110" y="4"/>
                        </a:moveTo>
                        <a:cubicBezTo>
                          <a:pt x="99" y="3"/>
                          <a:pt x="56" y="11"/>
                          <a:pt x="47" y="10"/>
                        </a:cubicBezTo>
                        <a:cubicBezTo>
                          <a:pt x="38" y="9"/>
                          <a:pt x="59" y="0"/>
                          <a:pt x="54" y="1"/>
                        </a:cubicBezTo>
                        <a:cubicBezTo>
                          <a:pt x="49" y="2"/>
                          <a:pt x="27" y="12"/>
                          <a:pt x="18" y="16"/>
                        </a:cubicBezTo>
                        <a:cubicBezTo>
                          <a:pt x="9" y="20"/>
                          <a:pt x="0" y="24"/>
                          <a:pt x="2" y="28"/>
                        </a:cubicBezTo>
                        <a:cubicBezTo>
                          <a:pt x="4" y="32"/>
                          <a:pt x="18" y="35"/>
                          <a:pt x="30" y="40"/>
                        </a:cubicBezTo>
                        <a:cubicBezTo>
                          <a:pt x="42" y="45"/>
                          <a:pt x="59" y="57"/>
                          <a:pt x="77" y="60"/>
                        </a:cubicBezTo>
                        <a:cubicBezTo>
                          <a:pt x="95" y="63"/>
                          <a:pt x="131" y="67"/>
                          <a:pt x="137" y="60"/>
                        </a:cubicBezTo>
                        <a:cubicBezTo>
                          <a:pt x="143" y="53"/>
                          <a:pt x="115" y="27"/>
                          <a:pt x="111" y="18"/>
                        </a:cubicBezTo>
                        <a:cubicBezTo>
                          <a:pt x="107" y="9"/>
                          <a:pt x="121" y="5"/>
                          <a:pt x="110" y="4"/>
                        </a:cubicBezTo>
                        <a:close/>
                      </a:path>
                    </a:pathLst>
                  </a:custGeom>
                  <a:solidFill>
                    <a:srgbClr val="506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>
                    <a:off x="12666600" y="5598360"/>
                    <a:ext cx="216000" cy="8856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0 h 88560"/>
                      <a:gd name="textAreaBottom" fmla="*/ 88920 h 88560"/>
                    </a:gdLst>
                    <a:ahLst/>
                    <a:rect l="textAreaLeft" t="textAreaTop" r="textAreaRight" b="textAreaBottom"/>
                    <a:pathLst>
                      <a:path w="136" h="56">
                        <a:moveTo>
                          <a:pt x="103" y="55"/>
                        </a:moveTo>
                        <a:cubicBezTo>
                          <a:pt x="90" y="56"/>
                          <a:pt x="66" y="40"/>
                          <a:pt x="52" y="34"/>
                        </a:cubicBezTo>
                        <a:cubicBezTo>
                          <a:pt x="38" y="28"/>
                          <a:pt x="16" y="17"/>
                          <a:pt x="16" y="16"/>
                        </a:cubicBezTo>
                        <a:cubicBezTo>
                          <a:pt x="16" y="15"/>
                          <a:pt x="39" y="24"/>
                          <a:pt x="52" y="25"/>
                        </a:cubicBezTo>
                        <a:cubicBezTo>
                          <a:pt x="65" y="26"/>
                          <a:pt x="100" y="25"/>
                          <a:pt x="97" y="22"/>
                        </a:cubicBezTo>
                        <a:cubicBezTo>
                          <a:pt x="94" y="19"/>
                          <a:pt x="46" y="9"/>
                          <a:pt x="31" y="7"/>
                        </a:cubicBezTo>
                        <a:cubicBezTo>
                          <a:pt x="16" y="5"/>
                          <a:pt x="0" y="8"/>
                          <a:pt x="7" y="7"/>
                        </a:cubicBezTo>
                        <a:cubicBezTo>
                          <a:pt x="14" y="6"/>
                          <a:pt x="53" y="0"/>
                          <a:pt x="73" y="4"/>
                        </a:cubicBezTo>
                        <a:cubicBezTo>
                          <a:pt x="93" y="8"/>
                          <a:pt x="124" y="24"/>
                          <a:pt x="130" y="31"/>
                        </a:cubicBezTo>
                        <a:cubicBezTo>
                          <a:pt x="136" y="38"/>
                          <a:pt x="116" y="54"/>
                          <a:pt x="103" y="55"/>
                        </a:cubicBezTo>
                        <a:close/>
                      </a:path>
                    </a:pathLst>
                  </a:custGeom>
                  <a:solidFill>
                    <a:srgbClr val="3a4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Freeform 91"/>
                <p:cNvSpPr/>
                <p:nvPr/>
              </p:nvSpPr>
              <p:spPr>
                <a:xfrm>
                  <a:off x="12764880" y="5552640"/>
                  <a:ext cx="1674720" cy="1477440"/>
                </a:xfrm>
                <a:custGeom>
                  <a:avLst/>
                  <a:gdLst>
                    <a:gd name="textAreaLeft" fmla="*/ 0 w 1674720"/>
                    <a:gd name="textAreaRight" fmla="*/ 1675080 w 1674720"/>
                    <a:gd name="textAreaTop" fmla="*/ 0 h 1477440"/>
                    <a:gd name="textAreaBottom" fmla="*/ 1477800 h 1477440"/>
                  </a:gdLst>
                  <a:ahLst/>
                  <a:rect l="textAreaLeft" t="textAreaTop" r="textAreaRight" b="textAreaBottom"/>
                  <a:pathLst>
                    <a:path w="1055" h="931">
                      <a:moveTo>
                        <a:pt x="167" y="42"/>
                      </a:moveTo>
                      <a:cubicBezTo>
                        <a:pt x="94" y="0"/>
                        <a:pt x="61" y="42"/>
                        <a:pt x="35" y="48"/>
                      </a:cubicBezTo>
                      <a:cubicBezTo>
                        <a:pt x="9" y="54"/>
                        <a:pt x="0" y="63"/>
                        <a:pt x="8" y="78"/>
                      </a:cubicBezTo>
                      <a:cubicBezTo>
                        <a:pt x="16" y="93"/>
                        <a:pt x="57" y="122"/>
                        <a:pt x="80" y="141"/>
                      </a:cubicBezTo>
                      <a:cubicBezTo>
                        <a:pt x="103" y="160"/>
                        <a:pt x="125" y="160"/>
                        <a:pt x="146" y="189"/>
                      </a:cubicBezTo>
                      <a:cubicBezTo>
                        <a:pt x="167" y="218"/>
                        <a:pt x="180" y="274"/>
                        <a:pt x="206" y="315"/>
                      </a:cubicBezTo>
                      <a:cubicBezTo>
                        <a:pt x="232" y="356"/>
                        <a:pt x="254" y="395"/>
                        <a:pt x="302" y="435"/>
                      </a:cubicBezTo>
                      <a:cubicBezTo>
                        <a:pt x="350" y="475"/>
                        <a:pt x="436" y="520"/>
                        <a:pt x="497" y="552"/>
                      </a:cubicBezTo>
                      <a:cubicBezTo>
                        <a:pt x="558" y="584"/>
                        <a:pt x="632" y="610"/>
                        <a:pt x="668" y="627"/>
                      </a:cubicBezTo>
                      <a:cubicBezTo>
                        <a:pt x="704" y="644"/>
                        <a:pt x="695" y="636"/>
                        <a:pt x="710" y="654"/>
                      </a:cubicBezTo>
                      <a:cubicBezTo>
                        <a:pt x="725" y="672"/>
                        <a:pt x="738" y="704"/>
                        <a:pt x="758" y="738"/>
                      </a:cubicBezTo>
                      <a:cubicBezTo>
                        <a:pt x="778" y="772"/>
                        <a:pt x="812" y="829"/>
                        <a:pt x="833" y="858"/>
                      </a:cubicBezTo>
                      <a:cubicBezTo>
                        <a:pt x="854" y="887"/>
                        <a:pt x="877" y="908"/>
                        <a:pt x="884" y="912"/>
                      </a:cubicBezTo>
                      <a:cubicBezTo>
                        <a:pt x="891" y="916"/>
                        <a:pt x="887" y="899"/>
                        <a:pt x="878" y="882"/>
                      </a:cubicBezTo>
                      <a:cubicBezTo>
                        <a:pt x="869" y="865"/>
                        <a:pt x="823" y="802"/>
                        <a:pt x="830" y="807"/>
                      </a:cubicBezTo>
                      <a:cubicBezTo>
                        <a:pt x="837" y="812"/>
                        <a:pt x="898" y="893"/>
                        <a:pt x="920" y="912"/>
                      </a:cubicBezTo>
                      <a:cubicBezTo>
                        <a:pt x="942" y="931"/>
                        <a:pt x="955" y="923"/>
                        <a:pt x="962" y="921"/>
                      </a:cubicBezTo>
                      <a:cubicBezTo>
                        <a:pt x="969" y="919"/>
                        <a:pt x="956" y="897"/>
                        <a:pt x="962" y="897"/>
                      </a:cubicBezTo>
                      <a:cubicBezTo>
                        <a:pt x="968" y="897"/>
                        <a:pt x="984" y="918"/>
                        <a:pt x="998" y="921"/>
                      </a:cubicBezTo>
                      <a:cubicBezTo>
                        <a:pt x="1012" y="924"/>
                        <a:pt x="1040" y="919"/>
                        <a:pt x="1046" y="915"/>
                      </a:cubicBezTo>
                      <a:cubicBezTo>
                        <a:pt x="1052" y="911"/>
                        <a:pt x="1055" y="919"/>
                        <a:pt x="1034" y="894"/>
                      </a:cubicBezTo>
                      <a:cubicBezTo>
                        <a:pt x="1013" y="869"/>
                        <a:pt x="935" y="800"/>
                        <a:pt x="917" y="765"/>
                      </a:cubicBezTo>
                      <a:cubicBezTo>
                        <a:pt x="899" y="730"/>
                        <a:pt x="937" y="712"/>
                        <a:pt x="926" y="684"/>
                      </a:cubicBezTo>
                      <a:cubicBezTo>
                        <a:pt x="915" y="656"/>
                        <a:pt x="926" y="660"/>
                        <a:pt x="851" y="597"/>
                      </a:cubicBezTo>
                      <a:cubicBezTo>
                        <a:pt x="776" y="534"/>
                        <a:pt x="590" y="395"/>
                        <a:pt x="476" y="303"/>
                      </a:cubicBezTo>
                      <a:cubicBezTo>
                        <a:pt x="362" y="211"/>
                        <a:pt x="240" y="84"/>
                        <a:pt x="167" y="42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92"/>
                <p:cNvSpPr/>
                <p:nvPr/>
              </p:nvSpPr>
              <p:spPr>
                <a:xfrm>
                  <a:off x="12756960" y="5538600"/>
                  <a:ext cx="2025720" cy="1472760"/>
                </a:xfrm>
                <a:custGeom>
                  <a:avLst/>
                  <a:gdLst>
                    <a:gd name="textAreaLeft" fmla="*/ 0 w 2025720"/>
                    <a:gd name="textAreaRight" fmla="*/ 2026080 w 2025720"/>
                    <a:gd name="textAreaTop" fmla="*/ 0 h 1472760"/>
                    <a:gd name="textAreaBottom" fmla="*/ 1473120 h 1472760"/>
                  </a:gdLst>
                  <a:ahLst/>
                  <a:rect l="textAreaLeft" t="textAreaTop" r="textAreaRight" b="textAreaBottom"/>
                  <a:pathLst>
                    <a:path w="1276" h="928">
                      <a:moveTo>
                        <a:pt x="208" y="39"/>
                      </a:moveTo>
                      <a:cubicBezTo>
                        <a:pt x="134" y="10"/>
                        <a:pt x="122" y="11"/>
                        <a:pt x="91" y="6"/>
                      </a:cubicBezTo>
                      <a:cubicBezTo>
                        <a:pt x="60" y="1"/>
                        <a:pt x="34" y="0"/>
                        <a:pt x="19" y="9"/>
                      </a:cubicBezTo>
                      <a:cubicBezTo>
                        <a:pt x="4" y="18"/>
                        <a:pt x="0" y="44"/>
                        <a:pt x="1" y="60"/>
                      </a:cubicBezTo>
                      <a:cubicBezTo>
                        <a:pt x="2" y="76"/>
                        <a:pt x="6" y="93"/>
                        <a:pt x="25" y="105"/>
                      </a:cubicBezTo>
                      <a:cubicBezTo>
                        <a:pt x="44" y="117"/>
                        <a:pt x="87" y="117"/>
                        <a:pt x="115" y="132"/>
                      </a:cubicBezTo>
                      <a:cubicBezTo>
                        <a:pt x="143" y="147"/>
                        <a:pt x="173" y="178"/>
                        <a:pt x="193" y="198"/>
                      </a:cubicBezTo>
                      <a:cubicBezTo>
                        <a:pt x="213" y="218"/>
                        <a:pt x="230" y="250"/>
                        <a:pt x="238" y="255"/>
                      </a:cubicBezTo>
                      <a:cubicBezTo>
                        <a:pt x="246" y="260"/>
                        <a:pt x="237" y="242"/>
                        <a:pt x="241" y="228"/>
                      </a:cubicBezTo>
                      <a:cubicBezTo>
                        <a:pt x="245" y="214"/>
                        <a:pt x="260" y="168"/>
                        <a:pt x="265" y="168"/>
                      </a:cubicBezTo>
                      <a:cubicBezTo>
                        <a:pt x="270" y="168"/>
                        <a:pt x="270" y="211"/>
                        <a:pt x="274" y="231"/>
                      </a:cubicBezTo>
                      <a:cubicBezTo>
                        <a:pt x="278" y="251"/>
                        <a:pt x="265" y="258"/>
                        <a:pt x="286" y="288"/>
                      </a:cubicBezTo>
                      <a:cubicBezTo>
                        <a:pt x="307" y="318"/>
                        <a:pt x="352" y="372"/>
                        <a:pt x="400" y="411"/>
                      </a:cubicBezTo>
                      <a:cubicBezTo>
                        <a:pt x="448" y="450"/>
                        <a:pt x="531" y="495"/>
                        <a:pt x="577" y="522"/>
                      </a:cubicBezTo>
                      <a:cubicBezTo>
                        <a:pt x="623" y="549"/>
                        <a:pt x="656" y="559"/>
                        <a:pt x="679" y="573"/>
                      </a:cubicBezTo>
                      <a:cubicBezTo>
                        <a:pt x="702" y="587"/>
                        <a:pt x="696" y="599"/>
                        <a:pt x="715" y="609"/>
                      </a:cubicBezTo>
                      <a:cubicBezTo>
                        <a:pt x="734" y="619"/>
                        <a:pt x="770" y="629"/>
                        <a:pt x="793" y="633"/>
                      </a:cubicBezTo>
                      <a:cubicBezTo>
                        <a:pt x="816" y="637"/>
                        <a:pt x="851" y="632"/>
                        <a:pt x="856" y="636"/>
                      </a:cubicBezTo>
                      <a:cubicBezTo>
                        <a:pt x="861" y="640"/>
                        <a:pt x="836" y="650"/>
                        <a:pt x="826" y="657"/>
                      </a:cubicBezTo>
                      <a:cubicBezTo>
                        <a:pt x="816" y="664"/>
                        <a:pt x="792" y="665"/>
                        <a:pt x="796" y="678"/>
                      </a:cubicBezTo>
                      <a:cubicBezTo>
                        <a:pt x="800" y="691"/>
                        <a:pt x="819" y="702"/>
                        <a:pt x="850" y="735"/>
                      </a:cubicBezTo>
                      <a:cubicBezTo>
                        <a:pt x="881" y="768"/>
                        <a:pt x="948" y="843"/>
                        <a:pt x="979" y="873"/>
                      </a:cubicBezTo>
                      <a:cubicBezTo>
                        <a:pt x="1010" y="903"/>
                        <a:pt x="1022" y="909"/>
                        <a:pt x="1036" y="918"/>
                      </a:cubicBezTo>
                      <a:cubicBezTo>
                        <a:pt x="1050" y="927"/>
                        <a:pt x="1055" y="927"/>
                        <a:pt x="1063" y="927"/>
                      </a:cubicBezTo>
                      <a:cubicBezTo>
                        <a:pt x="1071" y="927"/>
                        <a:pt x="1075" y="928"/>
                        <a:pt x="1084" y="918"/>
                      </a:cubicBezTo>
                      <a:cubicBezTo>
                        <a:pt x="1071" y="902"/>
                        <a:pt x="989" y="827"/>
                        <a:pt x="988" y="828"/>
                      </a:cubicBezTo>
                      <a:cubicBezTo>
                        <a:pt x="987" y="829"/>
                        <a:pt x="1069" y="902"/>
                        <a:pt x="1093" y="912"/>
                      </a:cubicBezTo>
                      <a:cubicBezTo>
                        <a:pt x="1107" y="896"/>
                        <a:pt x="1111" y="902"/>
                        <a:pt x="1132" y="888"/>
                      </a:cubicBezTo>
                      <a:cubicBezTo>
                        <a:pt x="1103" y="874"/>
                        <a:pt x="1034" y="822"/>
                        <a:pt x="1036" y="822"/>
                      </a:cubicBezTo>
                      <a:cubicBezTo>
                        <a:pt x="1038" y="822"/>
                        <a:pt x="1113" y="870"/>
                        <a:pt x="1147" y="891"/>
                      </a:cubicBezTo>
                      <a:cubicBezTo>
                        <a:pt x="1185" y="890"/>
                        <a:pt x="1203" y="882"/>
                        <a:pt x="1246" y="879"/>
                      </a:cubicBezTo>
                      <a:cubicBezTo>
                        <a:pt x="1227" y="856"/>
                        <a:pt x="1120" y="779"/>
                        <a:pt x="1123" y="777"/>
                      </a:cubicBezTo>
                      <a:cubicBezTo>
                        <a:pt x="1126" y="775"/>
                        <a:pt x="1236" y="858"/>
                        <a:pt x="1261" y="867"/>
                      </a:cubicBezTo>
                      <a:cubicBezTo>
                        <a:pt x="1269" y="856"/>
                        <a:pt x="1273" y="852"/>
                        <a:pt x="1276" y="837"/>
                      </a:cubicBezTo>
                      <a:cubicBezTo>
                        <a:pt x="1243" y="808"/>
                        <a:pt x="1124" y="732"/>
                        <a:pt x="1060" y="690"/>
                      </a:cubicBezTo>
                      <a:cubicBezTo>
                        <a:pt x="996" y="648"/>
                        <a:pt x="935" y="623"/>
                        <a:pt x="892" y="588"/>
                      </a:cubicBezTo>
                      <a:cubicBezTo>
                        <a:pt x="849" y="553"/>
                        <a:pt x="835" y="521"/>
                        <a:pt x="802" y="477"/>
                      </a:cubicBezTo>
                      <a:cubicBezTo>
                        <a:pt x="769" y="433"/>
                        <a:pt x="735" y="373"/>
                        <a:pt x="691" y="324"/>
                      </a:cubicBezTo>
                      <a:cubicBezTo>
                        <a:pt x="647" y="275"/>
                        <a:pt x="619" y="230"/>
                        <a:pt x="538" y="182"/>
                      </a:cubicBezTo>
                      <a:cubicBezTo>
                        <a:pt x="457" y="134"/>
                        <a:pt x="282" y="68"/>
                        <a:pt x="208" y="39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93"/>
                <p:cNvSpPr/>
                <p:nvPr/>
              </p:nvSpPr>
              <p:spPr>
                <a:xfrm>
                  <a:off x="12779280" y="5595480"/>
                  <a:ext cx="17280" cy="16920"/>
                </a:xfrm>
                <a:prstGeom prst="ellipse">
                  <a:avLst/>
                </a:prstGeom>
                <a:solidFill>
                  <a:srgbClr val="3540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12538080" y="5592240"/>
                <a:ext cx="1342800" cy="848520"/>
                <a:chOff x="12538080" y="5592240"/>
                <a:chExt cx="1342800" cy="848520"/>
              </a:xfrm>
            </p:grpSpPr>
            <p:sp>
              <p:nvSpPr>
                <p:cNvPr id="134" name="Freeform 95"/>
                <p:cNvSpPr/>
                <p:nvPr/>
              </p:nvSpPr>
              <p:spPr>
                <a:xfrm>
                  <a:off x="13436640" y="5653080"/>
                  <a:ext cx="444240" cy="507240"/>
                </a:xfrm>
                <a:custGeom>
                  <a:avLst/>
                  <a:gdLst>
                    <a:gd name="textAreaLeft" fmla="*/ 0 w 444240"/>
                    <a:gd name="textAreaRight" fmla="*/ 444600 w 444240"/>
                    <a:gd name="textAreaTop" fmla="*/ 0 h 507240"/>
                    <a:gd name="textAreaBottom" fmla="*/ 507600 h 507240"/>
                  </a:gdLst>
                  <a:ahLst/>
                  <a:rect l="textAreaLeft" t="textAreaTop" r="textAreaRight" b="textAreaBottom"/>
                  <a:pathLst>
                    <a:path w="233" h="266">
                      <a:moveTo>
                        <a:pt x="48" y="8"/>
                      </a:moveTo>
                      <a:cubicBezTo>
                        <a:pt x="69" y="15"/>
                        <a:pt x="110" y="37"/>
                        <a:pt x="133" y="55"/>
                      </a:cubicBezTo>
                      <a:cubicBezTo>
                        <a:pt x="156" y="73"/>
                        <a:pt x="175" y="102"/>
                        <a:pt x="187" y="116"/>
                      </a:cubicBezTo>
                      <a:cubicBezTo>
                        <a:pt x="199" y="130"/>
                        <a:pt x="204" y="135"/>
                        <a:pt x="204" y="139"/>
                      </a:cubicBezTo>
                      <a:cubicBezTo>
                        <a:pt x="204" y="143"/>
                        <a:pt x="189" y="138"/>
                        <a:pt x="189" y="140"/>
                      </a:cubicBezTo>
                      <a:cubicBezTo>
                        <a:pt x="189" y="142"/>
                        <a:pt x="200" y="144"/>
                        <a:pt x="207" y="149"/>
                      </a:cubicBezTo>
                      <a:cubicBezTo>
                        <a:pt x="214" y="154"/>
                        <a:pt x="231" y="166"/>
                        <a:pt x="232" y="170"/>
                      </a:cubicBezTo>
                      <a:cubicBezTo>
                        <a:pt x="233" y="174"/>
                        <a:pt x="221" y="173"/>
                        <a:pt x="214" y="172"/>
                      </a:cubicBezTo>
                      <a:cubicBezTo>
                        <a:pt x="207" y="171"/>
                        <a:pt x="193" y="160"/>
                        <a:pt x="192" y="161"/>
                      </a:cubicBezTo>
                      <a:cubicBezTo>
                        <a:pt x="191" y="162"/>
                        <a:pt x="201" y="169"/>
                        <a:pt x="207" y="178"/>
                      </a:cubicBezTo>
                      <a:cubicBezTo>
                        <a:pt x="213" y="187"/>
                        <a:pt x="227" y="209"/>
                        <a:pt x="228" y="217"/>
                      </a:cubicBezTo>
                      <a:cubicBezTo>
                        <a:pt x="229" y="225"/>
                        <a:pt x="219" y="224"/>
                        <a:pt x="214" y="224"/>
                      </a:cubicBezTo>
                      <a:cubicBezTo>
                        <a:pt x="209" y="224"/>
                        <a:pt x="200" y="217"/>
                        <a:pt x="198" y="218"/>
                      </a:cubicBezTo>
                      <a:cubicBezTo>
                        <a:pt x="196" y="219"/>
                        <a:pt x="201" y="222"/>
                        <a:pt x="202" y="229"/>
                      </a:cubicBezTo>
                      <a:cubicBezTo>
                        <a:pt x="203" y="236"/>
                        <a:pt x="207" y="260"/>
                        <a:pt x="204" y="263"/>
                      </a:cubicBezTo>
                      <a:cubicBezTo>
                        <a:pt x="201" y="266"/>
                        <a:pt x="193" y="254"/>
                        <a:pt x="186" y="248"/>
                      </a:cubicBezTo>
                      <a:cubicBezTo>
                        <a:pt x="179" y="242"/>
                        <a:pt x="165" y="226"/>
                        <a:pt x="159" y="224"/>
                      </a:cubicBezTo>
                      <a:cubicBezTo>
                        <a:pt x="153" y="222"/>
                        <a:pt x="149" y="232"/>
                        <a:pt x="147" y="238"/>
                      </a:cubicBezTo>
                      <a:cubicBezTo>
                        <a:pt x="145" y="244"/>
                        <a:pt x="148" y="258"/>
                        <a:pt x="145" y="259"/>
                      </a:cubicBezTo>
                      <a:cubicBezTo>
                        <a:pt x="142" y="260"/>
                        <a:pt x="133" y="245"/>
                        <a:pt x="127" y="244"/>
                      </a:cubicBezTo>
                      <a:cubicBezTo>
                        <a:pt x="121" y="243"/>
                        <a:pt x="113" y="255"/>
                        <a:pt x="108" y="254"/>
                      </a:cubicBezTo>
                      <a:cubicBezTo>
                        <a:pt x="103" y="253"/>
                        <a:pt x="102" y="243"/>
                        <a:pt x="96" y="235"/>
                      </a:cubicBezTo>
                      <a:cubicBezTo>
                        <a:pt x="90" y="227"/>
                        <a:pt x="79" y="215"/>
                        <a:pt x="69" y="203"/>
                      </a:cubicBezTo>
                      <a:cubicBezTo>
                        <a:pt x="59" y="191"/>
                        <a:pt x="46" y="180"/>
                        <a:pt x="36" y="160"/>
                      </a:cubicBezTo>
                      <a:cubicBezTo>
                        <a:pt x="26" y="140"/>
                        <a:pt x="12" y="105"/>
                        <a:pt x="7" y="80"/>
                      </a:cubicBezTo>
                      <a:cubicBezTo>
                        <a:pt x="2" y="55"/>
                        <a:pt x="0" y="26"/>
                        <a:pt x="7" y="13"/>
                      </a:cubicBezTo>
                      <a:cubicBezTo>
                        <a:pt x="14" y="0"/>
                        <a:pt x="27" y="1"/>
                        <a:pt x="48" y="8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96"/>
                <p:cNvSpPr/>
                <p:nvPr/>
              </p:nvSpPr>
              <p:spPr>
                <a:xfrm>
                  <a:off x="12545640" y="5689440"/>
                  <a:ext cx="1167120" cy="751320"/>
                </a:xfrm>
                <a:custGeom>
                  <a:avLst/>
                  <a:gdLst>
                    <a:gd name="textAreaLeft" fmla="*/ 0 w 1167120"/>
                    <a:gd name="textAreaRight" fmla="*/ 1167480 w 1167120"/>
                    <a:gd name="textAreaTop" fmla="*/ 0 h 751320"/>
                    <a:gd name="textAreaBottom" fmla="*/ 751680 h 751320"/>
                  </a:gdLst>
                  <a:ahLst/>
                  <a:rect l="textAreaLeft" t="textAreaTop" r="textAreaRight" b="textAreaBottom"/>
                  <a:pathLst>
                    <a:path w="612" h="394">
                      <a:moveTo>
                        <a:pt x="119" y="186"/>
                      </a:moveTo>
                      <a:cubicBezTo>
                        <a:pt x="100" y="206"/>
                        <a:pt x="72" y="254"/>
                        <a:pt x="53" y="283"/>
                      </a:cubicBezTo>
                      <a:cubicBezTo>
                        <a:pt x="34" y="312"/>
                        <a:pt x="6" y="351"/>
                        <a:pt x="3" y="361"/>
                      </a:cubicBezTo>
                      <a:cubicBezTo>
                        <a:pt x="0" y="371"/>
                        <a:pt x="36" y="341"/>
                        <a:pt x="38" y="345"/>
                      </a:cubicBezTo>
                      <a:cubicBezTo>
                        <a:pt x="40" y="349"/>
                        <a:pt x="17" y="382"/>
                        <a:pt x="17" y="388"/>
                      </a:cubicBezTo>
                      <a:cubicBezTo>
                        <a:pt x="17" y="394"/>
                        <a:pt x="26" y="390"/>
                        <a:pt x="41" y="382"/>
                      </a:cubicBezTo>
                      <a:cubicBezTo>
                        <a:pt x="56" y="374"/>
                        <a:pt x="89" y="354"/>
                        <a:pt x="107" y="342"/>
                      </a:cubicBezTo>
                      <a:cubicBezTo>
                        <a:pt x="125" y="330"/>
                        <a:pt x="136" y="319"/>
                        <a:pt x="147" y="309"/>
                      </a:cubicBezTo>
                      <a:cubicBezTo>
                        <a:pt x="158" y="299"/>
                        <a:pt x="175" y="280"/>
                        <a:pt x="174" y="283"/>
                      </a:cubicBezTo>
                      <a:cubicBezTo>
                        <a:pt x="173" y="286"/>
                        <a:pt x="150" y="313"/>
                        <a:pt x="141" y="325"/>
                      </a:cubicBezTo>
                      <a:cubicBezTo>
                        <a:pt x="132" y="337"/>
                        <a:pt x="119" y="350"/>
                        <a:pt x="120" y="354"/>
                      </a:cubicBezTo>
                      <a:cubicBezTo>
                        <a:pt x="121" y="358"/>
                        <a:pt x="135" y="352"/>
                        <a:pt x="147" y="348"/>
                      </a:cubicBezTo>
                      <a:cubicBezTo>
                        <a:pt x="159" y="344"/>
                        <a:pt x="177" y="336"/>
                        <a:pt x="194" y="327"/>
                      </a:cubicBezTo>
                      <a:cubicBezTo>
                        <a:pt x="211" y="318"/>
                        <a:pt x="235" y="300"/>
                        <a:pt x="248" y="292"/>
                      </a:cubicBezTo>
                      <a:cubicBezTo>
                        <a:pt x="261" y="284"/>
                        <a:pt x="272" y="276"/>
                        <a:pt x="272" y="279"/>
                      </a:cubicBezTo>
                      <a:cubicBezTo>
                        <a:pt x="272" y="282"/>
                        <a:pt x="253" y="304"/>
                        <a:pt x="248" y="312"/>
                      </a:cubicBezTo>
                      <a:cubicBezTo>
                        <a:pt x="243" y="320"/>
                        <a:pt x="236" y="330"/>
                        <a:pt x="240" y="330"/>
                      </a:cubicBezTo>
                      <a:cubicBezTo>
                        <a:pt x="244" y="330"/>
                        <a:pt x="262" y="321"/>
                        <a:pt x="275" y="312"/>
                      </a:cubicBezTo>
                      <a:cubicBezTo>
                        <a:pt x="288" y="303"/>
                        <a:pt x="306" y="289"/>
                        <a:pt x="321" y="277"/>
                      </a:cubicBezTo>
                      <a:cubicBezTo>
                        <a:pt x="336" y="265"/>
                        <a:pt x="355" y="248"/>
                        <a:pt x="366" y="238"/>
                      </a:cubicBezTo>
                      <a:cubicBezTo>
                        <a:pt x="377" y="228"/>
                        <a:pt x="382" y="216"/>
                        <a:pt x="384" y="217"/>
                      </a:cubicBezTo>
                      <a:cubicBezTo>
                        <a:pt x="386" y="218"/>
                        <a:pt x="378" y="234"/>
                        <a:pt x="377" y="243"/>
                      </a:cubicBezTo>
                      <a:cubicBezTo>
                        <a:pt x="376" y="252"/>
                        <a:pt x="372" y="272"/>
                        <a:pt x="378" y="273"/>
                      </a:cubicBezTo>
                      <a:cubicBezTo>
                        <a:pt x="384" y="274"/>
                        <a:pt x="400" y="262"/>
                        <a:pt x="413" y="247"/>
                      </a:cubicBezTo>
                      <a:cubicBezTo>
                        <a:pt x="426" y="232"/>
                        <a:pt x="445" y="204"/>
                        <a:pt x="455" y="184"/>
                      </a:cubicBezTo>
                      <a:cubicBezTo>
                        <a:pt x="465" y="164"/>
                        <a:pt x="468" y="144"/>
                        <a:pt x="471" y="129"/>
                      </a:cubicBezTo>
                      <a:cubicBezTo>
                        <a:pt x="474" y="114"/>
                        <a:pt x="469" y="89"/>
                        <a:pt x="473" y="97"/>
                      </a:cubicBezTo>
                      <a:cubicBezTo>
                        <a:pt x="477" y="105"/>
                        <a:pt x="492" y="157"/>
                        <a:pt x="497" y="175"/>
                      </a:cubicBezTo>
                      <a:cubicBezTo>
                        <a:pt x="502" y="193"/>
                        <a:pt x="502" y="209"/>
                        <a:pt x="504" y="208"/>
                      </a:cubicBezTo>
                      <a:cubicBezTo>
                        <a:pt x="506" y="207"/>
                        <a:pt x="508" y="190"/>
                        <a:pt x="509" y="171"/>
                      </a:cubicBezTo>
                      <a:cubicBezTo>
                        <a:pt x="510" y="152"/>
                        <a:pt x="510" y="112"/>
                        <a:pt x="510" y="96"/>
                      </a:cubicBezTo>
                      <a:cubicBezTo>
                        <a:pt x="510" y="80"/>
                        <a:pt x="506" y="72"/>
                        <a:pt x="510" y="76"/>
                      </a:cubicBezTo>
                      <a:cubicBezTo>
                        <a:pt x="514" y="80"/>
                        <a:pt x="529" y="104"/>
                        <a:pt x="537" y="121"/>
                      </a:cubicBezTo>
                      <a:cubicBezTo>
                        <a:pt x="545" y="138"/>
                        <a:pt x="553" y="178"/>
                        <a:pt x="557" y="177"/>
                      </a:cubicBezTo>
                      <a:cubicBezTo>
                        <a:pt x="561" y="176"/>
                        <a:pt x="564" y="129"/>
                        <a:pt x="564" y="112"/>
                      </a:cubicBezTo>
                      <a:cubicBezTo>
                        <a:pt x="564" y="95"/>
                        <a:pt x="553" y="76"/>
                        <a:pt x="555" y="72"/>
                      </a:cubicBezTo>
                      <a:cubicBezTo>
                        <a:pt x="557" y="68"/>
                        <a:pt x="571" y="81"/>
                        <a:pt x="579" y="90"/>
                      </a:cubicBezTo>
                      <a:cubicBezTo>
                        <a:pt x="587" y="99"/>
                        <a:pt x="598" y="127"/>
                        <a:pt x="603" y="127"/>
                      </a:cubicBezTo>
                      <a:cubicBezTo>
                        <a:pt x="608" y="127"/>
                        <a:pt x="608" y="101"/>
                        <a:pt x="608" y="87"/>
                      </a:cubicBezTo>
                      <a:cubicBezTo>
                        <a:pt x="608" y="73"/>
                        <a:pt x="612" y="54"/>
                        <a:pt x="602" y="43"/>
                      </a:cubicBezTo>
                      <a:cubicBezTo>
                        <a:pt x="592" y="32"/>
                        <a:pt x="577" y="23"/>
                        <a:pt x="549" y="18"/>
                      </a:cubicBezTo>
                      <a:cubicBezTo>
                        <a:pt x="521" y="13"/>
                        <a:pt x="471" y="0"/>
                        <a:pt x="431" y="13"/>
                      </a:cubicBezTo>
                      <a:cubicBezTo>
                        <a:pt x="391" y="26"/>
                        <a:pt x="352" y="69"/>
                        <a:pt x="308" y="94"/>
                      </a:cubicBezTo>
                      <a:cubicBezTo>
                        <a:pt x="264" y="119"/>
                        <a:pt x="198" y="150"/>
                        <a:pt x="168" y="165"/>
                      </a:cubicBezTo>
                      <a:cubicBezTo>
                        <a:pt x="138" y="180"/>
                        <a:pt x="138" y="166"/>
                        <a:pt x="119" y="186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97"/>
                <p:cNvSpPr/>
                <p:nvPr/>
              </p:nvSpPr>
              <p:spPr>
                <a:xfrm>
                  <a:off x="12538080" y="5592240"/>
                  <a:ext cx="1274400" cy="812880"/>
                </a:xfrm>
                <a:custGeom>
                  <a:avLst/>
                  <a:gdLst>
                    <a:gd name="textAreaLeft" fmla="*/ 0 w 1274400"/>
                    <a:gd name="textAreaRight" fmla="*/ 1274760 w 1274400"/>
                    <a:gd name="textAreaTop" fmla="*/ 0 h 812880"/>
                    <a:gd name="textAreaBottom" fmla="*/ 813240 h 812880"/>
                  </a:gdLst>
                  <a:ahLst/>
                  <a:rect l="textAreaLeft" t="textAreaTop" r="textAreaRight" b="textAreaBottom"/>
                  <a:pathLst>
                    <a:path w="668" h="426">
                      <a:moveTo>
                        <a:pt x="447" y="1"/>
                      </a:moveTo>
                      <a:cubicBezTo>
                        <a:pt x="417" y="2"/>
                        <a:pt x="380" y="6"/>
                        <a:pt x="339" y="28"/>
                      </a:cubicBezTo>
                      <a:cubicBezTo>
                        <a:pt x="298" y="50"/>
                        <a:pt x="243" y="93"/>
                        <a:pt x="201" y="132"/>
                      </a:cubicBezTo>
                      <a:cubicBezTo>
                        <a:pt x="159" y="171"/>
                        <a:pt x="111" y="231"/>
                        <a:pt x="85" y="261"/>
                      </a:cubicBezTo>
                      <a:cubicBezTo>
                        <a:pt x="59" y="291"/>
                        <a:pt x="58" y="293"/>
                        <a:pt x="48" y="310"/>
                      </a:cubicBezTo>
                      <a:cubicBezTo>
                        <a:pt x="38" y="327"/>
                        <a:pt x="32" y="345"/>
                        <a:pt x="24" y="363"/>
                      </a:cubicBezTo>
                      <a:cubicBezTo>
                        <a:pt x="16" y="381"/>
                        <a:pt x="2" y="410"/>
                        <a:pt x="1" y="418"/>
                      </a:cubicBezTo>
                      <a:cubicBezTo>
                        <a:pt x="0" y="426"/>
                        <a:pt x="5" y="424"/>
                        <a:pt x="16" y="412"/>
                      </a:cubicBezTo>
                      <a:cubicBezTo>
                        <a:pt x="27" y="400"/>
                        <a:pt x="55" y="365"/>
                        <a:pt x="69" y="346"/>
                      </a:cubicBezTo>
                      <a:cubicBezTo>
                        <a:pt x="83" y="327"/>
                        <a:pt x="107" y="291"/>
                        <a:pt x="102" y="300"/>
                      </a:cubicBezTo>
                      <a:cubicBezTo>
                        <a:pt x="97" y="309"/>
                        <a:pt x="51" y="382"/>
                        <a:pt x="39" y="403"/>
                      </a:cubicBezTo>
                      <a:cubicBezTo>
                        <a:pt x="27" y="424"/>
                        <a:pt x="27" y="426"/>
                        <a:pt x="30" y="426"/>
                      </a:cubicBezTo>
                      <a:cubicBezTo>
                        <a:pt x="33" y="426"/>
                        <a:pt x="39" y="419"/>
                        <a:pt x="58" y="403"/>
                      </a:cubicBezTo>
                      <a:cubicBezTo>
                        <a:pt x="77" y="387"/>
                        <a:pt x="121" y="351"/>
                        <a:pt x="144" y="333"/>
                      </a:cubicBezTo>
                      <a:cubicBezTo>
                        <a:pt x="167" y="315"/>
                        <a:pt x="180" y="305"/>
                        <a:pt x="195" y="295"/>
                      </a:cubicBezTo>
                      <a:cubicBezTo>
                        <a:pt x="210" y="285"/>
                        <a:pt x="229" y="273"/>
                        <a:pt x="232" y="274"/>
                      </a:cubicBezTo>
                      <a:cubicBezTo>
                        <a:pt x="235" y="275"/>
                        <a:pt x="222" y="291"/>
                        <a:pt x="213" y="304"/>
                      </a:cubicBezTo>
                      <a:cubicBezTo>
                        <a:pt x="204" y="317"/>
                        <a:pt x="177" y="350"/>
                        <a:pt x="178" y="355"/>
                      </a:cubicBezTo>
                      <a:cubicBezTo>
                        <a:pt x="179" y="360"/>
                        <a:pt x="197" y="353"/>
                        <a:pt x="220" y="337"/>
                      </a:cubicBezTo>
                      <a:cubicBezTo>
                        <a:pt x="243" y="321"/>
                        <a:pt x="294" y="275"/>
                        <a:pt x="316" y="259"/>
                      </a:cubicBezTo>
                      <a:cubicBezTo>
                        <a:pt x="338" y="243"/>
                        <a:pt x="345" y="235"/>
                        <a:pt x="351" y="238"/>
                      </a:cubicBezTo>
                      <a:cubicBezTo>
                        <a:pt x="357" y="241"/>
                        <a:pt x="348" y="270"/>
                        <a:pt x="351" y="276"/>
                      </a:cubicBezTo>
                      <a:cubicBezTo>
                        <a:pt x="354" y="282"/>
                        <a:pt x="359" y="285"/>
                        <a:pt x="369" y="277"/>
                      </a:cubicBezTo>
                      <a:cubicBezTo>
                        <a:pt x="379" y="269"/>
                        <a:pt x="397" y="249"/>
                        <a:pt x="411" y="229"/>
                      </a:cubicBezTo>
                      <a:cubicBezTo>
                        <a:pt x="425" y="209"/>
                        <a:pt x="449" y="180"/>
                        <a:pt x="456" y="159"/>
                      </a:cubicBezTo>
                      <a:cubicBezTo>
                        <a:pt x="463" y="138"/>
                        <a:pt x="448" y="103"/>
                        <a:pt x="454" y="100"/>
                      </a:cubicBezTo>
                      <a:cubicBezTo>
                        <a:pt x="460" y="97"/>
                        <a:pt x="488" y="141"/>
                        <a:pt x="495" y="141"/>
                      </a:cubicBezTo>
                      <a:cubicBezTo>
                        <a:pt x="502" y="141"/>
                        <a:pt x="490" y="97"/>
                        <a:pt x="499" y="97"/>
                      </a:cubicBezTo>
                      <a:cubicBezTo>
                        <a:pt x="508" y="97"/>
                        <a:pt x="541" y="134"/>
                        <a:pt x="552" y="142"/>
                      </a:cubicBezTo>
                      <a:cubicBezTo>
                        <a:pt x="563" y="150"/>
                        <a:pt x="565" y="152"/>
                        <a:pt x="567" y="148"/>
                      </a:cubicBezTo>
                      <a:cubicBezTo>
                        <a:pt x="569" y="144"/>
                        <a:pt x="566" y="130"/>
                        <a:pt x="564" y="120"/>
                      </a:cubicBezTo>
                      <a:cubicBezTo>
                        <a:pt x="562" y="110"/>
                        <a:pt x="548" y="87"/>
                        <a:pt x="552" y="85"/>
                      </a:cubicBezTo>
                      <a:cubicBezTo>
                        <a:pt x="556" y="83"/>
                        <a:pt x="577" y="107"/>
                        <a:pt x="586" y="111"/>
                      </a:cubicBezTo>
                      <a:cubicBezTo>
                        <a:pt x="595" y="115"/>
                        <a:pt x="599" y="109"/>
                        <a:pt x="604" y="109"/>
                      </a:cubicBezTo>
                      <a:cubicBezTo>
                        <a:pt x="609" y="109"/>
                        <a:pt x="608" y="103"/>
                        <a:pt x="618" y="111"/>
                      </a:cubicBezTo>
                      <a:cubicBezTo>
                        <a:pt x="628" y="119"/>
                        <a:pt x="664" y="157"/>
                        <a:pt x="666" y="156"/>
                      </a:cubicBezTo>
                      <a:cubicBezTo>
                        <a:pt x="668" y="155"/>
                        <a:pt x="645" y="120"/>
                        <a:pt x="631" y="105"/>
                      </a:cubicBezTo>
                      <a:cubicBezTo>
                        <a:pt x="617" y="90"/>
                        <a:pt x="601" y="76"/>
                        <a:pt x="582" y="63"/>
                      </a:cubicBezTo>
                      <a:cubicBezTo>
                        <a:pt x="563" y="50"/>
                        <a:pt x="541" y="34"/>
                        <a:pt x="519" y="24"/>
                      </a:cubicBezTo>
                      <a:cubicBezTo>
                        <a:pt x="497" y="14"/>
                        <a:pt x="477" y="0"/>
                        <a:pt x="447" y="1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" name="Rectangle 98"/>
            <p:cNvSpPr/>
            <p:nvPr/>
          </p:nvSpPr>
          <p:spPr>
            <a:xfrm>
              <a:off x="12039480" y="3543480"/>
              <a:ext cx="3105000" cy="39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2039480" y="3543480"/>
            <a:ext cx="3105000" cy="3924000"/>
            <a:chOff x="12039480" y="3543480"/>
            <a:chExt cx="3105000" cy="3924000"/>
          </a:xfrm>
        </p:grpSpPr>
        <p:grpSp>
          <p:nvGrpSpPr>
            <p:cNvPr id="139" name=""/>
            <p:cNvGrpSpPr/>
            <p:nvPr/>
          </p:nvGrpSpPr>
          <p:grpSpPr>
            <a:xfrm>
              <a:off x="12258720" y="5540040"/>
              <a:ext cx="2519280" cy="1728360"/>
              <a:chOff x="12258720" y="5540040"/>
              <a:chExt cx="2519280" cy="17283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2892320" y="5589720"/>
                <a:ext cx="162720" cy="106200"/>
                <a:chOff x="12892320" y="5589720"/>
                <a:chExt cx="162720" cy="106200"/>
              </a:xfrm>
            </p:grpSpPr>
            <p:sp>
              <p:nvSpPr>
                <p:cNvPr id="141" name="Freeform 102"/>
                <p:cNvSpPr/>
                <p:nvPr/>
              </p:nvSpPr>
              <p:spPr>
                <a:xfrm rot="603000">
                  <a:off x="12917520" y="5600160"/>
                  <a:ext cx="131040" cy="8460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84600"/>
                    <a:gd name="textAreaBottom" fmla="*/ 84600 h 846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03"/>
                <p:cNvSpPr/>
                <p:nvPr/>
              </p:nvSpPr>
              <p:spPr>
                <a:xfrm rot="603000">
                  <a:off x="12897000" y="5605920"/>
                  <a:ext cx="143280" cy="6768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04"/>
                <p:cNvSpPr/>
                <p:nvPr/>
              </p:nvSpPr>
              <p:spPr>
                <a:xfrm rot="603000">
                  <a:off x="12896280" y="5626440"/>
                  <a:ext cx="136440" cy="5652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3262040" y="5946480"/>
                <a:ext cx="463320" cy="1321920"/>
                <a:chOff x="13262040" y="5946480"/>
                <a:chExt cx="463320" cy="1321920"/>
              </a:xfrm>
            </p:grpSpPr>
            <p:sp>
              <p:nvSpPr>
                <p:cNvPr id="145" name="Freeform 106"/>
                <p:cNvSpPr/>
                <p:nvPr/>
              </p:nvSpPr>
              <p:spPr>
                <a:xfrm>
                  <a:off x="13262040" y="5946480"/>
                  <a:ext cx="463320" cy="132192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1321920"/>
                    <a:gd name="textAreaBottom" fmla="*/ 1322280 h 1321920"/>
                  </a:gdLst>
                  <a:ahLst/>
                  <a:rect l="textAreaLeft" t="textAreaTop" r="textAreaRight" b="textAreaBottom"/>
                  <a:pathLst>
                    <a:path w="256" h="730">
                      <a:moveTo>
                        <a:pt x="52" y="47"/>
                      </a:moveTo>
                      <a:cubicBezTo>
                        <a:pt x="42" y="94"/>
                        <a:pt x="50" y="230"/>
                        <a:pt x="44" y="309"/>
                      </a:cubicBezTo>
                      <a:cubicBezTo>
                        <a:pt x="38" y="388"/>
                        <a:pt x="21" y="467"/>
                        <a:pt x="14" y="523"/>
                      </a:cubicBezTo>
                      <a:cubicBezTo>
                        <a:pt x="7" y="579"/>
                        <a:pt x="0" y="629"/>
                        <a:pt x="2" y="643"/>
                      </a:cubicBezTo>
                      <a:cubicBezTo>
                        <a:pt x="4" y="657"/>
                        <a:pt x="26" y="603"/>
                        <a:pt x="28" y="605"/>
                      </a:cubicBezTo>
                      <a:cubicBezTo>
                        <a:pt x="30" y="607"/>
                        <a:pt x="17" y="635"/>
                        <a:pt x="14" y="653"/>
                      </a:cubicBezTo>
                      <a:cubicBezTo>
                        <a:pt x="11" y="671"/>
                        <a:pt x="10" y="702"/>
                        <a:pt x="12" y="713"/>
                      </a:cubicBezTo>
                      <a:cubicBezTo>
                        <a:pt x="14" y="724"/>
                        <a:pt x="18" y="730"/>
                        <a:pt x="24" y="721"/>
                      </a:cubicBezTo>
                      <a:cubicBezTo>
                        <a:pt x="30" y="712"/>
                        <a:pt x="44" y="663"/>
                        <a:pt x="46" y="661"/>
                      </a:cubicBezTo>
                      <a:cubicBezTo>
                        <a:pt x="48" y="659"/>
                        <a:pt x="38" y="706"/>
                        <a:pt x="40" y="711"/>
                      </a:cubicBezTo>
                      <a:cubicBezTo>
                        <a:pt x="42" y="716"/>
                        <a:pt x="54" y="705"/>
                        <a:pt x="60" y="693"/>
                      </a:cubicBezTo>
                      <a:cubicBezTo>
                        <a:pt x="66" y="681"/>
                        <a:pt x="69" y="663"/>
                        <a:pt x="74" y="641"/>
                      </a:cubicBezTo>
                      <a:cubicBezTo>
                        <a:pt x="79" y="619"/>
                        <a:pt x="86" y="579"/>
                        <a:pt x="90" y="561"/>
                      </a:cubicBezTo>
                      <a:cubicBezTo>
                        <a:pt x="94" y="543"/>
                        <a:pt x="94" y="528"/>
                        <a:pt x="96" y="533"/>
                      </a:cubicBezTo>
                      <a:cubicBezTo>
                        <a:pt x="98" y="538"/>
                        <a:pt x="98" y="573"/>
                        <a:pt x="100" y="591"/>
                      </a:cubicBezTo>
                      <a:cubicBezTo>
                        <a:pt x="102" y="609"/>
                        <a:pt x="103" y="636"/>
                        <a:pt x="106" y="639"/>
                      </a:cubicBezTo>
                      <a:cubicBezTo>
                        <a:pt x="109" y="642"/>
                        <a:pt x="114" y="624"/>
                        <a:pt x="118" y="611"/>
                      </a:cubicBezTo>
                      <a:cubicBezTo>
                        <a:pt x="122" y="598"/>
                        <a:pt x="127" y="580"/>
                        <a:pt x="130" y="563"/>
                      </a:cubicBezTo>
                      <a:cubicBezTo>
                        <a:pt x="133" y="546"/>
                        <a:pt x="135" y="508"/>
                        <a:pt x="138" y="507"/>
                      </a:cubicBezTo>
                      <a:cubicBezTo>
                        <a:pt x="141" y="506"/>
                        <a:pt x="142" y="550"/>
                        <a:pt x="146" y="555"/>
                      </a:cubicBezTo>
                      <a:cubicBezTo>
                        <a:pt x="150" y="560"/>
                        <a:pt x="159" y="549"/>
                        <a:pt x="164" y="539"/>
                      </a:cubicBezTo>
                      <a:cubicBezTo>
                        <a:pt x="169" y="529"/>
                        <a:pt x="172" y="516"/>
                        <a:pt x="174" y="495"/>
                      </a:cubicBezTo>
                      <a:cubicBezTo>
                        <a:pt x="176" y="474"/>
                        <a:pt x="175" y="420"/>
                        <a:pt x="176" y="411"/>
                      </a:cubicBezTo>
                      <a:cubicBezTo>
                        <a:pt x="177" y="402"/>
                        <a:pt x="179" y="439"/>
                        <a:pt x="182" y="443"/>
                      </a:cubicBezTo>
                      <a:cubicBezTo>
                        <a:pt x="185" y="447"/>
                        <a:pt x="191" y="430"/>
                        <a:pt x="194" y="433"/>
                      </a:cubicBezTo>
                      <a:cubicBezTo>
                        <a:pt x="197" y="436"/>
                        <a:pt x="198" y="460"/>
                        <a:pt x="200" y="459"/>
                      </a:cubicBezTo>
                      <a:cubicBezTo>
                        <a:pt x="202" y="458"/>
                        <a:pt x="204" y="444"/>
                        <a:pt x="206" y="427"/>
                      </a:cubicBezTo>
                      <a:cubicBezTo>
                        <a:pt x="208" y="410"/>
                        <a:pt x="209" y="373"/>
                        <a:pt x="210" y="357"/>
                      </a:cubicBezTo>
                      <a:cubicBezTo>
                        <a:pt x="211" y="341"/>
                        <a:pt x="209" y="338"/>
                        <a:pt x="210" y="331"/>
                      </a:cubicBezTo>
                      <a:cubicBezTo>
                        <a:pt x="211" y="324"/>
                        <a:pt x="218" y="324"/>
                        <a:pt x="218" y="317"/>
                      </a:cubicBezTo>
                      <a:cubicBezTo>
                        <a:pt x="218" y="310"/>
                        <a:pt x="209" y="299"/>
                        <a:pt x="212" y="289"/>
                      </a:cubicBezTo>
                      <a:cubicBezTo>
                        <a:pt x="215" y="279"/>
                        <a:pt x="230" y="276"/>
                        <a:pt x="236" y="255"/>
                      </a:cubicBezTo>
                      <a:cubicBezTo>
                        <a:pt x="242" y="234"/>
                        <a:pt x="256" y="187"/>
                        <a:pt x="246" y="161"/>
                      </a:cubicBezTo>
                      <a:cubicBezTo>
                        <a:pt x="236" y="135"/>
                        <a:pt x="199" y="122"/>
                        <a:pt x="176" y="99"/>
                      </a:cubicBezTo>
                      <a:cubicBezTo>
                        <a:pt x="153" y="76"/>
                        <a:pt x="126" y="33"/>
                        <a:pt x="106" y="25"/>
                      </a:cubicBezTo>
                      <a:cubicBezTo>
                        <a:pt x="86" y="17"/>
                        <a:pt x="62" y="0"/>
                        <a:pt x="52" y="47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07"/>
                <p:cNvSpPr/>
                <p:nvPr/>
              </p:nvSpPr>
              <p:spPr>
                <a:xfrm>
                  <a:off x="13392360" y="6095160"/>
                  <a:ext cx="311040" cy="583200"/>
                </a:xfrm>
                <a:custGeom>
                  <a:avLst/>
                  <a:gdLst>
                    <a:gd name="textAreaLeft" fmla="*/ 0 w 311040"/>
                    <a:gd name="textAreaRight" fmla="*/ 311040 w 311040"/>
                    <a:gd name="textAreaTop" fmla="*/ 0 h 583200"/>
                    <a:gd name="textAreaBottom" fmla="*/ 583560 h 583200"/>
                  </a:gdLst>
                  <a:ahLst/>
                  <a:rect l="textAreaLeft" t="textAreaTop" r="textAreaRight" b="textAreaBottom"/>
                  <a:pathLst>
                    <a:path w="172" h="322">
                      <a:moveTo>
                        <a:pt x="46" y="21"/>
                      </a:moveTo>
                      <a:cubicBezTo>
                        <a:pt x="38" y="42"/>
                        <a:pt x="18" y="113"/>
                        <a:pt x="10" y="149"/>
                      </a:cubicBezTo>
                      <a:cubicBezTo>
                        <a:pt x="2" y="185"/>
                        <a:pt x="0" y="211"/>
                        <a:pt x="0" y="239"/>
                      </a:cubicBezTo>
                      <a:cubicBezTo>
                        <a:pt x="0" y="267"/>
                        <a:pt x="8" y="308"/>
                        <a:pt x="12" y="315"/>
                      </a:cubicBezTo>
                      <a:cubicBezTo>
                        <a:pt x="16" y="322"/>
                        <a:pt x="18" y="292"/>
                        <a:pt x="22" y="285"/>
                      </a:cubicBezTo>
                      <a:cubicBezTo>
                        <a:pt x="26" y="278"/>
                        <a:pt x="33" y="284"/>
                        <a:pt x="36" y="275"/>
                      </a:cubicBezTo>
                      <a:cubicBezTo>
                        <a:pt x="39" y="266"/>
                        <a:pt x="36" y="236"/>
                        <a:pt x="40" y="229"/>
                      </a:cubicBezTo>
                      <a:cubicBezTo>
                        <a:pt x="44" y="222"/>
                        <a:pt x="56" y="236"/>
                        <a:pt x="60" y="233"/>
                      </a:cubicBezTo>
                      <a:cubicBezTo>
                        <a:pt x="64" y="230"/>
                        <a:pt x="61" y="214"/>
                        <a:pt x="66" y="209"/>
                      </a:cubicBezTo>
                      <a:cubicBezTo>
                        <a:pt x="71" y="204"/>
                        <a:pt x="86" y="207"/>
                        <a:pt x="92" y="201"/>
                      </a:cubicBezTo>
                      <a:cubicBezTo>
                        <a:pt x="98" y="195"/>
                        <a:pt x="91" y="182"/>
                        <a:pt x="100" y="175"/>
                      </a:cubicBezTo>
                      <a:cubicBezTo>
                        <a:pt x="109" y="168"/>
                        <a:pt x="132" y="174"/>
                        <a:pt x="144" y="161"/>
                      </a:cubicBezTo>
                      <a:cubicBezTo>
                        <a:pt x="156" y="148"/>
                        <a:pt x="172" y="120"/>
                        <a:pt x="172" y="97"/>
                      </a:cubicBezTo>
                      <a:cubicBezTo>
                        <a:pt x="172" y="74"/>
                        <a:pt x="161" y="36"/>
                        <a:pt x="142" y="23"/>
                      </a:cubicBezTo>
                      <a:cubicBezTo>
                        <a:pt x="123" y="10"/>
                        <a:pt x="76" y="22"/>
                        <a:pt x="60" y="21"/>
                      </a:cubicBezTo>
                      <a:cubicBezTo>
                        <a:pt x="44" y="20"/>
                        <a:pt x="54" y="0"/>
                        <a:pt x="46" y="2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Oval 108"/>
              <p:cNvSpPr/>
              <p:nvPr/>
            </p:nvSpPr>
            <p:spPr>
              <a:xfrm>
                <a:off x="12984120" y="5628960"/>
                <a:ext cx="17640" cy="17280"/>
              </a:xfrm>
              <a:prstGeom prst="ellipse">
                <a:avLst/>
              </a:pr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2658680" y="5554440"/>
                <a:ext cx="241200" cy="135000"/>
                <a:chOff x="12658680" y="5554440"/>
                <a:chExt cx="241200" cy="135000"/>
              </a:xfrm>
            </p:grpSpPr>
            <p:sp>
              <p:nvSpPr>
                <p:cNvPr id="149" name="Freeform 110"/>
                <p:cNvSpPr/>
                <p:nvPr/>
              </p:nvSpPr>
              <p:spPr>
                <a:xfrm>
                  <a:off x="12692160" y="5554440"/>
                  <a:ext cx="207720" cy="1332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111"/>
                <p:cNvSpPr/>
                <p:nvPr/>
              </p:nvSpPr>
              <p:spPr>
                <a:xfrm>
                  <a:off x="12658680" y="5567040"/>
                  <a:ext cx="227160" cy="106560"/>
                </a:xfrm>
                <a:custGeom>
                  <a:avLst/>
                  <a:gdLst>
                    <a:gd name="textAreaLeft" fmla="*/ 0 w 227160"/>
                    <a:gd name="textAreaRight" fmla="*/ 227160 w 2271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112"/>
                <p:cNvSpPr/>
                <p:nvPr/>
              </p:nvSpPr>
              <p:spPr>
                <a:xfrm>
                  <a:off x="12661920" y="5600520"/>
                  <a:ext cx="216000" cy="8892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Freeform 113"/>
              <p:cNvSpPr/>
              <p:nvPr/>
            </p:nvSpPr>
            <p:spPr>
              <a:xfrm>
                <a:off x="12760200" y="5554440"/>
                <a:ext cx="1675080" cy="1477800"/>
              </a:xfrm>
              <a:custGeom>
                <a:avLst/>
                <a:gdLst>
                  <a:gd name="textAreaLeft" fmla="*/ 0 w 1675080"/>
                  <a:gd name="textAreaRight" fmla="*/ 1675440 w 1675080"/>
                  <a:gd name="textAreaTop" fmla="*/ 0 h 1477800"/>
                  <a:gd name="textAreaBottom" fmla="*/ 1478160 h 1477800"/>
                </a:gdLst>
                <a:ahLst/>
                <a:rect l="textAreaLeft" t="textAreaTop" r="textAreaRight" b="textAreaBottom"/>
                <a:pathLst>
                  <a:path w="1055" h="931">
                    <a:moveTo>
                      <a:pt x="167" y="42"/>
                    </a:moveTo>
                    <a:cubicBezTo>
                      <a:pt x="94" y="0"/>
                      <a:pt x="61" y="42"/>
                      <a:pt x="35" y="48"/>
                    </a:cubicBezTo>
                    <a:cubicBezTo>
                      <a:pt x="9" y="54"/>
                      <a:pt x="0" y="63"/>
                      <a:pt x="8" y="78"/>
                    </a:cubicBezTo>
                    <a:cubicBezTo>
                      <a:pt x="16" y="93"/>
                      <a:pt x="57" y="122"/>
                      <a:pt x="80" y="141"/>
                    </a:cubicBezTo>
                    <a:cubicBezTo>
                      <a:pt x="103" y="160"/>
                      <a:pt x="125" y="160"/>
                      <a:pt x="146" y="189"/>
                    </a:cubicBezTo>
                    <a:cubicBezTo>
                      <a:pt x="167" y="218"/>
                      <a:pt x="180" y="274"/>
                      <a:pt x="206" y="315"/>
                    </a:cubicBezTo>
                    <a:cubicBezTo>
                      <a:pt x="232" y="356"/>
                      <a:pt x="254" y="395"/>
                      <a:pt x="302" y="435"/>
                    </a:cubicBezTo>
                    <a:cubicBezTo>
                      <a:pt x="350" y="475"/>
                      <a:pt x="436" y="520"/>
                      <a:pt x="497" y="552"/>
                    </a:cubicBezTo>
                    <a:cubicBezTo>
                      <a:pt x="558" y="584"/>
                      <a:pt x="632" y="610"/>
                      <a:pt x="668" y="627"/>
                    </a:cubicBezTo>
                    <a:cubicBezTo>
                      <a:pt x="704" y="644"/>
                      <a:pt x="695" y="636"/>
                      <a:pt x="710" y="654"/>
                    </a:cubicBezTo>
                    <a:cubicBezTo>
                      <a:pt x="725" y="672"/>
                      <a:pt x="738" y="704"/>
                      <a:pt x="758" y="738"/>
                    </a:cubicBezTo>
                    <a:cubicBezTo>
                      <a:pt x="778" y="772"/>
                      <a:pt x="812" y="829"/>
                      <a:pt x="833" y="858"/>
                    </a:cubicBezTo>
                    <a:cubicBezTo>
                      <a:pt x="854" y="887"/>
                      <a:pt x="877" y="908"/>
                      <a:pt x="884" y="912"/>
                    </a:cubicBezTo>
                    <a:cubicBezTo>
                      <a:pt x="891" y="916"/>
                      <a:pt x="887" y="899"/>
                      <a:pt x="878" y="882"/>
                    </a:cubicBezTo>
                    <a:cubicBezTo>
                      <a:pt x="869" y="865"/>
                      <a:pt x="823" y="802"/>
                      <a:pt x="830" y="807"/>
                    </a:cubicBezTo>
                    <a:cubicBezTo>
                      <a:pt x="837" y="812"/>
                      <a:pt x="898" y="893"/>
                      <a:pt x="920" y="912"/>
                    </a:cubicBezTo>
                    <a:cubicBezTo>
                      <a:pt x="942" y="931"/>
                      <a:pt x="955" y="923"/>
                      <a:pt x="962" y="921"/>
                    </a:cubicBezTo>
                    <a:cubicBezTo>
                      <a:pt x="969" y="919"/>
                      <a:pt x="956" y="897"/>
                      <a:pt x="962" y="897"/>
                    </a:cubicBezTo>
                    <a:cubicBezTo>
                      <a:pt x="968" y="897"/>
                      <a:pt x="984" y="918"/>
                      <a:pt x="998" y="921"/>
                    </a:cubicBezTo>
                    <a:cubicBezTo>
                      <a:pt x="1012" y="924"/>
                      <a:pt x="1040" y="919"/>
                      <a:pt x="1046" y="915"/>
                    </a:cubicBezTo>
                    <a:cubicBezTo>
                      <a:pt x="1052" y="911"/>
                      <a:pt x="1055" y="919"/>
                      <a:pt x="1034" y="894"/>
                    </a:cubicBezTo>
                    <a:cubicBezTo>
                      <a:pt x="1013" y="869"/>
                      <a:pt x="935" y="800"/>
                      <a:pt x="917" y="765"/>
                    </a:cubicBezTo>
                    <a:cubicBezTo>
                      <a:pt x="899" y="730"/>
                      <a:pt x="937" y="712"/>
                      <a:pt x="926" y="684"/>
                    </a:cubicBezTo>
                    <a:cubicBezTo>
                      <a:pt x="915" y="656"/>
                      <a:pt x="926" y="660"/>
                      <a:pt x="851" y="597"/>
                    </a:cubicBezTo>
                    <a:cubicBezTo>
                      <a:pt x="776" y="534"/>
                      <a:pt x="590" y="395"/>
                      <a:pt x="476" y="303"/>
                    </a:cubicBezTo>
                    <a:cubicBezTo>
                      <a:pt x="362" y="211"/>
                      <a:pt x="240" y="84"/>
                      <a:pt x="167" y="42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14"/>
              <p:cNvSpPr/>
              <p:nvPr/>
            </p:nvSpPr>
            <p:spPr>
              <a:xfrm>
                <a:off x="12752280" y="5540040"/>
                <a:ext cx="2025720" cy="147312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1276" h="928">
                    <a:moveTo>
                      <a:pt x="208" y="39"/>
                    </a:moveTo>
                    <a:cubicBezTo>
                      <a:pt x="134" y="10"/>
                      <a:pt x="122" y="11"/>
                      <a:pt x="91" y="6"/>
                    </a:cubicBezTo>
                    <a:cubicBezTo>
                      <a:pt x="60" y="1"/>
                      <a:pt x="34" y="0"/>
                      <a:pt x="19" y="9"/>
                    </a:cubicBezTo>
                    <a:cubicBezTo>
                      <a:pt x="4" y="18"/>
                      <a:pt x="0" y="44"/>
                      <a:pt x="1" y="60"/>
                    </a:cubicBezTo>
                    <a:cubicBezTo>
                      <a:pt x="2" y="76"/>
                      <a:pt x="6" y="93"/>
                      <a:pt x="25" y="105"/>
                    </a:cubicBezTo>
                    <a:cubicBezTo>
                      <a:pt x="44" y="117"/>
                      <a:pt x="89" y="120"/>
                      <a:pt x="115" y="132"/>
                    </a:cubicBezTo>
                    <a:cubicBezTo>
                      <a:pt x="141" y="144"/>
                      <a:pt x="163" y="165"/>
                      <a:pt x="178" y="179"/>
                    </a:cubicBezTo>
                    <a:cubicBezTo>
                      <a:pt x="193" y="193"/>
                      <a:pt x="197" y="211"/>
                      <a:pt x="205" y="215"/>
                    </a:cubicBezTo>
                    <a:cubicBezTo>
                      <a:pt x="213" y="219"/>
                      <a:pt x="213" y="212"/>
                      <a:pt x="226" y="206"/>
                    </a:cubicBezTo>
                    <a:cubicBezTo>
                      <a:pt x="239" y="200"/>
                      <a:pt x="275" y="172"/>
                      <a:pt x="283" y="176"/>
                    </a:cubicBezTo>
                    <a:cubicBezTo>
                      <a:pt x="291" y="180"/>
                      <a:pt x="273" y="212"/>
                      <a:pt x="274" y="231"/>
                    </a:cubicBezTo>
                    <a:cubicBezTo>
                      <a:pt x="275" y="250"/>
                      <a:pt x="265" y="258"/>
                      <a:pt x="286" y="288"/>
                    </a:cubicBezTo>
                    <a:cubicBezTo>
                      <a:pt x="307" y="318"/>
                      <a:pt x="352" y="372"/>
                      <a:pt x="400" y="411"/>
                    </a:cubicBezTo>
                    <a:cubicBezTo>
                      <a:pt x="448" y="450"/>
                      <a:pt x="531" y="495"/>
                      <a:pt x="577" y="522"/>
                    </a:cubicBezTo>
                    <a:cubicBezTo>
                      <a:pt x="623" y="549"/>
                      <a:pt x="656" y="559"/>
                      <a:pt x="679" y="573"/>
                    </a:cubicBezTo>
                    <a:cubicBezTo>
                      <a:pt x="702" y="587"/>
                      <a:pt x="696" y="599"/>
                      <a:pt x="715" y="609"/>
                    </a:cubicBezTo>
                    <a:cubicBezTo>
                      <a:pt x="734" y="619"/>
                      <a:pt x="770" y="629"/>
                      <a:pt x="793" y="633"/>
                    </a:cubicBezTo>
                    <a:cubicBezTo>
                      <a:pt x="816" y="637"/>
                      <a:pt x="851" y="632"/>
                      <a:pt x="856" y="636"/>
                    </a:cubicBezTo>
                    <a:cubicBezTo>
                      <a:pt x="861" y="640"/>
                      <a:pt x="836" y="650"/>
                      <a:pt x="826" y="657"/>
                    </a:cubicBezTo>
                    <a:cubicBezTo>
                      <a:pt x="816" y="664"/>
                      <a:pt x="792" y="665"/>
                      <a:pt x="796" y="678"/>
                    </a:cubicBezTo>
                    <a:cubicBezTo>
                      <a:pt x="800" y="691"/>
                      <a:pt x="819" y="702"/>
                      <a:pt x="850" y="735"/>
                    </a:cubicBezTo>
                    <a:cubicBezTo>
                      <a:pt x="881" y="768"/>
                      <a:pt x="948" y="843"/>
                      <a:pt x="979" y="873"/>
                    </a:cubicBezTo>
                    <a:cubicBezTo>
                      <a:pt x="1010" y="903"/>
                      <a:pt x="1022" y="909"/>
                      <a:pt x="1036" y="918"/>
                    </a:cubicBezTo>
                    <a:cubicBezTo>
                      <a:pt x="1050" y="927"/>
                      <a:pt x="1055" y="927"/>
                      <a:pt x="1063" y="927"/>
                    </a:cubicBezTo>
                    <a:cubicBezTo>
                      <a:pt x="1071" y="927"/>
                      <a:pt x="1075" y="928"/>
                      <a:pt x="1084" y="918"/>
                    </a:cubicBezTo>
                    <a:cubicBezTo>
                      <a:pt x="1071" y="902"/>
                      <a:pt x="989" y="827"/>
                      <a:pt x="988" y="828"/>
                    </a:cubicBezTo>
                    <a:cubicBezTo>
                      <a:pt x="987" y="829"/>
                      <a:pt x="1069" y="902"/>
                      <a:pt x="1093" y="912"/>
                    </a:cubicBezTo>
                    <a:cubicBezTo>
                      <a:pt x="1107" y="896"/>
                      <a:pt x="1111" y="902"/>
                      <a:pt x="1132" y="888"/>
                    </a:cubicBezTo>
                    <a:cubicBezTo>
                      <a:pt x="1103" y="874"/>
                      <a:pt x="1034" y="822"/>
                      <a:pt x="1036" y="822"/>
                    </a:cubicBezTo>
                    <a:cubicBezTo>
                      <a:pt x="1038" y="822"/>
                      <a:pt x="1113" y="870"/>
                      <a:pt x="1147" y="891"/>
                    </a:cubicBezTo>
                    <a:cubicBezTo>
                      <a:pt x="1185" y="890"/>
                      <a:pt x="1203" y="882"/>
                      <a:pt x="1246" y="879"/>
                    </a:cubicBezTo>
                    <a:cubicBezTo>
                      <a:pt x="1227" y="856"/>
                      <a:pt x="1120" y="779"/>
                      <a:pt x="1123" y="777"/>
                    </a:cubicBezTo>
                    <a:cubicBezTo>
                      <a:pt x="1126" y="775"/>
                      <a:pt x="1236" y="858"/>
                      <a:pt x="1261" y="867"/>
                    </a:cubicBezTo>
                    <a:cubicBezTo>
                      <a:pt x="1269" y="856"/>
                      <a:pt x="1273" y="852"/>
                      <a:pt x="1276" y="837"/>
                    </a:cubicBezTo>
                    <a:cubicBezTo>
                      <a:pt x="1243" y="808"/>
                      <a:pt x="1124" y="732"/>
                      <a:pt x="1060" y="690"/>
                    </a:cubicBezTo>
                    <a:cubicBezTo>
                      <a:pt x="996" y="648"/>
                      <a:pt x="935" y="623"/>
                      <a:pt x="892" y="588"/>
                    </a:cubicBezTo>
                    <a:cubicBezTo>
                      <a:pt x="849" y="553"/>
                      <a:pt x="835" y="521"/>
                      <a:pt x="802" y="477"/>
                    </a:cubicBezTo>
                    <a:cubicBezTo>
                      <a:pt x="769" y="433"/>
                      <a:pt x="735" y="373"/>
                      <a:pt x="691" y="324"/>
                    </a:cubicBezTo>
                    <a:cubicBezTo>
                      <a:pt x="647" y="275"/>
                      <a:pt x="619" y="230"/>
                      <a:pt x="538" y="182"/>
                    </a:cubicBezTo>
                    <a:cubicBezTo>
                      <a:pt x="457" y="134"/>
                      <a:pt x="282" y="68"/>
                      <a:pt x="208" y="39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15"/>
              <p:cNvSpPr/>
              <p:nvPr/>
            </p:nvSpPr>
            <p:spPr>
              <a:xfrm>
                <a:off x="12774600" y="5597280"/>
                <a:ext cx="17640" cy="172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6"/>
              <p:cNvSpPr/>
              <p:nvPr/>
            </p:nvSpPr>
            <p:spPr>
              <a:xfrm>
                <a:off x="12266640" y="5928840"/>
                <a:ext cx="1106640" cy="1155960"/>
              </a:xfrm>
              <a:custGeom>
                <a:avLst/>
                <a:gdLst>
                  <a:gd name="textAreaLeft" fmla="*/ 0 w 1106640"/>
                  <a:gd name="textAreaRight" fmla="*/ 1107000 w 1106640"/>
                  <a:gd name="textAreaTop" fmla="*/ 0 h 1155960"/>
                  <a:gd name="textAreaBottom" fmla="*/ 1156320 h 1155960"/>
                </a:gdLst>
                <a:ahLst/>
                <a:rect l="textAreaLeft" t="textAreaTop" r="textAreaRight" b="textAreaBottom"/>
                <a:pathLst>
                  <a:path w="697" h="728">
                    <a:moveTo>
                      <a:pt x="585" y="7"/>
                    </a:moveTo>
                    <a:cubicBezTo>
                      <a:pt x="550" y="6"/>
                      <a:pt x="519" y="97"/>
                      <a:pt x="487" y="157"/>
                    </a:cubicBezTo>
                    <a:cubicBezTo>
                      <a:pt x="455" y="218"/>
                      <a:pt x="438" y="313"/>
                      <a:pt x="386" y="367"/>
                    </a:cubicBezTo>
                    <a:cubicBezTo>
                      <a:pt x="335" y="420"/>
                      <a:pt x="241" y="434"/>
                      <a:pt x="181" y="481"/>
                    </a:cubicBezTo>
                    <a:cubicBezTo>
                      <a:pt x="122" y="527"/>
                      <a:pt x="44" y="622"/>
                      <a:pt x="29" y="645"/>
                    </a:cubicBezTo>
                    <a:cubicBezTo>
                      <a:pt x="13" y="668"/>
                      <a:pt x="84" y="605"/>
                      <a:pt x="86" y="615"/>
                    </a:cubicBezTo>
                    <a:cubicBezTo>
                      <a:pt x="87" y="625"/>
                      <a:pt x="50" y="690"/>
                      <a:pt x="38" y="709"/>
                    </a:cubicBezTo>
                    <a:cubicBezTo>
                      <a:pt x="25" y="727"/>
                      <a:pt x="0" y="728"/>
                      <a:pt x="8" y="727"/>
                    </a:cubicBezTo>
                    <a:cubicBezTo>
                      <a:pt x="16" y="726"/>
                      <a:pt x="63" y="718"/>
                      <a:pt x="83" y="704"/>
                    </a:cubicBezTo>
                    <a:cubicBezTo>
                      <a:pt x="104" y="690"/>
                      <a:pt x="105" y="665"/>
                      <a:pt x="131" y="643"/>
                    </a:cubicBezTo>
                    <a:cubicBezTo>
                      <a:pt x="157" y="620"/>
                      <a:pt x="202" y="599"/>
                      <a:pt x="241" y="567"/>
                    </a:cubicBezTo>
                    <a:cubicBezTo>
                      <a:pt x="279" y="535"/>
                      <a:pt x="347" y="451"/>
                      <a:pt x="361" y="451"/>
                    </a:cubicBezTo>
                    <a:cubicBezTo>
                      <a:pt x="376" y="451"/>
                      <a:pt x="328" y="548"/>
                      <a:pt x="327" y="567"/>
                    </a:cubicBezTo>
                    <a:cubicBezTo>
                      <a:pt x="326" y="587"/>
                      <a:pt x="342" y="575"/>
                      <a:pt x="352" y="570"/>
                    </a:cubicBezTo>
                    <a:cubicBezTo>
                      <a:pt x="363" y="564"/>
                      <a:pt x="375" y="551"/>
                      <a:pt x="391" y="531"/>
                    </a:cubicBezTo>
                    <a:cubicBezTo>
                      <a:pt x="407" y="510"/>
                      <a:pt x="438" y="464"/>
                      <a:pt x="450" y="444"/>
                    </a:cubicBezTo>
                    <a:cubicBezTo>
                      <a:pt x="463" y="425"/>
                      <a:pt x="465" y="415"/>
                      <a:pt x="466" y="417"/>
                    </a:cubicBezTo>
                    <a:cubicBezTo>
                      <a:pt x="467" y="419"/>
                      <a:pt x="450" y="456"/>
                      <a:pt x="455" y="460"/>
                    </a:cubicBezTo>
                    <a:cubicBezTo>
                      <a:pt x="459" y="465"/>
                      <a:pt x="482" y="455"/>
                      <a:pt x="496" y="442"/>
                    </a:cubicBezTo>
                    <a:cubicBezTo>
                      <a:pt x="510" y="429"/>
                      <a:pt x="522" y="408"/>
                      <a:pt x="537" y="385"/>
                    </a:cubicBezTo>
                    <a:cubicBezTo>
                      <a:pt x="552" y="362"/>
                      <a:pt x="578" y="316"/>
                      <a:pt x="585" y="308"/>
                    </a:cubicBezTo>
                    <a:cubicBezTo>
                      <a:pt x="592" y="300"/>
                      <a:pt x="571" y="337"/>
                      <a:pt x="576" y="339"/>
                    </a:cubicBezTo>
                    <a:cubicBezTo>
                      <a:pt x="580" y="342"/>
                      <a:pt x="600" y="333"/>
                      <a:pt x="610" y="321"/>
                    </a:cubicBezTo>
                    <a:cubicBezTo>
                      <a:pt x="620" y="310"/>
                      <a:pt x="631" y="293"/>
                      <a:pt x="640" y="271"/>
                    </a:cubicBezTo>
                    <a:cubicBezTo>
                      <a:pt x="649" y="249"/>
                      <a:pt x="656" y="199"/>
                      <a:pt x="661" y="192"/>
                    </a:cubicBezTo>
                    <a:cubicBezTo>
                      <a:pt x="666" y="185"/>
                      <a:pt x="664" y="226"/>
                      <a:pt x="669" y="230"/>
                    </a:cubicBezTo>
                    <a:cubicBezTo>
                      <a:pt x="674" y="234"/>
                      <a:pt x="686" y="233"/>
                      <a:pt x="690" y="216"/>
                    </a:cubicBezTo>
                    <a:cubicBezTo>
                      <a:pt x="694" y="199"/>
                      <a:pt x="696" y="162"/>
                      <a:pt x="694" y="129"/>
                    </a:cubicBezTo>
                    <a:cubicBezTo>
                      <a:pt x="692" y="96"/>
                      <a:pt x="697" y="40"/>
                      <a:pt x="679" y="20"/>
                    </a:cubicBezTo>
                    <a:cubicBezTo>
                      <a:pt x="661" y="0"/>
                      <a:pt x="604" y="9"/>
                      <a:pt x="585" y="7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7"/>
              <p:cNvSpPr/>
              <p:nvPr/>
            </p:nvSpPr>
            <p:spPr>
              <a:xfrm>
                <a:off x="12258720" y="5779800"/>
                <a:ext cx="1195560" cy="136368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63680"/>
                  <a:gd name="textAreaBottom" fmla="*/ 1364040 h 1363680"/>
                </a:gdLst>
                <a:ahLst/>
                <a:rect l="textAreaLeft" t="textAreaTop" r="textAreaRight" b="textAreaBottom"/>
                <a:pathLst>
                  <a:path w="660" h="753">
                    <a:moveTo>
                      <a:pt x="644" y="93"/>
                    </a:moveTo>
                    <a:cubicBezTo>
                      <a:pt x="660" y="115"/>
                      <a:pt x="621" y="135"/>
                      <a:pt x="611" y="156"/>
                    </a:cubicBezTo>
                    <a:cubicBezTo>
                      <a:pt x="601" y="177"/>
                      <a:pt x="596" y="200"/>
                      <a:pt x="587" y="218"/>
                    </a:cubicBezTo>
                    <a:cubicBezTo>
                      <a:pt x="578" y="236"/>
                      <a:pt x="563" y="255"/>
                      <a:pt x="555" y="262"/>
                    </a:cubicBezTo>
                    <a:cubicBezTo>
                      <a:pt x="547" y="269"/>
                      <a:pt x="544" y="265"/>
                      <a:pt x="541" y="260"/>
                    </a:cubicBezTo>
                    <a:cubicBezTo>
                      <a:pt x="538" y="255"/>
                      <a:pt x="540" y="231"/>
                      <a:pt x="537" y="232"/>
                    </a:cubicBezTo>
                    <a:cubicBezTo>
                      <a:pt x="534" y="233"/>
                      <a:pt x="535" y="247"/>
                      <a:pt x="523" y="268"/>
                    </a:cubicBezTo>
                    <a:cubicBezTo>
                      <a:pt x="511" y="289"/>
                      <a:pt x="490" y="328"/>
                      <a:pt x="465" y="356"/>
                    </a:cubicBezTo>
                    <a:cubicBezTo>
                      <a:pt x="440" y="384"/>
                      <a:pt x="399" y="406"/>
                      <a:pt x="373" y="436"/>
                    </a:cubicBezTo>
                    <a:cubicBezTo>
                      <a:pt x="347" y="466"/>
                      <a:pt x="333" y="497"/>
                      <a:pt x="307" y="534"/>
                    </a:cubicBezTo>
                    <a:cubicBezTo>
                      <a:pt x="281" y="571"/>
                      <a:pt x="239" y="637"/>
                      <a:pt x="217" y="660"/>
                    </a:cubicBezTo>
                    <a:cubicBezTo>
                      <a:pt x="195" y="683"/>
                      <a:pt x="181" y="678"/>
                      <a:pt x="177" y="674"/>
                    </a:cubicBezTo>
                    <a:cubicBezTo>
                      <a:pt x="173" y="670"/>
                      <a:pt x="195" y="638"/>
                      <a:pt x="193" y="638"/>
                    </a:cubicBezTo>
                    <a:cubicBezTo>
                      <a:pt x="191" y="638"/>
                      <a:pt x="177" y="663"/>
                      <a:pt x="165" y="674"/>
                    </a:cubicBezTo>
                    <a:cubicBezTo>
                      <a:pt x="153" y="685"/>
                      <a:pt x="132" y="701"/>
                      <a:pt x="123" y="706"/>
                    </a:cubicBezTo>
                    <a:cubicBezTo>
                      <a:pt x="114" y="711"/>
                      <a:pt x="109" y="707"/>
                      <a:pt x="109" y="702"/>
                    </a:cubicBezTo>
                    <a:cubicBezTo>
                      <a:pt x="109" y="697"/>
                      <a:pt x="123" y="672"/>
                      <a:pt x="121" y="674"/>
                    </a:cubicBezTo>
                    <a:cubicBezTo>
                      <a:pt x="119" y="676"/>
                      <a:pt x="106" y="701"/>
                      <a:pt x="95" y="714"/>
                    </a:cubicBezTo>
                    <a:cubicBezTo>
                      <a:pt x="84" y="727"/>
                      <a:pt x="62" y="747"/>
                      <a:pt x="55" y="750"/>
                    </a:cubicBezTo>
                    <a:cubicBezTo>
                      <a:pt x="48" y="753"/>
                      <a:pt x="47" y="742"/>
                      <a:pt x="51" y="730"/>
                    </a:cubicBezTo>
                    <a:cubicBezTo>
                      <a:pt x="55" y="718"/>
                      <a:pt x="70" y="696"/>
                      <a:pt x="81" y="678"/>
                    </a:cubicBezTo>
                    <a:cubicBezTo>
                      <a:pt x="92" y="660"/>
                      <a:pt x="115" y="621"/>
                      <a:pt x="115" y="620"/>
                    </a:cubicBezTo>
                    <a:cubicBezTo>
                      <a:pt x="115" y="619"/>
                      <a:pt x="92" y="653"/>
                      <a:pt x="79" y="670"/>
                    </a:cubicBezTo>
                    <a:cubicBezTo>
                      <a:pt x="66" y="687"/>
                      <a:pt x="48" y="710"/>
                      <a:pt x="35" y="720"/>
                    </a:cubicBezTo>
                    <a:cubicBezTo>
                      <a:pt x="22" y="730"/>
                      <a:pt x="6" y="734"/>
                      <a:pt x="3" y="730"/>
                    </a:cubicBezTo>
                    <a:cubicBezTo>
                      <a:pt x="0" y="726"/>
                      <a:pt x="9" y="712"/>
                      <a:pt x="19" y="696"/>
                    </a:cubicBezTo>
                    <a:cubicBezTo>
                      <a:pt x="29" y="680"/>
                      <a:pt x="52" y="652"/>
                      <a:pt x="65" y="632"/>
                    </a:cubicBezTo>
                    <a:cubicBezTo>
                      <a:pt x="78" y="612"/>
                      <a:pt x="95" y="575"/>
                      <a:pt x="95" y="574"/>
                    </a:cubicBezTo>
                    <a:cubicBezTo>
                      <a:pt x="95" y="573"/>
                      <a:pt x="76" y="609"/>
                      <a:pt x="63" y="624"/>
                    </a:cubicBezTo>
                    <a:cubicBezTo>
                      <a:pt x="50" y="639"/>
                      <a:pt x="25" y="664"/>
                      <a:pt x="19" y="664"/>
                    </a:cubicBezTo>
                    <a:cubicBezTo>
                      <a:pt x="13" y="664"/>
                      <a:pt x="16" y="649"/>
                      <a:pt x="29" y="624"/>
                    </a:cubicBezTo>
                    <a:cubicBezTo>
                      <a:pt x="42" y="599"/>
                      <a:pt x="69" y="557"/>
                      <a:pt x="97" y="514"/>
                    </a:cubicBezTo>
                    <a:cubicBezTo>
                      <a:pt x="125" y="471"/>
                      <a:pt x="167" y="410"/>
                      <a:pt x="197" y="366"/>
                    </a:cubicBezTo>
                    <a:cubicBezTo>
                      <a:pt x="227" y="322"/>
                      <a:pt x="246" y="284"/>
                      <a:pt x="275" y="248"/>
                    </a:cubicBezTo>
                    <a:cubicBezTo>
                      <a:pt x="304" y="212"/>
                      <a:pt x="339" y="182"/>
                      <a:pt x="373" y="150"/>
                    </a:cubicBezTo>
                    <a:cubicBezTo>
                      <a:pt x="407" y="118"/>
                      <a:pt x="451" y="82"/>
                      <a:pt x="481" y="58"/>
                    </a:cubicBezTo>
                    <a:cubicBezTo>
                      <a:pt x="511" y="34"/>
                      <a:pt x="528" y="0"/>
                      <a:pt x="555" y="6"/>
                    </a:cubicBezTo>
                    <a:cubicBezTo>
                      <a:pt x="582" y="12"/>
                      <a:pt x="625" y="75"/>
                      <a:pt x="644" y="93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18"/>
            <p:cNvSpPr/>
            <p:nvPr/>
          </p:nvSpPr>
          <p:spPr>
            <a:xfrm>
              <a:off x="12039480" y="3543480"/>
              <a:ext cx="3105000" cy="39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2176280" y="5224320"/>
            <a:ext cx="3105000" cy="3924360"/>
            <a:chOff x="12176280" y="5224320"/>
            <a:chExt cx="3105000" cy="3924360"/>
          </a:xfrm>
        </p:grpSpPr>
        <p:grpSp>
          <p:nvGrpSpPr>
            <p:cNvPr id="159" name=""/>
            <p:cNvGrpSpPr/>
            <p:nvPr/>
          </p:nvGrpSpPr>
          <p:grpSpPr>
            <a:xfrm>
              <a:off x="12795480" y="5333760"/>
              <a:ext cx="2211480" cy="3379680"/>
              <a:chOff x="12795480" y="5333760"/>
              <a:chExt cx="2211480" cy="33796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13605120" y="6808680"/>
                <a:ext cx="1401840" cy="1083600"/>
                <a:chOff x="13605120" y="6808680"/>
                <a:chExt cx="1401840" cy="1083600"/>
              </a:xfrm>
            </p:grpSpPr>
            <p:sp>
              <p:nvSpPr>
                <p:cNvPr id="161" name="Freeform 122"/>
                <p:cNvSpPr/>
                <p:nvPr/>
              </p:nvSpPr>
              <p:spPr>
                <a:xfrm>
                  <a:off x="13976640" y="6814800"/>
                  <a:ext cx="949320" cy="693360"/>
                </a:xfrm>
                <a:custGeom>
                  <a:avLst/>
                  <a:gdLst>
                    <a:gd name="textAreaLeft" fmla="*/ 0 w 949320"/>
                    <a:gd name="textAreaRight" fmla="*/ 949680 w 9493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598" h="437">
                      <a:moveTo>
                        <a:pt x="54" y="310"/>
                      </a:moveTo>
                      <a:cubicBezTo>
                        <a:pt x="108" y="255"/>
                        <a:pt x="361" y="137"/>
                        <a:pt x="441" y="91"/>
                      </a:cubicBezTo>
                      <a:cubicBezTo>
                        <a:pt x="521" y="45"/>
                        <a:pt x="509" y="48"/>
                        <a:pt x="534" y="34"/>
                      </a:cubicBezTo>
                      <a:cubicBezTo>
                        <a:pt x="559" y="20"/>
                        <a:pt x="584" y="0"/>
                        <a:pt x="591" y="4"/>
                      </a:cubicBezTo>
                      <a:cubicBezTo>
                        <a:pt x="598" y="8"/>
                        <a:pt x="586" y="36"/>
                        <a:pt x="576" y="61"/>
                      </a:cubicBezTo>
                      <a:cubicBezTo>
                        <a:pt x="566" y="86"/>
                        <a:pt x="552" y="124"/>
                        <a:pt x="531" y="154"/>
                      </a:cubicBezTo>
                      <a:cubicBezTo>
                        <a:pt x="510" y="184"/>
                        <a:pt x="456" y="235"/>
                        <a:pt x="453" y="244"/>
                      </a:cubicBezTo>
                      <a:cubicBezTo>
                        <a:pt x="450" y="253"/>
                        <a:pt x="516" y="201"/>
                        <a:pt x="513" y="208"/>
                      </a:cubicBezTo>
                      <a:cubicBezTo>
                        <a:pt x="510" y="215"/>
                        <a:pt x="456" y="266"/>
                        <a:pt x="432" y="286"/>
                      </a:cubicBezTo>
                      <a:cubicBezTo>
                        <a:pt x="408" y="306"/>
                        <a:pt x="387" y="310"/>
                        <a:pt x="366" y="328"/>
                      </a:cubicBezTo>
                      <a:cubicBezTo>
                        <a:pt x="345" y="346"/>
                        <a:pt x="331" y="380"/>
                        <a:pt x="306" y="397"/>
                      </a:cubicBezTo>
                      <a:cubicBezTo>
                        <a:pt x="281" y="414"/>
                        <a:pt x="247" y="430"/>
                        <a:pt x="216" y="433"/>
                      </a:cubicBezTo>
                      <a:cubicBezTo>
                        <a:pt x="185" y="436"/>
                        <a:pt x="144" y="437"/>
                        <a:pt x="117" y="418"/>
                      </a:cubicBezTo>
                      <a:cubicBezTo>
                        <a:pt x="90" y="399"/>
                        <a:pt x="0" y="365"/>
                        <a:pt x="54" y="31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13605120" y="6808680"/>
                  <a:ext cx="1401840" cy="923400"/>
                </a:xfrm>
                <a:custGeom>
                  <a:avLst/>
                  <a:gdLst>
                    <a:gd name="textAreaLeft" fmla="*/ 0 w 1401840"/>
                    <a:gd name="textAreaRight" fmla="*/ 1402200 w 1401840"/>
                    <a:gd name="textAreaTop" fmla="*/ 0 h 923400"/>
                    <a:gd name="textAreaBottom" fmla="*/ 923760 h 923400"/>
                  </a:gdLst>
                  <a:ahLst/>
                  <a:rect l="textAreaLeft" t="textAreaTop" r="textAreaRight" b="textAreaBottom"/>
                  <a:pathLst>
                    <a:path w="883" h="582">
                      <a:moveTo>
                        <a:pt x="54" y="353"/>
                      </a:moveTo>
                      <a:cubicBezTo>
                        <a:pt x="103" y="321"/>
                        <a:pt x="227" y="285"/>
                        <a:pt x="297" y="251"/>
                      </a:cubicBezTo>
                      <a:cubicBezTo>
                        <a:pt x="367" y="217"/>
                        <a:pt x="414" y="180"/>
                        <a:pt x="474" y="149"/>
                      </a:cubicBezTo>
                      <a:cubicBezTo>
                        <a:pt x="534" y="118"/>
                        <a:pt x="610" y="86"/>
                        <a:pt x="660" y="65"/>
                      </a:cubicBezTo>
                      <a:cubicBezTo>
                        <a:pt x="710" y="44"/>
                        <a:pt x="749" y="30"/>
                        <a:pt x="777" y="20"/>
                      </a:cubicBezTo>
                      <a:cubicBezTo>
                        <a:pt x="805" y="10"/>
                        <a:pt x="821" y="0"/>
                        <a:pt x="828" y="2"/>
                      </a:cubicBezTo>
                      <a:cubicBezTo>
                        <a:pt x="835" y="4"/>
                        <a:pt x="836" y="19"/>
                        <a:pt x="822" y="32"/>
                      </a:cubicBezTo>
                      <a:cubicBezTo>
                        <a:pt x="808" y="45"/>
                        <a:pt x="780" y="59"/>
                        <a:pt x="741" y="80"/>
                      </a:cubicBezTo>
                      <a:cubicBezTo>
                        <a:pt x="780" y="68"/>
                        <a:pt x="805" y="53"/>
                        <a:pt x="828" y="44"/>
                      </a:cubicBezTo>
                      <a:cubicBezTo>
                        <a:pt x="851" y="35"/>
                        <a:pt x="875" y="21"/>
                        <a:pt x="879" y="26"/>
                      </a:cubicBezTo>
                      <a:cubicBezTo>
                        <a:pt x="883" y="31"/>
                        <a:pt x="869" y="54"/>
                        <a:pt x="852" y="74"/>
                      </a:cubicBezTo>
                      <a:cubicBezTo>
                        <a:pt x="835" y="94"/>
                        <a:pt x="804" y="127"/>
                        <a:pt x="777" y="146"/>
                      </a:cubicBezTo>
                      <a:cubicBezTo>
                        <a:pt x="750" y="165"/>
                        <a:pt x="726" y="161"/>
                        <a:pt x="690" y="188"/>
                      </a:cubicBezTo>
                      <a:cubicBezTo>
                        <a:pt x="729" y="173"/>
                        <a:pt x="765" y="168"/>
                        <a:pt x="783" y="167"/>
                      </a:cubicBezTo>
                      <a:cubicBezTo>
                        <a:pt x="801" y="166"/>
                        <a:pt x="807" y="173"/>
                        <a:pt x="798" y="185"/>
                      </a:cubicBezTo>
                      <a:cubicBezTo>
                        <a:pt x="789" y="197"/>
                        <a:pt x="760" y="224"/>
                        <a:pt x="729" y="242"/>
                      </a:cubicBezTo>
                      <a:cubicBezTo>
                        <a:pt x="698" y="260"/>
                        <a:pt x="622" y="288"/>
                        <a:pt x="615" y="293"/>
                      </a:cubicBezTo>
                      <a:cubicBezTo>
                        <a:pt x="657" y="284"/>
                        <a:pt x="670" y="274"/>
                        <a:pt x="687" y="272"/>
                      </a:cubicBezTo>
                      <a:cubicBezTo>
                        <a:pt x="704" y="270"/>
                        <a:pt x="723" y="277"/>
                        <a:pt x="717" y="284"/>
                      </a:cubicBezTo>
                      <a:cubicBezTo>
                        <a:pt x="711" y="291"/>
                        <a:pt x="675" y="303"/>
                        <a:pt x="648" y="317"/>
                      </a:cubicBezTo>
                      <a:cubicBezTo>
                        <a:pt x="621" y="331"/>
                        <a:pt x="560" y="359"/>
                        <a:pt x="552" y="368"/>
                      </a:cubicBezTo>
                      <a:cubicBezTo>
                        <a:pt x="544" y="377"/>
                        <a:pt x="587" y="367"/>
                        <a:pt x="597" y="371"/>
                      </a:cubicBezTo>
                      <a:cubicBezTo>
                        <a:pt x="607" y="375"/>
                        <a:pt x="620" y="387"/>
                        <a:pt x="612" y="392"/>
                      </a:cubicBezTo>
                      <a:cubicBezTo>
                        <a:pt x="604" y="397"/>
                        <a:pt x="571" y="392"/>
                        <a:pt x="549" y="401"/>
                      </a:cubicBezTo>
                      <a:cubicBezTo>
                        <a:pt x="527" y="410"/>
                        <a:pt x="526" y="421"/>
                        <a:pt x="477" y="449"/>
                      </a:cubicBezTo>
                      <a:cubicBezTo>
                        <a:pt x="428" y="477"/>
                        <a:pt x="322" y="556"/>
                        <a:pt x="255" y="569"/>
                      </a:cubicBezTo>
                      <a:cubicBezTo>
                        <a:pt x="188" y="582"/>
                        <a:pt x="114" y="548"/>
                        <a:pt x="72" y="527"/>
                      </a:cubicBezTo>
                      <a:cubicBezTo>
                        <a:pt x="30" y="506"/>
                        <a:pt x="6" y="472"/>
                        <a:pt x="3" y="443"/>
                      </a:cubicBezTo>
                      <a:cubicBezTo>
                        <a:pt x="0" y="414"/>
                        <a:pt x="5" y="385"/>
                        <a:pt x="54" y="353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13614480" y="7380000"/>
                  <a:ext cx="889200" cy="512280"/>
                </a:xfrm>
                <a:custGeom>
                  <a:avLst/>
                  <a:gdLst>
                    <a:gd name="textAreaLeft" fmla="*/ 0 w 889200"/>
                    <a:gd name="textAreaRight" fmla="*/ 889560 w 88920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560" h="323">
                      <a:moveTo>
                        <a:pt x="6" y="182"/>
                      </a:moveTo>
                      <a:cubicBezTo>
                        <a:pt x="11" y="149"/>
                        <a:pt x="27" y="68"/>
                        <a:pt x="50" y="38"/>
                      </a:cubicBezTo>
                      <a:cubicBezTo>
                        <a:pt x="73" y="8"/>
                        <a:pt x="115" y="0"/>
                        <a:pt x="146" y="2"/>
                      </a:cubicBezTo>
                      <a:cubicBezTo>
                        <a:pt x="177" y="4"/>
                        <a:pt x="228" y="36"/>
                        <a:pt x="234" y="50"/>
                      </a:cubicBezTo>
                      <a:cubicBezTo>
                        <a:pt x="240" y="64"/>
                        <a:pt x="193" y="76"/>
                        <a:pt x="182" y="86"/>
                      </a:cubicBezTo>
                      <a:cubicBezTo>
                        <a:pt x="171" y="96"/>
                        <a:pt x="165" y="102"/>
                        <a:pt x="168" y="113"/>
                      </a:cubicBezTo>
                      <a:cubicBezTo>
                        <a:pt x="171" y="124"/>
                        <a:pt x="180" y="147"/>
                        <a:pt x="202" y="150"/>
                      </a:cubicBezTo>
                      <a:cubicBezTo>
                        <a:pt x="224" y="153"/>
                        <a:pt x="242" y="152"/>
                        <a:pt x="298" y="134"/>
                      </a:cubicBezTo>
                      <a:cubicBezTo>
                        <a:pt x="354" y="116"/>
                        <a:pt x="462" y="89"/>
                        <a:pt x="538" y="42"/>
                      </a:cubicBezTo>
                      <a:cubicBezTo>
                        <a:pt x="552" y="68"/>
                        <a:pt x="560" y="80"/>
                        <a:pt x="546" y="94"/>
                      </a:cubicBezTo>
                      <a:cubicBezTo>
                        <a:pt x="532" y="108"/>
                        <a:pt x="486" y="116"/>
                        <a:pt x="454" y="126"/>
                      </a:cubicBezTo>
                      <a:cubicBezTo>
                        <a:pt x="468" y="131"/>
                        <a:pt x="495" y="136"/>
                        <a:pt x="482" y="146"/>
                      </a:cubicBezTo>
                      <a:cubicBezTo>
                        <a:pt x="469" y="156"/>
                        <a:pt x="414" y="167"/>
                        <a:pt x="378" y="186"/>
                      </a:cubicBezTo>
                      <a:cubicBezTo>
                        <a:pt x="396" y="185"/>
                        <a:pt x="411" y="179"/>
                        <a:pt x="422" y="194"/>
                      </a:cubicBezTo>
                      <a:cubicBezTo>
                        <a:pt x="393" y="230"/>
                        <a:pt x="369" y="218"/>
                        <a:pt x="338" y="226"/>
                      </a:cubicBezTo>
                      <a:cubicBezTo>
                        <a:pt x="357" y="242"/>
                        <a:pt x="385" y="239"/>
                        <a:pt x="370" y="254"/>
                      </a:cubicBezTo>
                      <a:cubicBezTo>
                        <a:pt x="355" y="269"/>
                        <a:pt x="289" y="305"/>
                        <a:pt x="246" y="314"/>
                      </a:cubicBezTo>
                      <a:cubicBezTo>
                        <a:pt x="203" y="323"/>
                        <a:pt x="152" y="319"/>
                        <a:pt x="114" y="306"/>
                      </a:cubicBezTo>
                      <a:cubicBezTo>
                        <a:pt x="76" y="293"/>
                        <a:pt x="36" y="257"/>
                        <a:pt x="18" y="238"/>
                      </a:cubicBezTo>
                      <a:cubicBezTo>
                        <a:pt x="0" y="219"/>
                        <a:pt x="1" y="215"/>
                        <a:pt x="6" y="182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2795480" y="7235640"/>
                <a:ext cx="241200" cy="135000"/>
                <a:chOff x="12795480" y="7235640"/>
                <a:chExt cx="241200" cy="135000"/>
              </a:xfrm>
            </p:grpSpPr>
            <p:sp>
              <p:nvSpPr>
                <p:cNvPr id="165" name="Freeform 126"/>
                <p:cNvSpPr/>
                <p:nvPr/>
              </p:nvSpPr>
              <p:spPr>
                <a:xfrm>
                  <a:off x="12828960" y="7235640"/>
                  <a:ext cx="207720" cy="1332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27"/>
                <p:cNvSpPr/>
                <p:nvPr/>
              </p:nvSpPr>
              <p:spPr>
                <a:xfrm>
                  <a:off x="12795480" y="7248240"/>
                  <a:ext cx="227160" cy="106560"/>
                </a:xfrm>
                <a:custGeom>
                  <a:avLst/>
                  <a:gdLst>
                    <a:gd name="textAreaLeft" fmla="*/ 0 w 227160"/>
                    <a:gd name="textAreaRight" fmla="*/ 227160 w 2271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28"/>
                <p:cNvSpPr/>
                <p:nvPr/>
              </p:nvSpPr>
              <p:spPr>
                <a:xfrm>
                  <a:off x="12798720" y="7281720"/>
                  <a:ext cx="216000" cy="8892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Freeform 129"/>
              <p:cNvSpPr/>
              <p:nvPr/>
            </p:nvSpPr>
            <p:spPr>
              <a:xfrm>
                <a:off x="12897000" y="6627600"/>
                <a:ext cx="1674720" cy="208584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2085840"/>
                  <a:gd name="textAreaBottom" fmla="*/ 2086200 h 2085840"/>
                </a:gdLst>
                <a:ahLst/>
                <a:rect l="textAreaLeft" t="textAreaTop" r="textAreaRight" b="textAreaBottom"/>
                <a:pathLst>
                  <a:path w="1055" h="1314">
                    <a:moveTo>
                      <a:pt x="35" y="431"/>
                    </a:moveTo>
                    <a:cubicBezTo>
                      <a:pt x="9" y="437"/>
                      <a:pt x="0" y="446"/>
                      <a:pt x="8" y="461"/>
                    </a:cubicBezTo>
                    <a:cubicBezTo>
                      <a:pt x="16" y="476"/>
                      <a:pt x="57" y="505"/>
                      <a:pt x="80" y="524"/>
                    </a:cubicBezTo>
                    <a:cubicBezTo>
                      <a:pt x="103" y="543"/>
                      <a:pt x="125" y="543"/>
                      <a:pt x="146" y="572"/>
                    </a:cubicBezTo>
                    <a:cubicBezTo>
                      <a:pt x="167" y="601"/>
                      <a:pt x="180" y="657"/>
                      <a:pt x="206" y="698"/>
                    </a:cubicBezTo>
                    <a:cubicBezTo>
                      <a:pt x="232" y="739"/>
                      <a:pt x="254" y="778"/>
                      <a:pt x="302" y="818"/>
                    </a:cubicBezTo>
                    <a:cubicBezTo>
                      <a:pt x="350" y="858"/>
                      <a:pt x="436" y="903"/>
                      <a:pt x="497" y="935"/>
                    </a:cubicBezTo>
                    <a:cubicBezTo>
                      <a:pt x="558" y="967"/>
                      <a:pt x="632" y="993"/>
                      <a:pt x="668" y="1010"/>
                    </a:cubicBezTo>
                    <a:cubicBezTo>
                      <a:pt x="704" y="1027"/>
                      <a:pt x="695" y="1019"/>
                      <a:pt x="710" y="1037"/>
                    </a:cubicBezTo>
                    <a:cubicBezTo>
                      <a:pt x="725" y="1055"/>
                      <a:pt x="738" y="1087"/>
                      <a:pt x="758" y="1121"/>
                    </a:cubicBezTo>
                    <a:cubicBezTo>
                      <a:pt x="778" y="1155"/>
                      <a:pt x="812" y="1212"/>
                      <a:pt x="833" y="1241"/>
                    </a:cubicBezTo>
                    <a:cubicBezTo>
                      <a:pt x="854" y="1270"/>
                      <a:pt x="877" y="1291"/>
                      <a:pt x="884" y="1295"/>
                    </a:cubicBezTo>
                    <a:cubicBezTo>
                      <a:pt x="891" y="1299"/>
                      <a:pt x="887" y="1282"/>
                      <a:pt x="878" y="1265"/>
                    </a:cubicBezTo>
                    <a:cubicBezTo>
                      <a:pt x="869" y="1248"/>
                      <a:pt x="823" y="1185"/>
                      <a:pt x="830" y="1190"/>
                    </a:cubicBezTo>
                    <a:cubicBezTo>
                      <a:pt x="837" y="1195"/>
                      <a:pt x="898" y="1276"/>
                      <a:pt x="920" y="1295"/>
                    </a:cubicBezTo>
                    <a:cubicBezTo>
                      <a:pt x="942" y="1314"/>
                      <a:pt x="955" y="1306"/>
                      <a:pt x="962" y="1304"/>
                    </a:cubicBezTo>
                    <a:cubicBezTo>
                      <a:pt x="969" y="1302"/>
                      <a:pt x="956" y="1280"/>
                      <a:pt x="962" y="1280"/>
                    </a:cubicBezTo>
                    <a:cubicBezTo>
                      <a:pt x="968" y="1280"/>
                      <a:pt x="984" y="1301"/>
                      <a:pt x="998" y="1304"/>
                    </a:cubicBezTo>
                    <a:cubicBezTo>
                      <a:pt x="1012" y="1307"/>
                      <a:pt x="1040" y="1302"/>
                      <a:pt x="1046" y="1298"/>
                    </a:cubicBezTo>
                    <a:cubicBezTo>
                      <a:pt x="1052" y="1294"/>
                      <a:pt x="1055" y="1302"/>
                      <a:pt x="1034" y="1277"/>
                    </a:cubicBezTo>
                    <a:cubicBezTo>
                      <a:pt x="1013" y="1252"/>
                      <a:pt x="935" y="1183"/>
                      <a:pt x="917" y="1148"/>
                    </a:cubicBezTo>
                    <a:cubicBezTo>
                      <a:pt x="899" y="1113"/>
                      <a:pt x="937" y="1095"/>
                      <a:pt x="926" y="1067"/>
                    </a:cubicBezTo>
                    <a:cubicBezTo>
                      <a:pt x="915" y="1039"/>
                      <a:pt x="926" y="1043"/>
                      <a:pt x="851" y="980"/>
                    </a:cubicBezTo>
                    <a:cubicBezTo>
                      <a:pt x="776" y="917"/>
                      <a:pt x="526" y="750"/>
                      <a:pt x="476" y="686"/>
                    </a:cubicBezTo>
                    <a:cubicBezTo>
                      <a:pt x="426" y="622"/>
                      <a:pt x="532" y="620"/>
                      <a:pt x="551" y="596"/>
                    </a:cubicBezTo>
                    <a:cubicBezTo>
                      <a:pt x="570" y="572"/>
                      <a:pt x="577" y="549"/>
                      <a:pt x="593" y="542"/>
                    </a:cubicBezTo>
                    <a:cubicBezTo>
                      <a:pt x="609" y="535"/>
                      <a:pt x="632" y="553"/>
                      <a:pt x="647" y="551"/>
                    </a:cubicBezTo>
                    <a:cubicBezTo>
                      <a:pt x="662" y="549"/>
                      <a:pt x="681" y="535"/>
                      <a:pt x="686" y="527"/>
                    </a:cubicBezTo>
                    <a:cubicBezTo>
                      <a:pt x="691" y="519"/>
                      <a:pt x="687" y="519"/>
                      <a:pt x="677" y="503"/>
                    </a:cubicBezTo>
                    <a:cubicBezTo>
                      <a:pt x="667" y="487"/>
                      <a:pt x="613" y="456"/>
                      <a:pt x="623" y="431"/>
                    </a:cubicBezTo>
                    <a:cubicBezTo>
                      <a:pt x="633" y="406"/>
                      <a:pt x="705" y="389"/>
                      <a:pt x="737" y="353"/>
                    </a:cubicBezTo>
                    <a:cubicBezTo>
                      <a:pt x="769" y="317"/>
                      <a:pt x="809" y="236"/>
                      <a:pt x="815" y="218"/>
                    </a:cubicBezTo>
                    <a:cubicBezTo>
                      <a:pt x="821" y="200"/>
                      <a:pt x="774" y="252"/>
                      <a:pt x="776" y="245"/>
                    </a:cubicBezTo>
                    <a:cubicBezTo>
                      <a:pt x="778" y="238"/>
                      <a:pt x="816" y="203"/>
                      <a:pt x="830" y="176"/>
                    </a:cubicBezTo>
                    <a:cubicBezTo>
                      <a:pt x="844" y="149"/>
                      <a:pt x="862" y="107"/>
                      <a:pt x="863" y="80"/>
                    </a:cubicBezTo>
                    <a:cubicBezTo>
                      <a:pt x="864" y="53"/>
                      <a:pt x="889" y="0"/>
                      <a:pt x="839" y="11"/>
                    </a:cubicBezTo>
                    <a:cubicBezTo>
                      <a:pt x="789" y="22"/>
                      <a:pt x="614" y="83"/>
                      <a:pt x="560" y="146"/>
                    </a:cubicBezTo>
                    <a:cubicBezTo>
                      <a:pt x="506" y="209"/>
                      <a:pt x="537" y="341"/>
                      <a:pt x="515" y="389"/>
                    </a:cubicBezTo>
                    <a:cubicBezTo>
                      <a:pt x="493" y="437"/>
                      <a:pt x="461" y="427"/>
                      <a:pt x="425" y="434"/>
                    </a:cubicBezTo>
                    <a:cubicBezTo>
                      <a:pt x="389" y="441"/>
                      <a:pt x="339" y="436"/>
                      <a:pt x="296" y="434"/>
                    </a:cubicBezTo>
                    <a:cubicBezTo>
                      <a:pt x="253" y="432"/>
                      <a:pt x="209" y="427"/>
                      <a:pt x="167" y="425"/>
                    </a:cubicBezTo>
                    <a:cubicBezTo>
                      <a:pt x="125" y="423"/>
                      <a:pt x="61" y="425"/>
                      <a:pt x="35" y="431"/>
                    </a:cubicBezTo>
                    <a:close/>
                  </a:path>
                </a:pathLst>
              </a:cu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>
                <a:off x="12889080" y="5333760"/>
                <a:ext cx="2025720" cy="336060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3360600"/>
                  <a:gd name="textAreaBottom" fmla="*/ 3360960 h 3360600"/>
                </a:gdLst>
                <a:ahLst/>
                <a:rect l="textAreaLeft" t="textAreaTop" r="textAreaRight" b="textAreaBottom"/>
                <a:pathLst>
                  <a:path w="1276" h="2117">
                    <a:moveTo>
                      <a:pt x="1276" y="2026"/>
                    </a:moveTo>
                    <a:cubicBezTo>
                      <a:pt x="1243" y="1997"/>
                      <a:pt x="1124" y="1921"/>
                      <a:pt x="1060" y="1879"/>
                    </a:cubicBezTo>
                    <a:cubicBezTo>
                      <a:pt x="996" y="1837"/>
                      <a:pt x="935" y="1812"/>
                      <a:pt x="892" y="1777"/>
                    </a:cubicBezTo>
                    <a:cubicBezTo>
                      <a:pt x="849" y="1742"/>
                      <a:pt x="835" y="1710"/>
                      <a:pt x="802" y="1666"/>
                    </a:cubicBezTo>
                    <a:cubicBezTo>
                      <a:pt x="769" y="1622"/>
                      <a:pt x="723" y="1553"/>
                      <a:pt x="691" y="1513"/>
                    </a:cubicBezTo>
                    <a:cubicBezTo>
                      <a:pt x="659" y="1473"/>
                      <a:pt x="630" y="1443"/>
                      <a:pt x="610" y="1426"/>
                    </a:cubicBezTo>
                    <a:cubicBezTo>
                      <a:pt x="590" y="1409"/>
                      <a:pt x="571" y="1418"/>
                      <a:pt x="571" y="1408"/>
                    </a:cubicBezTo>
                    <a:cubicBezTo>
                      <a:pt x="571" y="1398"/>
                      <a:pt x="598" y="1375"/>
                      <a:pt x="609" y="1365"/>
                    </a:cubicBezTo>
                    <a:cubicBezTo>
                      <a:pt x="620" y="1355"/>
                      <a:pt x="631" y="1354"/>
                      <a:pt x="640" y="1345"/>
                    </a:cubicBezTo>
                    <a:cubicBezTo>
                      <a:pt x="649" y="1336"/>
                      <a:pt x="654" y="1315"/>
                      <a:pt x="661" y="1312"/>
                    </a:cubicBezTo>
                    <a:cubicBezTo>
                      <a:pt x="668" y="1309"/>
                      <a:pt x="679" y="1327"/>
                      <a:pt x="685" y="1327"/>
                    </a:cubicBezTo>
                    <a:cubicBezTo>
                      <a:pt x="691" y="1327"/>
                      <a:pt x="698" y="1315"/>
                      <a:pt x="697" y="1309"/>
                    </a:cubicBezTo>
                    <a:cubicBezTo>
                      <a:pt x="696" y="1303"/>
                      <a:pt x="674" y="1291"/>
                      <a:pt x="676" y="1288"/>
                    </a:cubicBezTo>
                    <a:cubicBezTo>
                      <a:pt x="678" y="1285"/>
                      <a:pt x="701" y="1295"/>
                      <a:pt x="709" y="1294"/>
                    </a:cubicBezTo>
                    <a:cubicBezTo>
                      <a:pt x="717" y="1293"/>
                      <a:pt x="724" y="1284"/>
                      <a:pt x="724" y="1279"/>
                    </a:cubicBezTo>
                    <a:cubicBezTo>
                      <a:pt x="724" y="1274"/>
                      <a:pt x="701" y="1268"/>
                      <a:pt x="706" y="1261"/>
                    </a:cubicBezTo>
                    <a:cubicBezTo>
                      <a:pt x="711" y="1254"/>
                      <a:pt x="744" y="1248"/>
                      <a:pt x="757" y="1237"/>
                    </a:cubicBezTo>
                    <a:cubicBezTo>
                      <a:pt x="770" y="1226"/>
                      <a:pt x="788" y="1203"/>
                      <a:pt x="784" y="1195"/>
                    </a:cubicBezTo>
                    <a:cubicBezTo>
                      <a:pt x="780" y="1187"/>
                      <a:pt x="734" y="1194"/>
                      <a:pt x="733" y="1189"/>
                    </a:cubicBezTo>
                    <a:cubicBezTo>
                      <a:pt x="732" y="1184"/>
                      <a:pt x="760" y="1176"/>
                      <a:pt x="775" y="1165"/>
                    </a:cubicBezTo>
                    <a:cubicBezTo>
                      <a:pt x="790" y="1154"/>
                      <a:pt x="819" y="1134"/>
                      <a:pt x="826" y="1123"/>
                    </a:cubicBezTo>
                    <a:cubicBezTo>
                      <a:pt x="833" y="1112"/>
                      <a:pt x="826" y="1097"/>
                      <a:pt x="814" y="1099"/>
                    </a:cubicBezTo>
                    <a:cubicBezTo>
                      <a:pt x="802" y="1101"/>
                      <a:pt x="753" y="1139"/>
                      <a:pt x="751" y="1135"/>
                    </a:cubicBezTo>
                    <a:cubicBezTo>
                      <a:pt x="749" y="1131"/>
                      <a:pt x="781" y="1097"/>
                      <a:pt x="799" y="1075"/>
                    </a:cubicBezTo>
                    <a:cubicBezTo>
                      <a:pt x="817" y="1053"/>
                      <a:pt x="853" y="1021"/>
                      <a:pt x="862" y="1003"/>
                    </a:cubicBezTo>
                    <a:cubicBezTo>
                      <a:pt x="871" y="985"/>
                      <a:pt x="865" y="965"/>
                      <a:pt x="856" y="967"/>
                    </a:cubicBezTo>
                    <a:cubicBezTo>
                      <a:pt x="847" y="969"/>
                      <a:pt x="821" y="1003"/>
                      <a:pt x="808" y="1015"/>
                    </a:cubicBezTo>
                    <a:cubicBezTo>
                      <a:pt x="795" y="1027"/>
                      <a:pt x="775" y="1037"/>
                      <a:pt x="775" y="1036"/>
                    </a:cubicBezTo>
                    <a:cubicBezTo>
                      <a:pt x="775" y="1035"/>
                      <a:pt x="791" y="1025"/>
                      <a:pt x="805" y="1009"/>
                    </a:cubicBezTo>
                    <a:cubicBezTo>
                      <a:pt x="819" y="993"/>
                      <a:pt x="841" y="967"/>
                      <a:pt x="856" y="943"/>
                    </a:cubicBezTo>
                    <a:cubicBezTo>
                      <a:pt x="871" y="919"/>
                      <a:pt x="891" y="880"/>
                      <a:pt x="895" y="865"/>
                    </a:cubicBezTo>
                    <a:cubicBezTo>
                      <a:pt x="899" y="850"/>
                      <a:pt x="874" y="863"/>
                      <a:pt x="877" y="853"/>
                    </a:cubicBezTo>
                    <a:cubicBezTo>
                      <a:pt x="880" y="843"/>
                      <a:pt x="901" y="823"/>
                      <a:pt x="913" y="805"/>
                    </a:cubicBezTo>
                    <a:cubicBezTo>
                      <a:pt x="925" y="787"/>
                      <a:pt x="944" y="764"/>
                      <a:pt x="949" y="748"/>
                    </a:cubicBezTo>
                    <a:cubicBezTo>
                      <a:pt x="954" y="732"/>
                      <a:pt x="950" y="711"/>
                      <a:pt x="943" y="709"/>
                    </a:cubicBezTo>
                    <a:cubicBezTo>
                      <a:pt x="936" y="707"/>
                      <a:pt x="903" y="744"/>
                      <a:pt x="904" y="733"/>
                    </a:cubicBezTo>
                    <a:cubicBezTo>
                      <a:pt x="905" y="722"/>
                      <a:pt x="943" y="666"/>
                      <a:pt x="952" y="640"/>
                    </a:cubicBezTo>
                    <a:cubicBezTo>
                      <a:pt x="961" y="614"/>
                      <a:pt x="964" y="582"/>
                      <a:pt x="958" y="577"/>
                    </a:cubicBezTo>
                    <a:cubicBezTo>
                      <a:pt x="952" y="572"/>
                      <a:pt x="929" y="599"/>
                      <a:pt x="916" y="610"/>
                    </a:cubicBezTo>
                    <a:cubicBezTo>
                      <a:pt x="903" y="621"/>
                      <a:pt x="881" y="648"/>
                      <a:pt x="883" y="640"/>
                    </a:cubicBezTo>
                    <a:cubicBezTo>
                      <a:pt x="885" y="632"/>
                      <a:pt x="914" y="591"/>
                      <a:pt x="925" y="562"/>
                    </a:cubicBezTo>
                    <a:cubicBezTo>
                      <a:pt x="936" y="533"/>
                      <a:pt x="946" y="488"/>
                      <a:pt x="949" y="466"/>
                    </a:cubicBezTo>
                    <a:cubicBezTo>
                      <a:pt x="952" y="444"/>
                      <a:pt x="957" y="416"/>
                      <a:pt x="943" y="427"/>
                    </a:cubicBezTo>
                    <a:cubicBezTo>
                      <a:pt x="929" y="438"/>
                      <a:pt x="889" y="493"/>
                      <a:pt x="865" y="532"/>
                    </a:cubicBezTo>
                    <a:cubicBezTo>
                      <a:pt x="877" y="499"/>
                      <a:pt x="878" y="483"/>
                      <a:pt x="886" y="454"/>
                    </a:cubicBezTo>
                    <a:cubicBezTo>
                      <a:pt x="894" y="425"/>
                      <a:pt x="911" y="375"/>
                      <a:pt x="913" y="355"/>
                    </a:cubicBezTo>
                    <a:cubicBezTo>
                      <a:pt x="915" y="335"/>
                      <a:pt x="911" y="322"/>
                      <a:pt x="901" y="331"/>
                    </a:cubicBezTo>
                    <a:cubicBezTo>
                      <a:pt x="891" y="340"/>
                      <a:pt x="864" y="386"/>
                      <a:pt x="850" y="409"/>
                    </a:cubicBezTo>
                    <a:cubicBezTo>
                      <a:pt x="836" y="432"/>
                      <a:pt x="815" y="473"/>
                      <a:pt x="814" y="469"/>
                    </a:cubicBezTo>
                    <a:cubicBezTo>
                      <a:pt x="813" y="465"/>
                      <a:pt x="837" y="416"/>
                      <a:pt x="847" y="385"/>
                    </a:cubicBezTo>
                    <a:cubicBezTo>
                      <a:pt x="857" y="354"/>
                      <a:pt x="871" y="307"/>
                      <a:pt x="874" y="283"/>
                    </a:cubicBezTo>
                    <a:cubicBezTo>
                      <a:pt x="877" y="259"/>
                      <a:pt x="886" y="222"/>
                      <a:pt x="868" y="241"/>
                    </a:cubicBezTo>
                    <a:cubicBezTo>
                      <a:pt x="850" y="260"/>
                      <a:pt x="774" y="394"/>
                      <a:pt x="766" y="394"/>
                    </a:cubicBezTo>
                    <a:cubicBezTo>
                      <a:pt x="784" y="334"/>
                      <a:pt x="805" y="297"/>
                      <a:pt x="817" y="244"/>
                    </a:cubicBezTo>
                    <a:cubicBezTo>
                      <a:pt x="829" y="191"/>
                      <a:pt x="853" y="67"/>
                      <a:pt x="838" y="76"/>
                    </a:cubicBezTo>
                    <a:cubicBezTo>
                      <a:pt x="823" y="85"/>
                      <a:pt x="748" y="241"/>
                      <a:pt x="724" y="298"/>
                    </a:cubicBezTo>
                    <a:cubicBezTo>
                      <a:pt x="748" y="223"/>
                      <a:pt x="780" y="140"/>
                      <a:pt x="790" y="91"/>
                    </a:cubicBezTo>
                    <a:cubicBezTo>
                      <a:pt x="800" y="42"/>
                      <a:pt x="797" y="0"/>
                      <a:pt x="784" y="4"/>
                    </a:cubicBezTo>
                    <a:cubicBezTo>
                      <a:pt x="771" y="8"/>
                      <a:pt x="743" y="52"/>
                      <a:pt x="709" y="118"/>
                    </a:cubicBezTo>
                    <a:cubicBezTo>
                      <a:pt x="675" y="184"/>
                      <a:pt x="615" y="312"/>
                      <a:pt x="577" y="403"/>
                    </a:cubicBezTo>
                    <a:cubicBezTo>
                      <a:pt x="539" y="494"/>
                      <a:pt x="506" y="576"/>
                      <a:pt x="481" y="661"/>
                    </a:cubicBezTo>
                    <a:cubicBezTo>
                      <a:pt x="456" y="746"/>
                      <a:pt x="443" y="830"/>
                      <a:pt x="427" y="916"/>
                    </a:cubicBezTo>
                    <a:cubicBezTo>
                      <a:pt x="411" y="1002"/>
                      <a:pt x="393" y="1118"/>
                      <a:pt x="382" y="1177"/>
                    </a:cubicBezTo>
                    <a:cubicBezTo>
                      <a:pt x="371" y="1236"/>
                      <a:pt x="364" y="1250"/>
                      <a:pt x="358" y="1273"/>
                    </a:cubicBezTo>
                    <a:cubicBezTo>
                      <a:pt x="352" y="1296"/>
                      <a:pt x="349" y="1318"/>
                      <a:pt x="346" y="1315"/>
                    </a:cubicBezTo>
                    <a:cubicBezTo>
                      <a:pt x="343" y="1312"/>
                      <a:pt x="342" y="1275"/>
                      <a:pt x="340" y="1254"/>
                    </a:cubicBezTo>
                    <a:cubicBezTo>
                      <a:pt x="291" y="1246"/>
                      <a:pt x="249" y="1238"/>
                      <a:pt x="208" y="1228"/>
                    </a:cubicBezTo>
                    <a:cubicBezTo>
                      <a:pt x="167" y="1218"/>
                      <a:pt x="122" y="1200"/>
                      <a:pt x="91" y="1195"/>
                    </a:cubicBezTo>
                    <a:cubicBezTo>
                      <a:pt x="60" y="1190"/>
                      <a:pt x="34" y="1189"/>
                      <a:pt x="19" y="1198"/>
                    </a:cubicBezTo>
                    <a:cubicBezTo>
                      <a:pt x="4" y="1207"/>
                      <a:pt x="0" y="1233"/>
                      <a:pt x="1" y="1249"/>
                    </a:cubicBezTo>
                    <a:cubicBezTo>
                      <a:pt x="2" y="1265"/>
                      <a:pt x="6" y="1282"/>
                      <a:pt x="25" y="1294"/>
                    </a:cubicBezTo>
                    <a:cubicBezTo>
                      <a:pt x="44" y="1306"/>
                      <a:pt x="87" y="1306"/>
                      <a:pt x="115" y="1321"/>
                    </a:cubicBezTo>
                    <a:cubicBezTo>
                      <a:pt x="143" y="1336"/>
                      <a:pt x="173" y="1367"/>
                      <a:pt x="193" y="1387"/>
                    </a:cubicBezTo>
                    <a:cubicBezTo>
                      <a:pt x="213" y="1407"/>
                      <a:pt x="230" y="1439"/>
                      <a:pt x="238" y="1444"/>
                    </a:cubicBezTo>
                    <a:cubicBezTo>
                      <a:pt x="246" y="1449"/>
                      <a:pt x="237" y="1431"/>
                      <a:pt x="241" y="1417"/>
                    </a:cubicBezTo>
                    <a:cubicBezTo>
                      <a:pt x="245" y="1403"/>
                      <a:pt x="260" y="1357"/>
                      <a:pt x="265" y="1357"/>
                    </a:cubicBezTo>
                    <a:cubicBezTo>
                      <a:pt x="270" y="1357"/>
                      <a:pt x="270" y="1400"/>
                      <a:pt x="274" y="1420"/>
                    </a:cubicBezTo>
                    <a:cubicBezTo>
                      <a:pt x="278" y="1440"/>
                      <a:pt x="265" y="1447"/>
                      <a:pt x="286" y="1477"/>
                    </a:cubicBezTo>
                    <a:cubicBezTo>
                      <a:pt x="307" y="1507"/>
                      <a:pt x="352" y="1561"/>
                      <a:pt x="400" y="1600"/>
                    </a:cubicBezTo>
                    <a:cubicBezTo>
                      <a:pt x="448" y="1639"/>
                      <a:pt x="531" y="1684"/>
                      <a:pt x="577" y="1711"/>
                    </a:cubicBezTo>
                    <a:cubicBezTo>
                      <a:pt x="623" y="1738"/>
                      <a:pt x="656" y="1748"/>
                      <a:pt x="679" y="1762"/>
                    </a:cubicBezTo>
                    <a:cubicBezTo>
                      <a:pt x="702" y="1776"/>
                      <a:pt x="696" y="1788"/>
                      <a:pt x="715" y="1798"/>
                    </a:cubicBezTo>
                    <a:cubicBezTo>
                      <a:pt x="734" y="1808"/>
                      <a:pt x="770" y="1818"/>
                      <a:pt x="793" y="1822"/>
                    </a:cubicBezTo>
                    <a:cubicBezTo>
                      <a:pt x="816" y="1826"/>
                      <a:pt x="851" y="1821"/>
                      <a:pt x="856" y="1825"/>
                    </a:cubicBezTo>
                    <a:cubicBezTo>
                      <a:pt x="861" y="1829"/>
                      <a:pt x="836" y="1839"/>
                      <a:pt x="826" y="1846"/>
                    </a:cubicBezTo>
                    <a:cubicBezTo>
                      <a:pt x="816" y="1853"/>
                      <a:pt x="792" y="1854"/>
                      <a:pt x="796" y="1867"/>
                    </a:cubicBezTo>
                    <a:cubicBezTo>
                      <a:pt x="800" y="1880"/>
                      <a:pt x="819" y="1891"/>
                      <a:pt x="850" y="1924"/>
                    </a:cubicBezTo>
                    <a:cubicBezTo>
                      <a:pt x="881" y="1957"/>
                      <a:pt x="948" y="2032"/>
                      <a:pt x="979" y="2062"/>
                    </a:cubicBezTo>
                    <a:cubicBezTo>
                      <a:pt x="1010" y="2092"/>
                      <a:pt x="1022" y="2098"/>
                      <a:pt x="1036" y="2107"/>
                    </a:cubicBezTo>
                    <a:cubicBezTo>
                      <a:pt x="1050" y="2116"/>
                      <a:pt x="1055" y="2116"/>
                      <a:pt x="1063" y="2116"/>
                    </a:cubicBezTo>
                    <a:cubicBezTo>
                      <a:pt x="1071" y="2116"/>
                      <a:pt x="1075" y="2117"/>
                      <a:pt x="1084" y="2107"/>
                    </a:cubicBezTo>
                    <a:cubicBezTo>
                      <a:pt x="1071" y="2091"/>
                      <a:pt x="989" y="2016"/>
                      <a:pt x="988" y="2017"/>
                    </a:cubicBezTo>
                    <a:cubicBezTo>
                      <a:pt x="987" y="2018"/>
                      <a:pt x="1069" y="2091"/>
                      <a:pt x="1093" y="2101"/>
                    </a:cubicBezTo>
                    <a:cubicBezTo>
                      <a:pt x="1107" y="2085"/>
                      <a:pt x="1111" y="2091"/>
                      <a:pt x="1132" y="2077"/>
                    </a:cubicBezTo>
                    <a:cubicBezTo>
                      <a:pt x="1103" y="2063"/>
                      <a:pt x="1034" y="2011"/>
                      <a:pt x="1036" y="2011"/>
                    </a:cubicBezTo>
                    <a:cubicBezTo>
                      <a:pt x="1038" y="2011"/>
                      <a:pt x="1113" y="2059"/>
                      <a:pt x="1147" y="2080"/>
                    </a:cubicBezTo>
                    <a:cubicBezTo>
                      <a:pt x="1185" y="2079"/>
                      <a:pt x="1203" y="2071"/>
                      <a:pt x="1246" y="2068"/>
                    </a:cubicBezTo>
                    <a:cubicBezTo>
                      <a:pt x="1227" y="2045"/>
                      <a:pt x="1120" y="1968"/>
                      <a:pt x="1123" y="1966"/>
                    </a:cubicBezTo>
                    <a:cubicBezTo>
                      <a:pt x="1126" y="1964"/>
                      <a:pt x="1236" y="2047"/>
                      <a:pt x="1261" y="2056"/>
                    </a:cubicBezTo>
                    <a:cubicBezTo>
                      <a:pt x="1269" y="2045"/>
                      <a:pt x="1273" y="2041"/>
                      <a:pt x="1276" y="2026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3536720" y="6078240"/>
                <a:ext cx="590400" cy="1522440"/>
                <a:chOff x="13536720" y="6078240"/>
                <a:chExt cx="590400" cy="1522440"/>
              </a:xfrm>
            </p:grpSpPr>
            <p:sp>
              <p:nvSpPr>
                <p:cNvPr id="171" name="Freeform 132"/>
                <p:cNvSpPr/>
                <p:nvPr/>
              </p:nvSpPr>
              <p:spPr>
                <a:xfrm>
                  <a:off x="13536720" y="6078240"/>
                  <a:ext cx="590400" cy="1522440"/>
                </a:xfrm>
                <a:custGeom>
                  <a:avLst/>
                  <a:gdLst>
                    <a:gd name="textAreaLeft" fmla="*/ 0 w 590400"/>
                    <a:gd name="textAreaRight" fmla="*/ 590760 w 590400"/>
                    <a:gd name="textAreaTop" fmla="*/ 0 h 1522440"/>
                    <a:gd name="textAreaBottom" fmla="*/ 1522800 h 1522440"/>
                  </a:gdLst>
                  <a:ahLst/>
                  <a:rect l="textAreaLeft" t="textAreaTop" r="textAreaRight" b="textAreaBottom"/>
                  <a:pathLst>
                    <a:path w="372" h="959">
                      <a:moveTo>
                        <a:pt x="187" y="954"/>
                      </a:moveTo>
                      <a:cubicBezTo>
                        <a:pt x="170" y="959"/>
                        <a:pt x="117" y="945"/>
                        <a:pt x="91" y="936"/>
                      </a:cubicBezTo>
                      <a:cubicBezTo>
                        <a:pt x="65" y="927"/>
                        <a:pt x="43" y="912"/>
                        <a:pt x="28" y="900"/>
                      </a:cubicBezTo>
                      <a:cubicBezTo>
                        <a:pt x="13" y="888"/>
                        <a:pt x="0" y="881"/>
                        <a:pt x="1" y="867"/>
                      </a:cubicBezTo>
                      <a:cubicBezTo>
                        <a:pt x="2" y="853"/>
                        <a:pt x="24" y="849"/>
                        <a:pt x="34" y="816"/>
                      </a:cubicBezTo>
                      <a:cubicBezTo>
                        <a:pt x="44" y="783"/>
                        <a:pt x="58" y="734"/>
                        <a:pt x="64" y="669"/>
                      </a:cubicBezTo>
                      <a:cubicBezTo>
                        <a:pt x="70" y="604"/>
                        <a:pt x="40" y="533"/>
                        <a:pt x="73" y="423"/>
                      </a:cubicBezTo>
                      <a:cubicBezTo>
                        <a:pt x="106" y="313"/>
                        <a:pt x="244" y="0"/>
                        <a:pt x="265" y="6"/>
                      </a:cubicBezTo>
                      <a:cubicBezTo>
                        <a:pt x="286" y="12"/>
                        <a:pt x="257" y="141"/>
                        <a:pt x="265" y="162"/>
                      </a:cubicBezTo>
                      <a:cubicBezTo>
                        <a:pt x="273" y="183"/>
                        <a:pt x="307" y="118"/>
                        <a:pt x="316" y="132"/>
                      </a:cubicBezTo>
                      <a:cubicBezTo>
                        <a:pt x="325" y="146"/>
                        <a:pt x="311" y="234"/>
                        <a:pt x="319" y="249"/>
                      </a:cubicBezTo>
                      <a:cubicBezTo>
                        <a:pt x="327" y="264"/>
                        <a:pt x="359" y="205"/>
                        <a:pt x="361" y="225"/>
                      </a:cubicBezTo>
                      <a:cubicBezTo>
                        <a:pt x="363" y="245"/>
                        <a:pt x="329" y="348"/>
                        <a:pt x="331" y="369"/>
                      </a:cubicBezTo>
                      <a:cubicBezTo>
                        <a:pt x="333" y="390"/>
                        <a:pt x="368" y="327"/>
                        <a:pt x="370" y="351"/>
                      </a:cubicBezTo>
                      <a:cubicBezTo>
                        <a:pt x="372" y="375"/>
                        <a:pt x="359" y="466"/>
                        <a:pt x="343" y="516"/>
                      </a:cubicBezTo>
                      <a:cubicBezTo>
                        <a:pt x="327" y="566"/>
                        <a:pt x="282" y="627"/>
                        <a:pt x="277" y="648"/>
                      </a:cubicBezTo>
                      <a:cubicBezTo>
                        <a:pt x="272" y="669"/>
                        <a:pt x="304" y="627"/>
                        <a:pt x="313" y="642"/>
                      </a:cubicBezTo>
                      <a:cubicBezTo>
                        <a:pt x="322" y="657"/>
                        <a:pt x="254" y="721"/>
                        <a:pt x="247" y="741"/>
                      </a:cubicBezTo>
                      <a:cubicBezTo>
                        <a:pt x="240" y="761"/>
                        <a:pt x="290" y="734"/>
                        <a:pt x="271" y="762"/>
                      </a:cubicBezTo>
                      <a:cubicBezTo>
                        <a:pt x="252" y="790"/>
                        <a:pt x="142" y="888"/>
                        <a:pt x="130" y="912"/>
                      </a:cubicBezTo>
                      <a:cubicBezTo>
                        <a:pt x="118" y="936"/>
                        <a:pt x="187" y="900"/>
                        <a:pt x="196" y="906"/>
                      </a:cubicBezTo>
                      <a:cubicBezTo>
                        <a:pt x="193" y="936"/>
                        <a:pt x="204" y="949"/>
                        <a:pt x="187" y="954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33"/>
                <p:cNvSpPr/>
                <p:nvPr/>
              </p:nvSpPr>
              <p:spPr>
                <a:xfrm>
                  <a:off x="13806720" y="6489360"/>
                  <a:ext cx="191880" cy="70344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703440"/>
                    <a:gd name="textAreaBottom" fmla="*/ 703800 h 703440"/>
                  </a:gdLst>
                  <a:ahLst/>
                  <a:rect l="textAreaLeft" t="textAreaTop" r="textAreaRight" b="textAreaBottom"/>
                  <a:pathLst>
                    <a:path w="121" h="443">
                      <a:moveTo>
                        <a:pt x="68" y="2"/>
                      </a:moveTo>
                      <a:cubicBezTo>
                        <a:pt x="72" y="0"/>
                        <a:pt x="76" y="32"/>
                        <a:pt x="74" y="50"/>
                      </a:cubicBezTo>
                      <a:cubicBezTo>
                        <a:pt x="72" y="68"/>
                        <a:pt x="65" y="95"/>
                        <a:pt x="56" y="110"/>
                      </a:cubicBezTo>
                      <a:cubicBezTo>
                        <a:pt x="74" y="107"/>
                        <a:pt x="88" y="91"/>
                        <a:pt x="95" y="101"/>
                      </a:cubicBezTo>
                      <a:cubicBezTo>
                        <a:pt x="102" y="111"/>
                        <a:pt x="101" y="145"/>
                        <a:pt x="98" y="170"/>
                      </a:cubicBezTo>
                      <a:cubicBezTo>
                        <a:pt x="95" y="195"/>
                        <a:pt x="92" y="224"/>
                        <a:pt x="74" y="251"/>
                      </a:cubicBezTo>
                      <a:cubicBezTo>
                        <a:pt x="89" y="248"/>
                        <a:pt x="111" y="226"/>
                        <a:pt x="116" y="233"/>
                      </a:cubicBezTo>
                      <a:cubicBezTo>
                        <a:pt x="121" y="240"/>
                        <a:pt x="109" y="277"/>
                        <a:pt x="104" y="293"/>
                      </a:cubicBezTo>
                      <a:cubicBezTo>
                        <a:pt x="99" y="309"/>
                        <a:pt x="84" y="322"/>
                        <a:pt x="83" y="332"/>
                      </a:cubicBezTo>
                      <a:cubicBezTo>
                        <a:pt x="82" y="342"/>
                        <a:pt x="102" y="343"/>
                        <a:pt x="98" y="356"/>
                      </a:cubicBezTo>
                      <a:cubicBezTo>
                        <a:pt x="94" y="369"/>
                        <a:pt x="73" y="397"/>
                        <a:pt x="59" y="410"/>
                      </a:cubicBezTo>
                      <a:cubicBezTo>
                        <a:pt x="45" y="423"/>
                        <a:pt x="14" y="443"/>
                        <a:pt x="14" y="437"/>
                      </a:cubicBezTo>
                      <a:cubicBezTo>
                        <a:pt x="14" y="431"/>
                        <a:pt x="54" y="389"/>
                        <a:pt x="56" y="371"/>
                      </a:cubicBezTo>
                      <a:cubicBezTo>
                        <a:pt x="58" y="353"/>
                        <a:pt x="30" y="351"/>
                        <a:pt x="26" y="326"/>
                      </a:cubicBezTo>
                      <a:cubicBezTo>
                        <a:pt x="22" y="301"/>
                        <a:pt x="36" y="248"/>
                        <a:pt x="32" y="221"/>
                      </a:cubicBezTo>
                      <a:cubicBezTo>
                        <a:pt x="28" y="194"/>
                        <a:pt x="0" y="187"/>
                        <a:pt x="2" y="161"/>
                      </a:cubicBezTo>
                      <a:cubicBezTo>
                        <a:pt x="4" y="135"/>
                        <a:pt x="36" y="89"/>
                        <a:pt x="47" y="62"/>
                      </a:cubicBezTo>
                      <a:cubicBezTo>
                        <a:pt x="58" y="35"/>
                        <a:pt x="64" y="4"/>
                        <a:pt x="68" y="2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34"/>
                <p:cNvSpPr/>
                <p:nvPr/>
              </p:nvSpPr>
              <p:spPr>
                <a:xfrm>
                  <a:off x="13649400" y="7257600"/>
                  <a:ext cx="209520" cy="19224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192240"/>
                    <a:gd name="textAreaBottom" fmla="*/ 192600 h 192240"/>
                  </a:gdLst>
                  <a:ahLst/>
                  <a:rect l="textAreaLeft" t="textAreaTop" r="textAreaRight" b="textAreaBottom"/>
                  <a:pathLst>
                    <a:path w="132" h="121">
                      <a:moveTo>
                        <a:pt x="110" y="1"/>
                      </a:moveTo>
                      <a:cubicBezTo>
                        <a:pt x="115" y="2"/>
                        <a:pt x="132" y="20"/>
                        <a:pt x="131" y="28"/>
                      </a:cubicBezTo>
                      <a:cubicBezTo>
                        <a:pt x="130" y="36"/>
                        <a:pt x="104" y="40"/>
                        <a:pt x="101" y="49"/>
                      </a:cubicBezTo>
                      <a:cubicBezTo>
                        <a:pt x="98" y="58"/>
                        <a:pt x="120" y="71"/>
                        <a:pt x="113" y="82"/>
                      </a:cubicBezTo>
                      <a:cubicBezTo>
                        <a:pt x="106" y="93"/>
                        <a:pt x="80" y="109"/>
                        <a:pt x="62" y="115"/>
                      </a:cubicBezTo>
                      <a:cubicBezTo>
                        <a:pt x="44" y="121"/>
                        <a:pt x="4" y="119"/>
                        <a:pt x="2" y="118"/>
                      </a:cubicBezTo>
                      <a:cubicBezTo>
                        <a:pt x="0" y="117"/>
                        <a:pt x="37" y="111"/>
                        <a:pt x="50" y="106"/>
                      </a:cubicBezTo>
                      <a:cubicBezTo>
                        <a:pt x="63" y="101"/>
                        <a:pt x="82" y="95"/>
                        <a:pt x="83" y="85"/>
                      </a:cubicBezTo>
                      <a:cubicBezTo>
                        <a:pt x="84" y="75"/>
                        <a:pt x="57" y="57"/>
                        <a:pt x="59" y="46"/>
                      </a:cubicBezTo>
                      <a:cubicBezTo>
                        <a:pt x="61" y="35"/>
                        <a:pt x="90" y="28"/>
                        <a:pt x="98" y="19"/>
                      </a:cubicBezTo>
                      <a:cubicBezTo>
                        <a:pt x="106" y="10"/>
                        <a:pt x="105" y="0"/>
                        <a:pt x="110" y="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Oval 135"/>
              <p:cNvSpPr/>
              <p:nvPr/>
            </p:nvSpPr>
            <p:spPr>
              <a:xfrm>
                <a:off x="12911400" y="7278480"/>
                <a:ext cx="17280" cy="172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Rectangle 136"/>
            <p:cNvSpPr/>
            <p:nvPr/>
          </p:nvSpPr>
          <p:spPr>
            <a:xfrm>
              <a:off x="12176280" y="5224320"/>
              <a:ext cx="310500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2176280" y="5224320"/>
            <a:ext cx="3105000" cy="3924360"/>
            <a:chOff x="12176280" y="5224320"/>
            <a:chExt cx="3105000" cy="3924360"/>
          </a:xfrm>
        </p:grpSpPr>
        <p:grpSp>
          <p:nvGrpSpPr>
            <p:cNvPr id="177" name=""/>
            <p:cNvGrpSpPr/>
            <p:nvPr/>
          </p:nvGrpSpPr>
          <p:grpSpPr>
            <a:xfrm>
              <a:off x="12674880" y="7219800"/>
              <a:ext cx="2244600" cy="1492200"/>
              <a:chOff x="12674880" y="7219800"/>
              <a:chExt cx="2244600" cy="149220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13706640" y="7605720"/>
                <a:ext cx="750600" cy="783720"/>
                <a:chOff x="13706640" y="7605720"/>
                <a:chExt cx="750600" cy="783720"/>
              </a:xfrm>
            </p:grpSpPr>
            <p:sp>
              <p:nvSpPr>
                <p:cNvPr id="179" name="Freeform 140"/>
                <p:cNvSpPr/>
                <p:nvPr/>
              </p:nvSpPr>
              <p:spPr>
                <a:xfrm>
                  <a:off x="13750200" y="7689600"/>
                  <a:ext cx="707040" cy="699840"/>
                </a:xfrm>
                <a:custGeom>
                  <a:avLst/>
                  <a:gdLst>
                    <a:gd name="textAreaLeft" fmla="*/ 0 w 707040"/>
                    <a:gd name="textAreaRight" fmla="*/ 707400 w 707040"/>
                    <a:gd name="textAreaTop" fmla="*/ 0 h 699840"/>
                    <a:gd name="textAreaBottom" fmla="*/ 700200 h 699840"/>
                  </a:gdLst>
                  <a:ahLst/>
                  <a:rect l="textAreaLeft" t="textAreaTop" r="textAreaRight" b="textAreaBottom"/>
                  <a:pathLst>
                    <a:path w="370" h="367">
                      <a:moveTo>
                        <a:pt x="296" y="20"/>
                      </a:moveTo>
                      <a:cubicBezTo>
                        <a:pt x="311" y="28"/>
                        <a:pt x="321" y="33"/>
                        <a:pt x="333" y="48"/>
                      </a:cubicBezTo>
                      <a:cubicBezTo>
                        <a:pt x="345" y="63"/>
                        <a:pt x="362" y="92"/>
                        <a:pt x="366" y="113"/>
                      </a:cubicBezTo>
                      <a:cubicBezTo>
                        <a:pt x="370" y="134"/>
                        <a:pt x="359" y="169"/>
                        <a:pt x="355" y="177"/>
                      </a:cubicBezTo>
                      <a:cubicBezTo>
                        <a:pt x="351" y="185"/>
                        <a:pt x="342" y="155"/>
                        <a:pt x="340" y="159"/>
                      </a:cubicBezTo>
                      <a:cubicBezTo>
                        <a:pt x="338" y="163"/>
                        <a:pt x="343" y="185"/>
                        <a:pt x="342" y="204"/>
                      </a:cubicBezTo>
                      <a:cubicBezTo>
                        <a:pt x="341" y="223"/>
                        <a:pt x="339" y="271"/>
                        <a:pt x="334" y="276"/>
                      </a:cubicBezTo>
                      <a:cubicBezTo>
                        <a:pt x="329" y="281"/>
                        <a:pt x="317" y="239"/>
                        <a:pt x="314" y="237"/>
                      </a:cubicBezTo>
                      <a:cubicBezTo>
                        <a:pt x="311" y="235"/>
                        <a:pt x="316" y="246"/>
                        <a:pt x="317" y="264"/>
                      </a:cubicBezTo>
                      <a:cubicBezTo>
                        <a:pt x="318" y="282"/>
                        <a:pt x="324" y="342"/>
                        <a:pt x="320" y="348"/>
                      </a:cubicBezTo>
                      <a:cubicBezTo>
                        <a:pt x="316" y="354"/>
                        <a:pt x="300" y="305"/>
                        <a:pt x="295" y="299"/>
                      </a:cubicBezTo>
                      <a:cubicBezTo>
                        <a:pt x="290" y="293"/>
                        <a:pt x="294" y="304"/>
                        <a:pt x="292" y="315"/>
                      </a:cubicBezTo>
                      <a:cubicBezTo>
                        <a:pt x="290" y="326"/>
                        <a:pt x="290" y="367"/>
                        <a:pt x="283" y="366"/>
                      </a:cubicBezTo>
                      <a:cubicBezTo>
                        <a:pt x="276" y="365"/>
                        <a:pt x="273" y="335"/>
                        <a:pt x="247" y="308"/>
                      </a:cubicBezTo>
                      <a:cubicBezTo>
                        <a:pt x="221" y="281"/>
                        <a:pt x="165" y="238"/>
                        <a:pt x="127" y="206"/>
                      </a:cubicBezTo>
                      <a:cubicBezTo>
                        <a:pt x="89" y="174"/>
                        <a:pt x="34" y="138"/>
                        <a:pt x="17" y="117"/>
                      </a:cubicBezTo>
                      <a:cubicBezTo>
                        <a:pt x="0" y="96"/>
                        <a:pt x="11" y="93"/>
                        <a:pt x="26" y="77"/>
                      </a:cubicBezTo>
                      <a:cubicBezTo>
                        <a:pt x="41" y="61"/>
                        <a:pt x="69" y="36"/>
                        <a:pt x="106" y="23"/>
                      </a:cubicBezTo>
                      <a:cubicBezTo>
                        <a:pt x="143" y="10"/>
                        <a:pt x="213" y="0"/>
                        <a:pt x="245" y="0"/>
                      </a:cubicBezTo>
                      <a:cubicBezTo>
                        <a:pt x="277" y="0"/>
                        <a:pt x="281" y="12"/>
                        <a:pt x="296" y="2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41"/>
                <p:cNvSpPr/>
                <p:nvPr/>
              </p:nvSpPr>
              <p:spPr>
                <a:xfrm>
                  <a:off x="13960440" y="7716240"/>
                  <a:ext cx="401400" cy="29736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210" h="156">
                      <a:moveTo>
                        <a:pt x="32" y="78"/>
                      </a:moveTo>
                      <a:cubicBezTo>
                        <a:pt x="50" y="83"/>
                        <a:pt x="97" y="59"/>
                        <a:pt x="116" y="61"/>
                      </a:cubicBezTo>
                      <a:cubicBezTo>
                        <a:pt x="135" y="63"/>
                        <a:pt x="141" y="75"/>
                        <a:pt x="147" y="90"/>
                      </a:cubicBezTo>
                      <a:cubicBezTo>
                        <a:pt x="153" y="105"/>
                        <a:pt x="150" y="150"/>
                        <a:pt x="153" y="153"/>
                      </a:cubicBezTo>
                      <a:cubicBezTo>
                        <a:pt x="156" y="156"/>
                        <a:pt x="160" y="126"/>
                        <a:pt x="164" y="108"/>
                      </a:cubicBezTo>
                      <a:cubicBezTo>
                        <a:pt x="168" y="90"/>
                        <a:pt x="174" y="57"/>
                        <a:pt x="179" y="43"/>
                      </a:cubicBezTo>
                      <a:cubicBezTo>
                        <a:pt x="184" y="29"/>
                        <a:pt x="210" y="29"/>
                        <a:pt x="195" y="22"/>
                      </a:cubicBezTo>
                      <a:cubicBezTo>
                        <a:pt x="180" y="15"/>
                        <a:pt x="118" y="0"/>
                        <a:pt x="87" y="1"/>
                      </a:cubicBezTo>
                      <a:cubicBezTo>
                        <a:pt x="56" y="2"/>
                        <a:pt x="18" y="14"/>
                        <a:pt x="9" y="28"/>
                      </a:cubicBezTo>
                      <a:cubicBezTo>
                        <a:pt x="0" y="42"/>
                        <a:pt x="14" y="73"/>
                        <a:pt x="32" y="78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42"/>
                <p:cNvSpPr/>
                <p:nvPr/>
              </p:nvSpPr>
              <p:spPr>
                <a:xfrm>
                  <a:off x="13706640" y="7653240"/>
                  <a:ext cx="681840" cy="179280"/>
                </a:xfrm>
                <a:custGeom>
                  <a:avLst/>
                  <a:gdLst>
                    <a:gd name="textAreaLeft" fmla="*/ 0 w 681840"/>
                    <a:gd name="textAreaRight" fmla="*/ 682200 w 68184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57" h="94">
                      <a:moveTo>
                        <a:pt x="27" y="46"/>
                      </a:moveTo>
                      <a:cubicBezTo>
                        <a:pt x="40" y="57"/>
                        <a:pt x="55" y="80"/>
                        <a:pt x="88" y="87"/>
                      </a:cubicBezTo>
                      <a:cubicBezTo>
                        <a:pt x="121" y="94"/>
                        <a:pt x="188" y="90"/>
                        <a:pt x="225" y="85"/>
                      </a:cubicBezTo>
                      <a:cubicBezTo>
                        <a:pt x="262" y="80"/>
                        <a:pt x="291" y="61"/>
                        <a:pt x="312" y="58"/>
                      </a:cubicBezTo>
                      <a:cubicBezTo>
                        <a:pt x="333" y="55"/>
                        <a:pt x="351" y="71"/>
                        <a:pt x="354" y="69"/>
                      </a:cubicBezTo>
                      <a:cubicBezTo>
                        <a:pt x="357" y="67"/>
                        <a:pt x="351" y="53"/>
                        <a:pt x="333" y="43"/>
                      </a:cubicBezTo>
                      <a:cubicBezTo>
                        <a:pt x="315" y="33"/>
                        <a:pt x="284" y="14"/>
                        <a:pt x="246" y="7"/>
                      </a:cubicBezTo>
                      <a:cubicBezTo>
                        <a:pt x="208" y="0"/>
                        <a:pt x="142" y="1"/>
                        <a:pt x="103" y="3"/>
                      </a:cubicBezTo>
                      <a:cubicBezTo>
                        <a:pt x="64" y="5"/>
                        <a:pt x="24" y="15"/>
                        <a:pt x="12" y="21"/>
                      </a:cubicBezTo>
                      <a:cubicBezTo>
                        <a:pt x="0" y="27"/>
                        <a:pt x="14" y="35"/>
                        <a:pt x="27" y="46"/>
                      </a:cubicBezTo>
                      <a:close/>
                    </a:path>
                  </a:pathLst>
                </a:custGeom>
                <a:solidFill>
                  <a:srgbClr val="d2d9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43"/>
                <p:cNvSpPr/>
                <p:nvPr/>
              </p:nvSpPr>
              <p:spPr>
                <a:xfrm>
                  <a:off x="13771440" y="7605720"/>
                  <a:ext cx="605520" cy="171720"/>
                </a:xfrm>
                <a:custGeom>
                  <a:avLst/>
                  <a:gdLst>
                    <a:gd name="textAreaLeft" fmla="*/ 0 w 605520"/>
                    <a:gd name="textAreaRight" fmla="*/ 605880 w 605520"/>
                    <a:gd name="textAreaTop" fmla="*/ 0 h 171720"/>
                    <a:gd name="textAreaBottom" fmla="*/ 172080 h 171720"/>
                  </a:gdLst>
                  <a:ahLst/>
                  <a:rect l="textAreaLeft" t="textAreaTop" r="textAreaRight" b="textAreaBottom"/>
                  <a:pathLst>
                    <a:path w="317" h="90">
                      <a:moveTo>
                        <a:pt x="20" y="5"/>
                      </a:moveTo>
                      <a:cubicBezTo>
                        <a:pt x="40" y="2"/>
                        <a:pt x="115" y="0"/>
                        <a:pt x="147" y="2"/>
                      </a:cubicBezTo>
                      <a:cubicBezTo>
                        <a:pt x="179" y="4"/>
                        <a:pt x="189" y="9"/>
                        <a:pt x="215" y="19"/>
                      </a:cubicBezTo>
                      <a:cubicBezTo>
                        <a:pt x="241" y="29"/>
                        <a:pt x="283" y="51"/>
                        <a:pt x="300" y="62"/>
                      </a:cubicBezTo>
                      <a:cubicBezTo>
                        <a:pt x="317" y="73"/>
                        <a:pt x="317" y="86"/>
                        <a:pt x="317" y="88"/>
                      </a:cubicBezTo>
                      <a:cubicBezTo>
                        <a:pt x="317" y="90"/>
                        <a:pt x="312" y="79"/>
                        <a:pt x="302" y="77"/>
                      </a:cubicBezTo>
                      <a:cubicBezTo>
                        <a:pt x="292" y="75"/>
                        <a:pt x="276" y="71"/>
                        <a:pt x="258" y="73"/>
                      </a:cubicBezTo>
                      <a:cubicBezTo>
                        <a:pt x="240" y="75"/>
                        <a:pt x="216" y="89"/>
                        <a:pt x="191" y="88"/>
                      </a:cubicBezTo>
                      <a:cubicBezTo>
                        <a:pt x="166" y="87"/>
                        <a:pt x="134" y="75"/>
                        <a:pt x="107" y="64"/>
                      </a:cubicBezTo>
                      <a:cubicBezTo>
                        <a:pt x="80" y="53"/>
                        <a:pt x="40" y="29"/>
                        <a:pt x="26" y="20"/>
                      </a:cubicBezTo>
                      <a:cubicBezTo>
                        <a:pt x="12" y="11"/>
                        <a:pt x="0" y="8"/>
                        <a:pt x="2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2800160" y="7219800"/>
                <a:ext cx="2119320" cy="1492200"/>
                <a:chOff x="12800160" y="7219800"/>
                <a:chExt cx="2119320" cy="149220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12800160" y="7234200"/>
                  <a:ext cx="241200" cy="135000"/>
                  <a:chOff x="12800160" y="7234200"/>
                  <a:chExt cx="241200" cy="135000"/>
                </a:xfrm>
              </p:grpSpPr>
              <p:sp>
                <p:nvSpPr>
                  <p:cNvPr id="185" name="Freeform 146"/>
                  <p:cNvSpPr/>
                  <p:nvPr/>
                </p:nvSpPr>
                <p:spPr>
                  <a:xfrm>
                    <a:off x="12833640" y="7234200"/>
                    <a:ext cx="207720" cy="133200"/>
                  </a:xfrm>
                  <a:custGeom>
                    <a:avLst/>
                    <a:gdLst>
                      <a:gd name="textAreaLeft" fmla="*/ 0 w 207720"/>
                      <a:gd name="textAreaRight" fmla="*/ 208080 w 207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31" h="84">
                        <a:moveTo>
                          <a:pt x="107" y="81"/>
                        </a:moveTo>
                        <a:cubicBezTo>
                          <a:pt x="91" y="78"/>
                          <a:pt x="46" y="44"/>
                          <a:pt x="29" y="35"/>
                        </a:cubicBezTo>
                        <a:cubicBezTo>
                          <a:pt x="12" y="26"/>
                          <a:pt x="0" y="32"/>
                          <a:pt x="2" y="27"/>
                        </a:cubicBezTo>
                        <a:cubicBezTo>
                          <a:pt x="4" y="22"/>
                          <a:pt x="27" y="9"/>
                          <a:pt x="41" y="6"/>
                        </a:cubicBezTo>
                        <a:cubicBezTo>
                          <a:pt x="55" y="3"/>
                          <a:pt x="70" y="0"/>
                          <a:pt x="84" y="8"/>
                        </a:cubicBezTo>
                        <a:cubicBezTo>
                          <a:pt x="98" y="16"/>
                          <a:pt x="125" y="42"/>
                          <a:pt x="128" y="54"/>
                        </a:cubicBezTo>
                        <a:cubicBezTo>
                          <a:pt x="131" y="66"/>
                          <a:pt x="123" y="84"/>
                          <a:pt x="107" y="81"/>
                        </a:cubicBezTo>
                        <a:close/>
                      </a:path>
                    </a:pathLst>
                  </a:custGeom>
                  <a:solidFill>
                    <a:srgbClr val="91a9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47"/>
                  <p:cNvSpPr/>
                  <p:nvPr/>
                </p:nvSpPr>
                <p:spPr>
                  <a:xfrm>
                    <a:off x="12800160" y="7246800"/>
                    <a:ext cx="227160" cy="106560"/>
                  </a:xfrm>
                  <a:custGeom>
                    <a:avLst/>
                    <a:gdLst>
                      <a:gd name="textAreaLeft" fmla="*/ 0 w 227160"/>
                      <a:gd name="textAreaRight" fmla="*/ 227160 w 227160"/>
                      <a:gd name="textAreaTop" fmla="*/ 0 h 106560"/>
                      <a:gd name="textAreaBottom" fmla="*/ 106920 h 106560"/>
                    </a:gdLst>
                    <a:ahLst/>
                    <a:rect l="textAreaLeft" t="textAreaTop" r="textAreaRight" b="textAreaBottom"/>
                    <a:pathLst>
                      <a:path w="143" h="67">
                        <a:moveTo>
                          <a:pt x="110" y="4"/>
                        </a:moveTo>
                        <a:cubicBezTo>
                          <a:pt x="99" y="3"/>
                          <a:pt x="56" y="11"/>
                          <a:pt x="47" y="10"/>
                        </a:cubicBezTo>
                        <a:cubicBezTo>
                          <a:pt x="38" y="9"/>
                          <a:pt x="59" y="0"/>
                          <a:pt x="54" y="1"/>
                        </a:cubicBezTo>
                        <a:cubicBezTo>
                          <a:pt x="49" y="2"/>
                          <a:pt x="27" y="12"/>
                          <a:pt x="18" y="16"/>
                        </a:cubicBezTo>
                        <a:cubicBezTo>
                          <a:pt x="9" y="20"/>
                          <a:pt x="0" y="24"/>
                          <a:pt x="2" y="28"/>
                        </a:cubicBezTo>
                        <a:cubicBezTo>
                          <a:pt x="4" y="32"/>
                          <a:pt x="18" y="35"/>
                          <a:pt x="30" y="40"/>
                        </a:cubicBezTo>
                        <a:cubicBezTo>
                          <a:pt x="42" y="45"/>
                          <a:pt x="59" y="57"/>
                          <a:pt x="77" y="60"/>
                        </a:cubicBezTo>
                        <a:cubicBezTo>
                          <a:pt x="95" y="63"/>
                          <a:pt x="131" y="67"/>
                          <a:pt x="137" y="60"/>
                        </a:cubicBezTo>
                        <a:cubicBezTo>
                          <a:pt x="143" y="53"/>
                          <a:pt x="115" y="27"/>
                          <a:pt x="111" y="18"/>
                        </a:cubicBezTo>
                        <a:cubicBezTo>
                          <a:pt x="107" y="9"/>
                          <a:pt x="121" y="5"/>
                          <a:pt x="110" y="4"/>
                        </a:cubicBezTo>
                        <a:close/>
                      </a:path>
                    </a:pathLst>
                  </a:custGeom>
                  <a:solidFill>
                    <a:srgbClr val="506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48"/>
                  <p:cNvSpPr/>
                  <p:nvPr/>
                </p:nvSpPr>
                <p:spPr>
                  <a:xfrm>
                    <a:off x="12803400" y="7280280"/>
                    <a:ext cx="216000" cy="88920"/>
                  </a:xfrm>
                  <a:custGeom>
                    <a:avLst/>
                    <a:gdLst>
                      <a:gd name="textAreaLeft" fmla="*/ 0 w 216000"/>
                      <a:gd name="textAreaRight" fmla="*/ 216360 w 21600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136" h="56">
                        <a:moveTo>
                          <a:pt x="103" y="55"/>
                        </a:moveTo>
                        <a:cubicBezTo>
                          <a:pt x="90" y="56"/>
                          <a:pt x="66" y="40"/>
                          <a:pt x="52" y="34"/>
                        </a:cubicBezTo>
                        <a:cubicBezTo>
                          <a:pt x="38" y="28"/>
                          <a:pt x="16" y="17"/>
                          <a:pt x="16" y="16"/>
                        </a:cubicBezTo>
                        <a:cubicBezTo>
                          <a:pt x="16" y="15"/>
                          <a:pt x="39" y="24"/>
                          <a:pt x="52" y="25"/>
                        </a:cubicBezTo>
                        <a:cubicBezTo>
                          <a:pt x="65" y="26"/>
                          <a:pt x="100" y="25"/>
                          <a:pt x="97" y="22"/>
                        </a:cubicBezTo>
                        <a:cubicBezTo>
                          <a:pt x="94" y="19"/>
                          <a:pt x="46" y="9"/>
                          <a:pt x="31" y="7"/>
                        </a:cubicBezTo>
                        <a:cubicBezTo>
                          <a:pt x="16" y="5"/>
                          <a:pt x="0" y="8"/>
                          <a:pt x="7" y="7"/>
                        </a:cubicBezTo>
                        <a:cubicBezTo>
                          <a:pt x="14" y="6"/>
                          <a:pt x="53" y="0"/>
                          <a:pt x="73" y="4"/>
                        </a:cubicBezTo>
                        <a:cubicBezTo>
                          <a:pt x="93" y="8"/>
                          <a:pt x="124" y="24"/>
                          <a:pt x="130" y="31"/>
                        </a:cubicBezTo>
                        <a:cubicBezTo>
                          <a:pt x="136" y="38"/>
                          <a:pt x="116" y="54"/>
                          <a:pt x="103" y="55"/>
                        </a:cubicBezTo>
                        <a:close/>
                      </a:path>
                    </a:pathLst>
                  </a:custGeom>
                  <a:solidFill>
                    <a:srgbClr val="3a4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Freeform 149"/>
                <p:cNvSpPr/>
                <p:nvPr/>
              </p:nvSpPr>
              <p:spPr>
                <a:xfrm>
                  <a:off x="12901680" y="7234200"/>
                  <a:ext cx="1674720" cy="1477800"/>
                </a:xfrm>
                <a:custGeom>
                  <a:avLst/>
                  <a:gdLst>
                    <a:gd name="textAreaLeft" fmla="*/ 0 w 1674720"/>
                    <a:gd name="textAreaRight" fmla="*/ 1675080 w 1674720"/>
                    <a:gd name="textAreaTop" fmla="*/ 0 h 1477800"/>
                    <a:gd name="textAreaBottom" fmla="*/ 1478160 h 1477800"/>
                  </a:gdLst>
                  <a:ahLst/>
                  <a:rect l="textAreaLeft" t="textAreaTop" r="textAreaRight" b="textAreaBottom"/>
                  <a:pathLst>
                    <a:path w="1055" h="931">
                      <a:moveTo>
                        <a:pt x="167" y="42"/>
                      </a:moveTo>
                      <a:cubicBezTo>
                        <a:pt x="94" y="0"/>
                        <a:pt x="61" y="42"/>
                        <a:pt x="35" y="48"/>
                      </a:cubicBezTo>
                      <a:cubicBezTo>
                        <a:pt x="9" y="54"/>
                        <a:pt x="0" y="63"/>
                        <a:pt x="8" y="78"/>
                      </a:cubicBezTo>
                      <a:cubicBezTo>
                        <a:pt x="16" y="93"/>
                        <a:pt x="57" y="122"/>
                        <a:pt x="80" y="141"/>
                      </a:cubicBezTo>
                      <a:cubicBezTo>
                        <a:pt x="103" y="160"/>
                        <a:pt x="125" y="160"/>
                        <a:pt x="146" y="189"/>
                      </a:cubicBezTo>
                      <a:cubicBezTo>
                        <a:pt x="167" y="218"/>
                        <a:pt x="180" y="274"/>
                        <a:pt x="206" y="315"/>
                      </a:cubicBezTo>
                      <a:cubicBezTo>
                        <a:pt x="232" y="356"/>
                        <a:pt x="254" y="395"/>
                        <a:pt x="302" y="435"/>
                      </a:cubicBezTo>
                      <a:cubicBezTo>
                        <a:pt x="350" y="475"/>
                        <a:pt x="436" y="520"/>
                        <a:pt x="497" y="552"/>
                      </a:cubicBezTo>
                      <a:cubicBezTo>
                        <a:pt x="558" y="584"/>
                        <a:pt x="632" y="610"/>
                        <a:pt x="668" y="627"/>
                      </a:cubicBezTo>
                      <a:cubicBezTo>
                        <a:pt x="704" y="644"/>
                        <a:pt x="695" y="636"/>
                        <a:pt x="710" y="654"/>
                      </a:cubicBezTo>
                      <a:cubicBezTo>
                        <a:pt x="725" y="672"/>
                        <a:pt x="738" y="704"/>
                        <a:pt x="758" y="738"/>
                      </a:cubicBezTo>
                      <a:cubicBezTo>
                        <a:pt x="778" y="772"/>
                        <a:pt x="812" y="829"/>
                        <a:pt x="833" y="858"/>
                      </a:cubicBezTo>
                      <a:cubicBezTo>
                        <a:pt x="854" y="887"/>
                        <a:pt x="877" y="908"/>
                        <a:pt x="884" y="912"/>
                      </a:cubicBezTo>
                      <a:cubicBezTo>
                        <a:pt x="891" y="916"/>
                        <a:pt x="887" y="899"/>
                        <a:pt x="878" y="882"/>
                      </a:cubicBezTo>
                      <a:cubicBezTo>
                        <a:pt x="869" y="865"/>
                        <a:pt x="823" y="802"/>
                        <a:pt x="830" y="807"/>
                      </a:cubicBezTo>
                      <a:cubicBezTo>
                        <a:pt x="837" y="812"/>
                        <a:pt x="898" y="893"/>
                        <a:pt x="920" y="912"/>
                      </a:cubicBezTo>
                      <a:cubicBezTo>
                        <a:pt x="942" y="931"/>
                        <a:pt x="955" y="923"/>
                        <a:pt x="962" y="921"/>
                      </a:cubicBezTo>
                      <a:cubicBezTo>
                        <a:pt x="969" y="919"/>
                        <a:pt x="956" y="897"/>
                        <a:pt x="962" y="897"/>
                      </a:cubicBezTo>
                      <a:cubicBezTo>
                        <a:pt x="968" y="897"/>
                        <a:pt x="984" y="918"/>
                        <a:pt x="998" y="921"/>
                      </a:cubicBezTo>
                      <a:cubicBezTo>
                        <a:pt x="1012" y="924"/>
                        <a:pt x="1040" y="919"/>
                        <a:pt x="1046" y="915"/>
                      </a:cubicBezTo>
                      <a:cubicBezTo>
                        <a:pt x="1052" y="911"/>
                        <a:pt x="1055" y="919"/>
                        <a:pt x="1034" y="894"/>
                      </a:cubicBezTo>
                      <a:cubicBezTo>
                        <a:pt x="1013" y="869"/>
                        <a:pt x="935" y="800"/>
                        <a:pt x="917" y="765"/>
                      </a:cubicBezTo>
                      <a:cubicBezTo>
                        <a:pt x="899" y="730"/>
                        <a:pt x="937" y="712"/>
                        <a:pt x="926" y="684"/>
                      </a:cubicBezTo>
                      <a:cubicBezTo>
                        <a:pt x="915" y="656"/>
                        <a:pt x="926" y="660"/>
                        <a:pt x="851" y="597"/>
                      </a:cubicBezTo>
                      <a:cubicBezTo>
                        <a:pt x="776" y="534"/>
                        <a:pt x="590" y="395"/>
                        <a:pt x="476" y="303"/>
                      </a:cubicBezTo>
                      <a:cubicBezTo>
                        <a:pt x="362" y="211"/>
                        <a:pt x="240" y="84"/>
                        <a:pt x="167" y="42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50"/>
                <p:cNvSpPr/>
                <p:nvPr/>
              </p:nvSpPr>
              <p:spPr>
                <a:xfrm>
                  <a:off x="12893760" y="7219800"/>
                  <a:ext cx="2025720" cy="1473120"/>
                </a:xfrm>
                <a:custGeom>
                  <a:avLst/>
                  <a:gdLst>
                    <a:gd name="textAreaLeft" fmla="*/ 0 w 2025720"/>
                    <a:gd name="textAreaRight" fmla="*/ 2026080 w 2025720"/>
                    <a:gd name="textAreaTop" fmla="*/ 0 h 1473120"/>
                    <a:gd name="textAreaBottom" fmla="*/ 1473480 h 1473120"/>
                  </a:gdLst>
                  <a:ahLst/>
                  <a:rect l="textAreaLeft" t="textAreaTop" r="textAreaRight" b="textAreaBottom"/>
                  <a:pathLst>
                    <a:path w="1276" h="928">
                      <a:moveTo>
                        <a:pt x="208" y="39"/>
                      </a:moveTo>
                      <a:cubicBezTo>
                        <a:pt x="134" y="10"/>
                        <a:pt x="122" y="11"/>
                        <a:pt x="91" y="6"/>
                      </a:cubicBezTo>
                      <a:cubicBezTo>
                        <a:pt x="60" y="1"/>
                        <a:pt x="34" y="0"/>
                        <a:pt x="19" y="9"/>
                      </a:cubicBezTo>
                      <a:cubicBezTo>
                        <a:pt x="4" y="18"/>
                        <a:pt x="0" y="44"/>
                        <a:pt x="1" y="60"/>
                      </a:cubicBezTo>
                      <a:cubicBezTo>
                        <a:pt x="2" y="76"/>
                        <a:pt x="6" y="93"/>
                        <a:pt x="25" y="105"/>
                      </a:cubicBezTo>
                      <a:cubicBezTo>
                        <a:pt x="44" y="117"/>
                        <a:pt x="87" y="117"/>
                        <a:pt x="115" y="132"/>
                      </a:cubicBezTo>
                      <a:cubicBezTo>
                        <a:pt x="143" y="147"/>
                        <a:pt x="173" y="178"/>
                        <a:pt x="193" y="198"/>
                      </a:cubicBezTo>
                      <a:cubicBezTo>
                        <a:pt x="213" y="218"/>
                        <a:pt x="230" y="250"/>
                        <a:pt x="238" y="255"/>
                      </a:cubicBezTo>
                      <a:cubicBezTo>
                        <a:pt x="246" y="260"/>
                        <a:pt x="237" y="242"/>
                        <a:pt x="241" y="228"/>
                      </a:cubicBezTo>
                      <a:cubicBezTo>
                        <a:pt x="245" y="214"/>
                        <a:pt x="260" y="168"/>
                        <a:pt x="265" y="168"/>
                      </a:cubicBezTo>
                      <a:cubicBezTo>
                        <a:pt x="270" y="168"/>
                        <a:pt x="270" y="211"/>
                        <a:pt x="274" y="231"/>
                      </a:cubicBezTo>
                      <a:cubicBezTo>
                        <a:pt x="278" y="251"/>
                        <a:pt x="265" y="258"/>
                        <a:pt x="286" y="288"/>
                      </a:cubicBezTo>
                      <a:cubicBezTo>
                        <a:pt x="307" y="318"/>
                        <a:pt x="352" y="372"/>
                        <a:pt x="400" y="411"/>
                      </a:cubicBezTo>
                      <a:cubicBezTo>
                        <a:pt x="448" y="450"/>
                        <a:pt x="531" y="495"/>
                        <a:pt x="577" y="522"/>
                      </a:cubicBezTo>
                      <a:cubicBezTo>
                        <a:pt x="623" y="549"/>
                        <a:pt x="656" y="559"/>
                        <a:pt x="679" y="573"/>
                      </a:cubicBezTo>
                      <a:cubicBezTo>
                        <a:pt x="702" y="587"/>
                        <a:pt x="696" y="599"/>
                        <a:pt x="715" y="609"/>
                      </a:cubicBezTo>
                      <a:cubicBezTo>
                        <a:pt x="734" y="619"/>
                        <a:pt x="770" y="629"/>
                        <a:pt x="793" y="633"/>
                      </a:cubicBezTo>
                      <a:cubicBezTo>
                        <a:pt x="816" y="637"/>
                        <a:pt x="851" y="632"/>
                        <a:pt x="856" y="636"/>
                      </a:cubicBezTo>
                      <a:cubicBezTo>
                        <a:pt x="861" y="640"/>
                        <a:pt x="836" y="650"/>
                        <a:pt x="826" y="657"/>
                      </a:cubicBezTo>
                      <a:cubicBezTo>
                        <a:pt x="816" y="664"/>
                        <a:pt x="792" y="665"/>
                        <a:pt x="796" y="678"/>
                      </a:cubicBezTo>
                      <a:cubicBezTo>
                        <a:pt x="800" y="691"/>
                        <a:pt x="819" y="702"/>
                        <a:pt x="850" y="735"/>
                      </a:cubicBezTo>
                      <a:cubicBezTo>
                        <a:pt x="881" y="768"/>
                        <a:pt x="948" y="843"/>
                        <a:pt x="979" y="873"/>
                      </a:cubicBezTo>
                      <a:cubicBezTo>
                        <a:pt x="1010" y="903"/>
                        <a:pt x="1022" y="909"/>
                        <a:pt x="1036" y="918"/>
                      </a:cubicBezTo>
                      <a:cubicBezTo>
                        <a:pt x="1050" y="927"/>
                        <a:pt x="1055" y="927"/>
                        <a:pt x="1063" y="927"/>
                      </a:cubicBezTo>
                      <a:cubicBezTo>
                        <a:pt x="1071" y="927"/>
                        <a:pt x="1075" y="928"/>
                        <a:pt x="1084" y="918"/>
                      </a:cubicBezTo>
                      <a:cubicBezTo>
                        <a:pt x="1071" y="902"/>
                        <a:pt x="989" y="827"/>
                        <a:pt x="988" y="828"/>
                      </a:cubicBezTo>
                      <a:cubicBezTo>
                        <a:pt x="987" y="829"/>
                        <a:pt x="1069" y="902"/>
                        <a:pt x="1093" y="912"/>
                      </a:cubicBezTo>
                      <a:cubicBezTo>
                        <a:pt x="1107" y="896"/>
                        <a:pt x="1111" y="902"/>
                        <a:pt x="1132" y="888"/>
                      </a:cubicBezTo>
                      <a:cubicBezTo>
                        <a:pt x="1103" y="874"/>
                        <a:pt x="1034" y="822"/>
                        <a:pt x="1036" y="822"/>
                      </a:cubicBezTo>
                      <a:cubicBezTo>
                        <a:pt x="1038" y="822"/>
                        <a:pt x="1113" y="870"/>
                        <a:pt x="1147" y="891"/>
                      </a:cubicBezTo>
                      <a:cubicBezTo>
                        <a:pt x="1185" y="890"/>
                        <a:pt x="1203" y="882"/>
                        <a:pt x="1246" y="879"/>
                      </a:cubicBezTo>
                      <a:cubicBezTo>
                        <a:pt x="1227" y="856"/>
                        <a:pt x="1120" y="779"/>
                        <a:pt x="1123" y="777"/>
                      </a:cubicBezTo>
                      <a:cubicBezTo>
                        <a:pt x="1126" y="775"/>
                        <a:pt x="1236" y="858"/>
                        <a:pt x="1261" y="867"/>
                      </a:cubicBezTo>
                      <a:cubicBezTo>
                        <a:pt x="1269" y="856"/>
                        <a:pt x="1273" y="852"/>
                        <a:pt x="1276" y="837"/>
                      </a:cubicBezTo>
                      <a:cubicBezTo>
                        <a:pt x="1243" y="808"/>
                        <a:pt x="1124" y="732"/>
                        <a:pt x="1060" y="690"/>
                      </a:cubicBezTo>
                      <a:cubicBezTo>
                        <a:pt x="996" y="648"/>
                        <a:pt x="935" y="623"/>
                        <a:pt x="892" y="588"/>
                      </a:cubicBezTo>
                      <a:cubicBezTo>
                        <a:pt x="849" y="553"/>
                        <a:pt x="835" y="521"/>
                        <a:pt x="802" y="477"/>
                      </a:cubicBezTo>
                      <a:cubicBezTo>
                        <a:pt x="769" y="433"/>
                        <a:pt x="735" y="373"/>
                        <a:pt x="691" y="324"/>
                      </a:cubicBezTo>
                      <a:cubicBezTo>
                        <a:pt x="647" y="275"/>
                        <a:pt x="619" y="230"/>
                        <a:pt x="538" y="182"/>
                      </a:cubicBezTo>
                      <a:cubicBezTo>
                        <a:pt x="457" y="134"/>
                        <a:pt x="282" y="68"/>
                        <a:pt x="208" y="39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151"/>
                <p:cNvSpPr/>
                <p:nvPr/>
              </p:nvSpPr>
              <p:spPr>
                <a:xfrm>
                  <a:off x="12916080" y="7277040"/>
                  <a:ext cx="17280" cy="17280"/>
                </a:xfrm>
                <a:prstGeom prst="ellipse">
                  <a:avLst/>
                </a:prstGeom>
                <a:solidFill>
                  <a:srgbClr val="3540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2674880" y="7273800"/>
                <a:ext cx="1342800" cy="848880"/>
                <a:chOff x="12674880" y="7273800"/>
                <a:chExt cx="1342800" cy="848880"/>
              </a:xfrm>
            </p:grpSpPr>
            <p:sp>
              <p:nvSpPr>
                <p:cNvPr id="192" name="Freeform 153"/>
                <p:cNvSpPr/>
                <p:nvPr/>
              </p:nvSpPr>
              <p:spPr>
                <a:xfrm>
                  <a:off x="13573440" y="7334640"/>
                  <a:ext cx="444240" cy="507600"/>
                </a:xfrm>
                <a:custGeom>
                  <a:avLst/>
                  <a:gdLst>
                    <a:gd name="textAreaLeft" fmla="*/ 0 w 444240"/>
                    <a:gd name="textAreaRight" fmla="*/ 444600 w 44424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233" h="266">
                      <a:moveTo>
                        <a:pt x="48" y="8"/>
                      </a:moveTo>
                      <a:cubicBezTo>
                        <a:pt x="69" y="15"/>
                        <a:pt x="110" y="37"/>
                        <a:pt x="133" y="55"/>
                      </a:cubicBezTo>
                      <a:cubicBezTo>
                        <a:pt x="156" y="73"/>
                        <a:pt x="175" y="102"/>
                        <a:pt x="187" y="116"/>
                      </a:cubicBezTo>
                      <a:cubicBezTo>
                        <a:pt x="199" y="130"/>
                        <a:pt x="204" y="135"/>
                        <a:pt x="204" y="139"/>
                      </a:cubicBezTo>
                      <a:cubicBezTo>
                        <a:pt x="204" y="143"/>
                        <a:pt x="189" y="138"/>
                        <a:pt x="189" y="140"/>
                      </a:cubicBezTo>
                      <a:cubicBezTo>
                        <a:pt x="189" y="142"/>
                        <a:pt x="200" y="144"/>
                        <a:pt x="207" y="149"/>
                      </a:cubicBezTo>
                      <a:cubicBezTo>
                        <a:pt x="214" y="154"/>
                        <a:pt x="231" y="166"/>
                        <a:pt x="232" y="170"/>
                      </a:cubicBezTo>
                      <a:cubicBezTo>
                        <a:pt x="233" y="174"/>
                        <a:pt x="221" y="173"/>
                        <a:pt x="214" y="172"/>
                      </a:cubicBezTo>
                      <a:cubicBezTo>
                        <a:pt x="207" y="171"/>
                        <a:pt x="193" y="160"/>
                        <a:pt x="192" y="161"/>
                      </a:cubicBezTo>
                      <a:cubicBezTo>
                        <a:pt x="191" y="162"/>
                        <a:pt x="201" y="169"/>
                        <a:pt x="207" y="178"/>
                      </a:cubicBezTo>
                      <a:cubicBezTo>
                        <a:pt x="213" y="187"/>
                        <a:pt x="227" y="209"/>
                        <a:pt x="228" y="217"/>
                      </a:cubicBezTo>
                      <a:cubicBezTo>
                        <a:pt x="229" y="225"/>
                        <a:pt x="219" y="224"/>
                        <a:pt x="214" y="224"/>
                      </a:cubicBezTo>
                      <a:cubicBezTo>
                        <a:pt x="209" y="224"/>
                        <a:pt x="200" y="217"/>
                        <a:pt x="198" y="218"/>
                      </a:cubicBezTo>
                      <a:cubicBezTo>
                        <a:pt x="196" y="219"/>
                        <a:pt x="201" y="222"/>
                        <a:pt x="202" y="229"/>
                      </a:cubicBezTo>
                      <a:cubicBezTo>
                        <a:pt x="203" y="236"/>
                        <a:pt x="207" y="260"/>
                        <a:pt x="204" y="263"/>
                      </a:cubicBezTo>
                      <a:cubicBezTo>
                        <a:pt x="201" y="266"/>
                        <a:pt x="193" y="254"/>
                        <a:pt x="186" y="248"/>
                      </a:cubicBezTo>
                      <a:cubicBezTo>
                        <a:pt x="179" y="242"/>
                        <a:pt x="165" y="226"/>
                        <a:pt x="159" y="224"/>
                      </a:cubicBezTo>
                      <a:cubicBezTo>
                        <a:pt x="153" y="222"/>
                        <a:pt x="149" y="232"/>
                        <a:pt x="147" y="238"/>
                      </a:cubicBezTo>
                      <a:cubicBezTo>
                        <a:pt x="145" y="244"/>
                        <a:pt x="148" y="258"/>
                        <a:pt x="145" y="259"/>
                      </a:cubicBezTo>
                      <a:cubicBezTo>
                        <a:pt x="142" y="260"/>
                        <a:pt x="133" y="245"/>
                        <a:pt x="127" y="244"/>
                      </a:cubicBezTo>
                      <a:cubicBezTo>
                        <a:pt x="121" y="243"/>
                        <a:pt x="113" y="255"/>
                        <a:pt x="108" y="254"/>
                      </a:cubicBezTo>
                      <a:cubicBezTo>
                        <a:pt x="103" y="253"/>
                        <a:pt x="102" y="243"/>
                        <a:pt x="96" y="235"/>
                      </a:cubicBezTo>
                      <a:cubicBezTo>
                        <a:pt x="90" y="227"/>
                        <a:pt x="79" y="215"/>
                        <a:pt x="69" y="203"/>
                      </a:cubicBezTo>
                      <a:cubicBezTo>
                        <a:pt x="59" y="191"/>
                        <a:pt x="46" y="180"/>
                        <a:pt x="36" y="160"/>
                      </a:cubicBezTo>
                      <a:cubicBezTo>
                        <a:pt x="26" y="140"/>
                        <a:pt x="12" y="105"/>
                        <a:pt x="7" y="80"/>
                      </a:cubicBezTo>
                      <a:cubicBezTo>
                        <a:pt x="2" y="55"/>
                        <a:pt x="0" y="26"/>
                        <a:pt x="7" y="13"/>
                      </a:cubicBezTo>
                      <a:cubicBezTo>
                        <a:pt x="14" y="0"/>
                        <a:pt x="27" y="1"/>
                        <a:pt x="48" y="8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54"/>
                <p:cNvSpPr/>
                <p:nvPr/>
              </p:nvSpPr>
              <p:spPr>
                <a:xfrm>
                  <a:off x="12682440" y="7371000"/>
                  <a:ext cx="1167120" cy="751680"/>
                </a:xfrm>
                <a:custGeom>
                  <a:avLst/>
                  <a:gdLst>
                    <a:gd name="textAreaLeft" fmla="*/ 0 w 1167120"/>
                    <a:gd name="textAreaRight" fmla="*/ 1167480 w 1167120"/>
                    <a:gd name="textAreaTop" fmla="*/ 0 h 751680"/>
                    <a:gd name="textAreaBottom" fmla="*/ 752040 h 751680"/>
                  </a:gdLst>
                  <a:ahLst/>
                  <a:rect l="textAreaLeft" t="textAreaTop" r="textAreaRight" b="textAreaBottom"/>
                  <a:pathLst>
                    <a:path w="612" h="394">
                      <a:moveTo>
                        <a:pt x="119" y="186"/>
                      </a:moveTo>
                      <a:cubicBezTo>
                        <a:pt x="100" y="206"/>
                        <a:pt x="72" y="254"/>
                        <a:pt x="53" y="283"/>
                      </a:cubicBezTo>
                      <a:cubicBezTo>
                        <a:pt x="34" y="312"/>
                        <a:pt x="6" y="351"/>
                        <a:pt x="3" y="361"/>
                      </a:cubicBezTo>
                      <a:cubicBezTo>
                        <a:pt x="0" y="371"/>
                        <a:pt x="36" y="341"/>
                        <a:pt x="38" y="345"/>
                      </a:cubicBezTo>
                      <a:cubicBezTo>
                        <a:pt x="40" y="349"/>
                        <a:pt x="17" y="382"/>
                        <a:pt x="17" y="388"/>
                      </a:cubicBezTo>
                      <a:cubicBezTo>
                        <a:pt x="17" y="394"/>
                        <a:pt x="26" y="390"/>
                        <a:pt x="41" y="382"/>
                      </a:cubicBezTo>
                      <a:cubicBezTo>
                        <a:pt x="56" y="374"/>
                        <a:pt x="89" y="354"/>
                        <a:pt x="107" y="342"/>
                      </a:cubicBezTo>
                      <a:cubicBezTo>
                        <a:pt x="125" y="330"/>
                        <a:pt x="136" y="319"/>
                        <a:pt x="147" y="309"/>
                      </a:cubicBezTo>
                      <a:cubicBezTo>
                        <a:pt x="158" y="299"/>
                        <a:pt x="175" y="280"/>
                        <a:pt x="174" y="283"/>
                      </a:cubicBezTo>
                      <a:cubicBezTo>
                        <a:pt x="173" y="286"/>
                        <a:pt x="150" y="313"/>
                        <a:pt x="141" y="325"/>
                      </a:cubicBezTo>
                      <a:cubicBezTo>
                        <a:pt x="132" y="337"/>
                        <a:pt x="119" y="350"/>
                        <a:pt x="120" y="354"/>
                      </a:cubicBezTo>
                      <a:cubicBezTo>
                        <a:pt x="121" y="358"/>
                        <a:pt x="135" y="352"/>
                        <a:pt x="147" y="348"/>
                      </a:cubicBezTo>
                      <a:cubicBezTo>
                        <a:pt x="159" y="344"/>
                        <a:pt x="177" y="336"/>
                        <a:pt x="194" y="327"/>
                      </a:cubicBezTo>
                      <a:cubicBezTo>
                        <a:pt x="211" y="318"/>
                        <a:pt x="235" y="300"/>
                        <a:pt x="248" y="292"/>
                      </a:cubicBezTo>
                      <a:cubicBezTo>
                        <a:pt x="261" y="284"/>
                        <a:pt x="272" y="276"/>
                        <a:pt x="272" y="279"/>
                      </a:cubicBezTo>
                      <a:cubicBezTo>
                        <a:pt x="272" y="282"/>
                        <a:pt x="253" y="304"/>
                        <a:pt x="248" y="312"/>
                      </a:cubicBezTo>
                      <a:cubicBezTo>
                        <a:pt x="243" y="320"/>
                        <a:pt x="236" y="330"/>
                        <a:pt x="240" y="330"/>
                      </a:cubicBezTo>
                      <a:cubicBezTo>
                        <a:pt x="244" y="330"/>
                        <a:pt x="262" y="321"/>
                        <a:pt x="275" y="312"/>
                      </a:cubicBezTo>
                      <a:cubicBezTo>
                        <a:pt x="288" y="303"/>
                        <a:pt x="306" y="289"/>
                        <a:pt x="321" y="277"/>
                      </a:cubicBezTo>
                      <a:cubicBezTo>
                        <a:pt x="336" y="265"/>
                        <a:pt x="355" y="248"/>
                        <a:pt x="366" y="238"/>
                      </a:cubicBezTo>
                      <a:cubicBezTo>
                        <a:pt x="377" y="228"/>
                        <a:pt x="382" y="216"/>
                        <a:pt x="384" y="217"/>
                      </a:cubicBezTo>
                      <a:cubicBezTo>
                        <a:pt x="386" y="218"/>
                        <a:pt x="378" y="234"/>
                        <a:pt x="377" y="243"/>
                      </a:cubicBezTo>
                      <a:cubicBezTo>
                        <a:pt x="376" y="252"/>
                        <a:pt x="372" y="272"/>
                        <a:pt x="378" y="273"/>
                      </a:cubicBezTo>
                      <a:cubicBezTo>
                        <a:pt x="384" y="274"/>
                        <a:pt x="400" y="262"/>
                        <a:pt x="413" y="247"/>
                      </a:cubicBezTo>
                      <a:cubicBezTo>
                        <a:pt x="426" y="232"/>
                        <a:pt x="445" y="204"/>
                        <a:pt x="455" y="184"/>
                      </a:cubicBezTo>
                      <a:cubicBezTo>
                        <a:pt x="465" y="164"/>
                        <a:pt x="468" y="144"/>
                        <a:pt x="471" y="129"/>
                      </a:cubicBezTo>
                      <a:cubicBezTo>
                        <a:pt x="474" y="114"/>
                        <a:pt x="469" y="89"/>
                        <a:pt x="473" y="97"/>
                      </a:cubicBezTo>
                      <a:cubicBezTo>
                        <a:pt x="477" y="105"/>
                        <a:pt x="492" y="157"/>
                        <a:pt x="497" y="175"/>
                      </a:cubicBezTo>
                      <a:cubicBezTo>
                        <a:pt x="502" y="193"/>
                        <a:pt x="502" y="209"/>
                        <a:pt x="504" y="208"/>
                      </a:cubicBezTo>
                      <a:cubicBezTo>
                        <a:pt x="506" y="207"/>
                        <a:pt x="508" y="190"/>
                        <a:pt x="509" y="171"/>
                      </a:cubicBezTo>
                      <a:cubicBezTo>
                        <a:pt x="510" y="152"/>
                        <a:pt x="510" y="112"/>
                        <a:pt x="510" y="96"/>
                      </a:cubicBezTo>
                      <a:cubicBezTo>
                        <a:pt x="510" y="80"/>
                        <a:pt x="506" y="72"/>
                        <a:pt x="510" y="76"/>
                      </a:cubicBezTo>
                      <a:cubicBezTo>
                        <a:pt x="514" y="80"/>
                        <a:pt x="529" y="104"/>
                        <a:pt x="537" y="121"/>
                      </a:cubicBezTo>
                      <a:cubicBezTo>
                        <a:pt x="545" y="138"/>
                        <a:pt x="553" y="178"/>
                        <a:pt x="557" y="177"/>
                      </a:cubicBezTo>
                      <a:cubicBezTo>
                        <a:pt x="561" y="176"/>
                        <a:pt x="564" y="129"/>
                        <a:pt x="564" y="112"/>
                      </a:cubicBezTo>
                      <a:cubicBezTo>
                        <a:pt x="564" y="95"/>
                        <a:pt x="553" y="76"/>
                        <a:pt x="555" y="72"/>
                      </a:cubicBezTo>
                      <a:cubicBezTo>
                        <a:pt x="557" y="68"/>
                        <a:pt x="571" y="81"/>
                        <a:pt x="579" y="90"/>
                      </a:cubicBezTo>
                      <a:cubicBezTo>
                        <a:pt x="587" y="99"/>
                        <a:pt x="598" y="127"/>
                        <a:pt x="603" y="127"/>
                      </a:cubicBezTo>
                      <a:cubicBezTo>
                        <a:pt x="608" y="127"/>
                        <a:pt x="608" y="101"/>
                        <a:pt x="608" y="87"/>
                      </a:cubicBezTo>
                      <a:cubicBezTo>
                        <a:pt x="608" y="73"/>
                        <a:pt x="612" y="54"/>
                        <a:pt x="602" y="43"/>
                      </a:cubicBezTo>
                      <a:cubicBezTo>
                        <a:pt x="592" y="32"/>
                        <a:pt x="577" y="23"/>
                        <a:pt x="549" y="18"/>
                      </a:cubicBezTo>
                      <a:cubicBezTo>
                        <a:pt x="521" y="13"/>
                        <a:pt x="471" y="0"/>
                        <a:pt x="431" y="13"/>
                      </a:cubicBezTo>
                      <a:cubicBezTo>
                        <a:pt x="391" y="26"/>
                        <a:pt x="352" y="69"/>
                        <a:pt x="308" y="94"/>
                      </a:cubicBezTo>
                      <a:cubicBezTo>
                        <a:pt x="264" y="119"/>
                        <a:pt x="198" y="150"/>
                        <a:pt x="168" y="165"/>
                      </a:cubicBezTo>
                      <a:cubicBezTo>
                        <a:pt x="138" y="180"/>
                        <a:pt x="138" y="166"/>
                        <a:pt x="119" y="186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55"/>
                <p:cNvSpPr/>
                <p:nvPr/>
              </p:nvSpPr>
              <p:spPr>
                <a:xfrm>
                  <a:off x="12674880" y="7273800"/>
                  <a:ext cx="1274400" cy="813240"/>
                </a:xfrm>
                <a:custGeom>
                  <a:avLst/>
                  <a:gdLst>
                    <a:gd name="textAreaLeft" fmla="*/ 0 w 1274400"/>
                    <a:gd name="textAreaRight" fmla="*/ 1274760 w 1274400"/>
                    <a:gd name="textAreaTop" fmla="*/ 0 h 813240"/>
                    <a:gd name="textAreaBottom" fmla="*/ 813600 h 813240"/>
                  </a:gdLst>
                  <a:ahLst/>
                  <a:rect l="textAreaLeft" t="textAreaTop" r="textAreaRight" b="textAreaBottom"/>
                  <a:pathLst>
                    <a:path w="668" h="426">
                      <a:moveTo>
                        <a:pt x="447" y="1"/>
                      </a:moveTo>
                      <a:cubicBezTo>
                        <a:pt x="417" y="2"/>
                        <a:pt x="380" y="6"/>
                        <a:pt x="339" y="28"/>
                      </a:cubicBezTo>
                      <a:cubicBezTo>
                        <a:pt x="298" y="50"/>
                        <a:pt x="243" y="93"/>
                        <a:pt x="201" y="132"/>
                      </a:cubicBezTo>
                      <a:cubicBezTo>
                        <a:pt x="159" y="171"/>
                        <a:pt x="111" y="231"/>
                        <a:pt x="85" y="261"/>
                      </a:cubicBezTo>
                      <a:cubicBezTo>
                        <a:pt x="59" y="291"/>
                        <a:pt x="58" y="293"/>
                        <a:pt x="48" y="310"/>
                      </a:cubicBezTo>
                      <a:cubicBezTo>
                        <a:pt x="38" y="327"/>
                        <a:pt x="32" y="345"/>
                        <a:pt x="24" y="363"/>
                      </a:cubicBezTo>
                      <a:cubicBezTo>
                        <a:pt x="16" y="381"/>
                        <a:pt x="2" y="410"/>
                        <a:pt x="1" y="418"/>
                      </a:cubicBezTo>
                      <a:cubicBezTo>
                        <a:pt x="0" y="426"/>
                        <a:pt x="5" y="424"/>
                        <a:pt x="16" y="412"/>
                      </a:cubicBezTo>
                      <a:cubicBezTo>
                        <a:pt x="27" y="400"/>
                        <a:pt x="55" y="365"/>
                        <a:pt x="69" y="346"/>
                      </a:cubicBezTo>
                      <a:cubicBezTo>
                        <a:pt x="83" y="327"/>
                        <a:pt x="107" y="291"/>
                        <a:pt x="102" y="300"/>
                      </a:cubicBezTo>
                      <a:cubicBezTo>
                        <a:pt x="97" y="309"/>
                        <a:pt x="51" y="382"/>
                        <a:pt x="39" y="403"/>
                      </a:cubicBezTo>
                      <a:cubicBezTo>
                        <a:pt x="27" y="424"/>
                        <a:pt x="27" y="426"/>
                        <a:pt x="30" y="426"/>
                      </a:cubicBezTo>
                      <a:cubicBezTo>
                        <a:pt x="33" y="426"/>
                        <a:pt x="39" y="419"/>
                        <a:pt x="58" y="403"/>
                      </a:cubicBezTo>
                      <a:cubicBezTo>
                        <a:pt x="77" y="387"/>
                        <a:pt x="121" y="351"/>
                        <a:pt x="144" y="333"/>
                      </a:cubicBezTo>
                      <a:cubicBezTo>
                        <a:pt x="167" y="315"/>
                        <a:pt x="180" y="305"/>
                        <a:pt x="195" y="295"/>
                      </a:cubicBezTo>
                      <a:cubicBezTo>
                        <a:pt x="210" y="285"/>
                        <a:pt x="229" y="273"/>
                        <a:pt x="232" y="274"/>
                      </a:cubicBezTo>
                      <a:cubicBezTo>
                        <a:pt x="235" y="275"/>
                        <a:pt x="222" y="291"/>
                        <a:pt x="213" y="304"/>
                      </a:cubicBezTo>
                      <a:cubicBezTo>
                        <a:pt x="204" y="317"/>
                        <a:pt x="177" y="350"/>
                        <a:pt x="178" y="355"/>
                      </a:cubicBezTo>
                      <a:cubicBezTo>
                        <a:pt x="179" y="360"/>
                        <a:pt x="197" y="353"/>
                        <a:pt x="220" y="337"/>
                      </a:cubicBezTo>
                      <a:cubicBezTo>
                        <a:pt x="243" y="321"/>
                        <a:pt x="294" y="275"/>
                        <a:pt x="316" y="259"/>
                      </a:cubicBezTo>
                      <a:cubicBezTo>
                        <a:pt x="338" y="243"/>
                        <a:pt x="345" y="235"/>
                        <a:pt x="351" y="238"/>
                      </a:cubicBezTo>
                      <a:cubicBezTo>
                        <a:pt x="357" y="241"/>
                        <a:pt x="348" y="270"/>
                        <a:pt x="351" y="276"/>
                      </a:cubicBezTo>
                      <a:cubicBezTo>
                        <a:pt x="354" y="282"/>
                        <a:pt x="359" y="285"/>
                        <a:pt x="369" y="277"/>
                      </a:cubicBezTo>
                      <a:cubicBezTo>
                        <a:pt x="379" y="269"/>
                        <a:pt x="397" y="249"/>
                        <a:pt x="411" y="229"/>
                      </a:cubicBezTo>
                      <a:cubicBezTo>
                        <a:pt x="425" y="209"/>
                        <a:pt x="449" y="180"/>
                        <a:pt x="456" y="159"/>
                      </a:cubicBezTo>
                      <a:cubicBezTo>
                        <a:pt x="463" y="138"/>
                        <a:pt x="448" y="103"/>
                        <a:pt x="454" y="100"/>
                      </a:cubicBezTo>
                      <a:cubicBezTo>
                        <a:pt x="460" y="97"/>
                        <a:pt x="488" y="141"/>
                        <a:pt x="495" y="141"/>
                      </a:cubicBezTo>
                      <a:cubicBezTo>
                        <a:pt x="502" y="141"/>
                        <a:pt x="490" y="97"/>
                        <a:pt x="499" y="97"/>
                      </a:cubicBezTo>
                      <a:cubicBezTo>
                        <a:pt x="508" y="97"/>
                        <a:pt x="541" y="134"/>
                        <a:pt x="552" y="142"/>
                      </a:cubicBezTo>
                      <a:cubicBezTo>
                        <a:pt x="563" y="150"/>
                        <a:pt x="565" y="152"/>
                        <a:pt x="567" y="148"/>
                      </a:cubicBezTo>
                      <a:cubicBezTo>
                        <a:pt x="569" y="144"/>
                        <a:pt x="566" y="130"/>
                        <a:pt x="564" y="120"/>
                      </a:cubicBezTo>
                      <a:cubicBezTo>
                        <a:pt x="562" y="110"/>
                        <a:pt x="548" y="87"/>
                        <a:pt x="552" y="85"/>
                      </a:cubicBezTo>
                      <a:cubicBezTo>
                        <a:pt x="556" y="83"/>
                        <a:pt x="577" y="107"/>
                        <a:pt x="586" y="111"/>
                      </a:cubicBezTo>
                      <a:cubicBezTo>
                        <a:pt x="595" y="115"/>
                        <a:pt x="599" y="109"/>
                        <a:pt x="604" y="109"/>
                      </a:cubicBezTo>
                      <a:cubicBezTo>
                        <a:pt x="609" y="109"/>
                        <a:pt x="608" y="103"/>
                        <a:pt x="618" y="111"/>
                      </a:cubicBezTo>
                      <a:cubicBezTo>
                        <a:pt x="628" y="119"/>
                        <a:pt x="664" y="157"/>
                        <a:pt x="666" y="156"/>
                      </a:cubicBezTo>
                      <a:cubicBezTo>
                        <a:pt x="668" y="155"/>
                        <a:pt x="645" y="120"/>
                        <a:pt x="631" y="105"/>
                      </a:cubicBezTo>
                      <a:cubicBezTo>
                        <a:pt x="617" y="90"/>
                        <a:pt x="601" y="76"/>
                        <a:pt x="582" y="63"/>
                      </a:cubicBezTo>
                      <a:cubicBezTo>
                        <a:pt x="563" y="50"/>
                        <a:pt x="541" y="34"/>
                        <a:pt x="519" y="24"/>
                      </a:cubicBezTo>
                      <a:cubicBezTo>
                        <a:pt x="497" y="14"/>
                        <a:pt x="477" y="0"/>
                        <a:pt x="447" y="1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Rectangle 156"/>
            <p:cNvSpPr/>
            <p:nvPr/>
          </p:nvSpPr>
          <p:spPr>
            <a:xfrm>
              <a:off x="12176280" y="5224320"/>
              <a:ext cx="310500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2176280" y="5224320"/>
            <a:ext cx="3105000" cy="3924360"/>
            <a:chOff x="12176280" y="5224320"/>
            <a:chExt cx="3105000" cy="3924360"/>
          </a:xfrm>
        </p:grpSpPr>
        <p:grpSp>
          <p:nvGrpSpPr>
            <p:cNvPr id="197" name=""/>
            <p:cNvGrpSpPr/>
            <p:nvPr/>
          </p:nvGrpSpPr>
          <p:grpSpPr>
            <a:xfrm>
              <a:off x="12395520" y="7221240"/>
              <a:ext cx="2519280" cy="1728360"/>
              <a:chOff x="12395520" y="7221240"/>
              <a:chExt cx="2519280" cy="17283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13029120" y="7270920"/>
                <a:ext cx="162720" cy="106200"/>
                <a:chOff x="13029120" y="7270920"/>
                <a:chExt cx="162720" cy="106200"/>
              </a:xfrm>
            </p:grpSpPr>
            <p:sp>
              <p:nvSpPr>
                <p:cNvPr id="199" name="Freeform 160"/>
                <p:cNvSpPr/>
                <p:nvPr/>
              </p:nvSpPr>
              <p:spPr>
                <a:xfrm rot="603000">
                  <a:off x="13054320" y="7281360"/>
                  <a:ext cx="131040" cy="8460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84600"/>
                    <a:gd name="textAreaBottom" fmla="*/ 84600 h 846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61"/>
                <p:cNvSpPr/>
                <p:nvPr/>
              </p:nvSpPr>
              <p:spPr>
                <a:xfrm rot="603000">
                  <a:off x="13033800" y="7287120"/>
                  <a:ext cx="143280" cy="67680"/>
                </a:xfrm>
                <a:custGeom>
                  <a:avLst/>
                  <a:gdLst>
                    <a:gd name="textAreaLeft" fmla="*/ 0 w 143280"/>
                    <a:gd name="textAreaRight" fmla="*/ 143640 w 14328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62"/>
                <p:cNvSpPr/>
                <p:nvPr/>
              </p:nvSpPr>
              <p:spPr>
                <a:xfrm rot="603000">
                  <a:off x="13033080" y="7307640"/>
                  <a:ext cx="136440" cy="5652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398840" y="7627680"/>
                <a:ext cx="463320" cy="1321920"/>
                <a:chOff x="13398840" y="7627680"/>
                <a:chExt cx="463320" cy="1321920"/>
              </a:xfrm>
            </p:grpSpPr>
            <p:sp>
              <p:nvSpPr>
                <p:cNvPr id="203" name="Freeform 164"/>
                <p:cNvSpPr/>
                <p:nvPr/>
              </p:nvSpPr>
              <p:spPr>
                <a:xfrm>
                  <a:off x="13398840" y="7627680"/>
                  <a:ext cx="463320" cy="132192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1321920"/>
                    <a:gd name="textAreaBottom" fmla="*/ 1322280 h 1321920"/>
                  </a:gdLst>
                  <a:ahLst/>
                  <a:rect l="textAreaLeft" t="textAreaTop" r="textAreaRight" b="textAreaBottom"/>
                  <a:pathLst>
                    <a:path w="256" h="730">
                      <a:moveTo>
                        <a:pt x="52" y="47"/>
                      </a:moveTo>
                      <a:cubicBezTo>
                        <a:pt x="42" y="94"/>
                        <a:pt x="50" y="230"/>
                        <a:pt x="44" y="309"/>
                      </a:cubicBezTo>
                      <a:cubicBezTo>
                        <a:pt x="38" y="388"/>
                        <a:pt x="21" y="467"/>
                        <a:pt x="14" y="523"/>
                      </a:cubicBezTo>
                      <a:cubicBezTo>
                        <a:pt x="7" y="579"/>
                        <a:pt x="0" y="629"/>
                        <a:pt x="2" y="643"/>
                      </a:cubicBezTo>
                      <a:cubicBezTo>
                        <a:pt x="4" y="657"/>
                        <a:pt x="26" y="603"/>
                        <a:pt x="28" y="605"/>
                      </a:cubicBezTo>
                      <a:cubicBezTo>
                        <a:pt x="30" y="607"/>
                        <a:pt x="17" y="635"/>
                        <a:pt x="14" y="653"/>
                      </a:cubicBezTo>
                      <a:cubicBezTo>
                        <a:pt x="11" y="671"/>
                        <a:pt x="10" y="702"/>
                        <a:pt x="12" y="713"/>
                      </a:cubicBezTo>
                      <a:cubicBezTo>
                        <a:pt x="14" y="724"/>
                        <a:pt x="18" y="730"/>
                        <a:pt x="24" y="721"/>
                      </a:cubicBezTo>
                      <a:cubicBezTo>
                        <a:pt x="30" y="712"/>
                        <a:pt x="44" y="663"/>
                        <a:pt x="46" y="661"/>
                      </a:cubicBezTo>
                      <a:cubicBezTo>
                        <a:pt x="48" y="659"/>
                        <a:pt x="38" y="706"/>
                        <a:pt x="40" y="711"/>
                      </a:cubicBezTo>
                      <a:cubicBezTo>
                        <a:pt x="42" y="716"/>
                        <a:pt x="54" y="705"/>
                        <a:pt x="60" y="693"/>
                      </a:cubicBezTo>
                      <a:cubicBezTo>
                        <a:pt x="66" y="681"/>
                        <a:pt x="69" y="663"/>
                        <a:pt x="74" y="641"/>
                      </a:cubicBezTo>
                      <a:cubicBezTo>
                        <a:pt x="79" y="619"/>
                        <a:pt x="86" y="579"/>
                        <a:pt x="90" y="561"/>
                      </a:cubicBezTo>
                      <a:cubicBezTo>
                        <a:pt x="94" y="543"/>
                        <a:pt x="94" y="528"/>
                        <a:pt x="96" y="533"/>
                      </a:cubicBezTo>
                      <a:cubicBezTo>
                        <a:pt x="98" y="538"/>
                        <a:pt x="98" y="573"/>
                        <a:pt x="100" y="591"/>
                      </a:cubicBezTo>
                      <a:cubicBezTo>
                        <a:pt x="102" y="609"/>
                        <a:pt x="103" y="636"/>
                        <a:pt x="106" y="639"/>
                      </a:cubicBezTo>
                      <a:cubicBezTo>
                        <a:pt x="109" y="642"/>
                        <a:pt x="114" y="624"/>
                        <a:pt x="118" y="611"/>
                      </a:cubicBezTo>
                      <a:cubicBezTo>
                        <a:pt x="122" y="598"/>
                        <a:pt x="127" y="580"/>
                        <a:pt x="130" y="563"/>
                      </a:cubicBezTo>
                      <a:cubicBezTo>
                        <a:pt x="133" y="546"/>
                        <a:pt x="135" y="508"/>
                        <a:pt x="138" y="507"/>
                      </a:cubicBezTo>
                      <a:cubicBezTo>
                        <a:pt x="141" y="506"/>
                        <a:pt x="142" y="550"/>
                        <a:pt x="146" y="555"/>
                      </a:cubicBezTo>
                      <a:cubicBezTo>
                        <a:pt x="150" y="560"/>
                        <a:pt x="159" y="549"/>
                        <a:pt x="164" y="539"/>
                      </a:cubicBezTo>
                      <a:cubicBezTo>
                        <a:pt x="169" y="529"/>
                        <a:pt x="172" y="516"/>
                        <a:pt x="174" y="495"/>
                      </a:cubicBezTo>
                      <a:cubicBezTo>
                        <a:pt x="176" y="474"/>
                        <a:pt x="175" y="420"/>
                        <a:pt x="176" y="411"/>
                      </a:cubicBezTo>
                      <a:cubicBezTo>
                        <a:pt x="177" y="402"/>
                        <a:pt x="179" y="439"/>
                        <a:pt x="182" y="443"/>
                      </a:cubicBezTo>
                      <a:cubicBezTo>
                        <a:pt x="185" y="447"/>
                        <a:pt x="191" y="430"/>
                        <a:pt x="194" y="433"/>
                      </a:cubicBezTo>
                      <a:cubicBezTo>
                        <a:pt x="197" y="436"/>
                        <a:pt x="198" y="460"/>
                        <a:pt x="200" y="459"/>
                      </a:cubicBezTo>
                      <a:cubicBezTo>
                        <a:pt x="202" y="458"/>
                        <a:pt x="204" y="444"/>
                        <a:pt x="206" y="427"/>
                      </a:cubicBezTo>
                      <a:cubicBezTo>
                        <a:pt x="208" y="410"/>
                        <a:pt x="209" y="373"/>
                        <a:pt x="210" y="357"/>
                      </a:cubicBezTo>
                      <a:cubicBezTo>
                        <a:pt x="211" y="341"/>
                        <a:pt x="209" y="338"/>
                        <a:pt x="210" y="331"/>
                      </a:cubicBezTo>
                      <a:cubicBezTo>
                        <a:pt x="211" y="324"/>
                        <a:pt x="218" y="324"/>
                        <a:pt x="218" y="317"/>
                      </a:cubicBezTo>
                      <a:cubicBezTo>
                        <a:pt x="218" y="310"/>
                        <a:pt x="209" y="299"/>
                        <a:pt x="212" y="289"/>
                      </a:cubicBezTo>
                      <a:cubicBezTo>
                        <a:pt x="215" y="279"/>
                        <a:pt x="230" y="276"/>
                        <a:pt x="236" y="255"/>
                      </a:cubicBezTo>
                      <a:cubicBezTo>
                        <a:pt x="242" y="234"/>
                        <a:pt x="256" y="187"/>
                        <a:pt x="246" y="161"/>
                      </a:cubicBezTo>
                      <a:cubicBezTo>
                        <a:pt x="236" y="135"/>
                        <a:pt x="199" y="122"/>
                        <a:pt x="176" y="99"/>
                      </a:cubicBezTo>
                      <a:cubicBezTo>
                        <a:pt x="153" y="76"/>
                        <a:pt x="126" y="33"/>
                        <a:pt x="106" y="25"/>
                      </a:cubicBezTo>
                      <a:cubicBezTo>
                        <a:pt x="86" y="17"/>
                        <a:pt x="62" y="0"/>
                        <a:pt x="52" y="47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65"/>
                <p:cNvSpPr/>
                <p:nvPr/>
              </p:nvSpPr>
              <p:spPr>
                <a:xfrm>
                  <a:off x="13529160" y="7776360"/>
                  <a:ext cx="311040" cy="583200"/>
                </a:xfrm>
                <a:custGeom>
                  <a:avLst/>
                  <a:gdLst>
                    <a:gd name="textAreaLeft" fmla="*/ 0 w 311040"/>
                    <a:gd name="textAreaRight" fmla="*/ 311040 w 311040"/>
                    <a:gd name="textAreaTop" fmla="*/ 0 h 583200"/>
                    <a:gd name="textAreaBottom" fmla="*/ 583560 h 583200"/>
                  </a:gdLst>
                  <a:ahLst/>
                  <a:rect l="textAreaLeft" t="textAreaTop" r="textAreaRight" b="textAreaBottom"/>
                  <a:pathLst>
                    <a:path w="172" h="322">
                      <a:moveTo>
                        <a:pt x="46" y="21"/>
                      </a:moveTo>
                      <a:cubicBezTo>
                        <a:pt x="38" y="42"/>
                        <a:pt x="18" y="113"/>
                        <a:pt x="10" y="149"/>
                      </a:cubicBezTo>
                      <a:cubicBezTo>
                        <a:pt x="2" y="185"/>
                        <a:pt x="0" y="211"/>
                        <a:pt x="0" y="239"/>
                      </a:cubicBezTo>
                      <a:cubicBezTo>
                        <a:pt x="0" y="267"/>
                        <a:pt x="8" y="308"/>
                        <a:pt x="12" y="315"/>
                      </a:cubicBezTo>
                      <a:cubicBezTo>
                        <a:pt x="16" y="322"/>
                        <a:pt x="18" y="292"/>
                        <a:pt x="22" y="285"/>
                      </a:cubicBezTo>
                      <a:cubicBezTo>
                        <a:pt x="26" y="278"/>
                        <a:pt x="33" y="284"/>
                        <a:pt x="36" y="275"/>
                      </a:cubicBezTo>
                      <a:cubicBezTo>
                        <a:pt x="39" y="266"/>
                        <a:pt x="36" y="236"/>
                        <a:pt x="40" y="229"/>
                      </a:cubicBezTo>
                      <a:cubicBezTo>
                        <a:pt x="44" y="222"/>
                        <a:pt x="56" y="236"/>
                        <a:pt x="60" y="233"/>
                      </a:cubicBezTo>
                      <a:cubicBezTo>
                        <a:pt x="64" y="230"/>
                        <a:pt x="61" y="214"/>
                        <a:pt x="66" y="209"/>
                      </a:cubicBezTo>
                      <a:cubicBezTo>
                        <a:pt x="71" y="204"/>
                        <a:pt x="86" y="207"/>
                        <a:pt x="92" y="201"/>
                      </a:cubicBezTo>
                      <a:cubicBezTo>
                        <a:pt x="98" y="195"/>
                        <a:pt x="91" y="182"/>
                        <a:pt x="100" y="175"/>
                      </a:cubicBezTo>
                      <a:cubicBezTo>
                        <a:pt x="109" y="168"/>
                        <a:pt x="132" y="174"/>
                        <a:pt x="144" y="161"/>
                      </a:cubicBezTo>
                      <a:cubicBezTo>
                        <a:pt x="156" y="148"/>
                        <a:pt x="172" y="120"/>
                        <a:pt x="172" y="97"/>
                      </a:cubicBezTo>
                      <a:cubicBezTo>
                        <a:pt x="172" y="74"/>
                        <a:pt x="161" y="36"/>
                        <a:pt x="142" y="23"/>
                      </a:cubicBezTo>
                      <a:cubicBezTo>
                        <a:pt x="123" y="10"/>
                        <a:pt x="76" y="22"/>
                        <a:pt x="60" y="21"/>
                      </a:cubicBezTo>
                      <a:cubicBezTo>
                        <a:pt x="44" y="20"/>
                        <a:pt x="54" y="0"/>
                        <a:pt x="46" y="2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Oval 166"/>
              <p:cNvSpPr/>
              <p:nvPr/>
            </p:nvSpPr>
            <p:spPr>
              <a:xfrm>
                <a:off x="13120920" y="7310160"/>
                <a:ext cx="17640" cy="17280"/>
              </a:xfrm>
              <a:prstGeom prst="ellipse">
                <a:avLst/>
              </a:pr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12795480" y="7235640"/>
                <a:ext cx="241200" cy="135000"/>
                <a:chOff x="12795480" y="7235640"/>
                <a:chExt cx="241200" cy="135000"/>
              </a:xfrm>
            </p:grpSpPr>
            <p:sp>
              <p:nvSpPr>
                <p:cNvPr id="207" name="Freeform 168"/>
                <p:cNvSpPr/>
                <p:nvPr/>
              </p:nvSpPr>
              <p:spPr>
                <a:xfrm>
                  <a:off x="12828960" y="7235640"/>
                  <a:ext cx="207720" cy="1332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69"/>
                <p:cNvSpPr/>
                <p:nvPr/>
              </p:nvSpPr>
              <p:spPr>
                <a:xfrm>
                  <a:off x="12795480" y="7248240"/>
                  <a:ext cx="227160" cy="106560"/>
                </a:xfrm>
                <a:custGeom>
                  <a:avLst/>
                  <a:gdLst>
                    <a:gd name="textAreaLeft" fmla="*/ 0 w 227160"/>
                    <a:gd name="textAreaRight" fmla="*/ 227160 w 2271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70"/>
                <p:cNvSpPr/>
                <p:nvPr/>
              </p:nvSpPr>
              <p:spPr>
                <a:xfrm>
                  <a:off x="12798720" y="7281720"/>
                  <a:ext cx="216000" cy="88920"/>
                </a:xfrm>
                <a:custGeom>
                  <a:avLst/>
                  <a:gdLst>
                    <a:gd name="textAreaLeft" fmla="*/ 0 w 216000"/>
                    <a:gd name="textAreaRight" fmla="*/ 216360 w 21600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71"/>
              <p:cNvSpPr/>
              <p:nvPr/>
            </p:nvSpPr>
            <p:spPr>
              <a:xfrm>
                <a:off x="12897000" y="7235640"/>
                <a:ext cx="1675080" cy="1477800"/>
              </a:xfrm>
              <a:custGeom>
                <a:avLst/>
                <a:gdLst>
                  <a:gd name="textAreaLeft" fmla="*/ 0 w 1675080"/>
                  <a:gd name="textAreaRight" fmla="*/ 1675440 w 1675080"/>
                  <a:gd name="textAreaTop" fmla="*/ 0 h 1477800"/>
                  <a:gd name="textAreaBottom" fmla="*/ 1478160 h 1477800"/>
                </a:gdLst>
                <a:ahLst/>
                <a:rect l="textAreaLeft" t="textAreaTop" r="textAreaRight" b="textAreaBottom"/>
                <a:pathLst>
                  <a:path w="1055" h="931">
                    <a:moveTo>
                      <a:pt x="167" y="42"/>
                    </a:moveTo>
                    <a:cubicBezTo>
                      <a:pt x="94" y="0"/>
                      <a:pt x="61" y="42"/>
                      <a:pt x="35" y="48"/>
                    </a:cubicBezTo>
                    <a:cubicBezTo>
                      <a:pt x="9" y="54"/>
                      <a:pt x="0" y="63"/>
                      <a:pt x="8" y="78"/>
                    </a:cubicBezTo>
                    <a:cubicBezTo>
                      <a:pt x="16" y="93"/>
                      <a:pt x="57" y="122"/>
                      <a:pt x="80" y="141"/>
                    </a:cubicBezTo>
                    <a:cubicBezTo>
                      <a:pt x="103" y="160"/>
                      <a:pt x="125" y="160"/>
                      <a:pt x="146" y="189"/>
                    </a:cubicBezTo>
                    <a:cubicBezTo>
                      <a:pt x="167" y="218"/>
                      <a:pt x="180" y="274"/>
                      <a:pt x="206" y="315"/>
                    </a:cubicBezTo>
                    <a:cubicBezTo>
                      <a:pt x="232" y="356"/>
                      <a:pt x="254" y="395"/>
                      <a:pt x="302" y="435"/>
                    </a:cubicBezTo>
                    <a:cubicBezTo>
                      <a:pt x="350" y="475"/>
                      <a:pt x="436" y="520"/>
                      <a:pt x="497" y="552"/>
                    </a:cubicBezTo>
                    <a:cubicBezTo>
                      <a:pt x="558" y="584"/>
                      <a:pt x="632" y="610"/>
                      <a:pt x="668" y="627"/>
                    </a:cubicBezTo>
                    <a:cubicBezTo>
                      <a:pt x="704" y="644"/>
                      <a:pt x="695" y="636"/>
                      <a:pt x="710" y="654"/>
                    </a:cubicBezTo>
                    <a:cubicBezTo>
                      <a:pt x="725" y="672"/>
                      <a:pt x="738" y="704"/>
                      <a:pt x="758" y="738"/>
                    </a:cubicBezTo>
                    <a:cubicBezTo>
                      <a:pt x="778" y="772"/>
                      <a:pt x="812" y="829"/>
                      <a:pt x="833" y="858"/>
                    </a:cubicBezTo>
                    <a:cubicBezTo>
                      <a:pt x="854" y="887"/>
                      <a:pt x="877" y="908"/>
                      <a:pt x="884" y="912"/>
                    </a:cubicBezTo>
                    <a:cubicBezTo>
                      <a:pt x="891" y="916"/>
                      <a:pt x="887" y="899"/>
                      <a:pt x="878" y="882"/>
                    </a:cubicBezTo>
                    <a:cubicBezTo>
                      <a:pt x="869" y="865"/>
                      <a:pt x="823" y="802"/>
                      <a:pt x="830" y="807"/>
                    </a:cubicBezTo>
                    <a:cubicBezTo>
                      <a:pt x="837" y="812"/>
                      <a:pt x="898" y="893"/>
                      <a:pt x="920" y="912"/>
                    </a:cubicBezTo>
                    <a:cubicBezTo>
                      <a:pt x="942" y="931"/>
                      <a:pt x="955" y="923"/>
                      <a:pt x="962" y="921"/>
                    </a:cubicBezTo>
                    <a:cubicBezTo>
                      <a:pt x="969" y="919"/>
                      <a:pt x="956" y="897"/>
                      <a:pt x="962" y="897"/>
                    </a:cubicBezTo>
                    <a:cubicBezTo>
                      <a:pt x="968" y="897"/>
                      <a:pt x="984" y="918"/>
                      <a:pt x="998" y="921"/>
                    </a:cubicBezTo>
                    <a:cubicBezTo>
                      <a:pt x="1012" y="924"/>
                      <a:pt x="1040" y="919"/>
                      <a:pt x="1046" y="915"/>
                    </a:cubicBezTo>
                    <a:cubicBezTo>
                      <a:pt x="1052" y="911"/>
                      <a:pt x="1055" y="919"/>
                      <a:pt x="1034" y="894"/>
                    </a:cubicBezTo>
                    <a:cubicBezTo>
                      <a:pt x="1013" y="869"/>
                      <a:pt x="935" y="800"/>
                      <a:pt x="917" y="765"/>
                    </a:cubicBezTo>
                    <a:cubicBezTo>
                      <a:pt x="899" y="730"/>
                      <a:pt x="937" y="712"/>
                      <a:pt x="926" y="684"/>
                    </a:cubicBezTo>
                    <a:cubicBezTo>
                      <a:pt x="915" y="656"/>
                      <a:pt x="926" y="660"/>
                      <a:pt x="851" y="597"/>
                    </a:cubicBezTo>
                    <a:cubicBezTo>
                      <a:pt x="776" y="534"/>
                      <a:pt x="590" y="395"/>
                      <a:pt x="476" y="303"/>
                    </a:cubicBezTo>
                    <a:cubicBezTo>
                      <a:pt x="362" y="211"/>
                      <a:pt x="240" y="84"/>
                      <a:pt x="167" y="42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72"/>
              <p:cNvSpPr/>
              <p:nvPr/>
            </p:nvSpPr>
            <p:spPr>
              <a:xfrm>
                <a:off x="12889080" y="7221240"/>
                <a:ext cx="2025720" cy="147312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1276" h="928">
                    <a:moveTo>
                      <a:pt x="208" y="39"/>
                    </a:moveTo>
                    <a:cubicBezTo>
                      <a:pt x="134" y="10"/>
                      <a:pt x="122" y="11"/>
                      <a:pt x="91" y="6"/>
                    </a:cubicBezTo>
                    <a:cubicBezTo>
                      <a:pt x="60" y="1"/>
                      <a:pt x="34" y="0"/>
                      <a:pt x="19" y="9"/>
                    </a:cubicBezTo>
                    <a:cubicBezTo>
                      <a:pt x="4" y="18"/>
                      <a:pt x="0" y="44"/>
                      <a:pt x="1" y="60"/>
                    </a:cubicBezTo>
                    <a:cubicBezTo>
                      <a:pt x="2" y="76"/>
                      <a:pt x="6" y="93"/>
                      <a:pt x="25" y="105"/>
                    </a:cubicBezTo>
                    <a:cubicBezTo>
                      <a:pt x="44" y="117"/>
                      <a:pt x="89" y="120"/>
                      <a:pt x="115" y="132"/>
                    </a:cubicBezTo>
                    <a:cubicBezTo>
                      <a:pt x="141" y="144"/>
                      <a:pt x="163" y="165"/>
                      <a:pt x="178" y="179"/>
                    </a:cubicBezTo>
                    <a:cubicBezTo>
                      <a:pt x="193" y="193"/>
                      <a:pt x="197" y="211"/>
                      <a:pt x="205" y="215"/>
                    </a:cubicBezTo>
                    <a:cubicBezTo>
                      <a:pt x="213" y="219"/>
                      <a:pt x="213" y="212"/>
                      <a:pt x="226" y="206"/>
                    </a:cubicBezTo>
                    <a:cubicBezTo>
                      <a:pt x="239" y="200"/>
                      <a:pt x="275" y="172"/>
                      <a:pt x="283" y="176"/>
                    </a:cubicBezTo>
                    <a:cubicBezTo>
                      <a:pt x="291" y="180"/>
                      <a:pt x="273" y="212"/>
                      <a:pt x="274" y="231"/>
                    </a:cubicBezTo>
                    <a:cubicBezTo>
                      <a:pt x="275" y="250"/>
                      <a:pt x="265" y="258"/>
                      <a:pt x="286" y="288"/>
                    </a:cubicBezTo>
                    <a:cubicBezTo>
                      <a:pt x="307" y="318"/>
                      <a:pt x="352" y="372"/>
                      <a:pt x="400" y="411"/>
                    </a:cubicBezTo>
                    <a:cubicBezTo>
                      <a:pt x="448" y="450"/>
                      <a:pt x="531" y="495"/>
                      <a:pt x="577" y="522"/>
                    </a:cubicBezTo>
                    <a:cubicBezTo>
                      <a:pt x="623" y="549"/>
                      <a:pt x="656" y="559"/>
                      <a:pt x="679" y="573"/>
                    </a:cubicBezTo>
                    <a:cubicBezTo>
                      <a:pt x="702" y="587"/>
                      <a:pt x="696" y="599"/>
                      <a:pt x="715" y="609"/>
                    </a:cubicBezTo>
                    <a:cubicBezTo>
                      <a:pt x="734" y="619"/>
                      <a:pt x="770" y="629"/>
                      <a:pt x="793" y="633"/>
                    </a:cubicBezTo>
                    <a:cubicBezTo>
                      <a:pt x="816" y="637"/>
                      <a:pt x="851" y="632"/>
                      <a:pt x="856" y="636"/>
                    </a:cubicBezTo>
                    <a:cubicBezTo>
                      <a:pt x="861" y="640"/>
                      <a:pt x="836" y="650"/>
                      <a:pt x="826" y="657"/>
                    </a:cubicBezTo>
                    <a:cubicBezTo>
                      <a:pt x="816" y="664"/>
                      <a:pt x="792" y="665"/>
                      <a:pt x="796" y="678"/>
                    </a:cubicBezTo>
                    <a:cubicBezTo>
                      <a:pt x="800" y="691"/>
                      <a:pt x="819" y="702"/>
                      <a:pt x="850" y="735"/>
                    </a:cubicBezTo>
                    <a:cubicBezTo>
                      <a:pt x="881" y="768"/>
                      <a:pt x="948" y="843"/>
                      <a:pt x="979" y="873"/>
                    </a:cubicBezTo>
                    <a:cubicBezTo>
                      <a:pt x="1010" y="903"/>
                      <a:pt x="1022" y="909"/>
                      <a:pt x="1036" y="918"/>
                    </a:cubicBezTo>
                    <a:cubicBezTo>
                      <a:pt x="1050" y="927"/>
                      <a:pt x="1055" y="927"/>
                      <a:pt x="1063" y="927"/>
                    </a:cubicBezTo>
                    <a:cubicBezTo>
                      <a:pt x="1071" y="927"/>
                      <a:pt x="1075" y="928"/>
                      <a:pt x="1084" y="918"/>
                    </a:cubicBezTo>
                    <a:cubicBezTo>
                      <a:pt x="1071" y="902"/>
                      <a:pt x="989" y="827"/>
                      <a:pt x="988" y="828"/>
                    </a:cubicBezTo>
                    <a:cubicBezTo>
                      <a:pt x="987" y="829"/>
                      <a:pt x="1069" y="902"/>
                      <a:pt x="1093" y="912"/>
                    </a:cubicBezTo>
                    <a:cubicBezTo>
                      <a:pt x="1107" y="896"/>
                      <a:pt x="1111" y="902"/>
                      <a:pt x="1132" y="888"/>
                    </a:cubicBezTo>
                    <a:cubicBezTo>
                      <a:pt x="1103" y="874"/>
                      <a:pt x="1034" y="822"/>
                      <a:pt x="1036" y="822"/>
                    </a:cubicBezTo>
                    <a:cubicBezTo>
                      <a:pt x="1038" y="822"/>
                      <a:pt x="1113" y="870"/>
                      <a:pt x="1147" y="891"/>
                    </a:cubicBezTo>
                    <a:cubicBezTo>
                      <a:pt x="1185" y="890"/>
                      <a:pt x="1203" y="882"/>
                      <a:pt x="1246" y="879"/>
                    </a:cubicBezTo>
                    <a:cubicBezTo>
                      <a:pt x="1227" y="856"/>
                      <a:pt x="1120" y="779"/>
                      <a:pt x="1123" y="777"/>
                    </a:cubicBezTo>
                    <a:cubicBezTo>
                      <a:pt x="1126" y="775"/>
                      <a:pt x="1236" y="858"/>
                      <a:pt x="1261" y="867"/>
                    </a:cubicBezTo>
                    <a:cubicBezTo>
                      <a:pt x="1269" y="856"/>
                      <a:pt x="1273" y="852"/>
                      <a:pt x="1276" y="837"/>
                    </a:cubicBezTo>
                    <a:cubicBezTo>
                      <a:pt x="1243" y="808"/>
                      <a:pt x="1124" y="732"/>
                      <a:pt x="1060" y="690"/>
                    </a:cubicBezTo>
                    <a:cubicBezTo>
                      <a:pt x="996" y="648"/>
                      <a:pt x="935" y="623"/>
                      <a:pt x="892" y="588"/>
                    </a:cubicBezTo>
                    <a:cubicBezTo>
                      <a:pt x="849" y="553"/>
                      <a:pt x="835" y="521"/>
                      <a:pt x="802" y="477"/>
                    </a:cubicBezTo>
                    <a:cubicBezTo>
                      <a:pt x="769" y="433"/>
                      <a:pt x="735" y="373"/>
                      <a:pt x="691" y="324"/>
                    </a:cubicBezTo>
                    <a:cubicBezTo>
                      <a:pt x="647" y="275"/>
                      <a:pt x="619" y="230"/>
                      <a:pt x="538" y="182"/>
                    </a:cubicBezTo>
                    <a:cubicBezTo>
                      <a:pt x="457" y="134"/>
                      <a:pt x="282" y="68"/>
                      <a:pt x="208" y="39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173"/>
              <p:cNvSpPr/>
              <p:nvPr/>
            </p:nvSpPr>
            <p:spPr>
              <a:xfrm>
                <a:off x="12911400" y="7278480"/>
                <a:ext cx="17640" cy="172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74"/>
              <p:cNvSpPr/>
              <p:nvPr/>
            </p:nvSpPr>
            <p:spPr>
              <a:xfrm>
                <a:off x="12403440" y="7610040"/>
                <a:ext cx="1106640" cy="1155960"/>
              </a:xfrm>
              <a:custGeom>
                <a:avLst/>
                <a:gdLst>
                  <a:gd name="textAreaLeft" fmla="*/ 0 w 1106640"/>
                  <a:gd name="textAreaRight" fmla="*/ 1107000 w 1106640"/>
                  <a:gd name="textAreaTop" fmla="*/ 0 h 1155960"/>
                  <a:gd name="textAreaBottom" fmla="*/ 1156320 h 1155960"/>
                </a:gdLst>
                <a:ahLst/>
                <a:rect l="textAreaLeft" t="textAreaTop" r="textAreaRight" b="textAreaBottom"/>
                <a:pathLst>
                  <a:path w="697" h="728">
                    <a:moveTo>
                      <a:pt x="585" y="7"/>
                    </a:moveTo>
                    <a:cubicBezTo>
                      <a:pt x="550" y="6"/>
                      <a:pt x="519" y="97"/>
                      <a:pt x="487" y="157"/>
                    </a:cubicBezTo>
                    <a:cubicBezTo>
                      <a:pt x="455" y="218"/>
                      <a:pt x="438" y="313"/>
                      <a:pt x="386" y="367"/>
                    </a:cubicBezTo>
                    <a:cubicBezTo>
                      <a:pt x="335" y="420"/>
                      <a:pt x="241" y="434"/>
                      <a:pt x="181" y="481"/>
                    </a:cubicBezTo>
                    <a:cubicBezTo>
                      <a:pt x="122" y="527"/>
                      <a:pt x="44" y="622"/>
                      <a:pt x="29" y="645"/>
                    </a:cubicBezTo>
                    <a:cubicBezTo>
                      <a:pt x="13" y="668"/>
                      <a:pt x="84" y="605"/>
                      <a:pt x="86" y="615"/>
                    </a:cubicBezTo>
                    <a:cubicBezTo>
                      <a:pt x="87" y="625"/>
                      <a:pt x="50" y="690"/>
                      <a:pt x="38" y="709"/>
                    </a:cubicBezTo>
                    <a:cubicBezTo>
                      <a:pt x="25" y="727"/>
                      <a:pt x="0" y="728"/>
                      <a:pt x="8" y="727"/>
                    </a:cubicBezTo>
                    <a:cubicBezTo>
                      <a:pt x="16" y="726"/>
                      <a:pt x="63" y="718"/>
                      <a:pt x="83" y="704"/>
                    </a:cubicBezTo>
                    <a:cubicBezTo>
                      <a:pt x="104" y="690"/>
                      <a:pt x="105" y="665"/>
                      <a:pt x="131" y="643"/>
                    </a:cubicBezTo>
                    <a:cubicBezTo>
                      <a:pt x="157" y="620"/>
                      <a:pt x="202" y="599"/>
                      <a:pt x="241" y="567"/>
                    </a:cubicBezTo>
                    <a:cubicBezTo>
                      <a:pt x="279" y="535"/>
                      <a:pt x="347" y="451"/>
                      <a:pt x="361" y="451"/>
                    </a:cubicBezTo>
                    <a:cubicBezTo>
                      <a:pt x="376" y="451"/>
                      <a:pt x="328" y="548"/>
                      <a:pt x="327" y="567"/>
                    </a:cubicBezTo>
                    <a:cubicBezTo>
                      <a:pt x="326" y="587"/>
                      <a:pt x="342" y="575"/>
                      <a:pt x="352" y="570"/>
                    </a:cubicBezTo>
                    <a:cubicBezTo>
                      <a:pt x="363" y="564"/>
                      <a:pt x="375" y="551"/>
                      <a:pt x="391" y="531"/>
                    </a:cubicBezTo>
                    <a:cubicBezTo>
                      <a:pt x="407" y="510"/>
                      <a:pt x="438" y="464"/>
                      <a:pt x="450" y="444"/>
                    </a:cubicBezTo>
                    <a:cubicBezTo>
                      <a:pt x="463" y="425"/>
                      <a:pt x="465" y="415"/>
                      <a:pt x="466" y="417"/>
                    </a:cubicBezTo>
                    <a:cubicBezTo>
                      <a:pt x="467" y="419"/>
                      <a:pt x="450" y="456"/>
                      <a:pt x="455" y="460"/>
                    </a:cubicBezTo>
                    <a:cubicBezTo>
                      <a:pt x="459" y="465"/>
                      <a:pt x="482" y="455"/>
                      <a:pt x="496" y="442"/>
                    </a:cubicBezTo>
                    <a:cubicBezTo>
                      <a:pt x="510" y="429"/>
                      <a:pt x="522" y="408"/>
                      <a:pt x="537" y="385"/>
                    </a:cubicBezTo>
                    <a:cubicBezTo>
                      <a:pt x="552" y="362"/>
                      <a:pt x="578" y="316"/>
                      <a:pt x="585" y="308"/>
                    </a:cubicBezTo>
                    <a:cubicBezTo>
                      <a:pt x="592" y="300"/>
                      <a:pt x="571" y="337"/>
                      <a:pt x="576" y="339"/>
                    </a:cubicBezTo>
                    <a:cubicBezTo>
                      <a:pt x="580" y="342"/>
                      <a:pt x="600" y="333"/>
                      <a:pt x="610" y="321"/>
                    </a:cubicBezTo>
                    <a:cubicBezTo>
                      <a:pt x="620" y="310"/>
                      <a:pt x="631" y="293"/>
                      <a:pt x="640" y="271"/>
                    </a:cubicBezTo>
                    <a:cubicBezTo>
                      <a:pt x="649" y="249"/>
                      <a:pt x="656" y="199"/>
                      <a:pt x="661" y="192"/>
                    </a:cubicBezTo>
                    <a:cubicBezTo>
                      <a:pt x="666" y="185"/>
                      <a:pt x="664" y="226"/>
                      <a:pt x="669" y="230"/>
                    </a:cubicBezTo>
                    <a:cubicBezTo>
                      <a:pt x="674" y="234"/>
                      <a:pt x="686" y="233"/>
                      <a:pt x="690" y="216"/>
                    </a:cubicBezTo>
                    <a:cubicBezTo>
                      <a:pt x="694" y="199"/>
                      <a:pt x="696" y="162"/>
                      <a:pt x="694" y="129"/>
                    </a:cubicBezTo>
                    <a:cubicBezTo>
                      <a:pt x="692" y="96"/>
                      <a:pt x="697" y="40"/>
                      <a:pt x="679" y="20"/>
                    </a:cubicBezTo>
                    <a:cubicBezTo>
                      <a:pt x="661" y="0"/>
                      <a:pt x="604" y="9"/>
                      <a:pt x="585" y="7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5"/>
              <p:cNvSpPr/>
              <p:nvPr/>
            </p:nvSpPr>
            <p:spPr>
              <a:xfrm>
                <a:off x="12395520" y="7461000"/>
                <a:ext cx="1195560" cy="136368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63680"/>
                  <a:gd name="textAreaBottom" fmla="*/ 1364040 h 1363680"/>
                </a:gdLst>
                <a:ahLst/>
                <a:rect l="textAreaLeft" t="textAreaTop" r="textAreaRight" b="textAreaBottom"/>
                <a:pathLst>
                  <a:path w="660" h="753">
                    <a:moveTo>
                      <a:pt x="644" y="93"/>
                    </a:moveTo>
                    <a:cubicBezTo>
                      <a:pt x="660" y="115"/>
                      <a:pt x="621" y="135"/>
                      <a:pt x="611" y="156"/>
                    </a:cubicBezTo>
                    <a:cubicBezTo>
                      <a:pt x="601" y="177"/>
                      <a:pt x="596" y="200"/>
                      <a:pt x="587" y="218"/>
                    </a:cubicBezTo>
                    <a:cubicBezTo>
                      <a:pt x="578" y="236"/>
                      <a:pt x="563" y="255"/>
                      <a:pt x="555" y="262"/>
                    </a:cubicBezTo>
                    <a:cubicBezTo>
                      <a:pt x="547" y="269"/>
                      <a:pt x="544" y="265"/>
                      <a:pt x="541" y="260"/>
                    </a:cubicBezTo>
                    <a:cubicBezTo>
                      <a:pt x="538" y="255"/>
                      <a:pt x="540" y="231"/>
                      <a:pt x="537" y="232"/>
                    </a:cubicBezTo>
                    <a:cubicBezTo>
                      <a:pt x="534" y="233"/>
                      <a:pt x="535" y="247"/>
                      <a:pt x="523" y="268"/>
                    </a:cubicBezTo>
                    <a:cubicBezTo>
                      <a:pt x="511" y="289"/>
                      <a:pt x="490" y="328"/>
                      <a:pt x="465" y="356"/>
                    </a:cubicBezTo>
                    <a:cubicBezTo>
                      <a:pt x="440" y="384"/>
                      <a:pt x="399" y="406"/>
                      <a:pt x="373" y="436"/>
                    </a:cubicBezTo>
                    <a:cubicBezTo>
                      <a:pt x="347" y="466"/>
                      <a:pt x="333" y="497"/>
                      <a:pt x="307" y="534"/>
                    </a:cubicBezTo>
                    <a:cubicBezTo>
                      <a:pt x="281" y="571"/>
                      <a:pt x="239" y="637"/>
                      <a:pt x="217" y="660"/>
                    </a:cubicBezTo>
                    <a:cubicBezTo>
                      <a:pt x="195" y="683"/>
                      <a:pt x="181" y="678"/>
                      <a:pt x="177" y="674"/>
                    </a:cubicBezTo>
                    <a:cubicBezTo>
                      <a:pt x="173" y="670"/>
                      <a:pt x="195" y="638"/>
                      <a:pt x="193" y="638"/>
                    </a:cubicBezTo>
                    <a:cubicBezTo>
                      <a:pt x="191" y="638"/>
                      <a:pt x="177" y="663"/>
                      <a:pt x="165" y="674"/>
                    </a:cubicBezTo>
                    <a:cubicBezTo>
                      <a:pt x="153" y="685"/>
                      <a:pt x="132" y="701"/>
                      <a:pt x="123" y="706"/>
                    </a:cubicBezTo>
                    <a:cubicBezTo>
                      <a:pt x="114" y="711"/>
                      <a:pt x="109" y="707"/>
                      <a:pt x="109" y="702"/>
                    </a:cubicBezTo>
                    <a:cubicBezTo>
                      <a:pt x="109" y="697"/>
                      <a:pt x="123" y="672"/>
                      <a:pt x="121" y="674"/>
                    </a:cubicBezTo>
                    <a:cubicBezTo>
                      <a:pt x="119" y="676"/>
                      <a:pt x="106" y="701"/>
                      <a:pt x="95" y="714"/>
                    </a:cubicBezTo>
                    <a:cubicBezTo>
                      <a:pt x="84" y="727"/>
                      <a:pt x="62" y="747"/>
                      <a:pt x="55" y="750"/>
                    </a:cubicBezTo>
                    <a:cubicBezTo>
                      <a:pt x="48" y="753"/>
                      <a:pt x="47" y="742"/>
                      <a:pt x="51" y="730"/>
                    </a:cubicBezTo>
                    <a:cubicBezTo>
                      <a:pt x="55" y="718"/>
                      <a:pt x="70" y="696"/>
                      <a:pt x="81" y="678"/>
                    </a:cubicBezTo>
                    <a:cubicBezTo>
                      <a:pt x="92" y="660"/>
                      <a:pt x="115" y="621"/>
                      <a:pt x="115" y="620"/>
                    </a:cubicBezTo>
                    <a:cubicBezTo>
                      <a:pt x="115" y="619"/>
                      <a:pt x="92" y="653"/>
                      <a:pt x="79" y="670"/>
                    </a:cubicBezTo>
                    <a:cubicBezTo>
                      <a:pt x="66" y="687"/>
                      <a:pt x="48" y="710"/>
                      <a:pt x="35" y="720"/>
                    </a:cubicBezTo>
                    <a:cubicBezTo>
                      <a:pt x="22" y="730"/>
                      <a:pt x="6" y="734"/>
                      <a:pt x="3" y="730"/>
                    </a:cubicBezTo>
                    <a:cubicBezTo>
                      <a:pt x="0" y="726"/>
                      <a:pt x="9" y="712"/>
                      <a:pt x="19" y="696"/>
                    </a:cubicBezTo>
                    <a:cubicBezTo>
                      <a:pt x="29" y="680"/>
                      <a:pt x="52" y="652"/>
                      <a:pt x="65" y="632"/>
                    </a:cubicBezTo>
                    <a:cubicBezTo>
                      <a:pt x="78" y="612"/>
                      <a:pt x="95" y="575"/>
                      <a:pt x="95" y="574"/>
                    </a:cubicBezTo>
                    <a:cubicBezTo>
                      <a:pt x="95" y="573"/>
                      <a:pt x="76" y="609"/>
                      <a:pt x="63" y="624"/>
                    </a:cubicBezTo>
                    <a:cubicBezTo>
                      <a:pt x="50" y="639"/>
                      <a:pt x="25" y="664"/>
                      <a:pt x="19" y="664"/>
                    </a:cubicBezTo>
                    <a:cubicBezTo>
                      <a:pt x="13" y="664"/>
                      <a:pt x="16" y="649"/>
                      <a:pt x="29" y="624"/>
                    </a:cubicBezTo>
                    <a:cubicBezTo>
                      <a:pt x="42" y="599"/>
                      <a:pt x="69" y="557"/>
                      <a:pt x="97" y="514"/>
                    </a:cubicBezTo>
                    <a:cubicBezTo>
                      <a:pt x="125" y="471"/>
                      <a:pt x="167" y="410"/>
                      <a:pt x="197" y="366"/>
                    </a:cubicBezTo>
                    <a:cubicBezTo>
                      <a:pt x="227" y="322"/>
                      <a:pt x="246" y="284"/>
                      <a:pt x="275" y="248"/>
                    </a:cubicBezTo>
                    <a:cubicBezTo>
                      <a:pt x="304" y="212"/>
                      <a:pt x="339" y="182"/>
                      <a:pt x="373" y="150"/>
                    </a:cubicBezTo>
                    <a:cubicBezTo>
                      <a:pt x="407" y="118"/>
                      <a:pt x="451" y="82"/>
                      <a:pt x="481" y="58"/>
                    </a:cubicBezTo>
                    <a:cubicBezTo>
                      <a:pt x="511" y="34"/>
                      <a:pt x="528" y="0"/>
                      <a:pt x="555" y="6"/>
                    </a:cubicBezTo>
                    <a:cubicBezTo>
                      <a:pt x="582" y="12"/>
                      <a:pt x="625" y="75"/>
                      <a:pt x="644" y="93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76"/>
            <p:cNvSpPr/>
            <p:nvPr/>
          </p:nvSpPr>
          <p:spPr>
            <a:xfrm>
              <a:off x="12176280" y="5224320"/>
              <a:ext cx="3105000" cy="39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9379080" y="4775040"/>
            <a:ext cx="3790440" cy="4790880"/>
            <a:chOff x="9379080" y="4775040"/>
            <a:chExt cx="3790440" cy="4790880"/>
          </a:xfrm>
        </p:grpSpPr>
        <p:grpSp>
          <p:nvGrpSpPr>
            <p:cNvPr id="217" name=""/>
            <p:cNvGrpSpPr/>
            <p:nvPr/>
          </p:nvGrpSpPr>
          <p:grpSpPr>
            <a:xfrm>
              <a:off x="10134720" y="4908600"/>
              <a:ext cx="2698920" cy="4125600"/>
              <a:chOff x="10134720" y="4908600"/>
              <a:chExt cx="2698920" cy="41256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11122920" y="6709320"/>
                <a:ext cx="1710720" cy="1322640"/>
                <a:chOff x="11122920" y="6709320"/>
                <a:chExt cx="1710720" cy="1322640"/>
              </a:xfrm>
            </p:grpSpPr>
            <p:sp>
              <p:nvSpPr>
                <p:cNvPr id="219" name="Freeform 180"/>
                <p:cNvSpPr/>
                <p:nvPr/>
              </p:nvSpPr>
              <p:spPr>
                <a:xfrm>
                  <a:off x="11576160" y="6716880"/>
                  <a:ext cx="1158480" cy="846360"/>
                </a:xfrm>
                <a:custGeom>
                  <a:avLst/>
                  <a:gdLst>
                    <a:gd name="textAreaLeft" fmla="*/ 0 w 1158480"/>
                    <a:gd name="textAreaRight" fmla="*/ 1158840 w 1158480"/>
                    <a:gd name="textAreaTop" fmla="*/ 0 h 846360"/>
                    <a:gd name="textAreaBottom" fmla="*/ 846720 h 846360"/>
                  </a:gdLst>
                  <a:ahLst/>
                  <a:rect l="textAreaLeft" t="textAreaTop" r="textAreaRight" b="textAreaBottom"/>
                  <a:pathLst>
                    <a:path w="598" h="437">
                      <a:moveTo>
                        <a:pt x="54" y="310"/>
                      </a:moveTo>
                      <a:cubicBezTo>
                        <a:pt x="108" y="255"/>
                        <a:pt x="361" y="137"/>
                        <a:pt x="441" y="91"/>
                      </a:cubicBezTo>
                      <a:cubicBezTo>
                        <a:pt x="521" y="45"/>
                        <a:pt x="509" y="48"/>
                        <a:pt x="534" y="34"/>
                      </a:cubicBezTo>
                      <a:cubicBezTo>
                        <a:pt x="559" y="20"/>
                        <a:pt x="584" y="0"/>
                        <a:pt x="591" y="4"/>
                      </a:cubicBezTo>
                      <a:cubicBezTo>
                        <a:pt x="598" y="8"/>
                        <a:pt x="586" y="36"/>
                        <a:pt x="576" y="61"/>
                      </a:cubicBezTo>
                      <a:cubicBezTo>
                        <a:pt x="566" y="86"/>
                        <a:pt x="552" y="124"/>
                        <a:pt x="531" y="154"/>
                      </a:cubicBezTo>
                      <a:cubicBezTo>
                        <a:pt x="510" y="184"/>
                        <a:pt x="456" y="235"/>
                        <a:pt x="453" y="244"/>
                      </a:cubicBezTo>
                      <a:cubicBezTo>
                        <a:pt x="450" y="253"/>
                        <a:pt x="516" y="201"/>
                        <a:pt x="513" y="208"/>
                      </a:cubicBezTo>
                      <a:cubicBezTo>
                        <a:pt x="510" y="215"/>
                        <a:pt x="456" y="266"/>
                        <a:pt x="432" y="286"/>
                      </a:cubicBezTo>
                      <a:cubicBezTo>
                        <a:pt x="408" y="306"/>
                        <a:pt x="387" y="310"/>
                        <a:pt x="366" y="328"/>
                      </a:cubicBezTo>
                      <a:cubicBezTo>
                        <a:pt x="345" y="346"/>
                        <a:pt x="331" y="380"/>
                        <a:pt x="306" y="397"/>
                      </a:cubicBezTo>
                      <a:cubicBezTo>
                        <a:pt x="281" y="414"/>
                        <a:pt x="247" y="430"/>
                        <a:pt x="216" y="433"/>
                      </a:cubicBezTo>
                      <a:cubicBezTo>
                        <a:pt x="185" y="436"/>
                        <a:pt x="144" y="437"/>
                        <a:pt x="117" y="418"/>
                      </a:cubicBezTo>
                      <a:cubicBezTo>
                        <a:pt x="90" y="399"/>
                        <a:pt x="0" y="365"/>
                        <a:pt x="54" y="31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81"/>
                <p:cNvSpPr/>
                <p:nvPr/>
              </p:nvSpPr>
              <p:spPr>
                <a:xfrm>
                  <a:off x="11122920" y="6709320"/>
                  <a:ext cx="1710720" cy="1127160"/>
                </a:xfrm>
                <a:custGeom>
                  <a:avLst/>
                  <a:gdLst>
                    <a:gd name="textAreaLeft" fmla="*/ 0 w 1710720"/>
                    <a:gd name="textAreaRight" fmla="*/ 1711080 w 1710720"/>
                    <a:gd name="textAreaTop" fmla="*/ 0 h 1127160"/>
                    <a:gd name="textAreaBottom" fmla="*/ 1127520 h 1127160"/>
                  </a:gdLst>
                  <a:ahLst/>
                  <a:rect l="textAreaLeft" t="textAreaTop" r="textAreaRight" b="textAreaBottom"/>
                  <a:pathLst>
                    <a:path w="883" h="582">
                      <a:moveTo>
                        <a:pt x="54" y="353"/>
                      </a:moveTo>
                      <a:cubicBezTo>
                        <a:pt x="103" y="321"/>
                        <a:pt x="227" y="285"/>
                        <a:pt x="297" y="251"/>
                      </a:cubicBezTo>
                      <a:cubicBezTo>
                        <a:pt x="367" y="217"/>
                        <a:pt x="414" y="180"/>
                        <a:pt x="474" y="149"/>
                      </a:cubicBezTo>
                      <a:cubicBezTo>
                        <a:pt x="534" y="118"/>
                        <a:pt x="610" y="86"/>
                        <a:pt x="660" y="65"/>
                      </a:cubicBezTo>
                      <a:cubicBezTo>
                        <a:pt x="710" y="44"/>
                        <a:pt x="749" y="30"/>
                        <a:pt x="777" y="20"/>
                      </a:cubicBezTo>
                      <a:cubicBezTo>
                        <a:pt x="805" y="10"/>
                        <a:pt x="821" y="0"/>
                        <a:pt x="828" y="2"/>
                      </a:cubicBezTo>
                      <a:cubicBezTo>
                        <a:pt x="835" y="4"/>
                        <a:pt x="836" y="19"/>
                        <a:pt x="822" y="32"/>
                      </a:cubicBezTo>
                      <a:cubicBezTo>
                        <a:pt x="808" y="45"/>
                        <a:pt x="780" y="59"/>
                        <a:pt x="741" y="80"/>
                      </a:cubicBezTo>
                      <a:cubicBezTo>
                        <a:pt x="780" y="68"/>
                        <a:pt x="805" y="53"/>
                        <a:pt x="828" y="44"/>
                      </a:cubicBezTo>
                      <a:cubicBezTo>
                        <a:pt x="851" y="35"/>
                        <a:pt x="875" y="21"/>
                        <a:pt x="879" y="26"/>
                      </a:cubicBezTo>
                      <a:cubicBezTo>
                        <a:pt x="883" y="31"/>
                        <a:pt x="869" y="54"/>
                        <a:pt x="852" y="74"/>
                      </a:cubicBezTo>
                      <a:cubicBezTo>
                        <a:pt x="835" y="94"/>
                        <a:pt x="804" y="127"/>
                        <a:pt x="777" y="146"/>
                      </a:cubicBezTo>
                      <a:cubicBezTo>
                        <a:pt x="750" y="165"/>
                        <a:pt x="726" y="161"/>
                        <a:pt x="690" y="188"/>
                      </a:cubicBezTo>
                      <a:cubicBezTo>
                        <a:pt x="729" y="173"/>
                        <a:pt x="765" y="168"/>
                        <a:pt x="783" y="167"/>
                      </a:cubicBezTo>
                      <a:cubicBezTo>
                        <a:pt x="801" y="166"/>
                        <a:pt x="807" y="173"/>
                        <a:pt x="798" y="185"/>
                      </a:cubicBezTo>
                      <a:cubicBezTo>
                        <a:pt x="789" y="197"/>
                        <a:pt x="760" y="224"/>
                        <a:pt x="729" y="242"/>
                      </a:cubicBezTo>
                      <a:cubicBezTo>
                        <a:pt x="698" y="260"/>
                        <a:pt x="622" y="288"/>
                        <a:pt x="615" y="293"/>
                      </a:cubicBezTo>
                      <a:cubicBezTo>
                        <a:pt x="657" y="284"/>
                        <a:pt x="670" y="274"/>
                        <a:pt x="687" y="272"/>
                      </a:cubicBezTo>
                      <a:cubicBezTo>
                        <a:pt x="704" y="270"/>
                        <a:pt x="723" y="277"/>
                        <a:pt x="717" y="284"/>
                      </a:cubicBezTo>
                      <a:cubicBezTo>
                        <a:pt x="711" y="291"/>
                        <a:pt x="675" y="303"/>
                        <a:pt x="648" y="317"/>
                      </a:cubicBezTo>
                      <a:cubicBezTo>
                        <a:pt x="621" y="331"/>
                        <a:pt x="560" y="359"/>
                        <a:pt x="552" y="368"/>
                      </a:cubicBezTo>
                      <a:cubicBezTo>
                        <a:pt x="544" y="377"/>
                        <a:pt x="587" y="367"/>
                        <a:pt x="597" y="371"/>
                      </a:cubicBezTo>
                      <a:cubicBezTo>
                        <a:pt x="607" y="375"/>
                        <a:pt x="620" y="387"/>
                        <a:pt x="612" y="392"/>
                      </a:cubicBezTo>
                      <a:cubicBezTo>
                        <a:pt x="604" y="397"/>
                        <a:pt x="571" y="392"/>
                        <a:pt x="549" y="401"/>
                      </a:cubicBezTo>
                      <a:cubicBezTo>
                        <a:pt x="527" y="410"/>
                        <a:pt x="526" y="421"/>
                        <a:pt x="477" y="449"/>
                      </a:cubicBezTo>
                      <a:cubicBezTo>
                        <a:pt x="428" y="477"/>
                        <a:pt x="322" y="556"/>
                        <a:pt x="255" y="569"/>
                      </a:cubicBezTo>
                      <a:cubicBezTo>
                        <a:pt x="188" y="582"/>
                        <a:pt x="114" y="548"/>
                        <a:pt x="72" y="527"/>
                      </a:cubicBezTo>
                      <a:cubicBezTo>
                        <a:pt x="30" y="506"/>
                        <a:pt x="6" y="472"/>
                        <a:pt x="3" y="443"/>
                      </a:cubicBezTo>
                      <a:cubicBezTo>
                        <a:pt x="0" y="414"/>
                        <a:pt x="5" y="385"/>
                        <a:pt x="54" y="353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82"/>
                <p:cNvSpPr/>
                <p:nvPr/>
              </p:nvSpPr>
              <p:spPr>
                <a:xfrm>
                  <a:off x="11134080" y="7406640"/>
                  <a:ext cx="1085040" cy="625320"/>
                </a:xfrm>
                <a:custGeom>
                  <a:avLst/>
                  <a:gdLst>
                    <a:gd name="textAreaLeft" fmla="*/ 0 w 1085040"/>
                    <a:gd name="textAreaRight" fmla="*/ 1085400 w 1085040"/>
                    <a:gd name="textAreaTop" fmla="*/ 0 h 625320"/>
                    <a:gd name="textAreaBottom" fmla="*/ 625680 h 625320"/>
                  </a:gdLst>
                  <a:ahLst/>
                  <a:rect l="textAreaLeft" t="textAreaTop" r="textAreaRight" b="textAreaBottom"/>
                  <a:pathLst>
                    <a:path w="560" h="323">
                      <a:moveTo>
                        <a:pt x="6" y="182"/>
                      </a:moveTo>
                      <a:cubicBezTo>
                        <a:pt x="11" y="149"/>
                        <a:pt x="27" y="68"/>
                        <a:pt x="50" y="38"/>
                      </a:cubicBezTo>
                      <a:cubicBezTo>
                        <a:pt x="73" y="8"/>
                        <a:pt x="115" y="0"/>
                        <a:pt x="146" y="2"/>
                      </a:cubicBezTo>
                      <a:cubicBezTo>
                        <a:pt x="177" y="4"/>
                        <a:pt x="228" y="36"/>
                        <a:pt x="234" y="50"/>
                      </a:cubicBezTo>
                      <a:cubicBezTo>
                        <a:pt x="240" y="64"/>
                        <a:pt x="193" y="76"/>
                        <a:pt x="182" y="86"/>
                      </a:cubicBezTo>
                      <a:cubicBezTo>
                        <a:pt x="171" y="96"/>
                        <a:pt x="165" y="102"/>
                        <a:pt x="168" y="113"/>
                      </a:cubicBezTo>
                      <a:cubicBezTo>
                        <a:pt x="171" y="124"/>
                        <a:pt x="180" y="147"/>
                        <a:pt x="202" y="150"/>
                      </a:cubicBezTo>
                      <a:cubicBezTo>
                        <a:pt x="224" y="153"/>
                        <a:pt x="242" y="152"/>
                        <a:pt x="298" y="134"/>
                      </a:cubicBezTo>
                      <a:cubicBezTo>
                        <a:pt x="354" y="116"/>
                        <a:pt x="462" y="89"/>
                        <a:pt x="538" y="42"/>
                      </a:cubicBezTo>
                      <a:cubicBezTo>
                        <a:pt x="552" y="68"/>
                        <a:pt x="560" y="80"/>
                        <a:pt x="546" y="94"/>
                      </a:cubicBezTo>
                      <a:cubicBezTo>
                        <a:pt x="532" y="108"/>
                        <a:pt x="486" y="116"/>
                        <a:pt x="454" y="126"/>
                      </a:cubicBezTo>
                      <a:cubicBezTo>
                        <a:pt x="468" y="131"/>
                        <a:pt x="495" y="136"/>
                        <a:pt x="482" y="146"/>
                      </a:cubicBezTo>
                      <a:cubicBezTo>
                        <a:pt x="469" y="156"/>
                        <a:pt x="414" y="167"/>
                        <a:pt x="378" y="186"/>
                      </a:cubicBezTo>
                      <a:cubicBezTo>
                        <a:pt x="396" y="185"/>
                        <a:pt x="411" y="179"/>
                        <a:pt x="422" y="194"/>
                      </a:cubicBezTo>
                      <a:cubicBezTo>
                        <a:pt x="393" y="230"/>
                        <a:pt x="369" y="218"/>
                        <a:pt x="338" y="226"/>
                      </a:cubicBezTo>
                      <a:cubicBezTo>
                        <a:pt x="357" y="242"/>
                        <a:pt x="385" y="239"/>
                        <a:pt x="370" y="254"/>
                      </a:cubicBezTo>
                      <a:cubicBezTo>
                        <a:pt x="355" y="269"/>
                        <a:pt x="289" y="305"/>
                        <a:pt x="246" y="314"/>
                      </a:cubicBezTo>
                      <a:cubicBezTo>
                        <a:pt x="203" y="323"/>
                        <a:pt x="152" y="319"/>
                        <a:pt x="114" y="306"/>
                      </a:cubicBezTo>
                      <a:cubicBezTo>
                        <a:pt x="76" y="293"/>
                        <a:pt x="36" y="257"/>
                        <a:pt x="18" y="238"/>
                      </a:cubicBezTo>
                      <a:cubicBezTo>
                        <a:pt x="0" y="219"/>
                        <a:pt x="1" y="215"/>
                        <a:pt x="6" y="182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0134720" y="7230240"/>
                <a:ext cx="293760" cy="163800"/>
                <a:chOff x="10134720" y="7230240"/>
                <a:chExt cx="293760" cy="163800"/>
              </a:xfrm>
            </p:grpSpPr>
            <p:sp>
              <p:nvSpPr>
                <p:cNvPr id="223" name="Freeform 184"/>
                <p:cNvSpPr/>
                <p:nvPr/>
              </p:nvSpPr>
              <p:spPr>
                <a:xfrm>
                  <a:off x="10175400" y="7230240"/>
                  <a:ext cx="253080" cy="162000"/>
                </a:xfrm>
                <a:custGeom>
                  <a:avLst/>
                  <a:gdLst>
                    <a:gd name="textAreaLeft" fmla="*/ 0 w 253080"/>
                    <a:gd name="textAreaRight" fmla="*/ 253440 w 253080"/>
                    <a:gd name="textAreaTop" fmla="*/ 0 h 162000"/>
                    <a:gd name="textAreaBottom" fmla="*/ 162000 h 1620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85"/>
                <p:cNvSpPr/>
                <p:nvPr/>
              </p:nvSpPr>
              <p:spPr>
                <a:xfrm>
                  <a:off x="10134720" y="7245360"/>
                  <a:ext cx="276840" cy="129600"/>
                </a:xfrm>
                <a:custGeom>
                  <a:avLst/>
                  <a:gdLst>
                    <a:gd name="textAreaLeft" fmla="*/ 0 w 276840"/>
                    <a:gd name="textAreaRight" fmla="*/ 277200 w 276840"/>
                    <a:gd name="textAreaTop" fmla="*/ 0 h 129600"/>
                    <a:gd name="textAreaBottom" fmla="*/ 129960 h 12960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86"/>
                <p:cNvSpPr/>
                <p:nvPr/>
              </p:nvSpPr>
              <p:spPr>
                <a:xfrm>
                  <a:off x="10138320" y="7286040"/>
                  <a:ext cx="263160" cy="108000"/>
                </a:xfrm>
                <a:custGeom>
                  <a:avLst/>
                  <a:gdLst>
                    <a:gd name="textAreaLeft" fmla="*/ 0 w 263160"/>
                    <a:gd name="textAreaRight" fmla="*/ 263520 w 26316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187"/>
              <p:cNvSpPr/>
              <p:nvPr/>
            </p:nvSpPr>
            <p:spPr>
              <a:xfrm>
                <a:off x="10258560" y="6487920"/>
                <a:ext cx="2044080" cy="2546280"/>
              </a:xfrm>
              <a:custGeom>
                <a:avLst/>
                <a:gdLst>
                  <a:gd name="textAreaLeft" fmla="*/ 0 w 2044080"/>
                  <a:gd name="textAreaRight" fmla="*/ 2044440 w 2044080"/>
                  <a:gd name="textAreaTop" fmla="*/ 0 h 2546280"/>
                  <a:gd name="textAreaBottom" fmla="*/ 2546640 h 2546280"/>
                </a:gdLst>
                <a:ahLst/>
                <a:rect l="textAreaLeft" t="textAreaTop" r="textAreaRight" b="textAreaBottom"/>
                <a:pathLst>
                  <a:path w="1055" h="1314">
                    <a:moveTo>
                      <a:pt x="35" y="431"/>
                    </a:moveTo>
                    <a:cubicBezTo>
                      <a:pt x="9" y="437"/>
                      <a:pt x="0" y="446"/>
                      <a:pt x="8" y="461"/>
                    </a:cubicBezTo>
                    <a:cubicBezTo>
                      <a:pt x="16" y="476"/>
                      <a:pt x="57" y="505"/>
                      <a:pt x="80" y="524"/>
                    </a:cubicBezTo>
                    <a:cubicBezTo>
                      <a:pt x="103" y="543"/>
                      <a:pt x="125" y="543"/>
                      <a:pt x="146" y="572"/>
                    </a:cubicBezTo>
                    <a:cubicBezTo>
                      <a:pt x="167" y="601"/>
                      <a:pt x="180" y="657"/>
                      <a:pt x="206" y="698"/>
                    </a:cubicBezTo>
                    <a:cubicBezTo>
                      <a:pt x="232" y="739"/>
                      <a:pt x="254" y="778"/>
                      <a:pt x="302" y="818"/>
                    </a:cubicBezTo>
                    <a:cubicBezTo>
                      <a:pt x="350" y="858"/>
                      <a:pt x="436" y="903"/>
                      <a:pt x="497" y="935"/>
                    </a:cubicBezTo>
                    <a:cubicBezTo>
                      <a:pt x="558" y="967"/>
                      <a:pt x="632" y="993"/>
                      <a:pt x="668" y="1010"/>
                    </a:cubicBezTo>
                    <a:cubicBezTo>
                      <a:pt x="704" y="1027"/>
                      <a:pt x="695" y="1019"/>
                      <a:pt x="710" y="1037"/>
                    </a:cubicBezTo>
                    <a:cubicBezTo>
                      <a:pt x="725" y="1055"/>
                      <a:pt x="738" y="1087"/>
                      <a:pt x="758" y="1121"/>
                    </a:cubicBezTo>
                    <a:cubicBezTo>
                      <a:pt x="778" y="1155"/>
                      <a:pt x="812" y="1212"/>
                      <a:pt x="833" y="1241"/>
                    </a:cubicBezTo>
                    <a:cubicBezTo>
                      <a:pt x="854" y="1270"/>
                      <a:pt x="877" y="1291"/>
                      <a:pt x="884" y="1295"/>
                    </a:cubicBezTo>
                    <a:cubicBezTo>
                      <a:pt x="891" y="1299"/>
                      <a:pt x="887" y="1282"/>
                      <a:pt x="878" y="1265"/>
                    </a:cubicBezTo>
                    <a:cubicBezTo>
                      <a:pt x="869" y="1248"/>
                      <a:pt x="823" y="1185"/>
                      <a:pt x="830" y="1190"/>
                    </a:cubicBezTo>
                    <a:cubicBezTo>
                      <a:pt x="837" y="1195"/>
                      <a:pt x="898" y="1276"/>
                      <a:pt x="920" y="1295"/>
                    </a:cubicBezTo>
                    <a:cubicBezTo>
                      <a:pt x="942" y="1314"/>
                      <a:pt x="955" y="1306"/>
                      <a:pt x="962" y="1304"/>
                    </a:cubicBezTo>
                    <a:cubicBezTo>
                      <a:pt x="969" y="1302"/>
                      <a:pt x="956" y="1280"/>
                      <a:pt x="962" y="1280"/>
                    </a:cubicBezTo>
                    <a:cubicBezTo>
                      <a:pt x="968" y="1280"/>
                      <a:pt x="984" y="1301"/>
                      <a:pt x="998" y="1304"/>
                    </a:cubicBezTo>
                    <a:cubicBezTo>
                      <a:pt x="1012" y="1307"/>
                      <a:pt x="1040" y="1302"/>
                      <a:pt x="1046" y="1298"/>
                    </a:cubicBezTo>
                    <a:cubicBezTo>
                      <a:pt x="1052" y="1294"/>
                      <a:pt x="1055" y="1302"/>
                      <a:pt x="1034" y="1277"/>
                    </a:cubicBezTo>
                    <a:cubicBezTo>
                      <a:pt x="1013" y="1252"/>
                      <a:pt x="935" y="1183"/>
                      <a:pt x="917" y="1148"/>
                    </a:cubicBezTo>
                    <a:cubicBezTo>
                      <a:pt x="899" y="1113"/>
                      <a:pt x="937" y="1095"/>
                      <a:pt x="926" y="1067"/>
                    </a:cubicBezTo>
                    <a:cubicBezTo>
                      <a:pt x="915" y="1039"/>
                      <a:pt x="926" y="1043"/>
                      <a:pt x="851" y="980"/>
                    </a:cubicBezTo>
                    <a:cubicBezTo>
                      <a:pt x="776" y="917"/>
                      <a:pt x="526" y="750"/>
                      <a:pt x="476" y="686"/>
                    </a:cubicBezTo>
                    <a:cubicBezTo>
                      <a:pt x="426" y="622"/>
                      <a:pt x="532" y="620"/>
                      <a:pt x="551" y="596"/>
                    </a:cubicBezTo>
                    <a:cubicBezTo>
                      <a:pt x="570" y="572"/>
                      <a:pt x="577" y="549"/>
                      <a:pt x="593" y="542"/>
                    </a:cubicBezTo>
                    <a:cubicBezTo>
                      <a:pt x="609" y="535"/>
                      <a:pt x="632" y="553"/>
                      <a:pt x="647" y="551"/>
                    </a:cubicBezTo>
                    <a:cubicBezTo>
                      <a:pt x="662" y="549"/>
                      <a:pt x="681" y="535"/>
                      <a:pt x="686" y="527"/>
                    </a:cubicBezTo>
                    <a:cubicBezTo>
                      <a:pt x="691" y="519"/>
                      <a:pt x="687" y="519"/>
                      <a:pt x="677" y="503"/>
                    </a:cubicBezTo>
                    <a:cubicBezTo>
                      <a:pt x="667" y="487"/>
                      <a:pt x="613" y="456"/>
                      <a:pt x="623" y="431"/>
                    </a:cubicBezTo>
                    <a:cubicBezTo>
                      <a:pt x="633" y="406"/>
                      <a:pt x="705" y="389"/>
                      <a:pt x="737" y="353"/>
                    </a:cubicBezTo>
                    <a:cubicBezTo>
                      <a:pt x="769" y="317"/>
                      <a:pt x="809" y="236"/>
                      <a:pt x="815" y="218"/>
                    </a:cubicBezTo>
                    <a:cubicBezTo>
                      <a:pt x="821" y="200"/>
                      <a:pt x="774" y="252"/>
                      <a:pt x="776" y="245"/>
                    </a:cubicBezTo>
                    <a:cubicBezTo>
                      <a:pt x="778" y="238"/>
                      <a:pt x="816" y="203"/>
                      <a:pt x="830" y="176"/>
                    </a:cubicBezTo>
                    <a:cubicBezTo>
                      <a:pt x="844" y="149"/>
                      <a:pt x="862" y="107"/>
                      <a:pt x="863" y="80"/>
                    </a:cubicBezTo>
                    <a:cubicBezTo>
                      <a:pt x="864" y="53"/>
                      <a:pt x="889" y="0"/>
                      <a:pt x="839" y="11"/>
                    </a:cubicBezTo>
                    <a:cubicBezTo>
                      <a:pt x="789" y="22"/>
                      <a:pt x="614" y="83"/>
                      <a:pt x="560" y="146"/>
                    </a:cubicBezTo>
                    <a:cubicBezTo>
                      <a:pt x="506" y="209"/>
                      <a:pt x="537" y="341"/>
                      <a:pt x="515" y="389"/>
                    </a:cubicBezTo>
                    <a:cubicBezTo>
                      <a:pt x="493" y="437"/>
                      <a:pt x="461" y="427"/>
                      <a:pt x="425" y="434"/>
                    </a:cubicBezTo>
                    <a:cubicBezTo>
                      <a:pt x="389" y="441"/>
                      <a:pt x="339" y="436"/>
                      <a:pt x="296" y="434"/>
                    </a:cubicBezTo>
                    <a:cubicBezTo>
                      <a:pt x="253" y="432"/>
                      <a:pt x="209" y="427"/>
                      <a:pt x="167" y="425"/>
                    </a:cubicBezTo>
                    <a:cubicBezTo>
                      <a:pt x="125" y="423"/>
                      <a:pt x="61" y="425"/>
                      <a:pt x="35" y="431"/>
                    </a:cubicBezTo>
                    <a:close/>
                  </a:path>
                </a:pathLst>
              </a:cu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8"/>
              <p:cNvSpPr/>
              <p:nvPr/>
            </p:nvSpPr>
            <p:spPr>
              <a:xfrm>
                <a:off x="10248840" y="4908600"/>
                <a:ext cx="2472480" cy="4102920"/>
              </a:xfrm>
              <a:custGeom>
                <a:avLst/>
                <a:gdLst>
                  <a:gd name="textAreaLeft" fmla="*/ 0 w 2472480"/>
                  <a:gd name="textAreaRight" fmla="*/ 2472840 w 2472480"/>
                  <a:gd name="textAreaTop" fmla="*/ 0 h 4102920"/>
                  <a:gd name="textAreaBottom" fmla="*/ 4103280 h 4102920"/>
                </a:gdLst>
                <a:ahLst/>
                <a:rect l="textAreaLeft" t="textAreaTop" r="textAreaRight" b="textAreaBottom"/>
                <a:pathLst>
                  <a:path w="1276" h="2117">
                    <a:moveTo>
                      <a:pt x="1276" y="2026"/>
                    </a:moveTo>
                    <a:cubicBezTo>
                      <a:pt x="1243" y="1997"/>
                      <a:pt x="1124" y="1921"/>
                      <a:pt x="1060" y="1879"/>
                    </a:cubicBezTo>
                    <a:cubicBezTo>
                      <a:pt x="996" y="1837"/>
                      <a:pt x="935" y="1812"/>
                      <a:pt x="892" y="1777"/>
                    </a:cubicBezTo>
                    <a:cubicBezTo>
                      <a:pt x="849" y="1742"/>
                      <a:pt x="835" y="1710"/>
                      <a:pt x="802" y="1666"/>
                    </a:cubicBezTo>
                    <a:cubicBezTo>
                      <a:pt x="769" y="1622"/>
                      <a:pt x="723" y="1553"/>
                      <a:pt x="691" y="1513"/>
                    </a:cubicBezTo>
                    <a:cubicBezTo>
                      <a:pt x="659" y="1473"/>
                      <a:pt x="630" y="1443"/>
                      <a:pt x="610" y="1426"/>
                    </a:cubicBezTo>
                    <a:cubicBezTo>
                      <a:pt x="590" y="1409"/>
                      <a:pt x="571" y="1418"/>
                      <a:pt x="571" y="1408"/>
                    </a:cubicBezTo>
                    <a:cubicBezTo>
                      <a:pt x="571" y="1398"/>
                      <a:pt x="598" y="1375"/>
                      <a:pt x="609" y="1365"/>
                    </a:cubicBezTo>
                    <a:cubicBezTo>
                      <a:pt x="620" y="1355"/>
                      <a:pt x="631" y="1354"/>
                      <a:pt x="640" y="1345"/>
                    </a:cubicBezTo>
                    <a:cubicBezTo>
                      <a:pt x="649" y="1336"/>
                      <a:pt x="654" y="1315"/>
                      <a:pt x="661" y="1312"/>
                    </a:cubicBezTo>
                    <a:cubicBezTo>
                      <a:pt x="668" y="1309"/>
                      <a:pt x="679" y="1327"/>
                      <a:pt x="685" y="1327"/>
                    </a:cubicBezTo>
                    <a:cubicBezTo>
                      <a:pt x="691" y="1327"/>
                      <a:pt x="698" y="1315"/>
                      <a:pt x="697" y="1309"/>
                    </a:cubicBezTo>
                    <a:cubicBezTo>
                      <a:pt x="696" y="1303"/>
                      <a:pt x="674" y="1291"/>
                      <a:pt x="676" y="1288"/>
                    </a:cubicBezTo>
                    <a:cubicBezTo>
                      <a:pt x="678" y="1285"/>
                      <a:pt x="701" y="1295"/>
                      <a:pt x="709" y="1294"/>
                    </a:cubicBezTo>
                    <a:cubicBezTo>
                      <a:pt x="717" y="1293"/>
                      <a:pt x="724" y="1284"/>
                      <a:pt x="724" y="1279"/>
                    </a:cubicBezTo>
                    <a:cubicBezTo>
                      <a:pt x="724" y="1274"/>
                      <a:pt x="701" y="1268"/>
                      <a:pt x="706" y="1261"/>
                    </a:cubicBezTo>
                    <a:cubicBezTo>
                      <a:pt x="711" y="1254"/>
                      <a:pt x="744" y="1248"/>
                      <a:pt x="757" y="1237"/>
                    </a:cubicBezTo>
                    <a:cubicBezTo>
                      <a:pt x="770" y="1226"/>
                      <a:pt x="788" y="1203"/>
                      <a:pt x="784" y="1195"/>
                    </a:cubicBezTo>
                    <a:cubicBezTo>
                      <a:pt x="780" y="1187"/>
                      <a:pt x="734" y="1194"/>
                      <a:pt x="733" y="1189"/>
                    </a:cubicBezTo>
                    <a:cubicBezTo>
                      <a:pt x="732" y="1184"/>
                      <a:pt x="760" y="1176"/>
                      <a:pt x="775" y="1165"/>
                    </a:cubicBezTo>
                    <a:cubicBezTo>
                      <a:pt x="790" y="1154"/>
                      <a:pt x="819" y="1134"/>
                      <a:pt x="826" y="1123"/>
                    </a:cubicBezTo>
                    <a:cubicBezTo>
                      <a:pt x="833" y="1112"/>
                      <a:pt x="826" y="1097"/>
                      <a:pt x="814" y="1099"/>
                    </a:cubicBezTo>
                    <a:cubicBezTo>
                      <a:pt x="802" y="1101"/>
                      <a:pt x="753" y="1139"/>
                      <a:pt x="751" y="1135"/>
                    </a:cubicBezTo>
                    <a:cubicBezTo>
                      <a:pt x="749" y="1131"/>
                      <a:pt x="781" y="1097"/>
                      <a:pt x="799" y="1075"/>
                    </a:cubicBezTo>
                    <a:cubicBezTo>
                      <a:pt x="817" y="1053"/>
                      <a:pt x="853" y="1021"/>
                      <a:pt x="862" y="1003"/>
                    </a:cubicBezTo>
                    <a:cubicBezTo>
                      <a:pt x="871" y="985"/>
                      <a:pt x="865" y="965"/>
                      <a:pt x="856" y="967"/>
                    </a:cubicBezTo>
                    <a:cubicBezTo>
                      <a:pt x="847" y="969"/>
                      <a:pt x="821" y="1003"/>
                      <a:pt x="808" y="1015"/>
                    </a:cubicBezTo>
                    <a:cubicBezTo>
                      <a:pt x="795" y="1027"/>
                      <a:pt x="775" y="1037"/>
                      <a:pt x="775" y="1036"/>
                    </a:cubicBezTo>
                    <a:cubicBezTo>
                      <a:pt x="775" y="1035"/>
                      <a:pt x="791" y="1025"/>
                      <a:pt x="805" y="1009"/>
                    </a:cubicBezTo>
                    <a:cubicBezTo>
                      <a:pt x="819" y="993"/>
                      <a:pt x="841" y="967"/>
                      <a:pt x="856" y="943"/>
                    </a:cubicBezTo>
                    <a:cubicBezTo>
                      <a:pt x="871" y="919"/>
                      <a:pt x="891" y="880"/>
                      <a:pt x="895" y="865"/>
                    </a:cubicBezTo>
                    <a:cubicBezTo>
                      <a:pt x="899" y="850"/>
                      <a:pt x="874" y="863"/>
                      <a:pt x="877" y="853"/>
                    </a:cubicBezTo>
                    <a:cubicBezTo>
                      <a:pt x="880" y="843"/>
                      <a:pt x="901" y="823"/>
                      <a:pt x="913" y="805"/>
                    </a:cubicBezTo>
                    <a:cubicBezTo>
                      <a:pt x="925" y="787"/>
                      <a:pt x="944" y="764"/>
                      <a:pt x="949" y="748"/>
                    </a:cubicBezTo>
                    <a:cubicBezTo>
                      <a:pt x="954" y="732"/>
                      <a:pt x="950" y="711"/>
                      <a:pt x="943" y="709"/>
                    </a:cubicBezTo>
                    <a:cubicBezTo>
                      <a:pt x="936" y="707"/>
                      <a:pt x="903" y="744"/>
                      <a:pt x="904" y="733"/>
                    </a:cubicBezTo>
                    <a:cubicBezTo>
                      <a:pt x="905" y="722"/>
                      <a:pt x="943" y="666"/>
                      <a:pt x="952" y="640"/>
                    </a:cubicBezTo>
                    <a:cubicBezTo>
                      <a:pt x="961" y="614"/>
                      <a:pt x="964" y="582"/>
                      <a:pt x="958" y="577"/>
                    </a:cubicBezTo>
                    <a:cubicBezTo>
                      <a:pt x="952" y="572"/>
                      <a:pt x="929" y="599"/>
                      <a:pt x="916" y="610"/>
                    </a:cubicBezTo>
                    <a:cubicBezTo>
                      <a:pt x="903" y="621"/>
                      <a:pt x="881" y="648"/>
                      <a:pt x="883" y="640"/>
                    </a:cubicBezTo>
                    <a:cubicBezTo>
                      <a:pt x="885" y="632"/>
                      <a:pt x="914" y="591"/>
                      <a:pt x="925" y="562"/>
                    </a:cubicBezTo>
                    <a:cubicBezTo>
                      <a:pt x="936" y="533"/>
                      <a:pt x="946" y="488"/>
                      <a:pt x="949" y="466"/>
                    </a:cubicBezTo>
                    <a:cubicBezTo>
                      <a:pt x="952" y="444"/>
                      <a:pt x="957" y="416"/>
                      <a:pt x="943" y="427"/>
                    </a:cubicBezTo>
                    <a:cubicBezTo>
                      <a:pt x="929" y="438"/>
                      <a:pt x="889" y="493"/>
                      <a:pt x="865" y="532"/>
                    </a:cubicBezTo>
                    <a:cubicBezTo>
                      <a:pt x="877" y="499"/>
                      <a:pt x="878" y="483"/>
                      <a:pt x="886" y="454"/>
                    </a:cubicBezTo>
                    <a:cubicBezTo>
                      <a:pt x="894" y="425"/>
                      <a:pt x="911" y="375"/>
                      <a:pt x="913" y="355"/>
                    </a:cubicBezTo>
                    <a:cubicBezTo>
                      <a:pt x="915" y="335"/>
                      <a:pt x="911" y="322"/>
                      <a:pt x="901" y="331"/>
                    </a:cubicBezTo>
                    <a:cubicBezTo>
                      <a:pt x="891" y="340"/>
                      <a:pt x="864" y="386"/>
                      <a:pt x="850" y="409"/>
                    </a:cubicBezTo>
                    <a:cubicBezTo>
                      <a:pt x="836" y="432"/>
                      <a:pt x="815" y="473"/>
                      <a:pt x="814" y="469"/>
                    </a:cubicBezTo>
                    <a:cubicBezTo>
                      <a:pt x="813" y="465"/>
                      <a:pt x="837" y="416"/>
                      <a:pt x="847" y="385"/>
                    </a:cubicBezTo>
                    <a:cubicBezTo>
                      <a:pt x="857" y="354"/>
                      <a:pt x="871" y="307"/>
                      <a:pt x="874" y="283"/>
                    </a:cubicBezTo>
                    <a:cubicBezTo>
                      <a:pt x="877" y="259"/>
                      <a:pt x="886" y="222"/>
                      <a:pt x="868" y="241"/>
                    </a:cubicBezTo>
                    <a:cubicBezTo>
                      <a:pt x="850" y="260"/>
                      <a:pt x="774" y="394"/>
                      <a:pt x="766" y="394"/>
                    </a:cubicBezTo>
                    <a:cubicBezTo>
                      <a:pt x="784" y="334"/>
                      <a:pt x="805" y="297"/>
                      <a:pt x="817" y="244"/>
                    </a:cubicBezTo>
                    <a:cubicBezTo>
                      <a:pt x="829" y="191"/>
                      <a:pt x="853" y="67"/>
                      <a:pt x="838" y="76"/>
                    </a:cubicBezTo>
                    <a:cubicBezTo>
                      <a:pt x="823" y="85"/>
                      <a:pt x="748" y="241"/>
                      <a:pt x="724" y="298"/>
                    </a:cubicBezTo>
                    <a:cubicBezTo>
                      <a:pt x="748" y="223"/>
                      <a:pt x="780" y="140"/>
                      <a:pt x="790" y="91"/>
                    </a:cubicBezTo>
                    <a:cubicBezTo>
                      <a:pt x="800" y="42"/>
                      <a:pt x="797" y="0"/>
                      <a:pt x="784" y="4"/>
                    </a:cubicBezTo>
                    <a:cubicBezTo>
                      <a:pt x="771" y="8"/>
                      <a:pt x="743" y="52"/>
                      <a:pt x="709" y="118"/>
                    </a:cubicBezTo>
                    <a:cubicBezTo>
                      <a:pt x="675" y="184"/>
                      <a:pt x="615" y="312"/>
                      <a:pt x="577" y="403"/>
                    </a:cubicBezTo>
                    <a:cubicBezTo>
                      <a:pt x="539" y="494"/>
                      <a:pt x="506" y="576"/>
                      <a:pt x="481" y="661"/>
                    </a:cubicBezTo>
                    <a:cubicBezTo>
                      <a:pt x="456" y="746"/>
                      <a:pt x="443" y="830"/>
                      <a:pt x="427" y="916"/>
                    </a:cubicBezTo>
                    <a:cubicBezTo>
                      <a:pt x="411" y="1002"/>
                      <a:pt x="393" y="1118"/>
                      <a:pt x="382" y="1177"/>
                    </a:cubicBezTo>
                    <a:cubicBezTo>
                      <a:pt x="371" y="1236"/>
                      <a:pt x="364" y="1250"/>
                      <a:pt x="358" y="1273"/>
                    </a:cubicBezTo>
                    <a:cubicBezTo>
                      <a:pt x="352" y="1296"/>
                      <a:pt x="349" y="1318"/>
                      <a:pt x="346" y="1315"/>
                    </a:cubicBezTo>
                    <a:cubicBezTo>
                      <a:pt x="343" y="1312"/>
                      <a:pt x="342" y="1275"/>
                      <a:pt x="340" y="1254"/>
                    </a:cubicBezTo>
                    <a:cubicBezTo>
                      <a:pt x="291" y="1246"/>
                      <a:pt x="249" y="1238"/>
                      <a:pt x="208" y="1228"/>
                    </a:cubicBezTo>
                    <a:cubicBezTo>
                      <a:pt x="167" y="1218"/>
                      <a:pt x="122" y="1200"/>
                      <a:pt x="91" y="1195"/>
                    </a:cubicBezTo>
                    <a:cubicBezTo>
                      <a:pt x="60" y="1190"/>
                      <a:pt x="34" y="1189"/>
                      <a:pt x="19" y="1198"/>
                    </a:cubicBezTo>
                    <a:cubicBezTo>
                      <a:pt x="4" y="1207"/>
                      <a:pt x="0" y="1233"/>
                      <a:pt x="1" y="1249"/>
                    </a:cubicBezTo>
                    <a:cubicBezTo>
                      <a:pt x="2" y="1265"/>
                      <a:pt x="6" y="1282"/>
                      <a:pt x="25" y="1294"/>
                    </a:cubicBezTo>
                    <a:cubicBezTo>
                      <a:pt x="44" y="1306"/>
                      <a:pt x="87" y="1306"/>
                      <a:pt x="115" y="1321"/>
                    </a:cubicBezTo>
                    <a:cubicBezTo>
                      <a:pt x="143" y="1336"/>
                      <a:pt x="173" y="1367"/>
                      <a:pt x="193" y="1387"/>
                    </a:cubicBezTo>
                    <a:cubicBezTo>
                      <a:pt x="213" y="1407"/>
                      <a:pt x="230" y="1439"/>
                      <a:pt x="238" y="1444"/>
                    </a:cubicBezTo>
                    <a:cubicBezTo>
                      <a:pt x="246" y="1449"/>
                      <a:pt x="237" y="1431"/>
                      <a:pt x="241" y="1417"/>
                    </a:cubicBezTo>
                    <a:cubicBezTo>
                      <a:pt x="245" y="1403"/>
                      <a:pt x="260" y="1357"/>
                      <a:pt x="265" y="1357"/>
                    </a:cubicBezTo>
                    <a:cubicBezTo>
                      <a:pt x="270" y="1357"/>
                      <a:pt x="270" y="1400"/>
                      <a:pt x="274" y="1420"/>
                    </a:cubicBezTo>
                    <a:cubicBezTo>
                      <a:pt x="278" y="1440"/>
                      <a:pt x="265" y="1447"/>
                      <a:pt x="286" y="1477"/>
                    </a:cubicBezTo>
                    <a:cubicBezTo>
                      <a:pt x="307" y="1507"/>
                      <a:pt x="352" y="1561"/>
                      <a:pt x="400" y="1600"/>
                    </a:cubicBezTo>
                    <a:cubicBezTo>
                      <a:pt x="448" y="1639"/>
                      <a:pt x="531" y="1684"/>
                      <a:pt x="577" y="1711"/>
                    </a:cubicBezTo>
                    <a:cubicBezTo>
                      <a:pt x="623" y="1738"/>
                      <a:pt x="656" y="1748"/>
                      <a:pt x="679" y="1762"/>
                    </a:cubicBezTo>
                    <a:cubicBezTo>
                      <a:pt x="702" y="1776"/>
                      <a:pt x="696" y="1788"/>
                      <a:pt x="715" y="1798"/>
                    </a:cubicBezTo>
                    <a:cubicBezTo>
                      <a:pt x="734" y="1808"/>
                      <a:pt x="770" y="1818"/>
                      <a:pt x="793" y="1822"/>
                    </a:cubicBezTo>
                    <a:cubicBezTo>
                      <a:pt x="816" y="1826"/>
                      <a:pt x="851" y="1821"/>
                      <a:pt x="856" y="1825"/>
                    </a:cubicBezTo>
                    <a:cubicBezTo>
                      <a:pt x="861" y="1829"/>
                      <a:pt x="836" y="1839"/>
                      <a:pt x="826" y="1846"/>
                    </a:cubicBezTo>
                    <a:cubicBezTo>
                      <a:pt x="816" y="1853"/>
                      <a:pt x="792" y="1854"/>
                      <a:pt x="796" y="1867"/>
                    </a:cubicBezTo>
                    <a:cubicBezTo>
                      <a:pt x="800" y="1880"/>
                      <a:pt x="819" y="1891"/>
                      <a:pt x="850" y="1924"/>
                    </a:cubicBezTo>
                    <a:cubicBezTo>
                      <a:pt x="881" y="1957"/>
                      <a:pt x="948" y="2032"/>
                      <a:pt x="979" y="2062"/>
                    </a:cubicBezTo>
                    <a:cubicBezTo>
                      <a:pt x="1010" y="2092"/>
                      <a:pt x="1022" y="2098"/>
                      <a:pt x="1036" y="2107"/>
                    </a:cubicBezTo>
                    <a:cubicBezTo>
                      <a:pt x="1050" y="2116"/>
                      <a:pt x="1055" y="2116"/>
                      <a:pt x="1063" y="2116"/>
                    </a:cubicBezTo>
                    <a:cubicBezTo>
                      <a:pt x="1071" y="2116"/>
                      <a:pt x="1075" y="2117"/>
                      <a:pt x="1084" y="2107"/>
                    </a:cubicBezTo>
                    <a:cubicBezTo>
                      <a:pt x="1071" y="2091"/>
                      <a:pt x="989" y="2016"/>
                      <a:pt x="988" y="2017"/>
                    </a:cubicBezTo>
                    <a:cubicBezTo>
                      <a:pt x="987" y="2018"/>
                      <a:pt x="1069" y="2091"/>
                      <a:pt x="1093" y="2101"/>
                    </a:cubicBezTo>
                    <a:cubicBezTo>
                      <a:pt x="1107" y="2085"/>
                      <a:pt x="1111" y="2091"/>
                      <a:pt x="1132" y="2077"/>
                    </a:cubicBezTo>
                    <a:cubicBezTo>
                      <a:pt x="1103" y="2063"/>
                      <a:pt x="1034" y="2011"/>
                      <a:pt x="1036" y="2011"/>
                    </a:cubicBezTo>
                    <a:cubicBezTo>
                      <a:pt x="1038" y="2011"/>
                      <a:pt x="1113" y="2059"/>
                      <a:pt x="1147" y="2080"/>
                    </a:cubicBezTo>
                    <a:cubicBezTo>
                      <a:pt x="1185" y="2079"/>
                      <a:pt x="1203" y="2071"/>
                      <a:pt x="1246" y="2068"/>
                    </a:cubicBezTo>
                    <a:cubicBezTo>
                      <a:pt x="1227" y="2045"/>
                      <a:pt x="1120" y="1968"/>
                      <a:pt x="1123" y="1966"/>
                    </a:cubicBezTo>
                    <a:cubicBezTo>
                      <a:pt x="1126" y="1964"/>
                      <a:pt x="1236" y="2047"/>
                      <a:pt x="1261" y="2056"/>
                    </a:cubicBezTo>
                    <a:cubicBezTo>
                      <a:pt x="1269" y="2045"/>
                      <a:pt x="1273" y="2041"/>
                      <a:pt x="1276" y="2026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11039400" y="5817240"/>
                <a:ext cx="720720" cy="1858320"/>
                <a:chOff x="11039400" y="5817240"/>
                <a:chExt cx="720720" cy="1858320"/>
              </a:xfrm>
            </p:grpSpPr>
            <p:sp>
              <p:nvSpPr>
                <p:cNvPr id="229" name="Freeform 190"/>
                <p:cNvSpPr/>
                <p:nvPr/>
              </p:nvSpPr>
              <p:spPr>
                <a:xfrm>
                  <a:off x="11039400" y="5817240"/>
                  <a:ext cx="720720" cy="1858320"/>
                </a:xfrm>
                <a:custGeom>
                  <a:avLst/>
                  <a:gdLst>
                    <a:gd name="textAreaLeft" fmla="*/ 0 w 720720"/>
                    <a:gd name="textAreaRight" fmla="*/ 721080 w 720720"/>
                    <a:gd name="textAreaTop" fmla="*/ 0 h 1858320"/>
                    <a:gd name="textAreaBottom" fmla="*/ 1858680 h 1858320"/>
                  </a:gdLst>
                  <a:ahLst/>
                  <a:rect l="textAreaLeft" t="textAreaTop" r="textAreaRight" b="textAreaBottom"/>
                  <a:pathLst>
                    <a:path w="372" h="959">
                      <a:moveTo>
                        <a:pt x="187" y="954"/>
                      </a:moveTo>
                      <a:cubicBezTo>
                        <a:pt x="170" y="959"/>
                        <a:pt x="117" y="945"/>
                        <a:pt x="91" y="936"/>
                      </a:cubicBezTo>
                      <a:cubicBezTo>
                        <a:pt x="65" y="927"/>
                        <a:pt x="43" y="912"/>
                        <a:pt x="28" y="900"/>
                      </a:cubicBezTo>
                      <a:cubicBezTo>
                        <a:pt x="13" y="888"/>
                        <a:pt x="0" y="881"/>
                        <a:pt x="1" y="867"/>
                      </a:cubicBezTo>
                      <a:cubicBezTo>
                        <a:pt x="2" y="853"/>
                        <a:pt x="24" y="849"/>
                        <a:pt x="34" y="816"/>
                      </a:cubicBezTo>
                      <a:cubicBezTo>
                        <a:pt x="44" y="783"/>
                        <a:pt x="58" y="734"/>
                        <a:pt x="64" y="669"/>
                      </a:cubicBezTo>
                      <a:cubicBezTo>
                        <a:pt x="70" y="604"/>
                        <a:pt x="40" y="533"/>
                        <a:pt x="73" y="423"/>
                      </a:cubicBezTo>
                      <a:cubicBezTo>
                        <a:pt x="106" y="313"/>
                        <a:pt x="244" y="0"/>
                        <a:pt x="265" y="6"/>
                      </a:cubicBezTo>
                      <a:cubicBezTo>
                        <a:pt x="286" y="12"/>
                        <a:pt x="257" y="141"/>
                        <a:pt x="265" y="162"/>
                      </a:cubicBezTo>
                      <a:cubicBezTo>
                        <a:pt x="273" y="183"/>
                        <a:pt x="307" y="118"/>
                        <a:pt x="316" y="132"/>
                      </a:cubicBezTo>
                      <a:cubicBezTo>
                        <a:pt x="325" y="146"/>
                        <a:pt x="311" y="234"/>
                        <a:pt x="319" y="249"/>
                      </a:cubicBezTo>
                      <a:cubicBezTo>
                        <a:pt x="327" y="264"/>
                        <a:pt x="359" y="205"/>
                        <a:pt x="361" y="225"/>
                      </a:cubicBezTo>
                      <a:cubicBezTo>
                        <a:pt x="363" y="245"/>
                        <a:pt x="329" y="348"/>
                        <a:pt x="331" y="369"/>
                      </a:cubicBezTo>
                      <a:cubicBezTo>
                        <a:pt x="333" y="390"/>
                        <a:pt x="368" y="327"/>
                        <a:pt x="370" y="351"/>
                      </a:cubicBezTo>
                      <a:cubicBezTo>
                        <a:pt x="372" y="375"/>
                        <a:pt x="359" y="466"/>
                        <a:pt x="343" y="516"/>
                      </a:cubicBezTo>
                      <a:cubicBezTo>
                        <a:pt x="327" y="566"/>
                        <a:pt x="282" y="627"/>
                        <a:pt x="277" y="648"/>
                      </a:cubicBezTo>
                      <a:cubicBezTo>
                        <a:pt x="272" y="669"/>
                        <a:pt x="304" y="627"/>
                        <a:pt x="313" y="642"/>
                      </a:cubicBezTo>
                      <a:cubicBezTo>
                        <a:pt x="322" y="657"/>
                        <a:pt x="254" y="721"/>
                        <a:pt x="247" y="741"/>
                      </a:cubicBezTo>
                      <a:cubicBezTo>
                        <a:pt x="240" y="761"/>
                        <a:pt x="290" y="734"/>
                        <a:pt x="271" y="762"/>
                      </a:cubicBezTo>
                      <a:cubicBezTo>
                        <a:pt x="252" y="790"/>
                        <a:pt x="142" y="888"/>
                        <a:pt x="130" y="912"/>
                      </a:cubicBezTo>
                      <a:cubicBezTo>
                        <a:pt x="118" y="936"/>
                        <a:pt x="187" y="900"/>
                        <a:pt x="196" y="906"/>
                      </a:cubicBezTo>
                      <a:cubicBezTo>
                        <a:pt x="193" y="936"/>
                        <a:pt x="204" y="949"/>
                        <a:pt x="187" y="954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91"/>
                <p:cNvSpPr/>
                <p:nvPr/>
              </p:nvSpPr>
              <p:spPr>
                <a:xfrm>
                  <a:off x="11368800" y="6319080"/>
                  <a:ext cx="234000" cy="858600"/>
                </a:xfrm>
                <a:custGeom>
                  <a:avLst/>
                  <a:gdLst>
                    <a:gd name="textAreaLeft" fmla="*/ 0 w 234000"/>
                    <a:gd name="textAreaRight" fmla="*/ 234360 w 234000"/>
                    <a:gd name="textAreaTop" fmla="*/ 0 h 858600"/>
                    <a:gd name="textAreaBottom" fmla="*/ 858960 h 858600"/>
                  </a:gdLst>
                  <a:ahLst/>
                  <a:rect l="textAreaLeft" t="textAreaTop" r="textAreaRight" b="textAreaBottom"/>
                  <a:pathLst>
                    <a:path w="121" h="443">
                      <a:moveTo>
                        <a:pt x="68" y="2"/>
                      </a:moveTo>
                      <a:cubicBezTo>
                        <a:pt x="72" y="0"/>
                        <a:pt x="76" y="32"/>
                        <a:pt x="74" y="50"/>
                      </a:cubicBezTo>
                      <a:cubicBezTo>
                        <a:pt x="72" y="68"/>
                        <a:pt x="65" y="95"/>
                        <a:pt x="56" y="110"/>
                      </a:cubicBezTo>
                      <a:cubicBezTo>
                        <a:pt x="74" y="107"/>
                        <a:pt x="88" y="91"/>
                        <a:pt x="95" y="101"/>
                      </a:cubicBezTo>
                      <a:cubicBezTo>
                        <a:pt x="102" y="111"/>
                        <a:pt x="101" y="145"/>
                        <a:pt x="98" y="170"/>
                      </a:cubicBezTo>
                      <a:cubicBezTo>
                        <a:pt x="95" y="195"/>
                        <a:pt x="92" y="224"/>
                        <a:pt x="74" y="251"/>
                      </a:cubicBezTo>
                      <a:cubicBezTo>
                        <a:pt x="89" y="248"/>
                        <a:pt x="111" y="226"/>
                        <a:pt x="116" y="233"/>
                      </a:cubicBezTo>
                      <a:cubicBezTo>
                        <a:pt x="121" y="240"/>
                        <a:pt x="109" y="277"/>
                        <a:pt x="104" y="293"/>
                      </a:cubicBezTo>
                      <a:cubicBezTo>
                        <a:pt x="99" y="309"/>
                        <a:pt x="84" y="322"/>
                        <a:pt x="83" y="332"/>
                      </a:cubicBezTo>
                      <a:cubicBezTo>
                        <a:pt x="82" y="342"/>
                        <a:pt x="102" y="343"/>
                        <a:pt x="98" y="356"/>
                      </a:cubicBezTo>
                      <a:cubicBezTo>
                        <a:pt x="94" y="369"/>
                        <a:pt x="73" y="397"/>
                        <a:pt x="59" y="410"/>
                      </a:cubicBezTo>
                      <a:cubicBezTo>
                        <a:pt x="45" y="423"/>
                        <a:pt x="14" y="443"/>
                        <a:pt x="14" y="437"/>
                      </a:cubicBezTo>
                      <a:cubicBezTo>
                        <a:pt x="14" y="431"/>
                        <a:pt x="54" y="389"/>
                        <a:pt x="56" y="371"/>
                      </a:cubicBezTo>
                      <a:cubicBezTo>
                        <a:pt x="58" y="353"/>
                        <a:pt x="30" y="351"/>
                        <a:pt x="26" y="326"/>
                      </a:cubicBezTo>
                      <a:cubicBezTo>
                        <a:pt x="22" y="301"/>
                        <a:pt x="36" y="248"/>
                        <a:pt x="32" y="221"/>
                      </a:cubicBezTo>
                      <a:cubicBezTo>
                        <a:pt x="28" y="194"/>
                        <a:pt x="0" y="187"/>
                        <a:pt x="2" y="161"/>
                      </a:cubicBezTo>
                      <a:cubicBezTo>
                        <a:pt x="4" y="135"/>
                        <a:pt x="36" y="89"/>
                        <a:pt x="47" y="62"/>
                      </a:cubicBezTo>
                      <a:cubicBezTo>
                        <a:pt x="58" y="35"/>
                        <a:pt x="64" y="4"/>
                        <a:pt x="68" y="2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92"/>
                <p:cNvSpPr/>
                <p:nvPr/>
              </p:nvSpPr>
              <p:spPr>
                <a:xfrm>
                  <a:off x="11176920" y="7256880"/>
                  <a:ext cx="255600" cy="23436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132" h="121">
                      <a:moveTo>
                        <a:pt x="110" y="1"/>
                      </a:moveTo>
                      <a:cubicBezTo>
                        <a:pt x="115" y="2"/>
                        <a:pt x="132" y="20"/>
                        <a:pt x="131" y="28"/>
                      </a:cubicBezTo>
                      <a:cubicBezTo>
                        <a:pt x="130" y="36"/>
                        <a:pt x="104" y="40"/>
                        <a:pt x="101" y="49"/>
                      </a:cubicBezTo>
                      <a:cubicBezTo>
                        <a:pt x="98" y="58"/>
                        <a:pt x="120" y="71"/>
                        <a:pt x="113" y="82"/>
                      </a:cubicBezTo>
                      <a:cubicBezTo>
                        <a:pt x="106" y="93"/>
                        <a:pt x="80" y="109"/>
                        <a:pt x="62" y="115"/>
                      </a:cubicBezTo>
                      <a:cubicBezTo>
                        <a:pt x="44" y="121"/>
                        <a:pt x="4" y="119"/>
                        <a:pt x="2" y="118"/>
                      </a:cubicBezTo>
                      <a:cubicBezTo>
                        <a:pt x="0" y="117"/>
                        <a:pt x="37" y="111"/>
                        <a:pt x="50" y="106"/>
                      </a:cubicBezTo>
                      <a:cubicBezTo>
                        <a:pt x="63" y="101"/>
                        <a:pt x="82" y="95"/>
                        <a:pt x="83" y="85"/>
                      </a:cubicBezTo>
                      <a:cubicBezTo>
                        <a:pt x="84" y="75"/>
                        <a:pt x="57" y="57"/>
                        <a:pt x="59" y="46"/>
                      </a:cubicBezTo>
                      <a:cubicBezTo>
                        <a:pt x="61" y="35"/>
                        <a:pt x="90" y="28"/>
                        <a:pt x="98" y="19"/>
                      </a:cubicBezTo>
                      <a:cubicBezTo>
                        <a:pt x="106" y="10"/>
                        <a:pt x="105" y="0"/>
                        <a:pt x="110" y="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Oval 193"/>
              <p:cNvSpPr/>
              <p:nvPr/>
            </p:nvSpPr>
            <p:spPr>
              <a:xfrm>
                <a:off x="10276200" y="7282800"/>
                <a:ext cx="20880" cy="208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94"/>
            <p:cNvSpPr/>
            <p:nvPr/>
          </p:nvSpPr>
          <p:spPr>
            <a:xfrm>
              <a:off x="9379080" y="4775040"/>
              <a:ext cx="3790440" cy="47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9379080" y="4775040"/>
            <a:ext cx="3790440" cy="4790880"/>
            <a:chOff x="9379080" y="4775040"/>
            <a:chExt cx="3790440" cy="4790880"/>
          </a:xfrm>
        </p:grpSpPr>
        <p:grpSp>
          <p:nvGrpSpPr>
            <p:cNvPr id="235" name=""/>
            <p:cNvGrpSpPr/>
            <p:nvPr/>
          </p:nvGrpSpPr>
          <p:grpSpPr>
            <a:xfrm>
              <a:off x="9987480" y="7211160"/>
              <a:ext cx="2738880" cy="1820520"/>
              <a:chOff x="9987480" y="7211160"/>
              <a:chExt cx="2738880" cy="18205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1246760" y="7682040"/>
                <a:ext cx="916200" cy="956520"/>
                <a:chOff x="11246760" y="7682040"/>
                <a:chExt cx="916200" cy="956520"/>
              </a:xfrm>
            </p:grpSpPr>
            <p:sp>
              <p:nvSpPr>
                <p:cNvPr id="237" name="Freeform 198"/>
                <p:cNvSpPr/>
                <p:nvPr/>
              </p:nvSpPr>
              <p:spPr>
                <a:xfrm>
                  <a:off x="11300040" y="7784280"/>
                  <a:ext cx="862920" cy="854280"/>
                </a:xfrm>
                <a:custGeom>
                  <a:avLst/>
                  <a:gdLst>
                    <a:gd name="textAreaLeft" fmla="*/ 0 w 862920"/>
                    <a:gd name="textAreaRight" fmla="*/ 863280 w 862920"/>
                    <a:gd name="textAreaTop" fmla="*/ 0 h 854280"/>
                    <a:gd name="textAreaBottom" fmla="*/ 854640 h 854280"/>
                  </a:gdLst>
                  <a:ahLst/>
                  <a:rect l="textAreaLeft" t="textAreaTop" r="textAreaRight" b="textAreaBottom"/>
                  <a:pathLst>
                    <a:path w="370" h="367">
                      <a:moveTo>
                        <a:pt x="296" y="20"/>
                      </a:moveTo>
                      <a:cubicBezTo>
                        <a:pt x="311" y="28"/>
                        <a:pt x="321" y="33"/>
                        <a:pt x="333" y="48"/>
                      </a:cubicBezTo>
                      <a:cubicBezTo>
                        <a:pt x="345" y="63"/>
                        <a:pt x="362" y="92"/>
                        <a:pt x="366" y="113"/>
                      </a:cubicBezTo>
                      <a:cubicBezTo>
                        <a:pt x="370" y="134"/>
                        <a:pt x="359" y="169"/>
                        <a:pt x="355" y="177"/>
                      </a:cubicBezTo>
                      <a:cubicBezTo>
                        <a:pt x="351" y="185"/>
                        <a:pt x="342" y="155"/>
                        <a:pt x="340" y="159"/>
                      </a:cubicBezTo>
                      <a:cubicBezTo>
                        <a:pt x="338" y="163"/>
                        <a:pt x="343" y="185"/>
                        <a:pt x="342" y="204"/>
                      </a:cubicBezTo>
                      <a:cubicBezTo>
                        <a:pt x="341" y="223"/>
                        <a:pt x="339" y="271"/>
                        <a:pt x="334" y="276"/>
                      </a:cubicBezTo>
                      <a:cubicBezTo>
                        <a:pt x="329" y="281"/>
                        <a:pt x="317" y="239"/>
                        <a:pt x="314" y="237"/>
                      </a:cubicBezTo>
                      <a:cubicBezTo>
                        <a:pt x="311" y="235"/>
                        <a:pt x="316" y="246"/>
                        <a:pt x="317" y="264"/>
                      </a:cubicBezTo>
                      <a:cubicBezTo>
                        <a:pt x="318" y="282"/>
                        <a:pt x="324" y="342"/>
                        <a:pt x="320" y="348"/>
                      </a:cubicBezTo>
                      <a:cubicBezTo>
                        <a:pt x="316" y="354"/>
                        <a:pt x="300" y="305"/>
                        <a:pt x="295" y="299"/>
                      </a:cubicBezTo>
                      <a:cubicBezTo>
                        <a:pt x="290" y="293"/>
                        <a:pt x="294" y="304"/>
                        <a:pt x="292" y="315"/>
                      </a:cubicBezTo>
                      <a:cubicBezTo>
                        <a:pt x="290" y="326"/>
                        <a:pt x="290" y="367"/>
                        <a:pt x="283" y="366"/>
                      </a:cubicBezTo>
                      <a:cubicBezTo>
                        <a:pt x="276" y="365"/>
                        <a:pt x="273" y="335"/>
                        <a:pt x="247" y="308"/>
                      </a:cubicBezTo>
                      <a:cubicBezTo>
                        <a:pt x="221" y="281"/>
                        <a:pt x="165" y="238"/>
                        <a:pt x="127" y="206"/>
                      </a:cubicBezTo>
                      <a:cubicBezTo>
                        <a:pt x="89" y="174"/>
                        <a:pt x="34" y="138"/>
                        <a:pt x="17" y="117"/>
                      </a:cubicBezTo>
                      <a:cubicBezTo>
                        <a:pt x="0" y="96"/>
                        <a:pt x="11" y="93"/>
                        <a:pt x="26" y="77"/>
                      </a:cubicBezTo>
                      <a:cubicBezTo>
                        <a:pt x="41" y="61"/>
                        <a:pt x="69" y="36"/>
                        <a:pt x="106" y="23"/>
                      </a:cubicBezTo>
                      <a:cubicBezTo>
                        <a:pt x="143" y="10"/>
                        <a:pt x="213" y="0"/>
                        <a:pt x="245" y="0"/>
                      </a:cubicBezTo>
                      <a:cubicBezTo>
                        <a:pt x="277" y="0"/>
                        <a:pt x="281" y="12"/>
                        <a:pt x="296" y="2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99"/>
                <p:cNvSpPr/>
                <p:nvPr/>
              </p:nvSpPr>
              <p:spPr>
                <a:xfrm>
                  <a:off x="11556360" y="7817040"/>
                  <a:ext cx="489960" cy="363240"/>
                </a:xfrm>
                <a:custGeom>
                  <a:avLst/>
                  <a:gdLst>
                    <a:gd name="textAreaLeft" fmla="*/ 0 w 489960"/>
                    <a:gd name="textAreaRight" fmla="*/ 490320 w 48996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210" h="156">
                      <a:moveTo>
                        <a:pt x="32" y="78"/>
                      </a:moveTo>
                      <a:cubicBezTo>
                        <a:pt x="50" y="83"/>
                        <a:pt x="97" y="59"/>
                        <a:pt x="116" y="61"/>
                      </a:cubicBezTo>
                      <a:cubicBezTo>
                        <a:pt x="135" y="63"/>
                        <a:pt x="141" y="75"/>
                        <a:pt x="147" y="90"/>
                      </a:cubicBezTo>
                      <a:cubicBezTo>
                        <a:pt x="153" y="105"/>
                        <a:pt x="150" y="150"/>
                        <a:pt x="153" y="153"/>
                      </a:cubicBezTo>
                      <a:cubicBezTo>
                        <a:pt x="156" y="156"/>
                        <a:pt x="160" y="126"/>
                        <a:pt x="164" y="108"/>
                      </a:cubicBezTo>
                      <a:cubicBezTo>
                        <a:pt x="168" y="90"/>
                        <a:pt x="174" y="57"/>
                        <a:pt x="179" y="43"/>
                      </a:cubicBezTo>
                      <a:cubicBezTo>
                        <a:pt x="184" y="29"/>
                        <a:pt x="210" y="29"/>
                        <a:pt x="195" y="22"/>
                      </a:cubicBezTo>
                      <a:cubicBezTo>
                        <a:pt x="180" y="15"/>
                        <a:pt x="118" y="0"/>
                        <a:pt x="87" y="1"/>
                      </a:cubicBezTo>
                      <a:cubicBezTo>
                        <a:pt x="56" y="2"/>
                        <a:pt x="18" y="14"/>
                        <a:pt x="9" y="28"/>
                      </a:cubicBezTo>
                      <a:cubicBezTo>
                        <a:pt x="0" y="42"/>
                        <a:pt x="14" y="73"/>
                        <a:pt x="32" y="78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200"/>
                <p:cNvSpPr/>
                <p:nvPr/>
              </p:nvSpPr>
              <p:spPr>
                <a:xfrm>
                  <a:off x="11246760" y="7740000"/>
                  <a:ext cx="831960" cy="218880"/>
                </a:xfrm>
                <a:custGeom>
                  <a:avLst/>
                  <a:gdLst>
                    <a:gd name="textAreaLeft" fmla="*/ 0 w 831960"/>
                    <a:gd name="textAreaRight" fmla="*/ 832320 w 8319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357" h="94">
                      <a:moveTo>
                        <a:pt x="27" y="46"/>
                      </a:moveTo>
                      <a:cubicBezTo>
                        <a:pt x="40" y="57"/>
                        <a:pt x="55" y="80"/>
                        <a:pt x="88" y="87"/>
                      </a:cubicBezTo>
                      <a:cubicBezTo>
                        <a:pt x="121" y="94"/>
                        <a:pt x="188" y="90"/>
                        <a:pt x="225" y="85"/>
                      </a:cubicBezTo>
                      <a:cubicBezTo>
                        <a:pt x="262" y="80"/>
                        <a:pt x="291" y="61"/>
                        <a:pt x="312" y="58"/>
                      </a:cubicBezTo>
                      <a:cubicBezTo>
                        <a:pt x="333" y="55"/>
                        <a:pt x="351" y="71"/>
                        <a:pt x="354" y="69"/>
                      </a:cubicBezTo>
                      <a:cubicBezTo>
                        <a:pt x="357" y="67"/>
                        <a:pt x="351" y="53"/>
                        <a:pt x="333" y="43"/>
                      </a:cubicBezTo>
                      <a:cubicBezTo>
                        <a:pt x="315" y="33"/>
                        <a:pt x="284" y="14"/>
                        <a:pt x="246" y="7"/>
                      </a:cubicBezTo>
                      <a:cubicBezTo>
                        <a:pt x="208" y="0"/>
                        <a:pt x="142" y="1"/>
                        <a:pt x="103" y="3"/>
                      </a:cubicBezTo>
                      <a:cubicBezTo>
                        <a:pt x="64" y="5"/>
                        <a:pt x="24" y="15"/>
                        <a:pt x="12" y="21"/>
                      </a:cubicBezTo>
                      <a:cubicBezTo>
                        <a:pt x="0" y="27"/>
                        <a:pt x="14" y="35"/>
                        <a:pt x="27" y="46"/>
                      </a:cubicBezTo>
                      <a:close/>
                    </a:path>
                  </a:pathLst>
                </a:custGeom>
                <a:solidFill>
                  <a:srgbClr val="d2d9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01"/>
                <p:cNvSpPr/>
                <p:nvPr/>
              </p:nvSpPr>
              <p:spPr>
                <a:xfrm>
                  <a:off x="11325960" y="7682040"/>
                  <a:ext cx="739080" cy="209520"/>
                </a:xfrm>
                <a:custGeom>
                  <a:avLst/>
                  <a:gdLst>
                    <a:gd name="textAreaLeft" fmla="*/ 0 w 739080"/>
                    <a:gd name="textAreaRight" fmla="*/ 739440 w 7390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317" h="90">
                      <a:moveTo>
                        <a:pt x="20" y="5"/>
                      </a:moveTo>
                      <a:cubicBezTo>
                        <a:pt x="40" y="2"/>
                        <a:pt x="115" y="0"/>
                        <a:pt x="147" y="2"/>
                      </a:cubicBezTo>
                      <a:cubicBezTo>
                        <a:pt x="179" y="4"/>
                        <a:pt x="189" y="9"/>
                        <a:pt x="215" y="19"/>
                      </a:cubicBezTo>
                      <a:cubicBezTo>
                        <a:pt x="241" y="29"/>
                        <a:pt x="283" y="51"/>
                        <a:pt x="300" y="62"/>
                      </a:cubicBezTo>
                      <a:cubicBezTo>
                        <a:pt x="317" y="73"/>
                        <a:pt x="317" y="86"/>
                        <a:pt x="317" y="88"/>
                      </a:cubicBezTo>
                      <a:cubicBezTo>
                        <a:pt x="317" y="90"/>
                        <a:pt x="312" y="79"/>
                        <a:pt x="302" y="77"/>
                      </a:cubicBezTo>
                      <a:cubicBezTo>
                        <a:pt x="292" y="75"/>
                        <a:pt x="276" y="71"/>
                        <a:pt x="258" y="73"/>
                      </a:cubicBezTo>
                      <a:cubicBezTo>
                        <a:pt x="240" y="75"/>
                        <a:pt x="216" y="89"/>
                        <a:pt x="191" y="88"/>
                      </a:cubicBezTo>
                      <a:cubicBezTo>
                        <a:pt x="166" y="87"/>
                        <a:pt x="134" y="75"/>
                        <a:pt x="107" y="64"/>
                      </a:cubicBezTo>
                      <a:cubicBezTo>
                        <a:pt x="80" y="53"/>
                        <a:pt x="40" y="29"/>
                        <a:pt x="26" y="20"/>
                      </a:cubicBezTo>
                      <a:cubicBezTo>
                        <a:pt x="12" y="11"/>
                        <a:pt x="0" y="8"/>
                        <a:pt x="2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10140120" y="7211160"/>
                <a:ext cx="2586240" cy="1820520"/>
                <a:chOff x="10140120" y="7211160"/>
                <a:chExt cx="2586240" cy="18205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10140120" y="7228440"/>
                  <a:ext cx="293760" cy="163800"/>
                  <a:chOff x="10140120" y="7228440"/>
                  <a:chExt cx="293760" cy="163800"/>
                </a:xfrm>
              </p:grpSpPr>
              <p:sp>
                <p:nvSpPr>
                  <p:cNvPr id="243" name="Freeform 204"/>
                  <p:cNvSpPr/>
                  <p:nvPr/>
                </p:nvSpPr>
                <p:spPr>
                  <a:xfrm>
                    <a:off x="10180800" y="7228440"/>
                    <a:ext cx="253080" cy="162000"/>
                  </a:xfrm>
                  <a:custGeom>
                    <a:avLst/>
                    <a:gdLst>
                      <a:gd name="textAreaLeft" fmla="*/ 0 w 253080"/>
                      <a:gd name="textAreaRight" fmla="*/ 253440 w 253080"/>
                      <a:gd name="textAreaTop" fmla="*/ 0 h 162000"/>
                      <a:gd name="textAreaBottom" fmla="*/ 162000 h 162000"/>
                    </a:gdLst>
                    <a:ahLst/>
                    <a:rect l="textAreaLeft" t="textAreaTop" r="textAreaRight" b="textAreaBottom"/>
                    <a:pathLst>
                      <a:path w="131" h="84">
                        <a:moveTo>
                          <a:pt x="107" y="81"/>
                        </a:moveTo>
                        <a:cubicBezTo>
                          <a:pt x="91" y="78"/>
                          <a:pt x="46" y="44"/>
                          <a:pt x="29" y="35"/>
                        </a:cubicBezTo>
                        <a:cubicBezTo>
                          <a:pt x="12" y="26"/>
                          <a:pt x="0" y="32"/>
                          <a:pt x="2" y="27"/>
                        </a:cubicBezTo>
                        <a:cubicBezTo>
                          <a:pt x="4" y="22"/>
                          <a:pt x="27" y="9"/>
                          <a:pt x="41" y="6"/>
                        </a:cubicBezTo>
                        <a:cubicBezTo>
                          <a:pt x="55" y="3"/>
                          <a:pt x="70" y="0"/>
                          <a:pt x="84" y="8"/>
                        </a:cubicBezTo>
                        <a:cubicBezTo>
                          <a:pt x="98" y="16"/>
                          <a:pt x="125" y="42"/>
                          <a:pt x="128" y="54"/>
                        </a:cubicBezTo>
                        <a:cubicBezTo>
                          <a:pt x="131" y="66"/>
                          <a:pt x="123" y="84"/>
                          <a:pt x="107" y="81"/>
                        </a:cubicBezTo>
                        <a:close/>
                      </a:path>
                    </a:pathLst>
                  </a:custGeom>
                  <a:solidFill>
                    <a:srgbClr val="91a9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205"/>
                  <p:cNvSpPr/>
                  <p:nvPr/>
                </p:nvSpPr>
                <p:spPr>
                  <a:xfrm>
                    <a:off x="10140120" y="7243560"/>
                    <a:ext cx="276840" cy="129600"/>
                  </a:xfrm>
                  <a:custGeom>
                    <a:avLst/>
                    <a:gdLst>
                      <a:gd name="textAreaLeft" fmla="*/ 0 w 276840"/>
                      <a:gd name="textAreaRight" fmla="*/ 277200 w 276840"/>
                      <a:gd name="textAreaTop" fmla="*/ 0 h 129600"/>
                      <a:gd name="textAreaBottom" fmla="*/ 129960 h 129600"/>
                    </a:gdLst>
                    <a:ahLst/>
                    <a:rect l="textAreaLeft" t="textAreaTop" r="textAreaRight" b="textAreaBottom"/>
                    <a:pathLst>
                      <a:path w="143" h="67">
                        <a:moveTo>
                          <a:pt x="110" y="4"/>
                        </a:moveTo>
                        <a:cubicBezTo>
                          <a:pt x="99" y="3"/>
                          <a:pt x="56" y="11"/>
                          <a:pt x="47" y="10"/>
                        </a:cubicBezTo>
                        <a:cubicBezTo>
                          <a:pt x="38" y="9"/>
                          <a:pt x="59" y="0"/>
                          <a:pt x="54" y="1"/>
                        </a:cubicBezTo>
                        <a:cubicBezTo>
                          <a:pt x="49" y="2"/>
                          <a:pt x="27" y="12"/>
                          <a:pt x="18" y="16"/>
                        </a:cubicBezTo>
                        <a:cubicBezTo>
                          <a:pt x="9" y="20"/>
                          <a:pt x="0" y="24"/>
                          <a:pt x="2" y="28"/>
                        </a:cubicBezTo>
                        <a:cubicBezTo>
                          <a:pt x="4" y="32"/>
                          <a:pt x="18" y="35"/>
                          <a:pt x="30" y="40"/>
                        </a:cubicBezTo>
                        <a:cubicBezTo>
                          <a:pt x="42" y="45"/>
                          <a:pt x="59" y="57"/>
                          <a:pt x="77" y="60"/>
                        </a:cubicBezTo>
                        <a:cubicBezTo>
                          <a:pt x="95" y="63"/>
                          <a:pt x="131" y="67"/>
                          <a:pt x="137" y="60"/>
                        </a:cubicBezTo>
                        <a:cubicBezTo>
                          <a:pt x="143" y="53"/>
                          <a:pt x="115" y="27"/>
                          <a:pt x="111" y="18"/>
                        </a:cubicBezTo>
                        <a:cubicBezTo>
                          <a:pt x="107" y="9"/>
                          <a:pt x="121" y="5"/>
                          <a:pt x="110" y="4"/>
                        </a:cubicBezTo>
                        <a:close/>
                      </a:path>
                    </a:pathLst>
                  </a:custGeom>
                  <a:solidFill>
                    <a:srgbClr val="506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206"/>
                  <p:cNvSpPr/>
                  <p:nvPr/>
                </p:nvSpPr>
                <p:spPr>
                  <a:xfrm>
                    <a:off x="10143720" y="7284240"/>
                    <a:ext cx="263160" cy="108000"/>
                  </a:xfrm>
                  <a:custGeom>
                    <a:avLst/>
                    <a:gdLst>
                      <a:gd name="textAreaLeft" fmla="*/ 0 w 263160"/>
                      <a:gd name="textAreaRight" fmla="*/ 263520 w 2631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136" h="56">
                        <a:moveTo>
                          <a:pt x="103" y="55"/>
                        </a:moveTo>
                        <a:cubicBezTo>
                          <a:pt x="90" y="56"/>
                          <a:pt x="66" y="40"/>
                          <a:pt x="52" y="34"/>
                        </a:cubicBezTo>
                        <a:cubicBezTo>
                          <a:pt x="38" y="28"/>
                          <a:pt x="16" y="17"/>
                          <a:pt x="16" y="16"/>
                        </a:cubicBezTo>
                        <a:cubicBezTo>
                          <a:pt x="16" y="15"/>
                          <a:pt x="39" y="24"/>
                          <a:pt x="52" y="25"/>
                        </a:cubicBezTo>
                        <a:cubicBezTo>
                          <a:pt x="65" y="26"/>
                          <a:pt x="100" y="25"/>
                          <a:pt x="97" y="22"/>
                        </a:cubicBezTo>
                        <a:cubicBezTo>
                          <a:pt x="94" y="19"/>
                          <a:pt x="46" y="9"/>
                          <a:pt x="31" y="7"/>
                        </a:cubicBezTo>
                        <a:cubicBezTo>
                          <a:pt x="16" y="5"/>
                          <a:pt x="0" y="8"/>
                          <a:pt x="7" y="7"/>
                        </a:cubicBezTo>
                        <a:cubicBezTo>
                          <a:pt x="14" y="6"/>
                          <a:pt x="53" y="0"/>
                          <a:pt x="73" y="4"/>
                        </a:cubicBezTo>
                        <a:cubicBezTo>
                          <a:pt x="93" y="8"/>
                          <a:pt x="124" y="24"/>
                          <a:pt x="130" y="31"/>
                        </a:cubicBezTo>
                        <a:cubicBezTo>
                          <a:pt x="136" y="38"/>
                          <a:pt x="116" y="54"/>
                          <a:pt x="103" y="55"/>
                        </a:cubicBezTo>
                        <a:close/>
                      </a:path>
                    </a:pathLst>
                  </a:custGeom>
                  <a:solidFill>
                    <a:srgbClr val="3a4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6" name="Freeform 207"/>
                <p:cNvSpPr/>
                <p:nvPr/>
              </p:nvSpPr>
              <p:spPr>
                <a:xfrm>
                  <a:off x="10263960" y="7228440"/>
                  <a:ext cx="2043720" cy="1803240"/>
                </a:xfrm>
                <a:custGeom>
                  <a:avLst/>
                  <a:gdLst>
                    <a:gd name="textAreaLeft" fmla="*/ 0 w 2043720"/>
                    <a:gd name="textAreaRight" fmla="*/ 2044080 w 2043720"/>
                    <a:gd name="textAreaTop" fmla="*/ 0 h 1803240"/>
                    <a:gd name="textAreaBottom" fmla="*/ 1803600 h 1803240"/>
                  </a:gdLst>
                  <a:ahLst/>
                  <a:rect l="textAreaLeft" t="textAreaTop" r="textAreaRight" b="textAreaBottom"/>
                  <a:pathLst>
                    <a:path w="1055" h="931">
                      <a:moveTo>
                        <a:pt x="167" y="42"/>
                      </a:moveTo>
                      <a:cubicBezTo>
                        <a:pt x="94" y="0"/>
                        <a:pt x="61" y="42"/>
                        <a:pt x="35" y="48"/>
                      </a:cubicBezTo>
                      <a:cubicBezTo>
                        <a:pt x="9" y="54"/>
                        <a:pt x="0" y="63"/>
                        <a:pt x="8" y="78"/>
                      </a:cubicBezTo>
                      <a:cubicBezTo>
                        <a:pt x="16" y="93"/>
                        <a:pt x="57" y="122"/>
                        <a:pt x="80" y="141"/>
                      </a:cubicBezTo>
                      <a:cubicBezTo>
                        <a:pt x="103" y="160"/>
                        <a:pt x="125" y="160"/>
                        <a:pt x="146" y="189"/>
                      </a:cubicBezTo>
                      <a:cubicBezTo>
                        <a:pt x="167" y="218"/>
                        <a:pt x="180" y="274"/>
                        <a:pt x="206" y="315"/>
                      </a:cubicBezTo>
                      <a:cubicBezTo>
                        <a:pt x="232" y="356"/>
                        <a:pt x="254" y="395"/>
                        <a:pt x="302" y="435"/>
                      </a:cubicBezTo>
                      <a:cubicBezTo>
                        <a:pt x="350" y="475"/>
                        <a:pt x="436" y="520"/>
                        <a:pt x="497" y="552"/>
                      </a:cubicBezTo>
                      <a:cubicBezTo>
                        <a:pt x="558" y="584"/>
                        <a:pt x="632" y="610"/>
                        <a:pt x="668" y="627"/>
                      </a:cubicBezTo>
                      <a:cubicBezTo>
                        <a:pt x="704" y="644"/>
                        <a:pt x="695" y="636"/>
                        <a:pt x="710" y="654"/>
                      </a:cubicBezTo>
                      <a:cubicBezTo>
                        <a:pt x="725" y="672"/>
                        <a:pt x="738" y="704"/>
                        <a:pt x="758" y="738"/>
                      </a:cubicBezTo>
                      <a:cubicBezTo>
                        <a:pt x="778" y="772"/>
                        <a:pt x="812" y="829"/>
                        <a:pt x="833" y="858"/>
                      </a:cubicBezTo>
                      <a:cubicBezTo>
                        <a:pt x="854" y="887"/>
                        <a:pt x="877" y="908"/>
                        <a:pt x="884" y="912"/>
                      </a:cubicBezTo>
                      <a:cubicBezTo>
                        <a:pt x="891" y="916"/>
                        <a:pt x="887" y="899"/>
                        <a:pt x="878" y="882"/>
                      </a:cubicBezTo>
                      <a:cubicBezTo>
                        <a:pt x="869" y="865"/>
                        <a:pt x="823" y="802"/>
                        <a:pt x="830" y="807"/>
                      </a:cubicBezTo>
                      <a:cubicBezTo>
                        <a:pt x="837" y="812"/>
                        <a:pt x="898" y="893"/>
                        <a:pt x="920" y="912"/>
                      </a:cubicBezTo>
                      <a:cubicBezTo>
                        <a:pt x="942" y="931"/>
                        <a:pt x="955" y="923"/>
                        <a:pt x="962" y="921"/>
                      </a:cubicBezTo>
                      <a:cubicBezTo>
                        <a:pt x="969" y="919"/>
                        <a:pt x="956" y="897"/>
                        <a:pt x="962" y="897"/>
                      </a:cubicBezTo>
                      <a:cubicBezTo>
                        <a:pt x="968" y="897"/>
                        <a:pt x="984" y="918"/>
                        <a:pt x="998" y="921"/>
                      </a:cubicBezTo>
                      <a:cubicBezTo>
                        <a:pt x="1012" y="924"/>
                        <a:pt x="1040" y="919"/>
                        <a:pt x="1046" y="915"/>
                      </a:cubicBezTo>
                      <a:cubicBezTo>
                        <a:pt x="1052" y="911"/>
                        <a:pt x="1055" y="919"/>
                        <a:pt x="1034" y="894"/>
                      </a:cubicBezTo>
                      <a:cubicBezTo>
                        <a:pt x="1013" y="869"/>
                        <a:pt x="935" y="800"/>
                        <a:pt x="917" y="765"/>
                      </a:cubicBezTo>
                      <a:cubicBezTo>
                        <a:pt x="899" y="730"/>
                        <a:pt x="937" y="712"/>
                        <a:pt x="926" y="684"/>
                      </a:cubicBezTo>
                      <a:cubicBezTo>
                        <a:pt x="915" y="656"/>
                        <a:pt x="926" y="660"/>
                        <a:pt x="851" y="597"/>
                      </a:cubicBezTo>
                      <a:cubicBezTo>
                        <a:pt x="776" y="534"/>
                        <a:pt x="590" y="395"/>
                        <a:pt x="476" y="303"/>
                      </a:cubicBezTo>
                      <a:cubicBezTo>
                        <a:pt x="362" y="211"/>
                        <a:pt x="240" y="84"/>
                        <a:pt x="167" y="42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208"/>
                <p:cNvSpPr/>
                <p:nvPr/>
              </p:nvSpPr>
              <p:spPr>
                <a:xfrm>
                  <a:off x="10254240" y="7211160"/>
                  <a:ext cx="2472120" cy="1797840"/>
                </a:xfrm>
                <a:custGeom>
                  <a:avLst/>
                  <a:gdLst>
                    <a:gd name="textAreaLeft" fmla="*/ 0 w 2472120"/>
                    <a:gd name="textAreaRight" fmla="*/ 2472480 w 2472120"/>
                    <a:gd name="textAreaTop" fmla="*/ 0 h 1797840"/>
                    <a:gd name="textAreaBottom" fmla="*/ 1798200 h 1797840"/>
                  </a:gdLst>
                  <a:ahLst/>
                  <a:rect l="textAreaLeft" t="textAreaTop" r="textAreaRight" b="textAreaBottom"/>
                  <a:pathLst>
                    <a:path w="1276" h="928">
                      <a:moveTo>
                        <a:pt x="208" y="39"/>
                      </a:moveTo>
                      <a:cubicBezTo>
                        <a:pt x="134" y="10"/>
                        <a:pt x="122" y="11"/>
                        <a:pt x="91" y="6"/>
                      </a:cubicBezTo>
                      <a:cubicBezTo>
                        <a:pt x="60" y="1"/>
                        <a:pt x="34" y="0"/>
                        <a:pt x="19" y="9"/>
                      </a:cubicBezTo>
                      <a:cubicBezTo>
                        <a:pt x="4" y="18"/>
                        <a:pt x="0" y="44"/>
                        <a:pt x="1" y="60"/>
                      </a:cubicBezTo>
                      <a:cubicBezTo>
                        <a:pt x="2" y="76"/>
                        <a:pt x="6" y="93"/>
                        <a:pt x="25" y="105"/>
                      </a:cubicBezTo>
                      <a:cubicBezTo>
                        <a:pt x="44" y="117"/>
                        <a:pt x="87" y="117"/>
                        <a:pt x="115" y="132"/>
                      </a:cubicBezTo>
                      <a:cubicBezTo>
                        <a:pt x="143" y="147"/>
                        <a:pt x="173" y="178"/>
                        <a:pt x="193" y="198"/>
                      </a:cubicBezTo>
                      <a:cubicBezTo>
                        <a:pt x="213" y="218"/>
                        <a:pt x="230" y="250"/>
                        <a:pt x="238" y="255"/>
                      </a:cubicBezTo>
                      <a:cubicBezTo>
                        <a:pt x="246" y="260"/>
                        <a:pt x="237" y="242"/>
                        <a:pt x="241" y="228"/>
                      </a:cubicBezTo>
                      <a:cubicBezTo>
                        <a:pt x="245" y="214"/>
                        <a:pt x="260" y="168"/>
                        <a:pt x="265" y="168"/>
                      </a:cubicBezTo>
                      <a:cubicBezTo>
                        <a:pt x="270" y="168"/>
                        <a:pt x="270" y="211"/>
                        <a:pt x="274" y="231"/>
                      </a:cubicBezTo>
                      <a:cubicBezTo>
                        <a:pt x="278" y="251"/>
                        <a:pt x="265" y="258"/>
                        <a:pt x="286" y="288"/>
                      </a:cubicBezTo>
                      <a:cubicBezTo>
                        <a:pt x="307" y="318"/>
                        <a:pt x="352" y="372"/>
                        <a:pt x="400" y="411"/>
                      </a:cubicBezTo>
                      <a:cubicBezTo>
                        <a:pt x="448" y="450"/>
                        <a:pt x="531" y="495"/>
                        <a:pt x="577" y="522"/>
                      </a:cubicBezTo>
                      <a:cubicBezTo>
                        <a:pt x="623" y="549"/>
                        <a:pt x="656" y="559"/>
                        <a:pt x="679" y="573"/>
                      </a:cubicBezTo>
                      <a:cubicBezTo>
                        <a:pt x="702" y="587"/>
                        <a:pt x="696" y="599"/>
                        <a:pt x="715" y="609"/>
                      </a:cubicBezTo>
                      <a:cubicBezTo>
                        <a:pt x="734" y="619"/>
                        <a:pt x="770" y="629"/>
                        <a:pt x="793" y="633"/>
                      </a:cubicBezTo>
                      <a:cubicBezTo>
                        <a:pt x="816" y="637"/>
                        <a:pt x="851" y="632"/>
                        <a:pt x="856" y="636"/>
                      </a:cubicBezTo>
                      <a:cubicBezTo>
                        <a:pt x="861" y="640"/>
                        <a:pt x="836" y="650"/>
                        <a:pt x="826" y="657"/>
                      </a:cubicBezTo>
                      <a:cubicBezTo>
                        <a:pt x="816" y="664"/>
                        <a:pt x="792" y="665"/>
                        <a:pt x="796" y="678"/>
                      </a:cubicBezTo>
                      <a:cubicBezTo>
                        <a:pt x="800" y="691"/>
                        <a:pt x="819" y="702"/>
                        <a:pt x="850" y="735"/>
                      </a:cubicBezTo>
                      <a:cubicBezTo>
                        <a:pt x="881" y="768"/>
                        <a:pt x="948" y="843"/>
                        <a:pt x="979" y="873"/>
                      </a:cubicBezTo>
                      <a:cubicBezTo>
                        <a:pt x="1010" y="903"/>
                        <a:pt x="1022" y="909"/>
                        <a:pt x="1036" y="918"/>
                      </a:cubicBezTo>
                      <a:cubicBezTo>
                        <a:pt x="1050" y="927"/>
                        <a:pt x="1055" y="927"/>
                        <a:pt x="1063" y="927"/>
                      </a:cubicBezTo>
                      <a:cubicBezTo>
                        <a:pt x="1071" y="927"/>
                        <a:pt x="1075" y="928"/>
                        <a:pt x="1084" y="918"/>
                      </a:cubicBezTo>
                      <a:cubicBezTo>
                        <a:pt x="1071" y="902"/>
                        <a:pt x="989" y="827"/>
                        <a:pt x="988" y="828"/>
                      </a:cubicBezTo>
                      <a:cubicBezTo>
                        <a:pt x="987" y="829"/>
                        <a:pt x="1069" y="902"/>
                        <a:pt x="1093" y="912"/>
                      </a:cubicBezTo>
                      <a:cubicBezTo>
                        <a:pt x="1107" y="896"/>
                        <a:pt x="1111" y="902"/>
                        <a:pt x="1132" y="888"/>
                      </a:cubicBezTo>
                      <a:cubicBezTo>
                        <a:pt x="1103" y="874"/>
                        <a:pt x="1034" y="822"/>
                        <a:pt x="1036" y="822"/>
                      </a:cubicBezTo>
                      <a:cubicBezTo>
                        <a:pt x="1038" y="822"/>
                        <a:pt x="1113" y="870"/>
                        <a:pt x="1147" y="891"/>
                      </a:cubicBezTo>
                      <a:cubicBezTo>
                        <a:pt x="1185" y="890"/>
                        <a:pt x="1203" y="882"/>
                        <a:pt x="1246" y="879"/>
                      </a:cubicBezTo>
                      <a:cubicBezTo>
                        <a:pt x="1227" y="856"/>
                        <a:pt x="1120" y="779"/>
                        <a:pt x="1123" y="777"/>
                      </a:cubicBezTo>
                      <a:cubicBezTo>
                        <a:pt x="1126" y="775"/>
                        <a:pt x="1236" y="858"/>
                        <a:pt x="1261" y="867"/>
                      </a:cubicBezTo>
                      <a:cubicBezTo>
                        <a:pt x="1269" y="856"/>
                        <a:pt x="1273" y="852"/>
                        <a:pt x="1276" y="837"/>
                      </a:cubicBezTo>
                      <a:cubicBezTo>
                        <a:pt x="1243" y="808"/>
                        <a:pt x="1124" y="732"/>
                        <a:pt x="1060" y="690"/>
                      </a:cubicBezTo>
                      <a:cubicBezTo>
                        <a:pt x="996" y="648"/>
                        <a:pt x="935" y="623"/>
                        <a:pt x="892" y="588"/>
                      </a:cubicBezTo>
                      <a:cubicBezTo>
                        <a:pt x="849" y="553"/>
                        <a:pt x="835" y="521"/>
                        <a:pt x="802" y="477"/>
                      </a:cubicBezTo>
                      <a:cubicBezTo>
                        <a:pt x="769" y="433"/>
                        <a:pt x="735" y="373"/>
                        <a:pt x="691" y="324"/>
                      </a:cubicBezTo>
                      <a:cubicBezTo>
                        <a:pt x="647" y="275"/>
                        <a:pt x="619" y="230"/>
                        <a:pt x="538" y="182"/>
                      </a:cubicBezTo>
                      <a:cubicBezTo>
                        <a:pt x="457" y="134"/>
                        <a:pt x="282" y="68"/>
                        <a:pt x="208" y="39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209"/>
                <p:cNvSpPr/>
                <p:nvPr/>
              </p:nvSpPr>
              <p:spPr>
                <a:xfrm>
                  <a:off x="10281240" y="7281000"/>
                  <a:ext cx="20880" cy="20880"/>
                </a:xfrm>
                <a:prstGeom prst="ellipse">
                  <a:avLst/>
                </a:prstGeom>
                <a:solidFill>
                  <a:srgbClr val="3540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680" bIns="-31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9987480" y="7277040"/>
                <a:ext cx="1638720" cy="1036080"/>
                <a:chOff x="9987480" y="7277040"/>
                <a:chExt cx="1638720" cy="1036080"/>
              </a:xfrm>
            </p:grpSpPr>
            <p:sp>
              <p:nvSpPr>
                <p:cNvPr id="250" name="Freeform 211"/>
                <p:cNvSpPr/>
                <p:nvPr/>
              </p:nvSpPr>
              <p:spPr>
                <a:xfrm>
                  <a:off x="11084040" y="7351200"/>
                  <a:ext cx="542160" cy="619200"/>
                </a:xfrm>
                <a:custGeom>
                  <a:avLst/>
                  <a:gdLst>
                    <a:gd name="textAreaLeft" fmla="*/ 0 w 542160"/>
                    <a:gd name="textAreaRight" fmla="*/ 542520 w 54216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33" h="266">
                      <a:moveTo>
                        <a:pt x="48" y="8"/>
                      </a:moveTo>
                      <a:cubicBezTo>
                        <a:pt x="69" y="15"/>
                        <a:pt x="110" y="37"/>
                        <a:pt x="133" y="55"/>
                      </a:cubicBezTo>
                      <a:cubicBezTo>
                        <a:pt x="156" y="73"/>
                        <a:pt x="175" y="102"/>
                        <a:pt x="187" y="116"/>
                      </a:cubicBezTo>
                      <a:cubicBezTo>
                        <a:pt x="199" y="130"/>
                        <a:pt x="204" y="135"/>
                        <a:pt x="204" y="139"/>
                      </a:cubicBezTo>
                      <a:cubicBezTo>
                        <a:pt x="204" y="143"/>
                        <a:pt x="189" y="138"/>
                        <a:pt x="189" y="140"/>
                      </a:cubicBezTo>
                      <a:cubicBezTo>
                        <a:pt x="189" y="142"/>
                        <a:pt x="200" y="144"/>
                        <a:pt x="207" y="149"/>
                      </a:cubicBezTo>
                      <a:cubicBezTo>
                        <a:pt x="214" y="154"/>
                        <a:pt x="231" y="166"/>
                        <a:pt x="232" y="170"/>
                      </a:cubicBezTo>
                      <a:cubicBezTo>
                        <a:pt x="233" y="174"/>
                        <a:pt x="221" y="173"/>
                        <a:pt x="214" y="172"/>
                      </a:cubicBezTo>
                      <a:cubicBezTo>
                        <a:pt x="207" y="171"/>
                        <a:pt x="193" y="160"/>
                        <a:pt x="192" y="161"/>
                      </a:cubicBezTo>
                      <a:cubicBezTo>
                        <a:pt x="191" y="162"/>
                        <a:pt x="201" y="169"/>
                        <a:pt x="207" y="178"/>
                      </a:cubicBezTo>
                      <a:cubicBezTo>
                        <a:pt x="213" y="187"/>
                        <a:pt x="227" y="209"/>
                        <a:pt x="228" y="217"/>
                      </a:cubicBezTo>
                      <a:cubicBezTo>
                        <a:pt x="229" y="225"/>
                        <a:pt x="219" y="224"/>
                        <a:pt x="214" y="224"/>
                      </a:cubicBezTo>
                      <a:cubicBezTo>
                        <a:pt x="209" y="224"/>
                        <a:pt x="200" y="217"/>
                        <a:pt x="198" y="218"/>
                      </a:cubicBezTo>
                      <a:cubicBezTo>
                        <a:pt x="196" y="219"/>
                        <a:pt x="201" y="222"/>
                        <a:pt x="202" y="229"/>
                      </a:cubicBezTo>
                      <a:cubicBezTo>
                        <a:pt x="203" y="236"/>
                        <a:pt x="207" y="260"/>
                        <a:pt x="204" y="263"/>
                      </a:cubicBezTo>
                      <a:cubicBezTo>
                        <a:pt x="201" y="266"/>
                        <a:pt x="193" y="254"/>
                        <a:pt x="186" y="248"/>
                      </a:cubicBezTo>
                      <a:cubicBezTo>
                        <a:pt x="179" y="242"/>
                        <a:pt x="165" y="226"/>
                        <a:pt x="159" y="224"/>
                      </a:cubicBezTo>
                      <a:cubicBezTo>
                        <a:pt x="153" y="222"/>
                        <a:pt x="149" y="232"/>
                        <a:pt x="147" y="238"/>
                      </a:cubicBezTo>
                      <a:cubicBezTo>
                        <a:pt x="145" y="244"/>
                        <a:pt x="148" y="258"/>
                        <a:pt x="145" y="259"/>
                      </a:cubicBezTo>
                      <a:cubicBezTo>
                        <a:pt x="142" y="260"/>
                        <a:pt x="133" y="245"/>
                        <a:pt x="127" y="244"/>
                      </a:cubicBezTo>
                      <a:cubicBezTo>
                        <a:pt x="121" y="243"/>
                        <a:pt x="113" y="255"/>
                        <a:pt x="108" y="254"/>
                      </a:cubicBezTo>
                      <a:cubicBezTo>
                        <a:pt x="103" y="253"/>
                        <a:pt x="102" y="243"/>
                        <a:pt x="96" y="235"/>
                      </a:cubicBezTo>
                      <a:cubicBezTo>
                        <a:pt x="90" y="227"/>
                        <a:pt x="79" y="215"/>
                        <a:pt x="69" y="203"/>
                      </a:cubicBezTo>
                      <a:cubicBezTo>
                        <a:pt x="59" y="191"/>
                        <a:pt x="46" y="180"/>
                        <a:pt x="36" y="160"/>
                      </a:cubicBezTo>
                      <a:cubicBezTo>
                        <a:pt x="26" y="140"/>
                        <a:pt x="12" y="105"/>
                        <a:pt x="7" y="80"/>
                      </a:cubicBezTo>
                      <a:cubicBezTo>
                        <a:pt x="2" y="55"/>
                        <a:pt x="0" y="26"/>
                        <a:pt x="7" y="13"/>
                      </a:cubicBezTo>
                      <a:cubicBezTo>
                        <a:pt x="14" y="0"/>
                        <a:pt x="27" y="1"/>
                        <a:pt x="48" y="8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212"/>
                <p:cNvSpPr/>
                <p:nvPr/>
              </p:nvSpPr>
              <p:spPr>
                <a:xfrm>
                  <a:off x="9996840" y="7395840"/>
                  <a:ext cx="1424520" cy="917280"/>
                </a:xfrm>
                <a:custGeom>
                  <a:avLst/>
                  <a:gdLst>
                    <a:gd name="textAreaLeft" fmla="*/ 0 w 1424520"/>
                    <a:gd name="textAreaRight" fmla="*/ 1424880 w 1424520"/>
                    <a:gd name="textAreaTop" fmla="*/ 0 h 917280"/>
                    <a:gd name="textAreaBottom" fmla="*/ 917640 h 917280"/>
                  </a:gdLst>
                  <a:ahLst/>
                  <a:rect l="textAreaLeft" t="textAreaTop" r="textAreaRight" b="textAreaBottom"/>
                  <a:pathLst>
                    <a:path w="612" h="394">
                      <a:moveTo>
                        <a:pt x="119" y="186"/>
                      </a:moveTo>
                      <a:cubicBezTo>
                        <a:pt x="100" y="206"/>
                        <a:pt x="72" y="254"/>
                        <a:pt x="53" y="283"/>
                      </a:cubicBezTo>
                      <a:cubicBezTo>
                        <a:pt x="34" y="312"/>
                        <a:pt x="6" y="351"/>
                        <a:pt x="3" y="361"/>
                      </a:cubicBezTo>
                      <a:cubicBezTo>
                        <a:pt x="0" y="371"/>
                        <a:pt x="36" y="341"/>
                        <a:pt x="38" y="345"/>
                      </a:cubicBezTo>
                      <a:cubicBezTo>
                        <a:pt x="40" y="349"/>
                        <a:pt x="17" y="382"/>
                        <a:pt x="17" y="388"/>
                      </a:cubicBezTo>
                      <a:cubicBezTo>
                        <a:pt x="17" y="394"/>
                        <a:pt x="26" y="390"/>
                        <a:pt x="41" y="382"/>
                      </a:cubicBezTo>
                      <a:cubicBezTo>
                        <a:pt x="56" y="374"/>
                        <a:pt x="89" y="354"/>
                        <a:pt x="107" y="342"/>
                      </a:cubicBezTo>
                      <a:cubicBezTo>
                        <a:pt x="125" y="330"/>
                        <a:pt x="136" y="319"/>
                        <a:pt x="147" y="309"/>
                      </a:cubicBezTo>
                      <a:cubicBezTo>
                        <a:pt x="158" y="299"/>
                        <a:pt x="175" y="280"/>
                        <a:pt x="174" y="283"/>
                      </a:cubicBezTo>
                      <a:cubicBezTo>
                        <a:pt x="173" y="286"/>
                        <a:pt x="150" y="313"/>
                        <a:pt x="141" y="325"/>
                      </a:cubicBezTo>
                      <a:cubicBezTo>
                        <a:pt x="132" y="337"/>
                        <a:pt x="119" y="350"/>
                        <a:pt x="120" y="354"/>
                      </a:cubicBezTo>
                      <a:cubicBezTo>
                        <a:pt x="121" y="358"/>
                        <a:pt x="135" y="352"/>
                        <a:pt x="147" y="348"/>
                      </a:cubicBezTo>
                      <a:cubicBezTo>
                        <a:pt x="159" y="344"/>
                        <a:pt x="177" y="336"/>
                        <a:pt x="194" y="327"/>
                      </a:cubicBezTo>
                      <a:cubicBezTo>
                        <a:pt x="211" y="318"/>
                        <a:pt x="235" y="300"/>
                        <a:pt x="248" y="292"/>
                      </a:cubicBezTo>
                      <a:cubicBezTo>
                        <a:pt x="261" y="284"/>
                        <a:pt x="272" y="276"/>
                        <a:pt x="272" y="279"/>
                      </a:cubicBezTo>
                      <a:cubicBezTo>
                        <a:pt x="272" y="282"/>
                        <a:pt x="253" y="304"/>
                        <a:pt x="248" y="312"/>
                      </a:cubicBezTo>
                      <a:cubicBezTo>
                        <a:pt x="243" y="320"/>
                        <a:pt x="236" y="330"/>
                        <a:pt x="240" y="330"/>
                      </a:cubicBezTo>
                      <a:cubicBezTo>
                        <a:pt x="244" y="330"/>
                        <a:pt x="262" y="321"/>
                        <a:pt x="275" y="312"/>
                      </a:cubicBezTo>
                      <a:cubicBezTo>
                        <a:pt x="288" y="303"/>
                        <a:pt x="306" y="289"/>
                        <a:pt x="321" y="277"/>
                      </a:cubicBezTo>
                      <a:cubicBezTo>
                        <a:pt x="336" y="265"/>
                        <a:pt x="355" y="248"/>
                        <a:pt x="366" y="238"/>
                      </a:cubicBezTo>
                      <a:cubicBezTo>
                        <a:pt x="377" y="228"/>
                        <a:pt x="382" y="216"/>
                        <a:pt x="384" y="217"/>
                      </a:cubicBezTo>
                      <a:cubicBezTo>
                        <a:pt x="386" y="218"/>
                        <a:pt x="378" y="234"/>
                        <a:pt x="377" y="243"/>
                      </a:cubicBezTo>
                      <a:cubicBezTo>
                        <a:pt x="376" y="252"/>
                        <a:pt x="372" y="272"/>
                        <a:pt x="378" y="273"/>
                      </a:cubicBezTo>
                      <a:cubicBezTo>
                        <a:pt x="384" y="274"/>
                        <a:pt x="400" y="262"/>
                        <a:pt x="413" y="247"/>
                      </a:cubicBezTo>
                      <a:cubicBezTo>
                        <a:pt x="426" y="232"/>
                        <a:pt x="445" y="204"/>
                        <a:pt x="455" y="184"/>
                      </a:cubicBezTo>
                      <a:cubicBezTo>
                        <a:pt x="465" y="164"/>
                        <a:pt x="468" y="144"/>
                        <a:pt x="471" y="129"/>
                      </a:cubicBezTo>
                      <a:cubicBezTo>
                        <a:pt x="474" y="114"/>
                        <a:pt x="469" y="89"/>
                        <a:pt x="473" y="97"/>
                      </a:cubicBezTo>
                      <a:cubicBezTo>
                        <a:pt x="477" y="105"/>
                        <a:pt x="492" y="157"/>
                        <a:pt x="497" y="175"/>
                      </a:cubicBezTo>
                      <a:cubicBezTo>
                        <a:pt x="502" y="193"/>
                        <a:pt x="502" y="209"/>
                        <a:pt x="504" y="208"/>
                      </a:cubicBezTo>
                      <a:cubicBezTo>
                        <a:pt x="506" y="207"/>
                        <a:pt x="508" y="190"/>
                        <a:pt x="509" y="171"/>
                      </a:cubicBezTo>
                      <a:cubicBezTo>
                        <a:pt x="510" y="152"/>
                        <a:pt x="510" y="112"/>
                        <a:pt x="510" y="96"/>
                      </a:cubicBezTo>
                      <a:cubicBezTo>
                        <a:pt x="510" y="80"/>
                        <a:pt x="506" y="72"/>
                        <a:pt x="510" y="76"/>
                      </a:cubicBezTo>
                      <a:cubicBezTo>
                        <a:pt x="514" y="80"/>
                        <a:pt x="529" y="104"/>
                        <a:pt x="537" y="121"/>
                      </a:cubicBezTo>
                      <a:cubicBezTo>
                        <a:pt x="545" y="138"/>
                        <a:pt x="553" y="178"/>
                        <a:pt x="557" y="177"/>
                      </a:cubicBezTo>
                      <a:cubicBezTo>
                        <a:pt x="561" y="176"/>
                        <a:pt x="564" y="129"/>
                        <a:pt x="564" y="112"/>
                      </a:cubicBezTo>
                      <a:cubicBezTo>
                        <a:pt x="564" y="95"/>
                        <a:pt x="553" y="76"/>
                        <a:pt x="555" y="72"/>
                      </a:cubicBezTo>
                      <a:cubicBezTo>
                        <a:pt x="557" y="68"/>
                        <a:pt x="571" y="81"/>
                        <a:pt x="579" y="90"/>
                      </a:cubicBezTo>
                      <a:cubicBezTo>
                        <a:pt x="587" y="99"/>
                        <a:pt x="598" y="127"/>
                        <a:pt x="603" y="127"/>
                      </a:cubicBezTo>
                      <a:cubicBezTo>
                        <a:pt x="608" y="127"/>
                        <a:pt x="608" y="101"/>
                        <a:pt x="608" y="87"/>
                      </a:cubicBezTo>
                      <a:cubicBezTo>
                        <a:pt x="608" y="73"/>
                        <a:pt x="612" y="54"/>
                        <a:pt x="602" y="43"/>
                      </a:cubicBezTo>
                      <a:cubicBezTo>
                        <a:pt x="592" y="32"/>
                        <a:pt x="577" y="23"/>
                        <a:pt x="549" y="18"/>
                      </a:cubicBezTo>
                      <a:cubicBezTo>
                        <a:pt x="521" y="13"/>
                        <a:pt x="471" y="0"/>
                        <a:pt x="431" y="13"/>
                      </a:cubicBezTo>
                      <a:cubicBezTo>
                        <a:pt x="391" y="26"/>
                        <a:pt x="352" y="69"/>
                        <a:pt x="308" y="94"/>
                      </a:cubicBezTo>
                      <a:cubicBezTo>
                        <a:pt x="264" y="119"/>
                        <a:pt x="198" y="150"/>
                        <a:pt x="168" y="165"/>
                      </a:cubicBezTo>
                      <a:cubicBezTo>
                        <a:pt x="138" y="180"/>
                        <a:pt x="138" y="166"/>
                        <a:pt x="119" y="186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213"/>
                <p:cNvSpPr/>
                <p:nvPr/>
              </p:nvSpPr>
              <p:spPr>
                <a:xfrm>
                  <a:off x="9987480" y="7277040"/>
                  <a:ext cx="1555560" cy="992160"/>
                </a:xfrm>
                <a:custGeom>
                  <a:avLst/>
                  <a:gdLst>
                    <a:gd name="textAreaLeft" fmla="*/ 0 w 1555560"/>
                    <a:gd name="textAreaRight" fmla="*/ 1555920 w 1555560"/>
                    <a:gd name="textAreaTop" fmla="*/ 0 h 992160"/>
                    <a:gd name="textAreaBottom" fmla="*/ 992520 h 992160"/>
                  </a:gdLst>
                  <a:ahLst/>
                  <a:rect l="textAreaLeft" t="textAreaTop" r="textAreaRight" b="textAreaBottom"/>
                  <a:pathLst>
                    <a:path w="668" h="426">
                      <a:moveTo>
                        <a:pt x="447" y="1"/>
                      </a:moveTo>
                      <a:cubicBezTo>
                        <a:pt x="417" y="2"/>
                        <a:pt x="380" y="6"/>
                        <a:pt x="339" y="28"/>
                      </a:cubicBezTo>
                      <a:cubicBezTo>
                        <a:pt x="298" y="50"/>
                        <a:pt x="243" y="93"/>
                        <a:pt x="201" y="132"/>
                      </a:cubicBezTo>
                      <a:cubicBezTo>
                        <a:pt x="159" y="171"/>
                        <a:pt x="111" y="231"/>
                        <a:pt x="85" y="261"/>
                      </a:cubicBezTo>
                      <a:cubicBezTo>
                        <a:pt x="59" y="291"/>
                        <a:pt x="58" y="293"/>
                        <a:pt x="48" y="310"/>
                      </a:cubicBezTo>
                      <a:cubicBezTo>
                        <a:pt x="38" y="327"/>
                        <a:pt x="32" y="345"/>
                        <a:pt x="24" y="363"/>
                      </a:cubicBezTo>
                      <a:cubicBezTo>
                        <a:pt x="16" y="381"/>
                        <a:pt x="2" y="410"/>
                        <a:pt x="1" y="418"/>
                      </a:cubicBezTo>
                      <a:cubicBezTo>
                        <a:pt x="0" y="426"/>
                        <a:pt x="5" y="424"/>
                        <a:pt x="16" y="412"/>
                      </a:cubicBezTo>
                      <a:cubicBezTo>
                        <a:pt x="27" y="400"/>
                        <a:pt x="55" y="365"/>
                        <a:pt x="69" y="346"/>
                      </a:cubicBezTo>
                      <a:cubicBezTo>
                        <a:pt x="83" y="327"/>
                        <a:pt x="107" y="291"/>
                        <a:pt x="102" y="300"/>
                      </a:cubicBezTo>
                      <a:cubicBezTo>
                        <a:pt x="97" y="309"/>
                        <a:pt x="51" y="382"/>
                        <a:pt x="39" y="403"/>
                      </a:cubicBezTo>
                      <a:cubicBezTo>
                        <a:pt x="27" y="424"/>
                        <a:pt x="27" y="426"/>
                        <a:pt x="30" y="426"/>
                      </a:cubicBezTo>
                      <a:cubicBezTo>
                        <a:pt x="33" y="426"/>
                        <a:pt x="39" y="419"/>
                        <a:pt x="58" y="403"/>
                      </a:cubicBezTo>
                      <a:cubicBezTo>
                        <a:pt x="77" y="387"/>
                        <a:pt x="121" y="351"/>
                        <a:pt x="144" y="333"/>
                      </a:cubicBezTo>
                      <a:cubicBezTo>
                        <a:pt x="167" y="315"/>
                        <a:pt x="180" y="305"/>
                        <a:pt x="195" y="295"/>
                      </a:cubicBezTo>
                      <a:cubicBezTo>
                        <a:pt x="210" y="285"/>
                        <a:pt x="229" y="273"/>
                        <a:pt x="232" y="274"/>
                      </a:cubicBezTo>
                      <a:cubicBezTo>
                        <a:pt x="235" y="275"/>
                        <a:pt x="222" y="291"/>
                        <a:pt x="213" y="304"/>
                      </a:cubicBezTo>
                      <a:cubicBezTo>
                        <a:pt x="204" y="317"/>
                        <a:pt x="177" y="350"/>
                        <a:pt x="178" y="355"/>
                      </a:cubicBezTo>
                      <a:cubicBezTo>
                        <a:pt x="179" y="360"/>
                        <a:pt x="197" y="353"/>
                        <a:pt x="220" y="337"/>
                      </a:cubicBezTo>
                      <a:cubicBezTo>
                        <a:pt x="243" y="321"/>
                        <a:pt x="294" y="275"/>
                        <a:pt x="316" y="259"/>
                      </a:cubicBezTo>
                      <a:cubicBezTo>
                        <a:pt x="338" y="243"/>
                        <a:pt x="345" y="235"/>
                        <a:pt x="351" y="238"/>
                      </a:cubicBezTo>
                      <a:cubicBezTo>
                        <a:pt x="357" y="241"/>
                        <a:pt x="348" y="270"/>
                        <a:pt x="351" y="276"/>
                      </a:cubicBezTo>
                      <a:cubicBezTo>
                        <a:pt x="354" y="282"/>
                        <a:pt x="359" y="285"/>
                        <a:pt x="369" y="277"/>
                      </a:cubicBezTo>
                      <a:cubicBezTo>
                        <a:pt x="379" y="269"/>
                        <a:pt x="397" y="249"/>
                        <a:pt x="411" y="229"/>
                      </a:cubicBezTo>
                      <a:cubicBezTo>
                        <a:pt x="425" y="209"/>
                        <a:pt x="449" y="180"/>
                        <a:pt x="456" y="159"/>
                      </a:cubicBezTo>
                      <a:cubicBezTo>
                        <a:pt x="463" y="138"/>
                        <a:pt x="448" y="103"/>
                        <a:pt x="454" y="100"/>
                      </a:cubicBezTo>
                      <a:cubicBezTo>
                        <a:pt x="460" y="97"/>
                        <a:pt x="488" y="141"/>
                        <a:pt x="495" y="141"/>
                      </a:cubicBezTo>
                      <a:cubicBezTo>
                        <a:pt x="502" y="141"/>
                        <a:pt x="490" y="97"/>
                        <a:pt x="499" y="97"/>
                      </a:cubicBezTo>
                      <a:cubicBezTo>
                        <a:pt x="508" y="97"/>
                        <a:pt x="541" y="134"/>
                        <a:pt x="552" y="142"/>
                      </a:cubicBezTo>
                      <a:cubicBezTo>
                        <a:pt x="563" y="150"/>
                        <a:pt x="565" y="152"/>
                        <a:pt x="567" y="148"/>
                      </a:cubicBezTo>
                      <a:cubicBezTo>
                        <a:pt x="569" y="144"/>
                        <a:pt x="566" y="130"/>
                        <a:pt x="564" y="120"/>
                      </a:cubicBezTo>
                      <a:cubicBezTo>
                        <a:pt x="562" y="110"/>
                        <a:pt x="548" y="87"/>
                        <a:pt x="552" y="85"/>
                      </a:cubicBezTo>
                      <a:cubicBezTo>
                        <a:pt x="556" y="83"/>
                        <a:pt x="577" y="107"/>
                        <a:pt x="586" y="111"/>
                      </a:cubicBezTo>
                      <a:cubicBezTo>
                        <a:pt x="595" y="115"/>
                        <a:pt x="599" y="109"/>
                        <a:pt x="604" y="109"/>
                      </a:cubicBezTo>
                      <a:cubicBezTo>
                        <a:pt x="609" y="109"/>
                        <a:pt x="608" y="103"/>
                        <a:pt x="618" y="111"/>
                      </a:cubicBezTo>
                      <a:cubicBezTo>
                        <a:pt x="628" y="119"/>
                        <a:pt x="664" y="157"/>
                        <a:pt x="666" y="156"/>
                      </a:cubicBezTo>
                      <a:cubicBezTo>
                        <a:pt x="668" y="155"/>
                        <a:pt x="645" y="120"/>
                        <a:pt x="631" y="105"/>
                      </a:cubicBezTo>
                      <a:cubicBezTo>
                        <a:pt x="617" y="90"/>
                        <a:pt x="601" y="76"/>
                        <a:pt x="582" y="63"/>
                      </a:cubicBezTo>
                      <a:cubicBezTo>
                        <a:pt x="563" y="50"/>
                        <a:pt x="541" y="34"/>
                        <a:pt x="519" y="24"/>
                      </a:cubicBezTo>
                      <a:cubicBezTo>
                        <a:pt x="497" y="14"/>
                        <a:pt x="477" y="0"/>
                        <a:pt x="447" y="1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Rectangle 214"/>
            <p:cNvSpPr/>
            <p:nvPr/>
          </p:nvSpPr>
          <p:spPr>
            <a:xfrm>
              <a:off x="9379080" y="4775040"/>
              <a:ext cx="3790440" cy="47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379080" y="4775040"/>
            <a:ext cx="3790440" cy="4790880"/>
            <a:chOff x="9379080" y="4775040"/>
            <a:chExt cx="3790440" cy="4790880"/>
          </a:xfrm>
        </p:grpSpPr>
        <p:grpSp>
          <p:nvGrpSpPr>
            <p:cNvPr id="255" name=""/>
            <p:cNvGrpSpPr/>
            <p:nvPr/>
          </p:nvGrpSpPr>
          <p:grpSpPr>
            <a:xfrm>
              <a:off x="9646560" y="7212960"/>
              <a:ext cx="3075120" cy="2109960"/>
              <a:chOff x="9646560" y="7212960"/>
              <a:chExt cx="3075120" cy="210996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10420200" y="7273800"/>
                <a:ext cx="198360" cy="129240"/>
                <a:chOff x="10420200" y="7273800"/>
                <a:chExt cx="198360" cy="129240"/>
              </a:xfrm>
            </p:grpSpPr>
            <p:sp>
              <p:nvSpPr>
                <p:cNvPr id="257" name="Freeform 218"/>
                <p:cNvSpPr/>
                <p:nvPr/>
              </p:nvSpPr>
              <p:spPr>
                <a:xfrm rot="603000">
                  <a:off x="10450800" y="7286760"/>
                  <a:ext cx="159840" cy="102960"/>
                </a:xfrm>
                <a:custGeom>
                  <a:avLst/>
                  <a:gdLst>
                    <a:gd name="textAreaLeft" fmla="*/ 0 w 159840"/>
                    <a:gd name="textAreaRight" fmla="*/ 160200 w 15984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19"/>
                <p:cNvSpPr/>
                <p:nvPr/>
              </p:nvSpPr>
              <p:spPr>
                <a:xfrm rot="603000">
                  <a:off x="10425960" y="7293240"/>
                  <a:ext cx="174960" cy="82440"/>
                </a:xfrm>
                <a:custGeom>
                  <a:avLst/>
                  <a:gdLst>
                    <a:gd name="textAreaLeft" fmla="*/ 0 w 174960"/>
                    <a:gd name="textAreaRight" fmla="*/ 175320 w 17496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20"/>
                <p:cNvSpPr/>
                <p:nvPr/>
              </p:nvSpPr>
              <p:spPr>
                <a:xfrm rot="603000">
                  <a:off x="10424520" y="7318440"/>
                  <a:ext cx="166320" cy="68760"/>
                </a:xfrm>
                <a:custGeom>
                  <a:avLst/>
                  <a:gdLst>
                    <a:gd name="textAreaLeft" fmla="*/ 0 w 166320"/>
                    <a:gd name="textAreaRight" fmla="*/ 166680 w 16632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0871280" y="7709040"/>
                <a:ext cx="565560" cy="1613880"/>
                <a:chOff x="10871280" y="7709040"/>
                <a:chExt cx="565560" cy="1613880"/>
              </a:xfrm>
            </p:grpSpPr>
            <p:sp>
              <p:nvSpPr>
                <p:cNvPr id="261" name="Freeform 222"/>
                <p:cNvSpPr/>
                <p:nvPr/>
              </p:nvSpPr>
              <p:spPr>
                <a:xfrm>
                  <a:off x="10871280" y="7709040"/>
                  <a:ext cx="565560" cy="1613880"/>
                </a:xfrm>
                <a:custGeom>
                  <a:avLst/>
                  <a:gdLst>
                    <a:gd name="textAreaLeft" fmla="*/ 0 w 565560"/>
                    <a:gd name="textAreaRight" fmla="*/ 565920 w 565560"/>
                    <a:gd name="textAreaTop" fmla="*/ 0 h 1613880"/>
                    <a:gd name="textAreaBottom" fmla="*/ 1614240 h 1613880"/>
                  </a:gdLst>
                  <a:ahLst/>
                  <a:rect l="textAreaLeft" t="textAreaTop" r="textAreaRight" b="textAreaBottom"/>
                  <a:pathLst>
                    <a:path w="256" h="730">
                      <a:moveTo>
                        <a:pt x="52" y="47"/>
                      </a:moveTo>
                      <a:cubicBezTo>
                        <a:pt x="42" y="94"/>
                        <a:pt x="50" y="230"/>
                        <a:pt x="44" y="309"/>
                      </a:cubicBezTo>
                      <a:cubicBezTo>
                        <a:pt x="38" y="388"/>
                        <a:pt x="21" y="467"/>
                        <a:pt x="14" y="523"/>
                      </a:cubicBezTo>
                      <a:cubicBezTo>
                        <a:pt x="7" y="579"/>
                        <a:pt x="0" y="629"/>
                        <a:pt x="2" y="643"/>
                      </a:cubicBezTo>
                      <a:cubicBezTo>
                        <a:pt x="4" y="657"/>
                        <a:pt x="26" y="603"/>
                        <a:pt x="28" y="605"/>
                      </a:cubicBezTo>
                      <a:cubicBezTo>
                        <a:pt x="30" y="607"/>
                        <a:pt x="17" y="635"/>
                        <a:pt x="14" y="653"/>
                      </a:cubicBezTo>
                      <a:cubicBezTo>
                        <a:pt x="11" y="671"/>
                        <a:pt x="10" y="702"/>
                        <a:pt x="12" y="713"/>
                      </a:cubicBezTo>
                      <a:cubicBezTo>
                        <a:pt x="14" y="724"/>
                        <a:pt x="18" y="730"/>
                        <a:pt x="24" y="721"/>
                      </a:cubicBezTo>
                      <a:cubicBezTo>
                        <a:pt x="30" y="712"/>
                        <a:pt x="44" y="663"/>
                        <a:pt x="46" y="661"/>
                      </a:cubicBezTo>
                      <a:cubicBezTo>
                        <a:pt x="48" y="659"/>
                        <a:pt x="38" y="706"/>
                        <a:pt x="40" y="711"/>
                      </a:cubicBezTo>
                      <a:cubicBezTo>
                        <a:pt x="42" y="716"/>
                        <a:pt x="54" y="705"/>
                        <a:pt x="60" y="693"/>
                      </a:cubicBezTo>
                      <a:cubicBezTo>
                        <a:pt x="66" y="681"/>
                        <a:pt x="69" y="663"/>
                        <a:pt x="74" y="641"/>
                      </a:cubicBezTo>
                      <a:cubicBezTo>
                        <a:pt x="79" y="619"/>
                        <a:pt x="86" y="579"/>
                        <a:pt x="90" y="561"/>
                      </a:cubicBezTo>
                      <a:cubicBezTo>
                        <a:pt x="94" y="543"/>
                        <a:pt x="94" y="528"/>
                        <a:pt x="96" y="533"/>
                      </a:cubicBezTo>
                      <a:cubicBezTo>
                        <a:pt x="98" y="538"/>
                        <a:pt x="98" y="573"/>
                        <a:pt x="100" y="591"/>
                      </a:cubicBezTo>
                      <a:cubicBezTo>
                        <a:pt x="102" y="609"/>
                        <a:pt x="103" y="636"/>
                        <a:pt x="106" y="639"/>
                      </a:cubicBezTo>
                      <a:cubicBezTo>
                        <a:pt x="109" y="642"/>
                        <a:pt x="114" y="624"/>
                        <a:pt x="118" y="611"/>
                      </a:cubicBezTo>
                      <a:cubicBezTo>
                        <a:pt x="122" y="598"/>
                        <a:pt x="127" y="580"/>
                        <a:pt x="130" y="563"/>
                      </a:cubicBezTo>
                      <a:cubicBezTo>
                        <a:pt x="133" y="546"/>
                        <a:pt x="135" y="508"/>
                        <a:pt x="138" y="507"/>
                      </a:cubicBezTo>
                      <a:cubicBezTo>
                        <a:pt x="141" y="506"/>
                        <a:pt x="142" y="550"/>
                        <a:pt x="146" y="555"/>
                      </a:cubicBezTo>
                      <a:cubicBezTo>
                        <a:pt x="150" y="560"/>
                        <a:pt x="159" y="549"/>
                        <a:pt x="164" y="539"/>
                      </a:cubicBezTo>
                      <a:cubicBezTo>
                        <a:pt x="169" y="529"/>
                        <a:pt x="172" y="516"/>
                        <a:pt x="174" y="495"/>
                      </a:cubicBezTo>
                      <a:cubicBezTo>
                        <a:pt x="176" y="474"/>
                        <a:pt x="175" y="420"/>
                        <a:pt x="176" y="411"/>
                      </a:cubicBezTo>
                      <a:cubicBezTo>
                        <a:pt x="177" y="402"/>
                        <a:pt x="179" y="439"/>
                        <a:pt x="182" y="443"/>
                      </a:cubicBezTo>
                      <a:cubicBezTo>
                        <a:pt x="185" y="447"/>
                        <a:pt x="191" y="430"/>
                        <a:pt x="194" y="433"/>
                      </a:cubicBezTo>
                      <a:cubicBezTo>
                        <a:pt x="197" y="436"/>
                        <a:pt x="198" y="460"/>
                        <a:pt x="200" y="459"/>
                      </a:cubicBezTo>
                      <a:cubicBezTo>
                        <a:pt x="202" y="458"/>
                        <a:pt x="204" y="444"/>
                        <a:pt x="206" y="427"/>
                      </a:cubicBezTo>
                      <a:cubicBezTo>
                        <a:pt x="208" y="410"/>
                        <a:pt x="209" y="373"/>
                        <a:pt x="210" y="357"/>
                      </a:cubicBezTo>
                      <a:cubicBezTo>
                        <a:pt x="211" y="341"/>
                        <a:pt x="209" y="338"/>
                        <a:pt x="210" y="331"/>
                      </a:cubicBezTo>
                      <a:cubicBezTo>
                        <a:pt x="211" y="324"/>
                        <a:pt x="218" y="324"/>
                        <a:pt x="218" y="317"/>
                      </a:cubicBezTo>
                      <a:cubicBezTo>
                        <a:pt x="218" y="310"/>
                        <a:pt x="209" y="299"/>
                        <a:pt x="212" y="289"/>
                      </a:cubicBezTo>
                      <a:cubicBezTo>
                        <a:pt x="215" y="279"/>
                        <a:pt x="230" y="276"/>
                        <a:pt x="236" y="255"/>
                      </a:cubicBezTo>
                      <a:cubicBezTo>
                        <a:pt x="242" y="234"/>
                        <a:pt x="256" y="187"/>
                        <a:pt x="246" y="161"/>
                      </a:cubicBezTo>
                      <a:cubicBezTo>
                        <a:pt x="236" y="135"/>
                        <a:pt x="199" y="122"/>
                        <a:pt x="176" y="99"/>
                      </a:cubicBezTo>
                      <a:cubicBezTo>
                        <a:pt x="153" y="76"/>
                        <a:pt x="126" y="33"/>
                        <a:pt x="106" y="25"/>
                      </a:cubicBezTo>
                      <a:cubicBezTo>
                        <a:pt x="86" y="17"/>
                        <a:pt x="62" y="0"/>
                        <a:pt x="52" y="47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223"/>
                <p:cNvSpPr/>
                <p:nvPr/>
              </p:nvSpPr>
              <p:spPr>
                <a:xfrm>
                  <a:off x="11030400" y="7890480"/>
                  <a:ext cx="379800" cy="7117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711720"/>
                    <a:gd name="textAreaBottom" fmla="*/ 712080 h 711720"/>
                  </a:gdLst>
                  <a:ahLst/>
                  <a:rect l="textAreaLeft" t="textAreaTop" r="textAreaRight" b="textAreaBottom"/>
                  <a:pathLst>
                    <a:path w="172" h="322">
                      <a:moveTo>
                        <a:pt x="46" y="21"/>
                      </a:moveTo>
                      <a:cubicBezTo>
                        <a:pt x="38" y="42"/>
                        <a:pt x="18" y="113"/>
                        <a:pt x="10" y="149"/>
                      </a:cubicBezTo>
                      <a:cubicBezTo>
                        <a:pt x="2" y="185"/>
                        <a:pt x="0" y="211"/>
                        <a:pt x="0" y="239"/>
                      </a:cubicBezTo>
                      <a:cubicBezTo>
                        <a:pt x="0" y="267"/>
                        <a:pt x="8" y="308"/>
                        <a:pt x="12" y="315"/>
                      </a:cubicBezTo>
                      <a:cubicBezTo>
                        <a:pt x="16" y="322"/>
                        <a:pt x="18" y="292"/>
                        <a:pt x="22" y="285"/>
                      </a:cubicBezTo>
                      <a:cubicBezTo>
                        <a:pt x="26" y="278"/>
                        <a:pt x="33" y="284"/>
                        <a:pt x="36" y="275"/>
                      </a:cubicBezTo>
                      <a:cubicBezTo>
                        <a:pt x="39" y="266"/>
                        <a:pt x="36" y="236"/>
                        <a:pt x="40" y="229"/>
                      </a:cubicBezTo>
                      <a:cubicBezTo>
                        <a:pt x="44" y="222"/>
                        <a:pt x="56" y="236"/>
                        <a:pt x="60" y="233"/>
                      </a:cubicBezTo>
                      <a:cubicBezTo>
                        <a:pt x="64" y="230"/>
                        <a:pt x="61" y="214"/>
                        <a:pt x="66" y="209"/>
                      </a:cubicBezTo>
                      <a:cubicBezTo>
                        <a:pt x="71" y="204"/>
                        <a:pt x="86" y="207"/>
                        <a:pt x="92" y="201"/>
                      </a:cubicBezTo>
                      <a:cubicBezTo>
                        <a:pt x="98" y="195"/>
                        <a:pt x="91" y="182"/>
                        <a:pt x="100" y="175"/>
                      </a:cubicBezTo>
                      <a:cubicBezTo>
                        <a:pt x="109" y="168"/>
                        <a:pt x="132" y="174"/>
                        <a:pt x="144" y="161"/>
                      </a:cubicBezTo>
                      <a:cubicBezTo>
                        <a:pt x="156" y="148"/>
                        <a:pt x="172" y="120"/>
                        <a:pt x="172" y="97"/>
                      </a:cubicBezTo>
                      <a:cubicBezTo>
                        <a:pt x="172" y="74"/>
                        <a:pt x="161" y="36"/>
                        <a:pt x="142" y="23"/>
                      </a:cubicBezTo>
                      <a:cubicBezTo>
                        <a:pt x="123" y="10"/>
                        <a:pt x="76" y="22"/>
                        <a:pt x="60" y="21"/>
                      </a:cubicBezTo>
                      <a:cubicBezTo>
                        <a:pt x="44" y="20"/>
                        <a:pt x="54" y="0"/>
                        <a:pt x="46" y="2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224"/>
              <p:cNvSpPr/>
              <p:nvPr/>
            </p:nvSpPr>
            <p:spPr>
              <a:xfrm>
                <a:off x="10531800" y="7321320"/>
                <a:ext cx="21240" cy="20880"/>
              </a:xfrm>
              <a:prstGeom prst="ellipse">
                <a:avLst/>
              </a:pr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0134720" y="7230240"/>
                <a:ext cx="294480" cy="163800"/>
                <a:chOff x="10134720" y="7230240"/>
                <a:chExt cx="294480" cy="163800"/>
              </a:xfrm>
            </p:grpSpPr>
            <p:sp>
              <p:nvSpPr>
                <p:cNvPr id="265" name="Freeform 226"/>
                <p:cNvSpPr/>
                <p:nvPr/>
              </p:nvSpPr>
              <p:spPr>
                <a:xfrm>
                  <a:off x="10175400" y="7230240"/>
                  <a:ext cx="253800" cy="16200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162000"/>
                    <a:gd name="textAreaBottom" fmla="*/ 162000 h 16200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27"/>
                <p:cNvSpPr/>
                <p:nvPr/>
              </p:nvSpPr>
              <p:spPr>
                <a:xfrm>
                  <a:off x="10134720" y="7245360"/>
                  <a:ext cx="277560" cy="129600"/>
                </a:xfrm>
                <a:custGeom>
                  <a:avLst/>
                  <a:gdLst>
                    <a:gd name="textAreaLeft" fmla="*/ 0 w 277560"/>
                    <a:gd name="textAreaRight" fmla="*/ 277920 w 277560"/>
                    <a:gd name="textAreaTop" fmla="*/ 0 h 129600"/>
                    <a:gd name="textAreaBottom" fmla="*/ 129960 h 12960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28"/>
                <p:cNvSpPr/>
                <p:nvPr/>
              </p:nvSpPr>
              <p:spPr>
                <a:xfrm>
                  <a:off x="10138320" y="7286040"/>
                  <a:ext cx="263880" cy="108000"/>
                </a:xfrm>
                <a:custGeom>
                  <a:avLst/>
                  <a:gdLst>
                    <a:gd name="textAreaLeft" fmla="*/ 0 w 263880"/>
                    <a:gd name="textAreaRight" fmla="*/ 264240 w 26388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Freeform 229"/>
              <p:cNvSpPr/>
              <p:nvPr/>
            </p:nvSpPr>
            <p:spPr>
              <a:xfrm>
                <a:off x="10258560" y="7230240"/>
                <a:ext cx="2044800" cy="1803960"/>
              </a:xfrm>
              <a:custGeom>
                <a:avLst/>
                <a:gdLst>
                  <a:gd name="textAreaLeft" fmla="*/ 0 w 2044800"/>
                  <a:gd name="textAreaRight" fmla="*/ 2045160 w 2044800"/>
                  <a:gd name="textAreaTop" fmla="*/ 0 h 1803960"/>
                  <a:gd name="textAreaBottom" fmla="*/ 1804320 h 1803960"/>
                </a:gdLst>
                <a:ahLst/>
                <a:rect l="textAreaLeft" t="textAreaTop" r="textAreaRight" b="textAreaBottom"/>
                <a:pathLst>
                  <a:path w="1055" h="931">
                    <a:moveTo>
                      <a:pt x="167" y="42"/>
                    </a:moveTo>
                    <a:cubicBezTo>
                      <a:pt x="94" y="0"/>
                      <a:pt x="61" y="42"/>
                      <a:pt x="35" y="48"/>
                    </a:cubicBezTo>
                    <a:cubicBezTo>
                      <a:pt x="9" y="54"/>
                      <a:pt x="0" y="63"/>
                      <a:pt x="8" y="78"/>
                    </a:cubicBezTo>
                    <a:cubicBezTo>
                      <a:pt x="16" y="93"/>
                      <a:pt x="57" y="122"/>
                      <a:pt x="80" y="141"/>
                    </a:cubicBezTo>
                    <a:cubicBezTo>
                      <a:pt x="103" y="160"/>
                      <a:pt x="125" y="160"/>
                      <a:pt x="146" y="189"/>
                    </a:cubicBezTo>
                    <a:cubicBezTo>
                      <a:pt x="167" y="218"/>
                      <a:pt x="180" y="274"/>
                      <a:pt x="206" y="315"/>
                    </a:cubicBezTo>
                    <a:cubicBezTo>
                      <a:pt x="232" y="356"/>
                      <a:pt x="254" y="395"/>
                      <a:pt x="302" y="435"/>
                    </a:cubicBezTo>
                    <a:cubicBezTo>
                      <a:pt x="350" y="475"/>
                      <a:pt x="436" y="520"/>
                      <a:pt x="497" y="552"/>
                    </a:cubicBezTo>
                    <a:cubicBezTo>
                      <a:pt x="558" y="584"/>
                      <a:pt x="632" y="610"/>
                      <a:pt x="668" y="627"/>
                    </a:cubicBezTo>
                    <a:cubicBezTo>
                      <a:pt x="704" y="644"/>
                      <a:pt x="695" y="636"/>
                      <a:pt x="710" y="654"/>
                    </a:cubicBezTo>
                    <a:cubicBezTo>
                      <a:pt x="725" y="672"/>
                      <a:pt x="738" y="704"/>
                      <a:pt x="758" y="738"/>
                    </a:cubicBezTo>
                    <a:cubicBezTo>
                      <a:pt x="778" y="772"/>
                      <a:pt x="812" y="829"/>
                      <a:pt x="833" y="858"/>
                    </a:cubicBezTo>
                    <a:cubicBezTo>
                      <a:pt x="854" y="887"/>
                      <a:pt x="877" y="908"/>
                      <a:pt x="884" y="912"/>
                    </a:cubicBezTo>
                    <a:cubicBezTo>
                      <a:pt x="891" y="916"/>
                      <a:pt x="887" y="899"/>
                      <a:pt x="878" y="882"/>
                    </a:cubicBezTo>
                    <a:cubicBezTo>
                      <a:pt x="869" y="865"/>
                      <a:pt x="823" y="802"/>
                      <a:pt x="830" y="807"/>
                    </a:cubicBezTo>
                    <a:cubicBezTo>
                      <a:pt x="837" y="812"/>
                      <a:pt x="898" y="893"/>
                      <a:pt x="920" y="912"/>
                    </a:cubicBezTo>
                    <a:cubicBezTo>
                      <a:pt x="942" y="931"/>
                      <a:pt x="955" y="923"/>
                      <a:pt x="962" y="921"/>
                    </a:cubicBezTo>
                    <a:cubicBezTo>
                      <a:pt x="969" y="919"/>
                      <a:pt x="956" y="897"/>
                      <a:pt x="962" y="897"/>
                    </a:cubicBezTo>
                    <a:cubicBezTo>
                      <a:pt x="968" y="897"/>
                      <a:pt x="984" y="918"/>
                      <a:pt x="998" y="921"/>
                    </a:cubicBezTo>
                    <a:cubicBezTo>
                      <a:pt x="1012" y="924"/>
                      <a:pt x="1040" y="919"/>
                      <a:pt x="1046" y="915"/>
                    </a:cubicBezTo>
                    <a:cubicBezTo>
                      <a:pt x="1052" y="911"/>
                      <a:pt x="1055" y="919"/>
                      <a:pt x="1034" y="894"/>
                    </a:cubicBezTo>
                    <a:cubicBezTo>
                      <a:pt x="1013" y="869"/>
                      <a:pt x="935" y="800"/>
                      <a:pt x="917" y="765"/>
                    </a:cubicBezTo>
                    <a:cubicBezTo>
                      <a:pt x="899" y="730"/>
                      <a:pt x="937" y="712"/>
                      <a:pt x="926" y="684"/>
                    </a:cubicBezTo>
                    <a:cubicBezTo>
                      <a:pt x="915" y="656"/>
                      <a:pt x="926" y="660"/>
                      <a:pt x="851" y="597"/>
                    </a:cubicBezTo>
                    <a:cubicBezTo>
                      <a:pt x="776" y="534"/>
                      <a:pt x="590" y="395"/>
                      <a:pt x="476" y="303"/>
                    </a:cubicBezTo>
                    <a:cubicBezTo>
                      <a:pt x="362" y="211"/>
                      <a:pt x="240" y="84"/>
                      <a:pt x="167" y="42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30"/>
              <p:cNvSpPr/>
              <p:nvPr/>
            </p:nvSpPr>
            <p:spPr>
              <a:xfrm>
                <a:off x="10248840" y="7212960"/>
                <a:ext cx="2472840" cy="1798200"/>
              </a:xfrm>
              <a:custGeom>
                <a:avLst/>
                <a:gdLst>
                  <a:gd name="textAreaLeft" fmla="*/ 0 w 2472840"/>
                  <a:gd name="textAreaRight" fmla="*/ 2473200 w 2472840"/>
                  <a:gd name="textAreaTop" fmla="*/ 0 h 1798200"/>
                  <a:gd name="textAreaBottom" fmla="*/ 1798560 h 1798200"/>
                </a:gdLst>
                <a:ahLst/>
                <a:rect l="textAreaLeft" t="textAreaTop" r="textAreaRight" b="textAreaBottom"/>
                <a:pathLst>
                  <a:path w="1276" h="928">
                    <a:moveTo>
                      <a:pt x="208" y="39"/>
                    </a:moveTo>
                    <a:cubicBezTo>
                      <a:pt x="134" y="10"/>
                      <a:pt x="122" y="11"/>
                      <a:pt x="91" y="6"/>
                    </a:cubicBezTo>
                    <a:cubicBezTo>
                      <a:pt x="60" y="1"/>
                      <a:pt x="34" y="0"/>
                      <a:pt x="19" y="9"/>
                    </a:cubicBezTo>
                    <a:cubicBezTo>
                      <a:pt x="4" y="18"/>
                      <a:pt x="0" y="44"/>
                      <a:pt x="1" y="60"/>
                    </a:cubicBezTo>
                    <a:cubicBezTo>
                      <a:pt x="2" y="76"/>
                      <a:pt x="6" y="93"/>
                      <a:pt x="25" y="105"/>
                    </a:cubicBezTo>
                    <a:cubicBezTo>
                      <a:pt x="44" y="117"/>
                      <a:pt x="89" y="120"/>
                      <a:pt x="115" y="132"/>
                    </a:cubicBezTo>
                    <a:cubicBezTo>
                      <a:pt x="141" y="144"/>
                      <a:pt x="163" y="165"/>
                      <a:pt x="178" y="179"/>
                    </a:cubicBezTo>
                    <a:cubicBezTo>
                      <a:pt x="193" y="193"/>
                      <a:pt x="197" y="211"/>
                      <a:pt x="205" y="215"/>
                    </a:cubicBezTo>
                    <a:cubicBezTo>
                      <a:pt x="213" y="219"/>
                      <a:pt x="213" y="212"/>
                      <a:pt x="226" y="206"/>
                    </a:cubicBezTo>
                    <a:cubicBezTo>
                      <a:pt x="239" y="200"/>
                      <a:pt x="275" y="172"/>
                      <a:pt x="283" y="176"/>
                    </a:cubicBezTo>
                    <a:cubicBezTo>
                      <a:pt x="291" y="180"/>
                      <a:pt x="273" y="212"/>
                      <a:pt x="274" y="231"/>
                    </a:cubicBezTo>
                    <a:cubicBezTo>
                      <a:pt x="275" y="250"/>
                      <a:pt x="265" y="258"/>
                      <a:pt x="286" y="288"/>
                    </a:cubicBezTo>
                    <a:cubicBezTo>
                      <a:pt x="307" y="318"/>
                      <a:pt x="352" y="372"/>
                      <a:pt x="400" y="411"/>
                    </a:cubicBezTo>
                    <a:cubicBezTo>
                      <a:pt x="448" y="450"/>
                      <a:pt x="531" y="495"/>
                      <a:pt x="577" y="522"/>
                    </a:cubicBezTo>
                    <a:cubicBezTo>
                      <a:pt x="623" y="549"/>
                      <a:pt x="656" y="559"/>
                      <a:pt x="679" y="573"/>
                    </a:cubicBezTo>
                    <a:cubicBezTo>
                      <a:pt x="702" y="587"/>
                      <a:pt x="696" y="599"/>
                      <a:pt x="715" y="609"/>
                    </a:cubicBezTo>
                    <a:cubicBezTo>
                      <a:pt x="734" y="619"/>
                      <a:pt x="770" y="629"/>
                      <a:pt x="793" y="633"/>
                    </a:cubicBezTo>
                    <a:cubicBezTo>
                      <a:pt x="816" y="637"/>
                      <a:pt x="851" y="632"/>
                      <a:pt x="856" y="636"/>
                    </a:cubicBezTo>
                    <a:cubicBezTo>
                      <a:pt x="861" y="640"/>
                      <a:pt x="836" y="650"/>
                      <a:pt x="826" y="657"/>
                    </a:cubicBezTo>
                    <a:cubicBezTo>
                      <a:pt x="816" y="664"/>
                      <a:pt x="792" y="665"/>
                      <a:pt x="796" y="678"/>
                    </a:cubicBezTo>
                    <a:cubicBezTo>
                      <a:pt x="800" y="691"/>
                      <a:pt x="819" y="702"/>
                      <a:pt x="850" y="735"/>
                    </a:cubicBezTo>
                    <a:cubicBezTo>
                      <a:pt x="881" y="768"/>
                      <a:pt x="948" y="843"/>
                      <a:pt x="979" y="873"/>
                    </a:cubicBezTo>
                    <a:cubicBezTo>
                      <a:pt x="1010" y="903"/>
                      <a:pt x="1022" y="909"/>
                      <a:pt x="1036" y="918"/>
                    </a:cubicBezTo>
                    <a:cubicBezTo>
                      <a:pt x="1050" y="927"/>
                      <a:pt x="1055" y="927"/>
                      <a:pt x="1063" y="927"/>
                    </a:cubicBezTo>
                    <a:cubicBezTo>
                      <a:pt x="1071" y="927"/>
                      <a:pt x="1075" y="928"/>
                      <a:pt x="1084" y="918"/>
                    </a:cubicBezTo>
                    <a:cubicBezTo>
                      <a:pt x="1071" y="902"/>
                      <a:pt x="989" y="827"/>
                      <a:pt x="988" y="828"/>
                    </a:cubicBezTo>
                    <a:cubicBezTo>
                      <a:pt x="987" y="829"/>
                      <a:pt x="1069" y="902"/>
                      <a:pt x="1093" y="912"/>
                    </a:cubicBezTo>
                    <a:cubicBezTo>
                      <a:pt x="1107" y="896"/>
                      <a:pt x="1111" y="902"/>
                      <a:pt x="1132" y="888"/>
                    </a:cubicBezTo>
                    <a:cubicBezTo>
                      <a:pt x="1103" y="874"/>
                      <a:pt x="1034" y="822"/>
                      <a:pt x="1036" y="822"/>
                    </a:cubicBezTo>
                    <a:cubicBezTo>
                      <a:pt x="1038" y="822"/>
                      <a:pt x="1113" y="870"/>
                      <a:pt x="1147" y="891"/>
                    </a:cubicBezTo>
                    <a:cubicBezTo>
                      <a:pt x="1185" y="890"/>
                      <a:pt x="1203" y="882"/>
                      <a:pt x="1246" y="879"/>
                    </a:cubicBezTo>
                    <a:cubicBezTo>
                      <a:pt x="1227" y="856"/>
                      <a:pt x="1120" y="779"/>
                      <a:pt x="1123" y="777"/>
                    </a:cubicBezTo>
                    <a:cubicBezTo>
                      <a:pt x="1126" y="775"/>
                      <a:pt x="1236" y="858"/>
                      <a:pt x="1261" y="867"/>
                    </a:cubicBezTo>
                    <a:cubicBezTo>
                      <a:pt x="1269" y="856"/>
                      <a:pt x="1273" y="852"/>
                      <a:pt x="1276" y="837"/>
                    </a:cubicBezTo>
                    <a:cubicBezTo>
                      <a:pt x="1243" y="808"/>
                      <a:pt x="1124" y="732"/>
                      <a:pt x="1060" y="690"/>
                    </a:cubicBezTo>
                    <a:cubicBezTo>
                      <a:pt x="996" y="648"/>
                      <a:pt x="935" y="623"/>
                      <a:pt x="892" y="588"/>
                    </a:cubicBezTo>
                    <a:cubicBezTo>
                      <a:pt x="849" y="553"/>
                      <a:pt x="835" y="521"/>
                      <a:pt x="802" y="477"/>
                    </a:cubicBezTo>
                    <a:cubicBezTo>
                      <a:pt x="769" y="433"/>
                      <a:pt x="735" y="373"/>
                      <a:pt x="691" y="324"/>
                    </a:cubicBezTo>
                    <a:cubicBezTo>
                      <a:pt x="647" y="275"/>
                      <a:pt x="619" y="230"/>
                      <a:pt x="538" y="182"/>
                    </a:cubicBezTo>
                    <a:cubicBezTo>
                      <a:pt x="457" y="134"/>
                      <a:pt x="282" y="68"/>
                      <a:pt x="208" y="39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231"/>
              <p:cNvSpPr/>
              <p:nvPr/>
            </p:nvSpPr>
            <p:spPr>
              <a:xfrm>
                <a:off x="10276200" y="7282800"/>
                <a:ext cx="21240" cy="208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32"/>
              <p:cNvSpPr/>
              <p:nvPr/>
            </p:nvSpPr>
            <p:spPr>
              <a:xfrm>
                <a:off x="9655920" y="7687440"/>
                <a:ext cx="1350720" cy="1411200"/>
              </a:xfrm>
              <a:custGeom>
                <a:avLst/>
                <a:gdLst>
                  <a:gd name="textAreaLeft" fmla="*/ 0 w 1350720"/>
                  <a:gd name="textAreaRight" fmla="*/ 1351080 w 1350720"/>
                  <a:gd name="textAreaTop" fmla="*/ 0 h 1411200"/>
                  <a:gd name="textAreaBottom" fmla="*/ 1411560 h 1411200"/>
                </a:gdLst>
                <a:ahLst/>
                <a:rect l="textAreaLeft" t="textAreaTop" r="textAreaRight" b="textAreaBottom"/>
                <a:pathLst>
                  <a:path w="697" h="728">
                    <a:moveTo>
                      <a:pt x="585" y="7"/>
                    </a:moveTo>
                    <a:cubicBezTo>
                      <a:pt x="550" y="6"/>
                      <a:pt x="519" y="97"/>
                      <a:pt x="487" y="157"/>
                    </a:cubicBezTo>
                    <a:cubicBezTo>
                      <a:pt x="455" y="218"/>
                      <a:pt x="438" y="313"/>
                      <a:pt x="386" y="367"/>
                    </a:cubicBezTo>
                    <a:cubicBezTo>
                      <a:pt x="335" y="420"/>
                      <a:pt x="241" y="434"/>
                      <a:pt x="181" y="481"/>
                    </a:cubicBezTo>
                    <a:cubicBezTo>
                      <a:pt x="122" y="527"/>
                      <a:pt x="44" y="622"/>
                      <a:pt x="29" y="645"/>
                    </a:cubicBezTo>
                    <a:cubicBezTo>
                      <a:pt x="13" y="668"/>
                      <a:pt x="84" y="605"/>
                      <a:pt x="86" y="615"/>
                    </a:cubicBezTo>
                    <a:cubicBezTo>
                      <a:pt x="87" y="625"/>
                      <a:pt x="50" y="690"/>
                      <a:pt x="38" y="709"/>
                    </a:cubicBezTo>
                    <a:cubicBezTo>
                      <a:pt x="25" y="727"/>
                      <a:pt x="0" y="728"/>
                      <a:pt x="8" y="727"/>
                    </a:cubicBezTo>
                    <a:cubicBezTo>
                      <a:pt x="16" y="726"/>
                      <a:pt x="63" y="718"/>
                      <a:pt x="83" y="704"/>
                    </a:cubicBezTo>
                    <a:cubicBezTo>
                      <a:pt x="104" y="690"/>
                      <a:pt x="105" y="665"/>
                      <a:pt x="131" y="643"/>
                    </a:cubicBezTo>
                    <a:cubicBezTo>
                      <a:pt x="157" y="620"/>
                      <a:pt x="202" y="599"/>
                      <a:pt x="241" y="567"/>
                    </a:cubicBezTo>
                    <a:cubicBezTo>
                      <a:pt x="279" y="535"/>
                      <a:pt x="347" y="451"/>
                      <a:pt x="361" y="451"/>
                    </a:cubicBezTo>
                    <a:cubicBezTo>
                      <a:pt x="376" y="451"/>
                      <a:pt x="328" y="548"/>
                      <a:pt x="327" y="567"/>
                    </a:cubicBezTo>
                    <a:cubicBezTo>
                      <a:pt x="326" y="587"/>
                      <a:pt x="342" y="575"/>
                      <a:pt x="352" y="570"/>
                    </a:cubicBezTo>
                    <a:cubicBezTo>
                      <a:pt x="363" y="564"/>
                      <a:pt x="375" y="551"/>
                      <a:pt x="391" y="531"/>
                    </a:cubicBezTo>
                    <a:cubicBezTo>
                      <a:pt x="407" y="510"/>
                      <a:pt x="438" y="464"/>
                      <a:pt x="450" y="444"/>
                    </a:cubicBezTo>
                    <a:cubicBezTo>
                      <a:pt x="463" y="425"/>
                      <a:pt x="465" y="415"/>
                      <a:pt x="466" y="417"/>
                    </a:cubicBezTo>
                    <a:cubicBezTo>
                      <a:pt x="467" y="419"/>
                      <a:pt x="450" y="456"/>
                      <a:pt x="455" y="460"/>
                    </a:cubicBezTo>
                    <a:cubicBezTo>
                      <a:pt x="459" y="465"/>
                      <a:pt x="482" y="455"/>
                      <a:pt x="496" y="442"/>
                    </a:cubicBezTo>
                    <a:cubicBezTo>
                      <a:pt x="510" y="429"/>
                      <a:pt x="522" y="408"/>
                      <a:pt x="537" y="385"/>
                    </a:cubicBezTo>
                    <a:cubicBezTo>
                      <a:pt x="552" y="362"/>
                      <a:pt x="578" y="316"/>
                      <a:pt x="585" y="308"/>
                    </a:cubicBezTo>
                    <a:cubicBezTo>
                      <a:pt x="592" y="300"/>
                      <a:pt x="571" y="337"/>
                      <a:pt x="576" y="339"/>
                    </a:cubicBezTo>
                    <a:cubicBezTo>
                      <a:pt x="580" y="342"/>
                      <a:pt x="600" y="333"/>
                      <a:pt x="610" y="321"/>
                    </a:cubicBezTo>
                    <a:cubicBezTo>
                      <a:pt x="620" y="310"/>
                      <a:pt x="631" y="293"/>
                      <a:pt x="640" y="271"/>
                    </a:cubicBezTo>
                    <a:cubicBezTo>
                      <a:pt x="649" y="249"/>
                      <a:pt x="656" y="199"/>
                      <a:pt x="661" y="192"/>
                    </a:cubicBezTo>
                    <a:cubicBezTo>
                      <a:pt x="666" y="185"/>
                      <a:pt x="664" y="226"/>
                      <a:pt x="669" y="230"/>
                    </a:cubicBezTo>
                    <a:cubicBezTo>
                      <a:pt x="674" y="234"/>
                      <a:pt x="686" y="233"/>
                      <a:pt x="690" y="216"/>
                    </a:cubicBezTo>
                    <a:cubicBezTo>
                      <a:pt x="694" y="199"/>
                      <a:pt x="696" y="162"/>
                      <a:pt x="694" y="129"/>
                    </a:cubicBezTo>
                    <a:cubicBezTo>
                      <a:pt x="692" y="96"/>
                      <a:pt x="697" y="40"/>
                      <a:pt x="679" y="20"/>
                    </a:cubicBezTo>
                    <a:cubicBezTo>
                      <a:pt x="661" y="0"/>
                      <a:pt x="604" y="9"/>
                      <a:pt x="585" y="7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33"/>
              <p:cNvSpPr/>
              <p:nvPr/>
            </p:nvSpPr>
            <p:spPr>
              <a:xfrm>
                <a:off x="9646560" y="7505640"/>
                <a:ext cx="1459440" cy="1664640"/>
              </a:xfrm>
              <a:custGeom>
                <a:avLst/>
                <a:gdLst>
                  <a:gd name="textAreaLeft" fmla="*/ 0 w 1459440"/>
                  <a:gd name="textAreaRight" fmla="*/ 1459440 w 1459440"/>
                  <a:gd name="textAreaTop" fmla="*/ 0 h 1664640"/>
                  <a:gd name="textAreaBottom" fmla="*/ 1665000 h 1664640"/>
                </a:gdLst>
                <a:ahLst/>
                <a:rect l="textAreaLeft" t="textAreaTop" r="textAreaRight" b="textAreaBottom"/>
                <a:pathLst>
                  <a:path w="660" h="753">
                    <a:moveTo>
                      <a:pt x="644" y="93"/>
                    </a:moveTo>
                    <a:cubicBezTo>
                      <a:pt x="660" y="115"/>
                      <a:pt x="621" y="135"/>
                      <a:pt x="611" y="156"/>
                    </a:cubicBezTo>
                    <a:cubicBezTo>
                      <a:pt x="601" y="177"/>
                      <a:pt x="596" y="200"/>
                      <a:pt x="587" y="218"/>
                    </a:cubicBezTo>
                    <a:cubicBezTo>
                      <a:pt x="578" y="236"/>
                      <a:pt x="563" y="255"/>
                      <a:pt x="555" y="262"/>
                    </a:cubicBezTo>
                    <a:cubicBezTo>
                      <a:pt x="547" y="269"/>
                      <a:pt x="544" y="265"/>
                      <a:pt x="541" y="260"/>
                    </a:cubicBezTo>
                    <a:cubicBezTo>
                      <a:pt x="538" y="255"/>
                      <a:pt x="540" y="231"/>
                      <a:pt x="537" y="232"/>
                    </a:cubicBezTo>
                    <a:cubicBezTo>
                      <a:pt x="534" y="233"/>
                      <a:pt x="535" y="247"/>
                      <a:pt x="523" y="268"/>
                    </a:cubicBezTo>
                    <a:cubicBezTo>
                      <a:pt x="511" y="289"/>
                      <a:pt x="490" y="328"/>
                      <a:pt x="465" y="356"/>
                    </a:cubicBezTo>
                    <a:cubicBezTo>
                      <a:pt x="440" y="384"/>
                      <a:pt x="399" y="406"/>
                      <a:pt x="373" y="436"/>
                    </a:cubicBezTo>
                    <a:cubicBezTo>
                      <a:pt x="347" y="466"/>
                      <a:pt x="333" y="497"/>
                      <a:pt x="307" y="534"/>
                    </a:cubicBezTo>
                    <a:cubicBezTo>
                      <a:pt x="281" y="571"/>
                      <a:pt x="239" y="637"/>
                      <a:pt x="217" y="660"/>
                    </a:cubicBezTo>
                    <a:cubicBezTo>
                      <a:pt x="195" y="683"/>
                      <a:pt x="181" y="678"/>
                      <a:pt x="177" y="674"/>
                    </a:cubicBezTo>
                    <a:cubicBezTo>
                      <a:pt x="173" y="670"/>
                      <a:pt x="195" y="638"/>
                      <a:pt x="193" y="638"/>
                    </a:cubicBezTo>
                    <a:cubicBezTo>
                      <a:pt x="191" y="638"/>
                      <a:pt x="177" y="663"/>
                      <a:pt x="165" y="674"/>
                    </a:cubicBezTo>
                    <a:cubicBezTo>
                      <a:pt x="153" y="685"/>
                      <a:pt x="132" y="701"/>
                      <a:pt x="123" y="706"/>
                    </a:cubicBezTo>
                    <a:cubicBezTo>
                      <a:pt x="114" y="711"/>
                      <a:pt x="109" y="707"/>
                      <a:pt x="109" y="702"/>
                    </a:cubicBezTo>
                    <a:cubicBezTo>
                      <a:pt x="109" y="697"/>
                      <a:pt x="123" y="672"/>
                      <a:pt x="121" y="674"/>
                    </a:cubicBezTo>
                    <a:cubicBezTo>
                      <a:pt x="119" y="676"/>
                      <a:pt x="106" y="701"/>
                      <a:pt x="95" y="714"/>
                    </a:cubicBezTo>
                    <a:cubicBezTo>
                      <a:pt x="84" y="727"/>
                      <a:pt x="62" y="747"/>
                      <a:pt x="55" y="750"/>
                    </a:cubicBezTo>
                    <a:cubicBezTo>
                      <a:pt x="48" y="753"/>
                      <a:pt x="47" y="742"/>
                      <a:pt x="51" y="730"/>
                    </a:cubicBezTo>
                    <a:cubicBezTo>
                      <a:pt x="55" y="718"/>
                      <a:pt x="70" y="696"/>
                      <a:pt x="81" y="678"/>
                    </a:cubicBezTo>
                    <a:cubicBezTo>
                      <a:pt x="92" y="660"/>
                      <a:pt x="115" y="621"/>
                      <a:pt x="115" y="620"/>
                    </a:cubicBezTo>
                    <a:cubicBezTo>
                      <a:pt x="115" y="619"/>
                      <a:pt x="92" y="653"/>
                      <a:pt x="79" y="670"/>
                    </a:cubicBezTo>
                    <a:cubicBezTo>
                      <a:pt x="66" y="687"/>
                      <a:pt x="48" y="710"/>
                      <a:pt x="35" y="720"/>
                    </a:cubicBezTo>
                    <a:cubicBezTo>
                      <a:pt x="22" y="730"/>
                      <a:pt x="6" y="734"/>
                      <a:pt x="3" y="730"/>
                    </a:cubicBezTo>
                    <a:cubicBezTo>
                      <a:pt x="0" y="726"/>
                      <a:pt x="9" y="712"/>
                      <a:pt x="19" y="696"/>
                    </a:cubicBezTo>
                    <a:cubicBezTo>
                      <a:pt x="29" y="680"/>
                      <a:pt x="52" y="652"/>
                      <a:pt x="65" y="632"/>
                    </a:cubicBezTo>
                    <a:cubicBezTo>
                      <a:pt x="78" y="612"/>
                      <a:pt x="95" y="575"/>
                      <a:pt x="95" y="574"/>
                    </a:cubicBezTo>
                    <a:cubicBezTo>
                      <a:pt x="95" y="573"/>
                      <a:pt x="76" y="609"/>
                      <a:pt x="63" y="624"/>
                    </a:cubicBezTo>
                    <a:cubicBezTo>
                      <a:pt x="50" y="639"/>
                      <a:pt x="25" y="664"/>
                      <a:pt x="19" y="664"/>
                    </a:cubicBezTo>
                    <a:cubicBezTo>
                      <a:pt x="13" y="664"/>
                      <a:pt x="16" y="649"/>
                      <a:pt x="29" y="624"/>
                    </a:cubicBezTo>
                    <a:cubicBezTo>
                      <a:pt x="42" y="599"/>
                      <a:pt x="69" y="557"/>
                      <a:pt x="97" y="514"/>
                    </a:cubicBezTo>
                    <a:cubicBezTo>
                      <a:pt x="125" y="471"/>
                      <a:pt x="167" y="410"/>
                      <a:pt x="197" y="366"/>
                    </a:cubicBezTo>
                    <a:cubicBezTo>
                      <a:pt x="227" y="322"/>
                      <a:pt x="246" y="284"/>
                      <a:pt x="275" y="248"/>
                    </a:cubicBezTo>
                    <a:cubicBezTo>
                      <a:pt x="304" y="212"/>
                      <a:pt x="339" y="182"/>
                      <a:pt x="373" y="150"/>
                    </a:cubicBezTo>
                    <a:cubicBezTo>
                      <a:pt x="407" y="118"/>
                      <a:pt x="451" y="82"/>
                      <a:pt x="481" y="58"/>
                    </a:cubicBezTo>
                    <a:cubicBezTo>
                      <a:pt x="511" y="34"/>
                      <a:pt x="528" y="0"/>
                      <a:pt x="555" y="6"/>
                    </a:cubicBezTo>
                    <a:cubicBezTo>
                      <a:pt x="582" y="12"/>
                      <a:pt x="625" y="75"/>
                      <a:pt x="644" y="93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234"/>
            <p:cNvSpPr/>
            <p:nvPr/>
          </p:nvSpPr>
          <p:spPr>
            <a:xfrm>
              <a:off x="9379080" y="4775040"/>
              <a:ext cx="3790440" cy="47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630080" y="4757760"/>
            <a:ext cx="4133160" cy="5223960"/>
            <a:chOff x="10630080" y="4757760"/>
            <a:chExt cx="4133160" cy="5223960"/>
          </a:xfrm>
        </p:grpSpPr>
        <p:grpSp>
          <p:nvGrpSpPr>
            <p:cNvPr id="275" name=""/>
            <p:cNvGrpSpPr/>
            <p:nvPr/>
          </p:nvGrpSpPr>
          <p:grpSpPr>
            <a:xfrm>
              <a:off x="11454120" y="4903200"/>
              <a:ext cx="2943000" cy="4498920"/>
              <a:chOff x="11454120" y="4903200"/>
              <a:chExt cx="2943000" cy="449892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12531600" y="6866640"/>
                <a:ext cx="1865520" cy="1442160"/>
                <a:chOff x="12531600" y="6866640"/>
                <a:chExt cx="1865520" cy="1442160"/>
              </a:xfrm>
            </p:grpSpPr>
            <p:sp>
              <p:nvSpPr>
                <p:cNvPr id="277" name="Freeform 238"/>
                <p:cNvSpPr/>
                <p:nvPr/>
              </p:nvSpPr>
              <p:spPr>
                <a:xfrm>
                  <a:off x="13025880" y="6874920"/>
                  <a:ext cx="1263240" cy="923040"/>
                </a:xfrm>
                <a:custGeom>
                  <a:avLst/>
                  <a:gdLst>
                    <a:gd name="textAreaLeft" fmla="*/ 0 w 1263240"/>
                    <a:gd name="textAreaRight" fmla="*/ 1263600 w 1263240"/>
                    <a:gd name="textAreaTop" fmla="*/ 0 h 923040"/>
                    <a:gd name="textAreaBottom" fmla="*/ 923400 h 923040"/>
                  </a:gdLst>
                  <a:ahLst/>
                  <a:rect l="textAreaLeft" t="textAreaTop" r="textAreaRight" b="textAreaBottom"/>
                  <a:pathLst>
                    <a:path w="598" h="437">
                      <a:moveTo>
                        <a:pt x="54" y="310"/>
                      </a:moveTo>
                      <a:cubicBezTo>
                        <a:pt x="108" y="255"/>
                        <a:pt x="361" y="137"/>
                        <a:pt x="441" y="91"/>
                      </a:cubicBezTo>
                      <a:cubicBezTo>
                        <a:pt x="521" y="45"/>
                        <a:pt x="509" y="48"/>
                        <a:pt x="534" y="34"/>
                      </a:cubicBezTo>
                      <a:cubicBezTo>
                        <a:pt x="559" y="20"/>
                        <a:pt x="584" y="0"/>
                        <a:pt x="591" y="4"/>
                      </a:cubicBezTo>
                      <a:cubicBezTo>
                        <a:pt x="598" y="8"/>
                        <a:pt x="586" y="36"/>
                        <a:pt x="576" y="61"/>
                      </a:cubicBezTo>
                      <a:cubicBezTo>
                        <a:pt x="566" y="86"/>
                        <a:pt x="552" y="124"/>
                        <a:pt x="531" y="154"/>
                      </a:cubicBezTo>
                      <a:cubicBezTo>
                        <a:pt x="510" y="184"/>
                        <a:pt x="456" y="235"/>
                        <a:pt x="453" y="244"/>
                      </a:cubicBezTo>
                      <a:cubicBezTo>
                        <a:pt x="450" y="253"/>
                        <a:pt x="516" y="201"/>
                        <a:pt x="513" y="208"/>
                      </a:cubicBezTo>
                      <a:cubicBezTo>
                        <a:pt x="510" y="215"/>
                        <a:pt x="456" y="266"/>
                        <a:pt x="432" y="286"/>
                      </a:cubicBezTo>
                      <a:cubicBezTo>
                        <a:pt x="408" y="306"/>
                        <a:pt x="387" y="310"/>
                        <a:pt x="366" y="328"/>
                      </a:cubicBezTo>
                      <a:cubicBezTo>
                        <a:pt x="345" y="346"/>
                        <a:pt x="331" y="380"/>
                        <a:pt x="306" y="397"/>
                      </a:cubicBezTo>
                      <a:cubicBezTo>
                        <a:pt x="281" y="414"/>
                        <a:pt x="247" y="430"/>
                        <a:pt x="216" y="433"/>
                      </a:cubicBezTo>
                      <a:cubicBezTo>
                        <a:pt x="185" y="436"/>
                        <a:pt x="144" y="437"/>
                        <a:pt x="117" y="418"/>
                      </a:cubicBezTo>
                      <a:cubicBezTo>
                        <a:pt x="90" y="399"/>
                        <a:pt x="0" y="365"/>
                        <a:pt x="54" y="31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39"/>
                <p:cNvSpPr/>
                <p:nvPr/>
              </p:nvSpPr>
              <p:spPr>
                <a:xfrm>
                  <a:off x="12531600" y="6866640"/>
                  <a:ext cx="1865520" cy="1229040"/>
                </a:xfrm>
                <a:custGeom>
                  <a:avLst/>
                  <a:gdLst>
                    <a:gd name="textAreaLeft" fmla="*/ 0 w 1865520"/>
                    <a:gd name="textAreaRight" fmla="*/ 1865880 w 1865520"/>
                    <a:gd name="textAreaTop" fmla="*/ 0 h 1229040"/>
                    <a:gd name="textAreaBottom" fmla="*/ 1229040 h 1229040"/>
                  </a:gdLst>
                  <a:ahLst/>
                  <a:rect l="textAreaLeft" t="textAreaTop" r="textAreaRight" b="textAreaBottom"/>
                  <a:pathLst>
                    <a:path w="883" h="582">
                      <a:moveTo>
                        <a:pt x="54" y="353"/>
                      </a:moveTo>
                      <a:cubicBezTo>
                        <a:pt x="103" y="321"/>
                        <a:pt x="227" y="285"/>
                        <a:pt x="297" y="251"/>
                      </a:cubicBezTo>
                      <a:cubicBezTo>
                        <a:pt x="367" y="217"/>
                        <a:pt x="414" y="180"/>
                        <a:pt x="474" y="149"/>
                      </a:cubicBezTo>
                      <a:cubicBezTo>
                        <a:pt x="534" y="118"/>
                        <a:pt x="610" y="86"/>
                        <a:pt x="660" y="65"/>
                      </a:cubicBezTo>
                      <a:cubicBezTo>
                        <a:pt x="710" y="44"/>
                        <a:pt x="749" y="30"/>
                        <a:pt x="777" y="20"/>
                      </a:cubicBezTo>
                      <a:cubicBezTo>
                        <a:pt x="805" y="10"/>
                        <a:pt x="821" y="0"/>
                        <a:pt x="828" y="2"/>
                      </a:cubicBezTo>
                      <a:cubicBezTo>
                        <a:pt x="835" y="4"/>
                        <a:pt x="836" y="19"/>
                        <a:pt x="822" y="32"/>
                      </a:cubicBezTo>
                      <a:cubicBezTo>
                        <a:pt x="808" y="45"/>
                        <a:pt x="780" y="59"/>
                        <a:pt x="741" y="80"/>
                      </a:cubicBezTo>
                      <a:cubicBezTo>
                        <a:pt x="780" y="68"/>
                        <a:pt x="805" y="53"/>
                        <a:pt x="828" y="44"/>
                      </a:cubicBezTo>
                      <a:cubicBezTo>
                        <a:pt x="851" y="35"/>
                        <a:pt x="875" y="21"/>
                        <a:pt x="879" y="26"/>
                      </a:cubicBezTo>
                      <a:cubicBezTo>
                        <a:pt x="883" y="31"/>
                        <a:pt x="869" y="54"/>
                        <a:pt x="852" y="74"/>
                      </a:cubicBezTo>
                      <a:cubicBezTo>
                        <a:pt x="835" y="94"/>
                        <a:pt x="804" y="127"/>
                        <a:pt x="777" y="146"/>
                      </a:cubicBezTo>
                      <a:cubicBezTo>
                        <a:pt x="750" y="165"/>
                        <a:pt x="726" y="161"/>
                        <a:pt x="690" y="188"/>
                      </a:cubicBezTo>
                      <a:cubicBezTo>
                        <a:pt x="729" y="173"/>
                        <a:pt x="765" y="168"/>
                        <a:pt x="783" y="167"/>
                      </a:cubicBezTo>
                      <a:cubicBezTo>
                        <a:pt x="801" y="166"/>
                        <a:pt x="807" y="173"/>
                        <a:pt x="798" y="185"/>
                      </a:cubicBezTo>
                      <a:cubicBezTo>
                        <a:pt x="789" y="197"/>
                        <a:pt x="760" y="224"/>
                        <a:pt x="729" y="242"/>
                      </a:cubicBezTo>
                      <a:cubicBezTo>
                        <a:pt x="698" y="260"/>
                        <a:pt x="622" y="288"/>
                        <a:pt x="615" y="293"/>
                      </a:cubicBezTo>
                      <a:cubicBezTo>
                        <a:pt x="657" y="284"/>
                        <a:pt x="670" y="274"/>
                        <a:pt x="687" y="272"/>
                      </a:cubicBezTo>
                      <a:cubicBezTo>
                        <a:pt x="704" y="270"/>
                        <a:pt x="723" y="277"/>
                        <a:pt x="717" y="284"/>
                      </a:cubicBezTo>
                      <a:cubicBezTo>
                        <a:pt x="711" y="291"/>
                        <a:pt x="675" y="303"/>
                        <a:pt x="648" y="317"/>
                      </a:cubicBezTo>
                      <a:cubicBezTo>
                        <a:pt x="621" y="331"/>
                        <a:pt x="560" y="359"/>
                        <a:pt x="552" y="368"/>
                      </a:cubicBezTo>
                      <a:cubicBezTo>
                        <a:pt x="544" y="377"/>
                        <a:pt x="587" y="367"/>
                        <a:pt x="597" y="371"/>
                      </a:cubicBezTo>
                      <a:cubicBezTo>
                        <a:pt x="607" y="375"/>
                        <a:pt x="620" y="387"/>
                        <a:pt x="612" y="392"/>
                      </a:cubicBezTo>
                      <a:cubicBezTo>
                        <a:pt x="604" y="397"/>
                        <a:pt x="571" y="392"/>
                        <a:pt x="549" y="401"/>
                      </a:cubicBezTo>
                      <a:cubicBezTo>
                        <a:pt x="527" y="410"/>
                        <a:pt x="526" y="421"/>
                        <a:pt x="477" y="449"/>
                      </a:cubicBezTo>
                      <a:cubicBezTo>
                        <a:pt x="428" y="477"/>
                        <a:pt x="322" y="556"/>
                        <a:pt x="255" y="569"/>
                      </a:cubicBezTo>
                      <a:cubicBezTo>
                        <a:pt x="188" y="582"/>
                        <a:pt x="114" y="548"/>
                        <a:pt x="72" y="527"/>
                      </a:cubicBezTo>
                      <a:cubicBezTo>
                        <a:pt x="30" y="506"/>
                        <a:pt x="6" y="472"/>
                        <a:pt x="3" y="443"/>
                      </a:cubicBezTo>
                      <a:cubicBezTo>
                        <a:pt x="0" y="414"/>
                        <a:pt x="5" y="385"/>
                        <a:pt x="54" y="353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240"/>
                <p:cNvSpPr/>
                <p:nvPr/>
              </p:nvSpPr>
              <p:spPr>
                <a:xfrm>
                  <a:off x="12543840" y="7626960"/>
                  <a:ext cx="1183320" cy="681840"/>
                </a:xfrm>
                <a:custGeom>
                  <a:avLst/>
                  <a:gdLst>
                    <a:gd name="textAreaLeft" fmla="*/ 0 w 1183320"/>
                    <a:gd name="textAreaRight" fmla="*/ 1183320 w 1183320"/>
                    <a:gd name="textAreaTop" fmla="*/ 0 h 681840"/>
                    <a:gd name="textAreaBottom" fmla="*/ 682200 h 681840"/>
                  </a:gdLst>
                  <a:ahLst/>
                  <a:rect l="textAreaLeft" t="textAreaTop" r="textAreaRight" b="textAreaBottom"/>
                  <a:pathLst>
                    <a:path w="560" h="323">
                      <a:moveTo>
                        <a:pt x="6" y="182"/>
                      </a:moveTo>
                      <a:cubicBezTo>
                        <a:pt x="11" y="149"/>
                        <a:pt x="27" y="68"/>
                        <a:pt x="50" y="38"/>
                      </a:cubicBezTo>
                      <a:cubicBezTo>
                        <a:pt x="73" y="8"/>
                        <a:pt x="115" y="0"/>
                        <a:pt x="146" y="2"/>
                      </a:cubicBezTo>
                      <a:cubicBezTo>
                        <a:pt x="177" y="4"/>
                        <a:pt x="228" y="36"/>
                        <a:pt x="234" y="50"/>
                      </a:cubicBezTo>
                      <a:cubicBezTo>
                        <a:pt x="240" y="64"/>
                        <a:pt x="193" y="76"/>
                        <a:pt x="182" y="86"/>
                      </a:cubicBezTo>
                      <a:cubicBezTo>
                        <a:pt x="171" y="96"/>
                        <a:pt x="165" y="102"/>
                        <a:pt x="168" y="113"/>
                      </a:cubicBezTo>
                      <a:cubicBezTo>
                        <a:pt x="171" y="124"/>
                        <a:pt x="180" y="147"/>
                        <a:pt x="202" y="150"/>
                      </a:cubicBezTo>
                      <a:cubicBezTo>
                        <a:pt x="224" y="153"/>
                        <a:pt x="242" y="152"/>
                        <a:pt x="298" y="134"/>
                      </a:cubicBezTo>
                      <a:cubicBezTo>
                        <a:pt x="354" y="116"/>
                        <a:pt x="462" y="89"/>
                        <a:pt x="538" y="42"/>
                      </a:cubicBezTo>
                      <a:cubicBezTo>
                        <a:pt x="552" y="68"/>
                        <a:pt x="560" y="80"/>
                        <a:pt x="546" y="94"/>
                      </a:cubicBezTo>
                      <a:cubicBezTo>
                        <a:pt x="532" y="108"/>
                        <a:pt x="486" y="116"/>
                        <a:pt x="454" y="126"/>
                      </a:cubicBezTo>
                      <a:cubicBezTo>
                        <a:pt x="468" y="131"/>
                        <a:pt x="495" y="136"/>
                        <a:pt x="482" y="146"/>
                      </a:cubicBezTo>
                      <a:cubicBezTo>
                        <a:pt x="469" y="156"/>
                        <a:pt x="414" y="167"/>
                        <a:pt x="378" y="186"/>
                      </a:cubicBezTo>
                      <a:cubicBezTo>
                        <a:pt x="396" y="185"/>
                        <a:pt x="411" y="179"/>
                        <a:pt x="422" y="194"/>
                      </a:cubicBezTo>
                      <a:cubicBezTo>
                        <a:pt x="393" y="230"/>
                        <a:pt x="369" y="218"/>
                        <a:pt x="338" y="226"/>
                      </a:cubicBezTo>
                      <a:cubicBezTo>
                        <a:pt x="357" y="242"/>
                        <a:pt x="385" y="239"/>
                        <a:pt x="370" y="254"/>
                      </a:cubicBezTo>
                      <a:cubicBezTo>
                        <a:pt x="355" y="269"/>
                        <a:pt x="289" y="305"/>
                        <a:pt x="246" y="314"/>
                      </a:cubicBezTo>
                      <a:cubicBezTo>
                        <a:pt x="203" y="323"/>
                        <a:pt x="152" y="319"/>
                        <a:pt x="114" y="306"/>
                      </a:cubicBezTo>
                      <a:cubicBezTo>
                        <a:pt x="76" y="293"/>
                        <a:pt x="36" y="257"/>
                        <a:pt x="18" y="238"/>
                      </a:cubicBezTo>
                      <a:cubicBezTo>
                        <a:pt x="0" y="219"/>
                        <a:pt x="1" y="215"/>
                        <a:pt x="6" y="182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11454120" y="7434720"/>
                <a:ext cx="320400" cy="179280"/>
                <a:chOff x="11454120" y="7434720"/>
                <a:chExt cx="320400" cy="179280"/>
              </a:xfrm>
            </p:grpSpPr>
            <p:sp>
              <p:nvSpPr>
                <p:cNvPr id="281" name="Freeform 242"/>
                <p:cNvSpPr/>
                <p:nvPr/>
              </p:nvSpPr>
              <p:spPr>
                <a:xfrm>
                  <a:off x="11498400" y="7434720"/>
                  <a:ext cx="276120" cy="17712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177120"/>
                    <a:gd name="textAreaBottom" fmla="*/ 177120 h 17712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243"/>
                <p:cNvSpPr/>
                <p:nvPr/>
              </p:nvSpPr>
              <p:spPr>
                <a:xfrm>
                  <a:off x="11454120" y="7451280"/>
                  <a:ext cx="301680" cy="14148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141480"/>
                    <a:gd name="textAreaBottom" fmla="*/ 141840 h 14148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44"/>
                <p:cNvSpPr/>
                <p:nvPr/>
              </p:nvSpPr>
              <p:spPr>
                <a:xfrm>
                  <a:off x="11458080" y="7495920"/>
                  <a:ext cx="286920" cy="11808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Freeform 245"/>
              <p:cNvSpPr/>
              <p:nvPr/>
            </p:nvSpPr>
            <p:spPr>
              <a:xfrm>
                <a:off x="11589120" y="6625440"/>
                <a:ext cx="2229120" cy="2776680"/>
              </a:xfrm>
              <a:custGeom>
                <a:avLst/>
                <a:gdLst>
                  <a:gd name="textAreaLeft" fmla="*/ 0 w 2229120"/>
                  <a:gd name="textAreaRight" fmla="*/ 2229480 w 2229120"/>
                  <a:gd name="textAreaTop" fmla="*/ 0 h 2776680"/>
                  <a:gd name="textAreaBottom" fmla="*/ 2777040 h 2776680"/>
                </a:gdLst>
                <a:ahLst/>
                <a:rect l="textAreaLeft" t="textAreaTop" r="textAreaRight" b="textAreaBottom"/>
                <a:pathLst>
                  <a:path w="1055" h="1314">
                    <a:moveTo>
                      <a:pt x="35" y="431"/>
                    </a:moveTo>
                    <a:cubicBezTo>
                      <a:pt x="9" y="437"/>
                      <a:pt x="0" y="446"/>
                      <a:pt x="8" y="461"/>
                    </a:cubicBezTo>
                    <a:cubicBezTo>
                      <a:pt x="16" y="476"/>
                      <a:pt x="57" y="505"/>
                      <a:pt x="80" y="524"/>
                    </a:cubicBezTo>
                    <a:cubicBezTo>
                      <a:pt x="103" y="543"/>
                      <a:pt x="125" y="543"/>
                      <a:pt x="146" y="572"/>
                    </a:cubicBezTo>
                    <a:cubicBezTo>
                      <a:pt x="167" y="601"/>
                      <a:pt x="180" y="657"/>
                      <a:pt x="206" y="698"/>
                    </a:cubicBezTo>
                    <a:cubicBezTo>
                      <a:pt x="232" y="739"/>
                      <a:pt x="254" y="778"/>
                      <a:pt x="302" y="818"/>
                    </a:cubicBezTo>
                    <a:cubicBezTo>
                      <a:pt x="350" y="858"/>
                      <a:pt x="436" y="903"/>
                      <a:pt x="497" y="935"/>
                    </a:cubicBezTo>
                    <a:cubicBezTo>
                      <a:pt x="558" y="967"/>
                      <a:pt x="632" y="993"/>
                      <a:pt x="668" y="1010"/>
                    </a:cubicBezTo>
                    <a:cubicBezTo>
                      <a:pt x="704" y="1027"/>
                      <a:pt x="695" y="1019"/>
                      <a:pt x="710" y="1037"/>
                    </a:cubicBezTo>
                    <a:cubicBezTo>
                      <a:pt x="725" y="1055"/>
                      <a:pt x="738" y="1087"/>
                      <a:pt x="758" y="1121"/>
                    </a:cubicBezTo>
                    <a:cubicBezTo>
                      <a:pt x="778" y="1155"/>
                      <a:pt x="812" y="1212"/>
                      <a:pt x="833" y="1241"/>
                    </a:cubicBezTo>
                    <a:cubicBezTo>
                      <a:pt x="854" y="1270"/>
                      <a:pt x="877" y="1291"/>
                      <a:pt x="884" y="1295"/>
                    </a:cubicBezTo>
                    <a:cubicBezTo>
                      <a:pt x="891" y="1299"/>
                      <a:pt x="887" y="1282"/>
                      <a:pt x="878" y="1265"/>
                    </a:cubicBezTo>
                    <a:cubicBezTo>
                      <a:pt x="869" y="1248"/>
                      <a:pt x="823" y="1185"/>
                      <a:pt x="830" y="1190"/>
                    </a:cubicBezTo>
                    <a:cubicBezTo>
                      <a:pt x="837" y="1195"/>
                      <a:pt x="898" y="1276"/>
                      <a:pt x="920" y="1295"/>
                    </a:cubicBezTo>
                    <a:cubicBezTo>
                      <a:pt x="942" y="1314"/>
                      <a:pt x="955" y="1306"/>
                      <a:pt x="962" y="1304"/>
                    </a:cubicBezTo>
                    <a:cubicBezTo>
                      <a:pt x="969" y="1302"/>
                      <a:pt x="956" y="1280"/>
                      <a:pt x="962" y="1280"/>
                    </a:cubicBezTo>
                    <a:cubicBezTo>
                      <a:pt x="968" y="1280"/>
                      <a:pt x="984" y="1301"/>
                      <a:pt x="998" y="1304"/>
                    </a:cubicBezTo>
                    <a:cubicBezTo>
                      <a:pt x="1012" y="1307"/>
                      <a:pt x="1040" y="1302"/>
                      <a:pt x="1046" y="1298"/>
                    </a:cubicBezTo>
                    <a:cubicBezTo>
                      <a:pt x="1052" y="1294"/>
                      <a:pt x="1055" y="1302"/>
                      <a:pt x="1034" y="1277"/>
                    </a:cubicBezTo>
                    <a:cubicBezTo>
                      <a:pt x="1013" y="1252"/>
                      <a:pt x="935" y="1183"/>
                      <a:pt x="917" y="1148"/>
                    </a:cubicBezTo>
                    <a:cubicBezTo>
                      <a:pt x="899" y="1113"/>
                      <a:pt x="937" y="1095"/>
                      <a:pt x="926" y="1067"/>
                    </a:cubicBezTo>
                    <a:cubicBezTo>
                      <a:pt x="915" y="1039"/>
                      <a:pt x="926" y="1043"/>
                      <a:pt x="851" y="980"/>
                    </a:cubicBezTo>
                    <a:cubicBezTo>
                      <a:pt x="776" y="917"/>
                      <a:pt x="526" y="750"/>
                      <a:pt x="476" y="686"/>
                    </a:cubicBezTo>
                    <a:cubicBezTo>
                      <a:pt x="426" y="622"/>
                      <a:pt x="532" y="620"/>
                      <a:pt x="551" y="596"/>
                    </a:cubicBezTo>
                    <a:cubicBezTo>
                      <a:pt x="570" y="572"/>
                      <a:pt x="577" y="549"/>
                      <a:pt x="593" y="542"/>
                    </a:cubicBezTo>
                    <a:cubicBezTo>
                      <a:pt x="609" y="535"/>
                      <a:pt x="632" y="553"/>
                      <a:pt x="647" y="551"/>
                    </a:cubicBezTo>
                    <a:cubicBezTo>
                      <a:pt x="662" y="549"/>
                      <a:pt x="681" y="535"/>
                      <a:pt x="686" y="527"/>
                    </a:cubicBezTo>
                    <a:cubicBezTo>
                      <a:pt x="691" y="519"/>
                      <a:pt x="687" y="519"/>
                      <a:pt x="677" y="503"/>
                    </a:cubicBezTo>
                    <a:cubicBezTo>
                      <a:pt x="667" y="487"/>
                      <a:pt x="613" y="456"/>
                      <a:pt x="623" y="431"/>
                    </a:cubicBezTo>
                    <a:cubicBezTo>
                      <a:pt x="633" y="406"/>
                      <a:pt x="705" y="389"/>
                      <a:pt x="737" y="353"/>
                    </a:cubicBezTo>
                    <a:cubicBezTo>
                      <a:pt x="769" y="317"/>
                      <a:pt x="809" y="236"/>
                      <a:pt x="815" y="218"/>
                    </a:cubicBezTo>
                    <a:cubicBezTo>
                      <a:pt x="821" y="200"/>
                      <a:pt x="774" y="252"/>
                      <a:pt x="776" y="245"/>
                    </a:cubicBezTo>
                    <a:cubicBezTo>
                      <a:pt x="778" y="238"/>
                      <a:pt x="816" y="203"/>
                      <a:pt x="830" y="176"/>
                    </a:cubicBezTo>
                    <a:cubicBezTo>
                      <a:pt x="844" y="149"/>
                      <a:pt x="862" y="107"/>
                      <a:pt x="863" y="80"/>
                    </a:cubicBezTo>
                    <a:cubicBezTo>
                      <a:pt x="864" y="53"/>
                      <a:pt x="889" y="0"/>
                      <a:pt x="839" y="11"/>
                    </a:cubicBezTo>
                    <a:cubicBezTo>
                      <a:pt x="789" y="22"/>
                      <a:pt x="614" y="83"/>
                      <a:pt x="560" y="146"/>
                    </a:cubicBezTo>
                    <a:cubicBezTo>
                      <a:pt x="506" y="209"/>
                      <a:pt x="537" y="341"/>
                      <a:pt x="515" y="389"/>
                    </a:cubicBezTo>
                    <a:cubicBezTo>
                      <a:pt x="493" y="437"/>
                      <a:pt x="461" y="427"/>
                      <a:pt x="425" y="434"/>
                    </a:cubicBezTo>
                    <a:cubicBezTo>
                      <a:pt x="389" y="441"/>
                      <a:pt x="339" y="436"/>
                      <a:pt x="296" y="434"/>
                    </a:cubicBezTo>
                    <a:cubicBezTo>
                      <a:pt x="253" y="432"/>
                      <a:pt x="209" y="427"/>
                      <a:pt x="167" y="425"/>
                    </a:cubicBezTo>
                    <a:cubicBezTo>
                      <a:pt x="125" y="423"/>
                      <a:pt x="61" y="425"/>
                      <a:pt x="35" y="431"/>
                    </a:cubicBezTo>
                    <a:close/>
                  </a:path>
                </a:pathLst>
              </a:cu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11578680" y="4903200"/>
                <a:ext cx="2696040" cy="4473720"/>
              </a:xfrm>
              <a:custGeom>
                <a:avLst/>
                <a:gdLst>
                  <a:gd name="textAreaLeft" fmla="*/ 0 w 2696040"/>
                  <a:gd name="textAreaRight" fmla="*/ 2696400 w 2696040"/>
                  <a:gd name="textAreaTop" fmla="*/ 0 h 4473720"/>
                  <a:gd name="textAreaBottom" fmla="*/ 4474080 h 4473720"/>
                </a:gdLst>
                <a:ahLst/>
                <a:rect l="textAreaLeft" t="textAreaTop" r="textAreaRight" b="textAreaBottom"/>
                <a:pathLst>
                  <a:path w="1276" h="2117">
                    <a:moveTo>
                      <a:pt x="1276" y="2026"/>
                    </a:moveTo>
                    <a:cubicBezTo>
                      <a:pt x="1243" y="1997"/>
                      <a:pt x="1124" y="1921"/>
                      <a:pt x="1060" y="1879"/>
                    </a:cubicBezTo>
                    <a:cubicBezTo>
                      <a:pt x="996" y="1837"/>
                      <a:pt x="935" y="1812"/>
                      <a:pt x="892" y="1777"/>
                    </a:cubicBezTo>
                    <a:cubicBezTo>
                      <a:pt x="849" y="1742"/>
                      <a:pt x="835" y="1710"/>
                      <a:pt x="802" y="1666"/>
                    </a:cubicBezTo>
                    <a:cubicBezTo>
                      <a:pt x="769" y="1622"/>
                      <a:pt x="723" y="1553"/>
                      <a:pt x="691" y="1513"/>
                    </a:cubicBezTo>
                    <a:cubicBezTo>
                      <a:pt x="659" y="1473"/>
                      <a:pt x="630" y="1443"/>
                      <a:pt x="610" y="1426"/>
                    </a:cubicBezTo>
                    <a:cubicBezTo>
                      <a:pt x="590" y="1409"/>
                      <a:pt x="571" y="1418"/>
                      <a:pt x="571" y="1408"/>
                    </a:cubicBezTo>
                    <a:cubicBezTo>
                      <a:pt x="571" y="1398"/>
                      <a:pt x="598" y="1375"/>
                      <a:pt x="609" y="1365"/>
                    </a:cubicBezTo>
                    <a:cubicBezTo>
                      <a:pt x="620" y="1355"/>
                      <a:pt x="631" y="1354"/>
                      <a:pt x="640" y="1345"/>
                    </a:cubicBezTo>
                    <a:cubicBezTo>
                      <a:pt x="649" y="1336"/>
                      <a:pt x="654" y="1315"/>
                      <a:pt x="661" y="1312"/>
                    </a:cubicBezTo>
                    <a:cubicBezTo>
                      <a:pt x="668" y="1309"/>
                      <a:pt x="679" y="1327"/>
                      <a:pt x="685" y="1327"/>
                    </a:cubicBezTo>
                    <a:cubicBezTo>
                      <a:pt x="691" y="1327"/>
                      <a:pt x="698" y="1315"/>
                      <a:pt x="697" y="1309"/>
                    </a:cubicBezTo>
                    <a:cubicBezTo>
                      <a:pt x="696" y="1303"/>
                      <a:pt x="674" y="1291"/>
                      <a:pt x="676" y="1288"/>
                    </a:cubicBezTo>
                    <a:cubicBezTo>
                      <a:pt x="678" y="1285"/>
                      <a:pt x="701" y="1295"/>
                      <a:pt x="709" y="1294"/>
                    </a:cubicBezTo>
                    <a:cubicBezTo>
                      <a:pt x="717" y="1293"/>
                      <a:pt x="724" y="1284"/>
                      <a:pt x="724" y="1279"/>
                    </a:cubicBezTo>
                    <a:cubicBezTo>
                      <a:pt x="724" y="1274"/>
                      <a:pt x="701" y="1268"/>
                      <a:pt x="706" y="1261"/>
                    </a:cubicBezTo>
                    <a:cubicBezTo>
                      <a:pt x="711" y="1254"/>
                      <a:pt x="744" y="1248"/>
                      <a:pt x="757" y="1237"/>
                    </a:cubicBezTo>
                    <a:cubicBezTo>
                      <a:pt x="770" y="1226"/>
                      <a:pt x="788" y="1203"/>
                      <a:pt x="784" y="1195"/>
                    </a:cubicBezTo>
                    <a:cubicBezTo>
                      <a:pt x="780" y="1187"/>
                      <a:pt x="734" y="1194"/>
                      <a:pt x="733" y="1189"/>
                    </a:cubicBezTo>
                    <a:cubicBezTo>
                      <a:pt x="732" y="1184"/>
                      <a:pt x="760" y="1176"/>
                      <a:pt x="775" y="1165"/>
                    </a:cubicBezTo>
                    <a:cubicBezTo>
                      <a:pt x="790" y="1154"/>
                      <a:pt x="819" y="1134"/>
                      <a:pt x="826" y="1123"/>
                    </a:cubicBezTo>
                    <a:cubicBezTo>
                      <a:pt x="833" y="1112"/>
                      <a:pt x="826" y="1097"/>
                      <a:pt x="814" y="1099"/>
                    </a:cubicBezTo>
                    <a:cubicBezTo>
                      <a:pt x="802" y="1101"/>
                      <a:pt x="753" y="1139"/>
                      <a:pt x="751" y="1135"/>
                    </a:cubicBezTo>
                    <a:cubicBezTo>
                      <a:pt x="749" y="1131"/>
                      <a:pt x="781" y="1097"/>
                      <a:pt x="799" y="1075"/>
                    </a:cubicBezTo>
                    <a:cubicBezTo>
                      <a:pt x="817" y="1053"/>
                      <a:pt x="853" y="1021"/>
                      <a:pt x="862" y="1003"/>
                    </a:cubicBezTo>
                    <a:cubicBezTo>
                      <a:pt x="871" y="985"/>
                      <a:pt x="865" y="965"/>
                      <a:pt x="856" y="967"/>
                    </a:cubicBezTo>
                    <a:cubicBezTo>
                      <a:pt x="847" y="969"/>
                      <a:pt x="821" y="1003"/>
                      <a:pt x="808" y="1015"/>
                    </a:cubicBezTo>
                    <a:cubicBezTo>
                      <a:pt x="795" y="1027"/>
                      <a:pt x="775" y="1037"/>
                      <a:pt x="775" y="1036"/>
                    </a:cubicBezTo>
                    <a:cubicBezTo>
                      <a:pt x="775" y="1035"/>
                      <a:pt x="791" y="1025"/>
                      <a:pt x="805" y="1009"/>
                    </a:cubicBezTo>
                    <a:cubicBezTo>
                      <a:pt x="819" y="993"/>
                      <a:pt x="841" y="967"/>
                      <a:pt x="856" y="943"/>
                    </a:cubicBezTo>
                    <a:cubicBezTo>
                      <a:pt x="871" y="919"/>
                      <a:pt x="891" y="880"/>
                      <a:pt x="895" y="865"/>
                    </a:cubicBezTo>
                    <a:cubicBezTo>
                      <a:pt x="899" y="850"/>
                      <a:pt x="874" y="863"/>
                      <a:pt x="877" y="853"/>
                    </a:cubicBezTo>
                    <a:cubicBezTo>
                      <a:pt x="880" y="843"/>
                      <a:pt x="901" y="823"/>
                      <a:pt x="913" y="805"/>
                    </a:cubicBezTo>
                    <a:cubicBezTo>
                      <a:pt x="925" y="787"/>
                      <a:pt x="944" y="764"/>
                      <a:pt x="949" y="748"/>
                    </a:cubicBezTo>
                    <a:cubicBezTo>
                      <a:pt x="954" y="732"/>
                      <a:pt x="950" y="711"/>
                      <a:pt x="943" y="709"/>
                    </a:cubicBezTo>
                    <a:cubicBezTo>
                      <a:pt x="936" y="707"/>
                      <a:pt x="903" y="744"/>
                      <a:pt x="904" y="733"/>
                    </a:cubicBezTo>
                    <a:cubicBezTo>
                      <a:pt x="905" y="722"/>
                      <a:pt x="943" y="666"/>
                      <a:pt x="952" y="640"/>
                    </a:cubicBezTo>
                    <a:cubicBezTo>
                      <a:pt x="961" y="614"/>
                      <a:pt x="964" y="582"/>
                      <a:pt x="958" y="577"/>
                    </a:cubicBezTo>
                    <a:cubicBezTo>
                      <a:pt x="952" y="572"/>
                      <a:pt x="929" y="599"/>
                      <a:pt x="916" y="610"/>
                    </a:cubicBezTo>
                    <a:cubicBezTo>
                      <a:pt x="903" y="621"/>
                      <a:pt x="881" y="648"/>
                      <a:pt x="883" y="640"/>
                    </a:cubicBezTo>
                    <a:cubicBezTo>
                      <a:pt x="885" y="632"/>
                      <a:pt x="914" y="591"/>
                      <a:pt x="925" y="562"/>
                    </a:cubicBezTo>
                    <a:cubicBezTo>
                      <a:pt x="936" y="533"/>
                      <a:pt x="946" y="488"/>
                      <a:pt x="949" y="466"/>
                    </a:cubicBezTo>
                    <a:cubicBezTo>
                      <a:pt x="952" y="444"/>
                      <a:pt x="957" y="416"/>
                      <a:pt x="943" y="427"/>
                    </a:cubicBezTo>
                    <a:cubicBezTo>
                      <a:pt x="929" y="438"/>
                      <a:pt x="889" y="493"/>
                      <a:pt x="865" y="532"/>
                    </a:cubicBezTo>
                    <a:cubicBezTo>
                      <a:pt x="877" y="499"/>
                      <a:pt x="878" y="483"/>
                      <a:pt x="886" y="454"/>
                    </a:cubicBezTo>
                    <a:cubicBezTo>
                      <a:pt x="894" y="425"/>
                      <a:pt x="911" y="375"/>
                      <a:pt x="913" y="355"/>
                    </a:cubicBezTo>
                    <a:cubicBezTo>
                      <a:pt x="915" y="335"/>
                      <a:pt x="911" y="322"/>
                      <a:pt x="901" y="331"/>
                    </a:cubicBezTo>
                    <a:cubicBezTo>
                      <a:pt x="891" y="340"/>
                      <a:pt x="864" y="386"/>
                      <a:pt x="850" y="409"/>
                    </a:cubicBezTo>
                    <a:cubicBezTo>
                      <a:pt x="836" y="432"/>
                      <a:pt x="815" y="473"/>
                      <a:pt x="814" y="469"/>
                    </a:cubicBezTo>
                    <a:cubicBezTo>
                      <a:pt x="813" y="465"/>
                      <a:pt x="837" y="416"/>
                      <a:pt x="847" y="385"/>
                    </a:cubicBezTo>
                    <a:cubicBezTo>
                      <a:pt x="857" y="354"/>
                      <a:pt x="871" y="307"/>
                      <a:pt x="874" y="283"/>
                    </a:cubicBezTo>
                    <a:cubicBezTo>
                      <a:pt x="877" y="259"/>
                      <a:pt x="886" y="222"/>
                      <a:pt x="868" y="241"/>
                    </a:cubicBezTo>
                    <a:cubicBezTo>
                      <a:pt x="850" y="260"/>
                      <a:pt x="774" y="394"/>
                      <a:pt x="766" y="394"/>
                    </a:cubicBezTo>
                    <a:cubicBezTo>
                      <a:pt x="784" y="334"/>
                      <a:pt x="805" y="297"/>
                      <a:pt x="817" y="244"/>
                    </a:cubicBezTo>
                    <a:cubicBezTo>
                      <a:pt x="829" y="191"/>
                      <a:pt x="853" y="67"/>
                      <a:pt x="838" y="76"/>
                    </a:cubicBezTo>
                    <a:cubicBezTo>
                      <a:pt x="823" y="85"/>
                      <a:pt x="748" y="241"/>
                      <a:pt x="724" y="298"/>
                    </a:cubicBezTo>
                    <a:cubicBezTo>
                      <a:pt x="748" y="223"/>
                      <a:pt x="780" y="140"/>
                      <a:pt x="790" y="91"/>
                    </a:cubicBezTo>
                    <a:cubicBezTo>
                      <a:pt x="800" y="42"/>
                      <a:pt x="797" y="0"/>
                      <a:pt x="784" y="4"/>
                    </a:cubicBezTo>
                    <a:cubicBezTo>
                      <a:pt x="771" y="8"/>
                      <a:pt x="743" y="52"/>
                      <a:pt x="709" y="118"/>
                    </a:cubicBezTo>
                    <a:cubicBezTo>
                      <a:pt x="675" y="184"/>
                      <a:pt x="615" y="312"/>
                      <a:pt x="577" y="403"/>
                    </a:cubicBezTo>
                    <a:cubicBezTo>
                      <a:pt x="539" y="494"/>
                      <a:pt x="506" y="576"/>
                      <a:pt x="481" y="661"/>
                    </a:cubicBezTo>
                    <a:cubicBezTo>
                      <a:pt x="456" y="746"/>
                      <a:pt x="443" y="830"/>
                      <a:pt x="427" y="916"/>
                    </a:cubicBezTo>
                    <a:cubicBezTo>
                      <a:pt x="411" y="1002"/>
                      <a:pt x="393" y="1118"/>
                      <a:pt x="382" y="1177"/>
                    </a:cubicBezTo>
                    <a:cubicBezTo>
                      <a:pt x="371" y="1236"/>
                      <a:pt x="364" y="1250"/>
                      <a:pt x="358" y="1273"/>
                    </a:cubicBezTo>
                    <a:cubicBezTo>
                      <a:pt x="352" y="1296"/>
                      <a:pt x="349" y="1318"/>
                      <a:pt x="346" y="1315"/>
                    </a:cubicBezTo>
                    <a:cubicBezTo>
                      <a:pt x="343" y="1312"/>
                      <a:pt x="342" y="1275"/>
                      <a:pt x="340" y="1254"/>
                    </a:cubicBezTo>
                    <a:cubicBezTo>
                      <a:pt x="291" y="1246"/>
                      <a:pt x="249" y="1238"/>
                      <a:pt x="208" y="1228"/>
                    </a:cubicBezTo>
                    <a:cubicBezTo>
                      <a:pt x="167" y="1218"/>
                      <a:pt x="122" y="1200"/>
                      <a:pt x="91" y="1195"/>
                    </a:cubicBezTo>
                    <a:cubicBezTo>
                      <a:pt x="60" y="1190"/>
                      <a:pt x="34" y="1189"/>
                      <a:pt x="19" y="1198"/>
                    </a:cubicBezTo>
                    <a:cubicBezTo>
                      <a:pt x="4" y="1207"/>
                      <a:pt x="0" y="1233"/>
                      <a:pt x="1" y="1249"/>
                    </a:cubicBezTo>
                    <a:cubicBezTo>
                      <a:pt x="2" y="1265"/>
                      <a:pt x="6" y="1282"/>
                      <a:pt x="25" y="1294"/>
                    </a:cubicBezTo>
                    <a:cubicBezTo>
                      <a:pt x="44" y="1306"/>
                      <a:pt x="87" y="1306"/>
                      <a:pt x="115" y="1321"/>
                    </a:cubicBezTo>
                    <a:cubicBezTo>
                      <a:pt x="143" y="1336"/>
                      <a:pt x="173" y="1367"/>
                      <a:pt x="193" y="1387"/>
                    </a:cubicBezTo>
                    <a:cubicBezTo>
                      <a:pt x="213" y="1407"/>
                      <a:pt x="230" y="1439"/>
                      <a:pt x="238" y="1444"/>
                    </a:cubicBezTo>
                    <a:cubicBezTo>
                      <a:pt x="246" y="1449"/>
                      <a:pt x="237" y="1431"/>
                      <a:pt x="241" y="1417"/>
                    </a:cubicBezTo>
                    <a:cubicBezTo>
                      <a:pt x="245" y="1403"/>
                      <a:pt x="260" y="1357"/>
                      <a:pt x="265" y="1357"/>
                    </a:cubicBezTo>
                    <a:cubicBezTo>
                      <a:pt x="270" y="1357"/>
                      <a:pt x="270" y="1400"/>
                      <a:pt x="274" y="1420"/>
                    </a:cubicBezTo>
                    <a:cubicBezTo>
                      <a:pt x="278" y="1440"/>
                      <a:pt x="265" y="1447"/>
                      <a:pt x="286" y="1477"/>
                    </a:cubicBezTo>
                    <a:cubicBezTo>
                      <a:pt x="307" y="1507"/>
                      <a:pt x="352" y="1561"/>
                      <a:pt x="400" y="1600"/>
                    </a:cubicBezTo>
                    <a:cubicBezTo>
                      <a:pt x="448" y="1639"/>
                      <a:pt x="531" y="1684"/>
                      <a:pt x="577" y="1711"/>
                    </a:cubicBezTo>
                    <a:cubicBezTo>
                      <a:pt x="623" y="1738"/>
                      <a:pt x="656" y="1748"/>
                      <a:pt x="679" y="1762"/>
                    </a:cubicBezTo>
                    <a:cubicBezTo>
                      <a:pt x="702" y="1776"/>
                      <a:pt x="696" y="1788"/>
                      <a:pt x="715" y="1798"/>
                    </a:cubicBezTo>
                    <a:cubicBezTo>
                      <a:pt x="734" y="1808"/>
                      <a:pt x="770" y="1818"/>
                      <a:pt x="793" y="1822"/>
                    </a:cubicBezTo>
                    <a:cubicBezTo>
                      <a:pt x="816" y="1826"/>
                      <a:pt x="851" y="1821"/>
                      <a:pt x="856" y="1825"/>
                    </a:cubicBezTo>
                    <a:cubicBezTo>
                      <a:pt x="861" y="1829"/>
                      <a:pt x="836" y="1839"/>
                      <a:pt x="826" y="1846"/>
                    </a:cubicBezTo>
                    <a:cubicBezTo>
                      <a:pt x="816" y="1853"/>
                      <a:pt x="792" y="1854"/>
                      <a:pt x="796" y="1867"/>
                    </a:cubicBezTo>
                    <a:cubicBezTo>
                      <a:pt x="800" y="1880"/>
                      <a:pt x="819" y="1891"/>
                      <a:pt x="850" y="1924"/>
                    </a:cubicBezTo>
                    <a:cubicBezTo>
                      <a:pt x="881" y="1957"/>
                      <a:pt x="948" y="2032"/>
                      <a:pt x="979" y="2062"/>
                    </a:cubicBezTo>
                    <a:cubicBezTo>
                      <a:pt x="1010" y="2092"/>
                      <a:pt x="1022" y="2098"/>
                      <a:pt x="1036" y="2107"/>
                    </a:cubicBezTo>
                    <a:cubicBezTo>
                      <a:pt x="1050" y="2116"/>
                      <a:pt x="1055" y="2116"/>
                      <a:pt x="1063" y="2116"/>
                    </a:cubicBezTo>
                    <a:cubicBezTo>
                      <a:pt x="1071" y="2116"/>
                      <a:pt x="1075" y="2117"/>
                      <a:pt x="1084" y="2107"/>
                    </a:cubicBezTo>
                    <a:cubicBezTo>
                      <a:pt x="1071" y="2091"/>
                      <a:pt x="989" y="2016"/>
                      <a:pt x="988" y="2017"/>
                    </a:cubicBezTo>
                    <a:cubicBezTo>
                      <a:pt x="987" y="2018"/>
                      <a:pt x="1069" y="2091"/>
                      <a:pt x="1093" y="2101"/>
                    </a:cubicBezTo>
                    <a:cubicBezTo>
                      <a:pt x="1107" y="2085"/>
                      <a:pt x="1111" y="2091"/>
                      <a:pt x="1132" y="2077"/>
                    </a:cubicBezTo>
                    <a:cubicBezTo>
                      <a:pt x="1103" y="2063"/>
                      <a:pt x="1034" y="2011"/>
                      <a:pt x="1036" y="2011"/>
                    </a:cubicBezTo>
                    <a:cubicBezTo>
                      <a:pt x="1038" y="2011"/>
                      <a:pt x="1113" y="2059"/>
                      <a:pt x="1147" y="2080"/>
                    </a:cubicBezTo>
                    <a:cubicBezTo>
                      <a:pt x="1185" y="2079"/>
                      <a:pt x="1203" y="2071"/>
                      <a:pt x="1246" y="2068"/>
                    </a:cubicBezTo>
                    <a:cubicBezTo>
                      <a:pt x="1227" y="2045"/>
                      <a:pt x="1120" y="1968"/>
                      <a:pt x="1123" y="1966"/>
                    </a:cubicBezTo>
                    <a:cubicBezTo>
                      <a:pt x="1126" y="1964"/>
                      <a:pt x="1236" y="2047"/>
                      <a:pt x="1261" y="2056"/>
                    </a:cubicBezTo>
                    <a:cubicBezTo>
                      <a:pt x="1269" y="2045"/>
                      <a:pt x="1273" y="2041"/>
                      <a:pt x="1276" y="2026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12440520" y="5894280"/>
                <a:ext cx="785880" cy="2026080"/>
                <a:chOff x="12440520" y="5894280"/>
                <a:chExt cx="785880" cy="2026080"/>
              </a:xfrm>
            </p:grpSpPr>
            <p:sp>
              <p:nvSpPr>
                <p:cNvPr id="287" name="Freeform 248"/>
                <p:cNvSpPr/>
                <p:nvPr/>
              </p:nvSpPr>
              <p:spPr>
                <a:xfrm>
                  <a:off x="12440520" y="5894280"/>
                  <a:ext cx="785880" cy="2026080"/>
                </a:xfrm>
                <a:custGeom>
                  <a:avLst/>
                  <a:gdLst>
                    <a:gd name="textAreaLeft" fmla="*/ 0 w 785880"/>
                    <a:gd name="textAreaRight" fmla="*/ 786240 w 785880"/>
                    <a:gd name="textAreaTop" fmla="*/ 0 h 2026080"/>
                    <a:gd name="textAreaBottom" fmla="*/ 2026440 h 2026080"/>
                  </a:gdLst>
                  <a:ahLst/>
                  <a:rect l="textAreaLeft" t="textAreaTop" r="textAreaRight" b="textAreaBottom"/>
                  <a:pathLst>
                    <a:path w="372" h="959">
                      <a:moveTo>
                        <a:pt x="187" y="954"/>
                      </a:moveTo>
                      <a:cubicBezTo>
                        <a:pt x="170" y="959"/>
                        <a:pt x="117" y="945"/>
                        <a:pt x="91" y="936"/>
                      </a:cubicBezTo>
                      <a:cubicBezTo>
                        <a:pt x="65" y="927"/>
                        <a:pt x="43" y="912"/>
                        <a:pt x="28" y="900"/>
                      </a:cubicBezTo>
                      <a:cubicBezTo>
                        <a:pt x="13" y="888"/>
                        <a:pt x="0" y="881"/>
                        <a:pt x="1" y="867"/>
                      </a:cubicBezTo>
                      <a:cubicBezTo>
                        <a:pt x="2" y="853"/>
                        <a:pt x="24" y="849"/>
                        <a:pt x="34" y="816"/>
                      </a:cubicBezTo>
                      <a:cubicBezTo>
                        <a:pt x="44" y="783"/>
                        <a:pt x="58" y="734"/>
                        <a:pt x="64" y="669"/>
                      </a:cubicBezTo>
                      <a:cubicBezTo>
                        <a:pt x="70" y="604"/>
                        <a:pt x="40" y="533"/>
                        <a:pt x="73" y="423"/>
                      </a:cubicBezTo>
                      <a:cubicBezTo>
                        <a:pt x="106" y="313"/>
                        <a:pt x="244" y="0"/>
                        <a:pt x="265" y="6"/>
                      </a:cubicBezTo>
                      <a:cubicBezTo>
                        <a:pt x="286" y="12"/>
                        <a:pt x="257" y="141"/>
                        <a:pt x="265" y="162"/>
                      </a:cubicBezTo>
                      <a:cubicBezTo>
                        <a:pt x="273" y="183"/>
                        <a:pt x="307" y="118"/>
                        <a:pt x="316" y="132"/>
                      </a:cubicBezTo>
                      <a:cubicBezTo>
                        <a:pt x="325" y="146"/>
                        <a:pt x="311" y="234"/>
                        <a:pt x="319" y="249"/>
                      </a:cubicBezTo>
                      <a:cubicBezTo>
                        <a:pt x="327" y="264"/>
                        <a:pt x="359" y="205"/>
                        <a:pt x="361" y="225"/>
                      </a:cubicBezTo>
                      <a:cubicBezTo>
                        <a:pt x="363" y="245"/>
                        <a:pt x="329" y="348"/>
                        <a:pt x="331" y="369"/>
                      </a:cubicBezTo>
                      <a:cubicBezTo>
                        <a:pt x="333" y="390"/>
                        <a:pt x="368" y="327"/>
                        <a:pt x="370" y="351"/>
                      </a:cubicBezTo>
                      <a:cubicBezTo>
                        <a:pt x="372" y="375"/>
                        <a:pt x="359" y="466"/>
                        <a:pt x="343" y="516"/>
                      </a:cubicBezTo>
                      <a:cubicBezTo>
                        <a:pt x="327" y="566"/>
                        <a:pt x="282" y="627"/>
                        <a:pt x="277" y="648"/>
                      </a:cubicBezTo>
                      <a:cubicBezTo>
                        <a:pt x="272" y="669"/>
                        <a:pt x="304" y="627"/>
                        <a:pt x="313" y="642"/>
                      </a:cubicBezTo>
                      <a:cubicBezTo>
                        <a:pt x="322" y="657"/>
                        <a:pt x="254" y="721"/>
                        <a:pt x="247" y="741"/>
                      </a:cubicBezTo>
                      <a:cubicBezTo>
                        <a:pt x="240" y="761"/>
                        <a:pt x="290" y="734"/>
                        <a:pt x="271" y="762"/>
                      </a:cubicBezTo>
                      <a:cubicBezTo>
                        <a:pt x="252" y="790"/>
                        <a:pt x="142" y="888"/>
                        <a:pt x="130" y="912"/>
                      </a:cubicBezTo>
                      <a:cubicBezTo>
                        <a:pt x="118" y="936"/>
                        <a:pt x="187" y="900"/>
                        <a:pt x="196" y="906"/>
                      </a:cubicBezTo>
                      <a:cubicBezTo>
                        <a:pt x="193" y="936"/>
                        <a:pt x="204" y="949"/>
                        <a:pt x="187" y="954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49"/>
                <p:cNvSpPr/>
                <p:nvPr/>
              </p:nvSpPr>
              <p:spPr>
                <a:xfrm>
                  <a:off x="12799800" y="6441120"/>
                  <a:ext cx="255240" cy="936000"/>
                </a:xfrm>
                <a:custGeom>
                  <a:avLst/>
                  <a:gdLst>
                    <a:gd name="textAreaLeft" fmla="*/ 0 w 255240"/>
                    <a:gd name="textAreaRight" fmla="*/ 255600 w 255240"/>
                    <a:gd name="textAreaTop" fmla="*/ 0 h 936000"/>
                    <a:gd name="textAreaBottom" fmla="*/ 936360 h 936000"/>
                  </a:gdLst>
                  <a:ahLst/>
                  <a:rect l="textAreaLeft" t="textAreaTop" r="textAreaRight" b="textAreaBottom"/>
                  <a:pathLst>
                    <a:path w="121" h="443">
                      <a:moveTo>
                        <a:pt x="68" y="2"/>
                      </a:moveTo>
                      <a:cubicBezTo>
                        <a:pt x="72" y="0"/>
                        <a:pt x="76" y="32"/>
                        <a:pt x="74" y="50"/>
                      </a:cubicBezTo>
                      <a:cubicBezTo>
                        <a:pt x="72" y="68"/>
                        <a:pt x="65" y="95"/>
                        <a:pt x="56" y="110"/>
                      </a:cubicBezTo>
                      <a:cubicBezTo>
                        <a:pt x="74" y="107"/>
                        <a:pt x="88" y="91"/>
                        <a:pt x="95" y="101"/>
                      </a:cubicBezTo>
                      <a:cubicBezTo>
                        <a:pt x="102" y="111"/>
                        <a:pt x="101" y="145"/>
                        <a:pt x="98" y="170"/>
                      </a:cubicBezTo>
                      <a:cubicBezTo>
                        <a:pt x="95" y="195"/>
                        <a:pt x="92" y="224"/>
                        <a:pt x="74" y="251"/>
                      </a:cubicBezTo>
                      <a:cubicBezTo>
                        <a:pt x="89" y="248"/>
                        <a:pt x="111" y="226"/>
                        <a:pt x="116" y="233"/>
                      </a:cubicBezTo>
                      <a:cubicBezTo>
                        <a:pt x="121" y="240"/>
                        <a:pt x="109" y="277"/>
                        <a:pt x="104" y="293"/>
                      </a:cubicBezTo>
                      <a:cubicBezTo>
                        <a:pt x="99" y="309"/>
                        <a:pt x="84" y="322"/>
                        <a:pt x="83" y="332"/>
                      </a:cubicBezTo>
                      <a:cubicBezTo>
                        <a:pt x="82" y="342"/>
                        <a:pt x="102" y="343"/>
                        <a:pt x="98" y="356"/>
                      </a:cubicBezTo>
                      <a:cubicBezTo>
                        <a:pt x="94" y="369"/>
                        <a:pt x="73" y="397"/>
                        <a:pt x="59" y="410"/>
                      </a:cubicBezTo>
                      <a:cubicBezTo>
                        <a:pt x="45" y="423"/>
                        <a:pt x="14" y="443"/>
                        <a:pt x="14" y="437"/>
                      </a:cubicBezTo>
                      <a:cubicBezTo>
                        <a:pt x="14" y="431"/>
                        <a:pt x="54" y="389"/>
                        <a:pt x="56" y="371"/>
                      </a:cubicBezTo>
                      <a:cubicBezTo>
                        <a:pt x="58" y="353"/>
                        <a:pt x="30" y="351"/>
                        <a:pt x="26" y="326"/>
                      </a:cubicBezTo>
                      <a:cubicBezTo>
                        <a:pt x="22" y="301"/>
                        <a:pt x="36" y="248"/>
                        <a:pt x="32" y="221"/>
                      </a:cubicBezTo>
                      <a:cubicBezTo>
                        <a:pt x="28" y="194"/>
                        <a:pt x="0" y="187"/>
                        <a:pt x="2" y="161"/>
                      </a:cubicBezTo>
                      <a:cubicBezTo>
                        <a:pt x="4" y="135"/>
                        <a:pt x="36" y="89"/>
                        <a:pt x="47" y="62"/>
                      </a:cubicBezTo>
                      <a:cubicBezTo>
                        <a:pt x="58" y="35"/>
                        <a:pt x="64" y="4"/>
                        <a:pt x="68" y="2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50"/>
                <p:cNvSpPr/>
                <p:nvPr/>
              </p:nvSpPr>
              <p:spPr>
                <a:xfrm>
                  <a:off x="12590280" y="7463880"/>
                  <a:ext cx="278640" cy="255600"/>
                </a:xfrm>
                <a:custGeom>
                  <a:avLst/>
                  <a:gdLst>
                    <a:gd name="textAreaLeft" fmla="*/ 0 w 278640"/>
                    <a:gd name="textAreaRight" fmla="*/ 279000 w 27864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w="132" h="121">
                      <a:moveTo>
                        <a:pt x="110" y="1"/>
                      </a:moveTo>
                      <a:cubicBezTo>
                        <a:pt x="115" y="2"/>
                        <a:pt x="132" y="20"/>
                        <a:pt x="131" y="28"/>
                      </a:cubicBezTo>
                      <a:cubicBezTo>
                        <a:pt x="130" y="36"/>
                        <a:pt x="104" y="40"/>
                        <a:pt x="101" y="49"/>
                      </a:cubicBezTo>
                      <a:cubicBezTo>
                        <a:pt x="98" y="58"/>
                        <a:pt x="120" y="71"/>
                        <a:pt x="113" y="82"/>
                      </a:cubicBezTo>
                      <a:cubicBezTo>
                        <a:pt x="106" y="93"/>
                        <a:pt x="80" y="109"/>
                        <a:pt x="62" y="115"/>
                      </a:cubicBezTo>
                      <a:cubicBezTo>
                        <a:pt x="44" y="121"/>
                        <a:pt x="4" y="119"/>
                        <a:pt x="2" y="118"/>
                      </a:cubicBezTo>
                      <a:cubicBezTo>
                        <a:pt x="0" y="117"/>
                        <a:pt x="37" y="111"/>
                        <a:pt x="50" y="106"/>
                      </a:cubicBezTo>
                      <a:cubicBezTo>
                        <a:pt x="63" y="101"/>
                        <a:pt x="82" y="95"/>
                        <a:pt x="83" y="85"/>
                      </a:cubicBezTo>
                      <a:cubicBezTo>
                        <a:pt x="84" y="75"/>
                        <a:pt x="57" y="57"/>
                        <a:pt x="59" y="46"/>
                      </a:cubicBezTo>
                      <a:cubicBezTo>
                        <a:pt x="61" y="35"/>
                        <a:pt x="90" y="28"/>
                        <a:pt x="98" y="19"/>
                      </a:cubicBezTo>
                      <a:cubicBezTo>
                        <a:pt x="106" y="10"/>
                        <a:pt x="105" y="0"/>
                        <a:pt x="110" y="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Oval 251"/>
              <p:cNvSpPr/>
              <p:nvPr/>
            </p:nvSpPr>
            <p:spPr>
              <a:xfrm>
                <a:off x="11608200" y="7491960"/>
                <a:ext cx="22680" cy="226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252"/>
            <p:cNvSpPr/>
            <p:nvPr/>
          </p:nvSpPr>
          <p:spPr>
            <a:xfrm>
              <a:off x="10630080" y="4757760"/>
              <a:ext cx="4133160" cy="52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0630080" y="4757760"/>
            <a:ext cx="4133160" cy="5223960"/>
            <a:chOff x="10630080" y="4757760"/>
            <a:chExt cx="4133160" cy="5223960"/>
          </a:xfrm>
        </p:grpSpPr>
        <p:grpSp>
          <p:nvGrpSpPr>
            <p:cNvPr id="293" name=""/>
            <p:cNvGrpSpPr/>
            <p:nvPr/>
          </p:nvGrpSpPr>
          <p:grpSpPr>
            <a:xfrm>
              <a:off x="11293560" y="7413840"/>
              <a:ext cx="2987280" cy="1985400"/>
              <a:chOff x="11293560" y="7413840"/>
              <a:chExt cx="2987280" cy="198540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12666960" y="7927200"/>
                <a:ext cx="998640" cy="1042920"/>
                <a:chOff x="12666960" y="7927200"/>
                <a:chExt cx="998640" cy="1042920"/>
              </a:xfrm>
            </p:grpSpPr>
            <p:sp>
              <p:nvSpPr>
                <p:cNvPr id="295" name="Freeform 256"/>
                <p:cNvSpPr/>
                <p:nvPr/>
              </p:nvSpPr>
              <p:spPr>
                <a:xfrm>
                  <a:off x="12724920" y="8038800"/>
                  <a:ext cx="940680" cy="931320"/>
                </a:xfrm>
                <a:custGeom>
                  <a:avLst/>
                  <a:gdLst>
                    <a:gd name="textAreaLeft" fmla="*/ 0 w 940680"/>
                    <a:gd name="textAreaRight" fmla="*/ 941040 w 940680"/>
                    <a:gd name="textAreaTop" fmla="*/ 0 h 931320"/>
                    <a:gd name="textAreaBottom" fmla="*/ 931680 h 931320"/>
                  </a:gdLst>
                  <a:ahLst/>
                  <a:rect l="textAreaLeft" t="textAreaTop" r="textAreaRight" b="textAreaBottom"/>
                  <a:pathLst>
                    <a:path w="370" h="367">
                      <a:moveTo>
                        <a:pt x="296" y="20"/>
                      </a:moveTo>
                      <a:cubicBezTo>
                        <a:pt x="311" y="28"/>
                        <a:pt x="321" y="33"/>
                        <a:pt x="333" y="48"/>
                      </a:cubicBezTo>
                      <a:cubicBezTo>
                        <a:pt x="345" y="63"/>
                        <a:pt x="362" y="92"/>
                        <a:pt x="366" y="113"/>
                      </a:cubicBezTo>
                      <a:cubicBezTo>
                        <a:pt x="370" y="134"/>
                        <a:pt x="359" y="169"/>
                        <a:pt x="355" y="177"/>
                      </a:cubicBezTo>
                      <a:cubicBezTo>
                        <a:pt x="351" y="185"/>
                        <a:pt x="342" y="155"/>
                        <a:pt x="340" y="159"/>
                      </a:cubicBezTo>
                      <a:cubicBezTo>
                        <a:pt x="338" y="163"/>
                        <a:pt x="343" y="185"/>
                        <a:pt x="342" y="204"/>
                      </a:cubicBezTo>
                      <a:cubicBezTo>
                        <a:pt x="341" y="223"/>
                        <a:pt x="339" y="271"/>
                        <a:pt x="334" y="276"/>
                      </a:cubicBezTo>
                      <a:cubicBezTo>
                        <a:pt x="329" y="281"/>
                        <a:pt x="317" y="239"/>
                        <a:pt x="314" y="237"/>
                      </a:cubicBezTo>
                      <a:cubicBezTo>
                        <a:pt x="311" y="235"/>
                        <a:pt x="316" y="246"/>
                        <a:pt x="317" y="264"/>
                      </a:cubicBezTo>
                      <a:cubicBezTo>
                        <a:pt x="318" y="282"/>
                        <a:pt x="324" y="342"/>
                        <a:pt x="320" y="348"/>
                      </a:cubicBezTo>
                      <a:cubicBezTo>
                        <a:pt x="316" y="354"/>
                        <a:pt x="300" y="305"/>
                        <a:pt x="295" y="299"/>
                      </a:cubicBezTo>
                      <a:cubicBezTo>
                        <a:pt x="290" y="293"/>
                        <a:pt x="294" y="304"/>
                        <a:pt x="292" y="315"/>
                      </a:cubicBezTo>
                      <a:cubicBezTo>
                        <a:pt x="290" y="326"/>
                        <a:pt x="290" y="367"/>
                        <a:pt x="283" y="366"/>
                      </a:cubicBezTo>
                      <a:cubicBezTo>
                        <a:pt x="276" y="365"/>
                        <a:pt x="273" y="335"/>
                        <a:pt x="247" y="308"/>
                      </a:cubicBezTo>
                      <a:cubicBezTo>
                        <a:pt x="221" y="281"/>
                        <a:pt x="165" y="238"/>
                        <a:pt x="127" y="206"/>
                      </a:cubicBezTo>
                      <a:cubicBezTo>
                        <a:pt x="89" y="174"/>
                        <a:pt x="34" y="138"/>
                        <a:pt x="17" y="117"/>
                      </a:cubicBezTo>
                      <a:cubicBezTo>
                        <a:pt x="0" y="96"/>
                        <a:pt x="11" y="93"/>
                        <a:pt x="26" y="77"/>
                      </a:cubicBezTo>
                      <a:cubicBezTo>
                        <a:pt x="41" y="61"/>
                        <a:pt x="69" y="36"/>
                        <a:pt x="106" y="23"/>
                      </a:cubicBezTo>
                      <a:cubicBezTo>
                        <a:pt x="143" y="10"/>
                        <a:pt x="213" y="0"/>
                        <a:pt x="245" y="0"/>
                      </a:cubicBezTo>
                      <a:cubicBezTo>
                        <a:pt x="277" y="0"/>
                        <a:pt x="281" y="12"/>
                        <a:pt x="296" y="20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257"/>
                <p:cNvSpPr/>
                <p:nvPr/>
              </p:nvSpPr>
              <p:spPr>
                <a:xfrm>
                  <a:off x="13004640" y="8074440"/>
                  <a:ext cx="534240" cy="396000"/>
                </a:xfrm>
                <a:custGeom>
                  <a:avLst/>
                  <a:gdLst>
                    <a:gd name="textAreaLeft" fmla="*/ 0 w 534240"/>
                    <a:gd name="textAreaRight" fmla="*/ 534600 w 534240"/>
                    <a:gd name="textAreaTop" fmla="*/ 0 h 396000"/>
                    <a:gd name="textAreaBottom" fmla="*/ 396360 h 396000"/>
                  </a:gdLst>
                  <a:ahLst/>
                  <a:rect l="textAreaLeft" t="textAreaTop" r="textAreaRight" b="textAreaBottom"/>
                  <a:pathLst>
                    <a:path w="210" h="156">
                      <a:moveTo>
                        <a:pt x="32" y="78"/>
                      </a:moveTo>
                      <a:cubicBezTo>
                        <a:pt x="50" y="83"/>
                        <a:pt x="97" y="59"/>
                        <a:pt x="116" y="61"/>
                      </a:cubicBezTo>
                      <a:cubicBezTo>
                        <a:pt x="135" y="63"/>
                        <a:pt x="141" y="75"/>
                        <a:pt x="147" y="90"/>
                      </a:cubicBezTo>
                      <a:cubicBezTo>
                        <a:pt x="153" y="105"/>
                        <a:pt x="150" y="150"/>
                        <a:pt x="153" y="153"/>
                      </a:cubicBezTo>
                      <a:cubicBezTo>
                        <a:pt x="156" y="156"/>
                        <a:pt x="160" y="126"/>
                        <a:pt x="164" y="108"/>
                      </a:cubicBezTo>
                      <a:cubicBezTo>
                        <a:pt x="168" y="90"/>
                        <a:pt x="174" y="57"/>
                        <a:pt x="179" y="43"/>
                      </a:cubicBezTo>
                      <a:cubicBezTo>
                        <a:pt x="184" y="29"/>
                        <a:pt x="210" y="29"/>
                        <a:pt x="195" y="22"/>
                      </a:cubicBezTo>
                      <a:cubicBezTo>
                        <a:pt x="180" y="15"/>
                        <a:pt x="118" y="0"/>
                        <a:pt x="87" y="1"/>
                      </a:cubicBezTo>
                      <a:cubicBezTo>
                        <a:pt x="56" y="2"/>
                        <a:pt x="18" y="14"/>
                        <a:pt x="9" y="28"/>
                      </a:cubicBezTo>
                      <a:cubicBezTo>
                        <a:pt x="0" y="42"/>
                        <a:pt x="14" y="73"/>
                        <a:pt x="32" y="78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58"/>
                <p:cNvSpPr/>
                <p:nvPr/>
              </p:nvSpPr>
              <p:spPr>
                <a:xfrm>
                  <a:off x="12666960" y="7990200"/>
                  <a:ext cx="907200" cy="238680"/>
                </a:xfrm>
                <a:custGeom>
                  <a:avLst/>
                  <a:gdLst>
                    <a:gd name="textAreaLeft" fmla="*/ 0 w 907200"/>
                    <a:gd name="textAreaRight" fmla="*/ 907560 w 907200"/>
                    <a:gd name="textAreaTop" fmla="*/ 0 h 238680"/>
                    <a:gd name="textAreaBottom" fmla="*/ 239040 h 238680"/>
                  </a:gdLst>
                  <a:ahLst/>
                  <a:rect l="textAreaLeft" t="textAreaTop" r="textAreaRight" b="textAreaBottom"/>
                  <a:pathLst>
                    <a:path w="357" h="94">
                      <a:moveTo>
                        <a:pt x="27" y="46"/>
                      </a:moveTo>
                      <a:cubicBezTo>
                        <a:pt x="40" y="57"/>
                        <a:pt x="55" y="80"/>
                        <a:pt x="88" y="87"/>
                      </a:cubicBezTo>
                      <a:cubicBezTo>
                        <a:pt x="121" y="94"/>
                        <a:pt x="188" y="90"/>
                        <a:pt x="225" y="85"/>
                      </a:cubicBezTo>
                      <a:cubicBezTo>
                        <a:pt x="262" y="80"/>
                        <a:pt x="291" y="61"/>
                        <a:pt x="312" y="58"/>
                      </a:cubicBezTo>
                      <a:cubicBezTo>
                        <a:pt x="333" y="55"/>
                        <a:pt x="351" y="71"/>
                        <a:pt x="354" y="69"/>
                      </a:cubicBezTo>
                      <a:cubicBezTo>
                        <a:pt x="357" y="67"/>
                        <a:pt x="351" y="53"/>
                        <a:pt x="333" y="43"/>
                      </a:cubicBezTo>
                      <a:cubicBezTo>
                        <a:pt x="315" y="33"/>
                        <a:pt x="284" y="14"/>
                        <a:pt x="246" y="7"/>
                      </a:cubicBezTo>
                      <a:cubicBezTo>
                        <a:pt x="208" y="0"/>
                        <a:pt x="142" y="1"/>
                        <a:pt x="103" y="3"/>
                      </a:cubicBezTo>
                      <a:cubicBezTo>
                        <a:pt x="64" y="5"/>
                        <a:pt x="24" y="15"/>
                        <a:pt x="12" y="21"/>
                      </a:cubicBezTo>
                      <a:cubicBezTo>
                        <a:pt x="0" y="27"/>
                        <a:pt x="14" y="35"/>
                        <a:pt x="27" y="46"/>
                      </a:cubicBezTo>
                      <a:close/>
                    </a:path>
                  </a:pathLst>
                </a:custGeom>
                <a:solidFill>
                  <a:srgbClr val="d2d9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259"/>
                <p:cNvSpPr/>
                <p:nvPr/>
              </p:nvSpPr>
              <p:spPr>
                <a:xfrm>
                  <a:off x="12753360" y="7927200"/>
                  <a:ext cx="805680" cy="22824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317" h="90">
                      <a:moveTo>
                        <a:pt x="20" y="5"/>
                      </a:moveTo>
                      <a:cubicBezTo>
                        <a:pt x="40" y="2"/>
                        <a:pt x="115" y="0"/>
                        <a:pt x="147" y="2"/>
                      </a:cubicBezTo>
                      <a:cubicBezTo>
                        <a:pt x="179" y="4"/>
                        <a:pt x="189" y="9"/>
                        <a:pt x="215" y="19"/>
                      </a:cubicBezTo>
                      <a:cubicBezTo>
                        <a:pt x="241" y="29"/>
                        <a:pt x="283" y="51"/>
                        <a:pt x="300" y="62"/>
                      </a:cubicBezTo>
                      <a:cubicBezTo>
                        <a:pt x="317" y="73"/>
                        <a:pt x="317" y="86"/>
                        <a:pt x="317" y="88"/>
                      </a:cubicBezTo>
                      <a:cubicBezTo>
                        <a:pt x="317" y="90"/>
                        <a:pt x="312" y="79"/>
                        <a:pt x="302" y="77"/>
                      </a:cubicBezTo>
                      <a:cubicBezTo>
                        <a:pt x="292" y="75"/>
                        <a:pt x="276" y="71"/>
                        <a:pt x="258" y="73"/>
                      </a:cubicBezTo>
                      <a:cubicBezTo>
                        <a:pt x="240" y="75"/>
                        <a:pt x="216" y="89"/>
                        <a:pt x="191" y="88"/>
                      </a:cubicBezTo>
                      <a:cubicBezTo>
                        <a:pt x="166" y="87"/>
                        <a:pt x="134" y="75"/>
                        <a:pt x="107" y="64"/>
                      </a:cubicBezTo>
                      <a:cubicBezTo>
                        <a:pt x="80" y="53"/>
                        <a:pt x="40" y="29"/>
                        <a:pt x="26" y="20"/>
                      </a:cubicBezTo>
                      <a:cubicBezTo>
                        <a:pt x="12" y="11"/>
                        <a:pt x="0" y="8"/>
                        <a:pt x="20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1460240" y="7413840"/>
                <a:ext cx="2820600" cy="1985400"/>
                <a:chOff x="11460240" y="7413840"/>
                <a:chExt cx="2820600" cy="198540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11460240" y="7432920"/>
                  <a:ext cx="320400" cy="179280"/>
                  <a:chOff x="11460240" y="7432920"/>
                  <a:chExt cx="320400" cy="179280"/>
                </a:xfrm>
              </p:grpSpPr>
              <p:sp>
                <p:nvSpPr>
                  <p:cNvPr id="301" name="Freeform 262"/>
                  <p:cNvSpPr/>
                  <p:nvPr/>
                </p:nvSpPr>
                <p:spPr>
                  <a:xfrm>
                    <a:off x="11504520" y="7432920"/>
                    <a:ext cx="276120" cy="177120"/>
                  </a:xfrm>
                  <a:custGeom>
                    <a:avLst/>
                    <a:gdLst>
                      <a:gd name="textAreaLeft" fmla="*/ 0 w 276120"/>
                      <a:gd name="textAreaRight" fmla="*/ 276480 w 276120"/>
                      <a:gd name="textAreaTop" fmla="*/ 0 h 177120"/>
                      <a:gd name="textAreaBottom" fmla="*/ 177120 h 177120"/>
                    </a:gdLst>
                    <a:ahLst/>
                    <a:rect l="textAreaLeft" t="textAreaTop" r="textAreaRight" b="textAreaBottom"/>
                    <a:pathLst>
                      <a:path w="131" h="84">
                        <a:moveTo>
                          <a:pt x="107" y="81"/>
                        </a:moveTo>
                        <a:cubicBezTo>
                          <a:pt x="91" y="78"/>
                          <a:pt x="46" y="44"/>
                          <a:pt x="29" y="35"/>
                        </a:cubicBezTo>
                        <a:cubicBezTo>
                          <a:pt x="12" y="26"/>
                          <a:pt x="0" y="32"/>
                          <a:pt x="2" y="27"/>
                        </a:cubicBezTo>
                        <a:cubicBezTo>
                          <a:pt x="4" y="22"/>
                          <a:pt x="27" y="9"/>
                          <a:pt x="41" y="6"/>
                        </a:cubicBezTo>
                        <a:cubicBezTo>
                          <a:pt x="55" y="3"/>
                          <a:pt x="70" y="0"/>
                          <a:pt x="84" y="8"/>
                        </a:cubicBezTo>
                        <a:cubicBezTo>
                          <a:pt x="98" y="16"/>
                          <a:pt x="125" y="42"/>
                          <a:pt x="128" y="54"/>
                        </a:cubicBezTo>
                        <a:cubicBezTo>
                          <a:pt x="131" y="66"/>
                          <a:pt x="123" y="84"/>
                          <a:pt x="107" y="81"/>
                        </a:cubicBezTo>
                        <a:close/>
                      </a:path>
                    </a:pathLst>
                  </a:custGeom>
                  <a:solidFill>
                    <a:srgbClr val="91a9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63"/>
                  <p:cNvSpPr/>
                  <p:nvPr/>
                </p:nvSpPr>
                <p:spPr>
                  <a:xfrm>
                    <a:off x="11460240" y="7449480"/>
                    <a:ext cx="301680" cy="14148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141480"/>
                      <a:gd name="textAreaBottom" fmla="*/ 141840 h 141480"/>
                    </a:gdLst>
                    <a:ahLst/>
                    <a:rect l="textAreaLeft" t="textAreaTop" r="textAreaRight" b="textAreaBottom"/>
                    <a:pathLst>
                      <a:path w="143" h="67">
                        <a:moveTo>
                          <a:pt x="110" y="4"/>
                        </a:moveTo>
                        <a:cubicBezTo>
                          <a:pt x="99" y="3"/>
                          <a:pt x="56" y="11"/>
                          <a:pt x="47" y="10"/>
                        </a:cubicBezTo>
                        <a:cubicBezTo>
                          <a:pt x="38" y="9"/>
                          <a:pt x="59" y="0"/>
                          <a:pt x="54" y="1"/>
                        </a:cubicBezTo>
                        <a:cubicBezTo>
                          <a:pt x="49" y="2"/>
                          <a:pt x="27" y="12"/>
                          <a:pt x="18" y="16"/>
                        </a:cubicBezTo>
                        <a:cubicBezTo>
                          <a:pt x="9" y="20"/>
                          <a:pt x="0" y="24"/>
                          <a:pt x="2" y="28"/>
                        </a:cubicBezTo>
                        <a:cubicBezTo>
                          <a:pt x="4" y="32"/>
                          <a:pt x="18" y="35"/>
                          <a:pt x="30" y="40"/>
                        </a:cubicBezTo>
                        <a:cubicBezTo>
                          <a:pt x="42" y="45"/>
                          <a:pt x="59" y="57"/>
                          <a:pt x="77" y="60"/>
                        </a:cubicBezTo>
                        <a:cubicBezTo>
                          <a:pt x="95" y="63"/>
                          <a:pt x="131" y="67"/>
                          <a:pt x="137" y="60"/>
                        </a:cubicBezTo>
                        <a:cubicBezTo>
                          <a:pt x="143" y="53"/>
                          <a:pt x="115" y="27"/>
                          <a:pt x="111" y="18"/>
                        </a:cubicBezTo>
                        <a:cubicBezTo>
                          <a:pt x="107" y="9"/>
                          <a:pt x="121" y="5"/>
                          <a:pt x="110" y="4"/>
                        </a:cubicBezTo>
                        <a:close/>
                      </a:path>
                    </a:pathLst>
                  </a:custGeom>
                  <a:solidFill>
                    <a:srgbClr val="5064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264"/>
                  <p:cNvSpPr/>
                  <p:nvPr/>
                </p:nvSpPr>
                <p:spPr>
                  <a:xfrm>
                    <a:off x="11464200" y="7494120"/>
                    <a:ext cx="286920" cy="118080"/>
                  </a:xfrm>
                  <a:custGeom>
                    <a:avLst/>
                    <a:gdLst>
                      <a:gd name="textAreaLeft" fmla="*/ 0 w 286920"/>
                      <a:gd name="textAreaRight" fmla="*/ 287280 w 28692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136" h="56">
                        <a:moveTo>
                          <a:pt x="103" y="55"/>
                        </a:moveTo>
                        <a:cubicBezTo>
                          <a:pt x="90" y="56"/>
                          <a:pt x="66" y="40"/>
                          <a:pt x="52" y="34"/>
                        </a:cubicBezTo>
                        <a:cubicBezTo>
                          <a:pt x="38" y="28"/>
                          <a:pt x="16" y="17"/>
                          <a:pt x="16" y="16"/>
                        </a:cubicBezTo>
                        <a:cubicBezTo>
                          <a:pt x="16" y="15"/>
                          <a:pt x="39" y="24"/>
                          <a:pt x="52" y="25"/>
                        </a:cubicBezTo>
                        <a:cubicBezTo>
                          <a:pt x="65" y="26"/>
                          <a:pt x="100" y="25"/>
                          <a:pt x="97" y="22"/>
                        </a:cubicBezTo>
                        <a:cubicBezTo>
                          <a:pt x="94" y="19"/>
                          <a:pt x="46" y="9"/>
                          <a:pt x="31" y="7"/>
                        </a:cubicBezTo>
                        <a:cubicBezTo>
                          <a:pt x="16" y="5"/>
                          <a:pt x="0" y="8"/>
                          <a:pt x="7" y="7"/>
                        </a:cubicBezTo>
                        <a:cubicBezTo>
                          <a:pt x="14" y="6"/>
                          <a:pt x="53" y="0"/>
                          <a:pt x="73" y="4"/>
                        </a:cubicBezTo>
                        <a:cubicBezTo>
                          <a:pt x="93" y="8"/>
                          <a:pt x="124" y="24"/>
                          <a:pt x="130" y="31"/>
                        </a:cubicBezTo>
                        <a:cubicBezTo>
                          <a:pt x="136" y="38"/>
                          <a:pt x="116" y="54"/>
                          <a:pt x="103" y="55"/>
                        </a:cubicBezTo>
                        <a:close/>
                      </a:path>
                    </a:pathLst>
                  </a:custGeom>
                  <a:solidFill>
                    <a:srgbClr val="3a4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" name="Freeform 265"/>
                <p:cNvSpPr/>
                <p:nvPr/>
              </p:nvSpPr>
              <p:spPr>
                <a:xfrm>
                  <a:off x="11595240" y="7432920"/>
                  <a:ext cx="2228760" cy="1966320"/>
                </a:xfrm>
                <a:custGeom>
                  <a:avLst/>
                  <a:gdLst>
                    <a:gd name="textAreaLeft" fmla="*/ 0 w 2228760"/>
                    <a:gd name="textAreaRight" fmla="*/ 2229120 w 2228760"/>
                    <a:gd name="textAreaTop" fmla="*/ 0 h 1966320"/>
                    <a:gd name="textAreaBottom" fmla="*/ 1966680 h 1966320"/>
                  </a:gdLst>
                  <a:ahLst/>
                  <a:rect l="textAreaLeft" t="textAreaTop" r="textAreaRight" b="textAreaBottom"/>
                  <a:pathLst>
                    <a:path w="1055" h="931">
                      <a:moveTo>
                        <a:pt x="167" y="42"/>
                      </a:moveTo>
                      <a:cubicBezTo>
                        <a:pt x="94" y="0"/>
                        <a:pt x="61" y="42"/>
                        <a:pt x="35" y="48"/>
                      </a:cubicBezTo>
                      <a:cubicBezTo>
                        <a:pt x="9" y="54"/>
                        <a:pt x="0" y="63"/>
                        <a:pt x="8" y="78"/>
                      </a:cubicBezTo>
                      <a:cubicBezTo>
                        <a:pt x="16" y="93"/>
                        <a:pt x="57" y="122"/>
                        <a:pt x="80" y="141"/>
                      </a:cubicBezTo>
                      <a:cubicBezTo>
                        <a:pt x="103" y="160"/>
                        <a:pt x="125" y="160"/>
                        <a:pt x="146" y="189"/>
                      </a:cubicBezTo>
                      <a:cubicBezTo>
                        <a:pt x="167" y="218"/>
                        <a:pt x="180" y="274"/>
                        <a:pt x="206" y="315"/>
                      </a:cubicBezTo>
                      <a:cubicBezTo>
                        <a:pt x="232" y="356"/>
                        <a:pt x="254" y="395"/>
                        <a:pt x="302" y="435"/>
                      </a:cubicBezTo>
                      <a:cubicBezTo>
                        <a:pt x="350" y="475"/>
                        <a:pt x="436" y="520"/>
                        <a:pt x="497" y="552"/>
                      </a:cubicBezTo>
                      <a:cubicBezTo>
                        <a:pt x="558" y="584"/>
                        <a:pt x="632" y="610"/>
                        <a:pt x="668" y="627"/>
                      </a:cubicBezTo>
                      <a:cubicBezTo>
                        <a:pt x="704" y="644"/>
                        <a:pt x="695" y="636"/>
                        <a:pt x="710" y="654"/>
                      </a:cubicBezTo>
                      <a:cubicBezTo>
                        <a:pt x="725" y="672"/>
                        <a:pt x="738" y="704"/>
                        <a:pt x="758" y="738"/>
                      </a:cubicBezTo>
                      <a:cubicBezTo>
                        <a:pt x="778" y="772"/>
                        <a:pt x="812" y="829"/>
                        <a:pt x="833" y="858"/>
                      </a:cubicBezTo>
                      <a:cubicBezTo>
                        <a:pt x="854" y="887"/>
                        <a:pt x="877" y="908"/>
                        <a:pt x="884" y="912"/>
                      </a:cubicBezTo>
                      <a:cubicBezTo>
                        <a:pt x="891" y="916"/>
                        <a:pt x="887" y="899"/>
                        <a:pt x="878" y="882"/>
                      </a:cubicBezTo>
                      <a:cubicBezTo>
                        <a:pt x="869" y="865"/>
                        <a:pt x="823" y="802"/>
                        <a:pt x="830" y="807"/>
                      </a:cubicBezTo>
                      <a:cubicBezTo>
                        <a:pt x="837" y="812"/>
                        <a:pt x="898" y="893"/>
                        <a:pt x="920" y="912"/>
                      </a:cubicBezTo>
                      <a:cubicBezTo>
                        <a:pt x="942" y="931"/>
                        <a:pt x="955" y="923"/>
                        <a:pt x="962" y="921"/>
                      </a:cubicBezTo>
                      <a:cubicBezTo>
                        <a:pt x="969" y="919"/>
                        <a:pt x="956" y="897"/>
                        <a:pt x="962" y="897"/>
                      </a:cubicBezTo>
                      <a:cubicBezTo>
                        <a:pt x="968" y="897"/>
                        <a:pt x="984" y="918"/>
                        <a:pt x="998" y="921"/>
                      </a:cubicBezTo>
                      <a:cubicBezTo>
                        <a:pt x="1012" y="924"/>
                        <a:pt x="1040" y="919"/>
                        <a:pt x="1046" y="915"/>
                      </a:cubicBezTo>
                      <a:cubicBezTo>
                        <a:pt x="1052" y="911"/>
                        <a:pt x="1055" y="919"/>
                        <a:pt x="1034" y="894"/>
                      </a:cubicBezTo>
                      <a:cubicBezTo>
                        <a:pt x="1013" y="869"/>
                        <a:pt x="935" y="800"/>
                        <a:pt x="917" y="765"/>
                      </a:cubicBezTo>
                      <a:cubicBezTo>
                        <a:pt x="899" y="730"/>
                        <a:pt x="937" y="712"/>
                        <a:pt x="926" y="684"/>
                      </a:cubicBezTo>
                      <a:cubicBezTo>
                        <a:pt x="915" y="656"/>
                        <a:pt x="926" y="660"/>
                        <a:pt x="851" y="597"/>
                      </a:cubicBezTo>
                      <a:cubicBezTo>
                        <a:pt x="776" y="534"/>
                        <a:pt x="590" y="395"/>
                        <a:pt x="476" y="303"/>
                      </a:cubicBezTo>
                      <a:cubicBezTo>
                        <a:pt x="362" y="211"/>
                        <a:pt x="240" y="84"/>
                        <a:pt x="167" y="42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266"/>
                <p:cNvSpPr/>
                <p:nvPr/>
              </p:nvSpPr>
              <p:spPr>
                <a:xfrm>
                  <a:off x="11584800" y="7413840"/>
                  <a:ext cx="2696040" cy="1960200"/>
                </a:xfrm>
                <a:custGeom>
                  <a:avLst/>
                  <a:gdLst>
                    <a:gd name="textAreaLeft" fmla="*/ 0 w 2696040"/>
                    <a:gd name="textAreaRight" fmla="*/ 2696400 w 2696040"/>
                    <a:gd name="textAreaTop" fmla="*/ 0 h 1960200"/>
                    <a:gd name="textAreaBottom" fmla="*/ 1960560 h 1960200"/>
                  </a:gdLst>
                  <a:ahLst/>
                  <a:rect l="textAreaLeft" t="textAreaTop" r="textAreaRight" b="textAreaBottom"/>
                  <a:pathLst>
                    <a:path w="1276" h="928">
                      <a:moveTo>
                        <a:pt x="208" y="39"/>
                      </a:moveTo>
                      <a:cubicBezTo>
                        <a:pt x="134" y="10"/>
                        <a:pt x="122" y="11"/>
                        <a:pt x="91" y="6"/>
                      </a:cubicBezTo>
                      <a:cubicBezTo>
                        <a:pt x="60" y="1"/>
                        <a:pt x="34" y="0"/>
                        <a:pt x="19" y="9"/>
                      </a:cubicBezTo>
                      <a:cubicBezTo>
                        <a:pt x="4" y="18"/>
                        <a:pt x="0" y="44"/>
                        <a:pt x="1" y="60"/>
                      </a:cubicBezTo>
                      <a:cubicBezTo>
                        <a:pt x="2" y="76"/>
                        <a:pt x="6" y="93"/>
                        <a:pt x="25" y="105"/>
                      </a:cubicBezTo>
                      <a:cubicBezTo>
                        <a:pt x="44" y="117"/>
                        <a:pt x="87" y="117"/>
                        <a:pt x="115" y="132"/>
                      </a:cubicBezTo>
                      <a:cubicBezTo>
                        <a:pt x="143" y="147"/>
                        <a:pt x="173" y="178"/>
                        <a:pt x="193" y="198"/>
                      </a:cubicBezTo>
                      <a:cubicBezTo>
                        <a:pt x="213" y="218"/>
                        <a:pt x="230" y="250"/>
                        <a:pt x="238" y="255"/>
                      </a:cubicBezTo>
                      <a:cubicBezTo>
                        <a:pt x="246" y="260"/>
                        <a:pt x="237" y="242"/>
                        <a:pt x="241" y="228"/>
                      </a:cubicBezTo>
                      <a:cubicBezTo>
                        <a:pt x="245" y="214"/>
                        <a:pt x="260" y="168"/>
                        <a:pt x="265" y="168"/>
                      </a:cubicBezTo>
                      <a:cubicBezTo>
                        <a:pt x="270" y="168"/>
                        <a:pt x="270" y="211"/>
                        <a:pt x="274" y="231"/>
                      </a:cubicBezTo>
                      <a:cubicBezTo>
                        <a:pt x="278" y="251"/>
                        <a:pt x="265" y="258"/>
                        <a:pt x="286" y="288"/>
                      </a:cubicBezTo>
                      <a:cubicBezTo>
                        <a:pt x="307" y="318"/>
                        <a:pt x="352" y="372"/>
                        <a:pt x="400" y="411"/>
                      </a:cubicBezTo>
                      <a:cubicBezTo>
                        <a:pt x="448" y="450"/>
                        <a:pt x="531" y="495"/>
                        <a:pt x="577" y="522"/>
                      </a:cubicBezTo>
                      <a:cubicBezTo>
                        <a:pt x="623" y="549"/>
                        <a:pt x="656" y="559"/>
                        <a:pt x="679" y="573"/>
                      </a:cubicBezTo>
                      <a:cubicBezTo>
                        <a:pt x="702" y="587"/>
                        <a:pt x="696" y="599"/>
                        <a:pt x="715" y="609"/>
                      </a:cubicBezTo>
                      <a:cubicBezTo>
                        <a:pt x="734" y="619"/>
                        <a:pt x="770" y="629"/>
                        <a:pt x="793" y="633"/>
                      </a:cubicBezTo>
                      <a:cubicBezTo>
                        <a:pt x="816" y="637"/>
                        <a:pt x="851" y="632"/>
                        <a:pt x="856" y="636"/>
                      </a:cubicBezTo>
                      <a:cubicBezTo>
                        <a:pt x="861" y="640"/>
                        <a:pt x="836" y="650"/>
                        <a:pt x="826" y="657"/>
                      </a:cubicBezTo>
                      <a:cubicBezTo>
                        <a:pt x="816" y="664"/>
                        <a:pt x="792" y="665"/>
                        <a:pt x="796" y="678"/>
                      </a:cubicBezTo>
                      <a:cubicBezTo>
                        <a:pt x="800" y="691"/>
                        <a:pt x="819" y="702"/>
                        <a:pt x="850" y="735"/>
                      </a:cubicBezTo>
                      <a:cubicBezTo>
                        <a:pt x="881" y="768"/>
                        <a:pt x="948" y="843"/>
                        <a:pt x="979" y="873"/>
                      </a:cubicBezTo>
                      <a:cubicBezTo>
                        <a:pt x="1010" y="903"/>
                        <a:pt x="1022" y="909"/>
                        <a:pt x="1036" y="918"/>
                      </a:cubicBezTo>
                      <a:cubicBezTo>
                        <a:pt x="1050" y="927"/>
                        <a:pt x="1055" y="927"/>
                        <a:pt x="1063" y="927"/>
                      </a:cubicBezTo>
                      <a:cubicBezTo>
                        <a:pt x="1071" y="927"/>
                        <a:pt x="1075" y="928"/>
                        <a:pt x="1084" y="918"/>
                      </a:cubicBezTo>
                      <a:cubicBezTo>
                        <a:pt x="1071" y="902"/>
                        <a:pt x="989" y="827"/>
                        <a:pt x="988" y="828"/>
                      </a:cubicBezTo>
                      <a:cubicBezTo>
                        <a:pt x="987" y="829"/>
                        <a:pt x="1069" y="902"/>
                        <a:pt x="1093" y="912"/>
                      </a:cubicBezTo>
                      <a:cubicBezTo>
                        <a:pt x="1107" y="896"/>
                        <a:pt x="1111" y="902"/>
                        <a:pt x="1132" y="888"/>
                      </a:cubicBezTo>
                      <a:cubicBezTo>
                        <a:pt x="1103" y="874"/>
                        <a:pt x="1034" y="822"/>
                        <a:pt x="1036" y="822"/>
                      </a:cubicBezTo>
                      <a:cubicBezTo>
                        <a:pt x="1038" y="822"/>
                        <a:pt x="1113" y="870"/>
                        <a:pt x="1147" y="891"/>
                      </a:cubicBezTo>
                      <a:cubicBezTo>
                        <a:pt x="1185" y="890"/>
                        <a:pt x="1203" y="882"/>
                        <a:pt x="1246" y="879"/>
                      </a:cubicBezTo>
                      <a:cubicBezTo>
                        <a:pt x="1227" y="856"/>
                        <a:pt x="1120" y="779"/>
                        <a:pt x="1123" y="777"/>
                      </a:cubicBezTo>
                      <a:cubicBezTo>
                        <a:pt x="1126" y="775"/>
                        <a:pt x="1236" y="858"/>
                        <a:pt x="1261" y="867"/>
                      </a:cubicBezTo>
                      <a:cubicBezTo>
                        <a:pt x="1269" y="856"/>
                        <a:pt x="1273" y="852"/>
                        <a:pt x="1276" y="837"/>
                      </a:cubicBezTo>
                      <a:cubicBezTo>
                        <a:pt x="1243" y="808"/>
                        <a:pt x="1124" y="732"/>
                        <a:pt x="1060" y="690"/>
                      </a:cubicBezTo>
                      <a:cubicBezTo>
                        <a:pt x="996" y="648"/>
                        <a:pt x="935" y="623"/>
                        <a:pt x="892" y="588"/>
                      </a:cubicBezTo>
                      <a:cubicBezTo>
                        <a:pt x="849" y="553"/>
                        <a:pt x="835" y="521"/>
                        <a:pt x="802" y="477"/>
                      </a:cubicBezTo>
                      <a:cubicBezTo>
                        <a:pt x="769" y="433"/>
                        <a:pt x="735" y="373"/>
                        <a:pt x="691" y="324"/>
                      </a:cubicBezTo>
                      <a:cubicBezTo>
                        <a:pt x="647" y="275"/>
                        <a:pt x="619" y="230"/>
                        <a:pt x="538" y="182"/>
                      </a:cubicBezTo>
                      <a:cubicBezTo>
                        <a:pt x="457" y="134"/>
                        <a:pt x="282" y="68"/>
                        <a:pt x="208" y="39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267"/>
                <p:cNvSpPr/>
                <p:nvPr/>
              </p:nvSpPr>
              <p:spPr>
                <a:xfrm>
                  <a:off x="11614320" y="7489800"/>
                  <a:ext cx="22680" cy="22680"/>
                </a:xfrm>
                <a:prstGeom prst="ellipse">
                  <a:avLst/>
                </a:prstGeom>
                <a:solidFill>
                  <a:srgbClr val="3540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1293560" y="7485480"/>
                <a:ext cx="1787040" cy="1129320"/>
                <a:chOff x="11293560" y="7485480"/>
                <a:chExt cx="1787040" cy="1129320"/>
              </a:xfrm>
            </p:grpSpPr>
            <p:sp>
              <p:nvSpPr>
                <p:cNvPr id="308" name="Freeform 269"/>
                <p:cNvSpPr/>
                <p:nvPr/>
              </p:nvSpPr>
              <p:spPr>
                <a:xfrm>
                  <a:off x="12489480" y="7566480"/>
                  <a:ext cx="591120" cy="675360"/>
                </a:xfrm>
                <a:custGeom>
                  <a:avLst/>
                  <a:gdLst>
                    <a:gd name="textAreaLeft" fmla="*/ 0 w 591120"/>
                    <a:gd name="textAreaRight" fmla="*/ 591480 w 591120"/>
                    <a:gd name="textAreaTop" fmla="*/ 0 h 675360"/>
                    <a:gd name="textAreaBottom" fmla="*/ 675720 h 675360"/>
                  </a:gdLst>
                  <a:ahLst/>
                  <a:rect l="textAreaLeft" t="textAreaTop" r="textAreaRight" b="textAreaBottom"/>
                  <a:pathLst>
                    <a:path w="233" h="266">
                      <a:moveTo>
                        <a:pt x="48" y="8"/>
                      </a:moveTo>
                      <a:cubicBezTo>
                        <a:pt x="69" y="15"/>
                        <a:pt x="110" y="37"/>
                        <a:pt x="133" y="55"/>
                      </a:cubicBezTo>
                      <a:cubicBezTo>
                        <a:pt x="156" y="73"/>
                        <a:pt x="175" y="102"/>
                        <a:pt x="187" y="116"/>
                      </a:cubicBezTo>
                      <a:cubicBezTo>
                        <a:pt x="199" y="130"/>
                        <a:pt x="204" y="135"/>
                        <a:pt x="204" y="139"/>
                      </a:cubicBezTo>
                      <a:cubicBezTo>
                        <a:pt x="204" y="143"/>
                        <a:pt x="189" y="138"/>
                        <a:pt x="189" y="140"/>
                      </a:cubicBezTo>
                      <a:cubicBezTo>
                        <a:pt x="189" y="142"/>
                        <a:pt x="200" y="144"/>
                        <a:pt x="207" y="149"/>
                      </a:cubicBezTo>
                      <a:cubicBezTo>
                        <a:pt x="214" y="154"/>
                        <a:pt x="231" y="166"/>
                        <a:pt x="232" y="170"/>
                      </a:cubicBezTo>
                      <a:cubicBezTo>
                        <a:pt x="233" y="174"/>
                        <a:pt x="221" y="173"/>
                        <a:pt x="214" y="172"/>
                      </a:cubicBezTo>
                      <a:cubicBezTo>
                        <a:pt x="207" y="171"/>
                        <a:pt x="193" y="160"/>
                        <a:pt x="192" y="161"/>
                      </a:cubicBezTo>
                      <a:cubicBezTo>
                        <a:pt x="191" y="162"/>
                        <a:pt x="201" y="169"/>
                        <a:pt x="207" y="178"/>
                      </a:cubicBezTo>
                      <a:cubicBezTo>
                        <a:pt x="213" y="187"/>
                        <a:pt x="227" y="209"/>
                        <a:pt x="228" y="217"/>
                      </a:cubicBezTo>
                      <a:cubicBezTo>
                        <a:pt x="229" y="225"/>
                        <a:pt x="219" y="224"/>
                        <a:pt x="214" y="224"/>
                      </a:cubicBezTo>
                      <a:cubicBezTo>
                        <a:pt x="209" y="224"/>
                        <a:pt x="200" y="217"/>
                        <a:pt x="198" y="218"/>
                      </a:cubicBezTo>
                      <a:cubicBezTo>
                        <a:pt x="196" y="219"/>
                        <a:pt x="201" y="222"/>
                        <a:pt x="202" y="229"/>
                      </a:cubicBezTo>
                      <a:cubicBezTo>
                        <a:pt x="203" y="236"/>
                        <a:pt x="207" y="260"/>
                        <a:pt x="204" y="263"/>
                      </a:cubicBezTo>
                      <a:cubicBezTo>
                        <a:pt x="201" y="266"/>
                        <a:pt x="193" y="254"/>
                        <a:pt x="186" y="248"/>
                      </a:cubicBezTo>
                      <a:cubicBezTo>
                        <a:pt x="179" y="242"/>
                        <a:pt x="165" y="226"/>
                        <a:pt x="159" y="224"/>
                      </a:cubicBezTo>
                      <a:cubicBezTo>
                        <a:pt x="153" y="222"/>
                        <a:pt x="149" y="232"/>
                        <a:pt x="147" y="238"/>
                      </a:cubicBezTo>
                      <a:cubicBezTo>
                        <a:pt x="145" y="244"/>
                        <a:pt x="148" y="258"/>
                        <a:pt x="145" y="259"/>
                      </a:cubicBezTo>
                      <a:cubicBezTo>
                        <a:pt x="142" y="260"/>
                        <a:pt x="133" y="245"/>
                        <a:pt x="127" y="244"/>
                      </a:cubicBezTo>
                      <a:cubicBezTo>
                        <a:pt x="121" y="243"/>
                        <a:pt x="113" y="255"/>
                        <a:pt x="108" y="254"/>
                      </a:cubicBezTo>
                      <a:cubicBezTo>
                        <a:pt x="103" y="253"/>
                        <a:pt x="102" y="243"/>
                        <a:pt x="96" y="235"/>
                      </a:cubicBezTo>
                      <a:cubicBezTo>
                        <a:pt x="90" y="227"/>
                        <a:pt x="79" y="215"/>
                        <a:pt x="69" y="203"/>
                      </a:cubicBezTo>
                      <a:cubicBezTo>
                        <a:pt x="59" y="191"/>
                        <a:pt x="46" y="180"/>
                        <a:pt x="36" y="160"/>
                      </a:cubicBezTo>
                      <a:cubicBezTo>
                        <a:pt x="26" y="140"/>
                        <a:pt x="12" y="105"/>
                        <a:pt x="7" y="80"/>
                      </a:cubicBezTo>
                      <a:cubicBezTo>
                        <a:pt x="2" y="55"/>
                        <a:pt x="0" y="26"/>
                        <a:pt x="7" y="13"/>
                      </a:cubicBezTo>
                      <a:cubicBezTo>
                        <a:pt x="14" y="0"/>
                        <a:pt x="27" y="1"/>
                        <a:pt x="48" y="8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70"/>
                <p:cNvSpPr/>
                <p:nvPr/>
              </p:nvSpPr>
              <p:spPr>
                <a:xfrm>
                  <a:off x="11303640" y="7614720"/>
                  <a:ext cx="1553400" cy="1000080"/>
                </a:xfrm>
                <a:custGeom>
                  <a:avLst/>
                  <a:gdLst>
                    <a:gd name="textAreaLeft" fmla="*/ 0 w 1553400"/>
                    <a:gd name="textAreaRight" fmla="*/ 1553760 w 1553400"/>
                    <a:gd name="textAreaTop" fmla="*/ 0 h 1000080"/>
                    <a:gd name="textAreaBottom" fmla="*/ 1000440 h 1000080"/>
                  </a:gdLst>
                  <a:ahLst/>
                  <a:rect l="textAreaLeft" t="textAreaTop" r="textAreaRight" b="textAreaBottom"/>
                  <a:pathLst>
                    <a:path w="612" h="394">
                      <a:moveTo>
                        <a:pt x="119" y="186"/>
                      </a:moveTo>
                      <a:cubicBezTo>
                        <a:pt x="100" y="206"/>
                        <a:pt x="72" y="254"/>
                        <a:pt x="53" y="283"/>
                      </a:cubicBezTo>
                      <a:cubicBezTo>
                        <a:pt x="34" y="312"/>
                        <a:pt x="6" y="351"/>
                        <a:pt x="3" y="361"/>
                      </a:cubicBezTo>
                      <a:cubicBezTo>
                        <a:pt x="0" y="371"/>
                        <a:pt x="36" y="341"/>
                        <a:pt x="38" y="345"/>
                      </a:cubicBezTo>
                      <a:cubicBezTo>
                        <a:pt x="40" y="349"/>
                        <a:pt x="17" y="382"/>
                        <a:pt x="17" y="388"/>
                      </a:cubicBezTo>
                      <a:cubicBezTo>
                        <a:pt x="17" y="394"/>
                        <a:pt x="26" y="390"/>
                        <a:pt x="41" y="382"/>
                      </a:cubicBezTo>
                      <a:cubicBezTo>
                        <a:pt x="56" y="374"/>
                        <a:pt x="89" y="354"/>
                        <a:pt x="107" y="342"/>
                      </a:cubicBezTo>
                      <a:cubicBezTo>
                        <a:pt x="125" y="330"/>
                        <a:pt x="136" y="319"/>
                        <a:pt x="147" y="309"/>
                      </a:cubicBezTo>
                      <a:cubicBezTo>
                        <a:pt x="158" y="299"/>
                        <a:pt x="175" y="280"/>
                        <a:pt x="174" y="283"/>
                      </a:cubicBezTo>
                      <a:cubicBezTo>
                        <a:pt x="173" y="286"/>
                        <a:pt x="150" y="313"/>
                        <a:pt x="141" y="325"/>
                      </a:cubicBezTo>
                      <a:cubicBezTo>
                        <a:pt x="132" y="337"/>
                        <a:pt x="119" y="350"/>
                        <a:pt x="120" y="354"/>
                      </a:cubicBezTo>
                      <a:cubicBezTo>
                        <a:pt x="121" y="358"/>
                        <a:pt x="135" y="352"/>
                        <a:pt x="147" y="348"/>
                      </a:cubicBezTo>
                      <a:cubicBezTo>
                        <a:pt x="159" y="344"/>
                        <a:pt x="177" y="336"/>
                        <a:pt x="194" y="327"/>
                      </a:cubicBezTo>
                      <a:cubicBezTo>
                        <a:pt x="211" y="318"/>
                        <a:pt x="235" y="300"/>
                        <a:pt x="248" y="292"/>
                      </a:cubicBezTo>
                      <a:cubicBezTo>
                        <a:pt x="261" y="284"/>
                        <a:pt x="272" y="276"/>
                        <a:pt x="272" y="279"/>
                      </a:cubicBezTo>
                      <a:cubicBezTo>
                        <a:pt x="272" y="282"/>
                        <a:pt x="253" y="304"/>
                        <a:pt x="248" y="312"/>
                      </a:cubicBezTo>
                      <a:cubicBezTo>
                        <a:pt x="243" y="320"/>
                        <a:pt x="236" y="330"/>
                        <a:pt x="240" y="330"/>
                      </a:cubicBezTo>
                      <a:cubicBezTo>
                        <a:pt x="244" y="330"/>
                        <a:pt x="262" y="321"/>
                        <a:pt x="275" y="312"/>
                      </a:cubicBezTo>
                      <a:cubicBezTo>
                        <a:pt x="288" y="303"/>
                        <a:pt x="306" y="289"/>
                        <a:pt x="321" y="277"/>
                      </a:cubicBezTo>
                      <a:cubicBezTo>
                        <a:pt x="336" y="265"/>
                        <a:pt x="355" y="248"/>
                        <a:pt x="366" y="238"/>
                      </a:cubicBezTo>
                      <a:cubicBezTo>
                        <a:pt x="377" y="228"/>
                        <a:pt x="382" y="216"/>
                        <a:pt x="384" y="217"/>
                      </a:cubicBezTo>
                      <a:cubicBezTo>
                        <a:pt x="386" y="218"/>
                        <a:pt x="378" y="234"/>
                        <a:pt x="377" y="243"/>
                      </a:cubicBezTo>
                      <a:cubicBezTo>
                        <a:pt x="376" y="252"/>
                        <a:pt x="372" y="272"/>
                        <a:pt x="378" y="273"/>
                      </a:cubicBezTo>
                      <a:cubicBezTo>
                        <a:pt x="384" y="274"/>
                        <a:pt x="400" y="262"/>
                        <a:pt x="413" y="247"/>
                      </a:cubicBezTo>
                      <a:cubicBezTo>
                        <a:pt x="426" y="232"/>
                        <a:pt x="445" y="204"/>
                        <a:pt x="455" y="184"/>
                      </a:cubicBezTo>
                      <a:cubicBezTo>
                        <a:pt x="465" y="164"/>
                        <a:pt x="468" y="144"/>
                        <a:pt x="471" y="129"/>
                      </a:cubicBezTo>
                      <a:cubicBezTo>
                        <a:pt x="474" y="114"/>
                        <a:pt x="469" y="89"/>
                        <a:pt x="473" y="97"/>
                      </a:cubicBezTo>
                      <a:cubicBezTo>
                        <a:pt x="477" y="105"/>
                        <a:pt x="492" y="157"/>
                        <a:pt x="497" y="175"/>
                      </a:cubicBezTo>
                      <a:cubicBezTo>
                        <a:pt x="502" y="193"/>
                        <a:pt x="502" y="209"/>
                        <a:pt x="504" y="208"/>
                      </a:cubicBezTo>
                      <a:cubicBezTo>
                        <a:pt x="506" y="207"/>
                        <a:pt x="508" y="190"/>
                        <a:pt x="509" y="171"/>
                      </a:cubicBezTo>
                      <a:cubicBezTo>
                        <a:pt x="510" y="152"/>
                        <a:pt x="510" y="112"/>
                        <a:pt x="510" y="96"/>
                      </a:cubicBezTo>
                      <a:cubicBezTo>
                        <a:pt x="510" y="80"/>
                        <a:pt x="506" y="72"/>
                        <a:pt x="510" y="76"/>
                      </a:cubicBezTo>
                      <a:cubicBezTo>
                        <a:pt x="514" y="80"/>
                        <a:pt x="529" y="104"/>
                        <a:pt x="537" y="121"/>
                      </a:cubicBezTo>
                      <a:cubicBezTo>
                        <a:pt x="545" y="138"/>
                        <a:pt x="553" y="178"/>
                        <a:pt x="557" y="177"/>
                      </a:cubicBezTo>
                      <a:cubicBezTo>
                        <a:pt x="561" y="176"/>
                        <a:pt x="564" y="129"/>
                        <a:pt x="564" y="112"/>
                      </a:cubicBezTo>
                      <a:cubicBezTo>
                        <a:pt x="564" y="95"/>
                        <a:pt x="553" y="76"/>
                        <a:pt x="555" y="72"/>
                      </a:cubicBezTo>
                      <a:cubicBezTo>
                        <a:pt x="557" y="68"/>
                        <a:pt x="571" y="81"/>
                        <a:pt x="579" y="90"/>
                      </a:cubicBezTo>
                      <a:cubicBezTo>
                        <a:pt x="587" y="99"/>
                        <a:pt x="598" y="127"/>
                        <a:pt x="603" y="127"/>
                      </a:cubicBezTo>
                      <a:cubicBezTo>
                        <a:pt x="608" y="127"/>
                        <a:pt x="608" y="101"/>
                        <a:pt x="608" y="87"/>
                      </a:cubicBezTo>
                      <a:cubicBezTo>
                        <a:pt x="608" y="73"/>
                        <a:pt x="612" y="54"/>
                        <a:pt x="602" y="43"/>
                      </a:cubicBezTo>
                      <a:cubicBezTo>
                        <a:pt x="592" y="32"/>
                        <a:pt x="577" y="23"/>
                        <a:pt x="549" y="18"/>
                      </a:cubicBezTo>
                      <a:cubicBezTo>
                        <a:pt x="521" y="13"/>
                        <a:pt x="471" y="0"/>
                        <a:pt x="431" y="13"/>
                      </a:cubicBezTo>
                      <a:cubicBezTo>
                        <a:pt x="391" y="26"/>
                        <a:pt x="352" y="69"/>
                        <a:pt x="308" y="94"/>
                      </a:cubicBezTo>
                      <a:cubicBezTo>
                        <a:pt x="264" y="119"/>
                        <a:pt x="198" y="150"/>
                        <a:pt x="168" y="165"/>
                      </a:cubicBezTo>
                      <a:cubicBezTo>
                        <a:pt x="138" y="180"/>
                        <a:pt x="138" y="166"/>
                        <a:pt x="119" y="186"/>
                      </a:cubicBezTo>
                      <a:close/>
                    </a:path>
                  </a:pathLst>
                </a:custGeom>
                <a:solidFill>
                  <a:srgbClr val="d7de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71"/>
                <p:cNvSpPr/>
                <p:nvPr/>
              </p:nvSpPr>
              <p:spPr>
                <a:xfrm>
                  <a:off x="11293560" y="7485480"/>
                  <a:ext cx="1696320" cy="1081800"/>
                </a:xfrm>
                <a:custGeom>
                  <a:avLst/>
                  <a:gdLst>
                    <a:gd name="textAreaLeft" fmla="*/ 0 w 1696320"/>
                    <a:gd name="textAreaRight" fmla="*/ 1696680 w 1696320"/>
                    <a:gd name="textAreaTop" fmla="*/ 0 h 1081800"/>
                    <a:gd name="textAreaBottom" fmla="*/ 1082160 h 1081800"/>
                  </a:gdLst>
                  <a:ahLst/>
                  <a:rect l="textAreaLeft" t="textAreaTop" r="textAreaRight" b="textAreaBottom"/>
                  <a:pathLst>
                    <a:path w="668" h="426">
                      <a:moveTo>
                        <a:pt x="447" y="1"/>
                      </a:moveTo>
                      <a:cubicBezTo>
                        <a:pt x="417" y="2"/>
                        <a:pt x="380" y="6"/>
                        <a:pt x="339" y="28"/>
                      </a:cubicBezTo>
                      <a:cubicBezTo>
                        <a:pt x="298" y="50"/>
                        <a:pt x="243" y="93"/>
                        <a:pt x="201" y="132"/>
                      </a:cubicBezTo>
                      <a:cubicBezTo>
                        <a:pt x="159" y="171"/>
                        <a:pt x="111" y="231"/>
                        <a:pt x="85" y="261"/>
                      </a:cubicBezTo>
                      <a:cubicBezTo>
                        <a:pt x="59" y="291"/>
                        <a:pt x="58" y="293"/>
                        <a:pt x="48" y="310"/>
                      </a:cubicBezTo>
                      <a:cubicBezTo>
                        <a:pt x="38" y="327"/>
                        <a:pt x="32" y="345"/>
                        <a:pt x="24" y="363"/>
                      </a:cubicBezTo>
                      <a:cubicBezTo>
                        <a:pt x="16" y="381"/>
                        <a:pt x="2" y="410"/>
                        <a:pt x="1" y="418"/>
                      </a:cubicBezTo>
                      <a:cubicBezTo>
                        <a:pt x="0" y="426"/>
                        <a:pt x="5" y="424"/>
                        <a:pt x="16" y="412"/>
                      </a:cubicBezTo>
                      <a:cubicBezTo>
                        <a:pt x="27" y="400"/>
                        <a:pt x="55" y="365"/>
                        <a:pt x="69" y="346"/>
                      </a:cubicBezTo>
                      <a:cubicBezTo>
                        <a:pt x="83" y="327"/>
                        <a:pt x="107" y="291"/>
                        <a:pt x="102" y="300"/>
                      </a:cubicBezTo>
                      <a:cubicBezTo>
                        <a:pt x="97" y="309"/>
                        <a:pt x="51" y="382"/>
                        <a:pt x="39" y="403"/>
                      </a:cubicBezTo>
                      <a:cubicBezTo>
                        <a:pt x="27" y="424"/>
                        <a:pt x="27" y="426"/>
                        <a:pt x="30" y="426"/>
                      </a:cubicBezTo>
                      <a:cubicBezTo>
                        <a:pt x="33" y="426"/>
                        <a:pt x="39" y="419"/>
                        <a:pt x="58" y="403"/>
                      </a:cubicBezTo>
                      <a:cubicBezTo>
                        <a:pt x="77" y="387"/>
                        <a:pt x="121" y="351"/>
                        <a:pt x="144" y="333"/>
                      </a:cubicBezTo>
                      <a:cubicBezTo>
                        <a:pt x="167" y="315"/>
                        <a:pt x="180" y="305"/>
                        <a:pt x="195" y="295"/>
                      </a:cubicBezTo>
                      <a:cubicBezTo>
                        <a:pt x="210" y="285"/>
                        <a:pt x="229" y="273"/>
                        <a:pt x="232" y="274"/>
                      </a:cubicBezTo>
                      <a:cubicBezTo>
                        <a:pt x="235" y="275"/>
                        <a:pt x="222" y="291"/>
                        <a:pt x="213" y="304"/>
                      </a:cubicBezTo>
                      <a:cubicBezTo>
                        <a:pt x="204" y="317"/>
                        <a:pt x="177" y="350"/>
                        <a:pt x="178" y="355"/>
                      </a:cubicBezTo>
                      <a:cubicBezTo>
                        <a:pt x="179" y="360"/>
                        <a:pt x="197" y="353"/>
                        <a:pt x="220" y="337"/>
                      </a:cubicBezTo>
                      <a:cubicBezTo>
                        <a:pt x="243" y="321"/>
                        <a:pt x="294" y="275"/>
                        <a:pt x="316" y="259"/>
                      </a:cubicBezTo>
                      <a:cubicBezTo>
                        <a:pt x="338" y="243"/>
                        <a:pt x="345" y="235"/>
                        <a:pt x="351" y="238"/>
                      </a:cubicBezTo>
                      <a:cubicBezTo>
                        <a:pt x="357" y="241"/>
                        <a:pt x="348" y="270"/>
                        <a:pt x="351" y="276"/>
                      </a:cubicBezTo>
                      <a:cubicBezTo>
                        <a:pt x="354" y="282"/>
                        <a:pt x="359" y="285"/>
                        <a:pt x="369" y="277"/>
                      </a:cubicBezTo>
                      <a:cubicBezTo>
                        <a:pt x="379" y="269"/>
                        <a:pt x="397" y="249"/>
                        <a:pt x="411" y="229"/>
                      </a:cubicBezTo>
                      <a:cubicBezTo>
                        <a:pt x="425" y="209"/>
                        <a:pt x="449" y="180"/>
                        <a:pt x="456" y="159"/>
                      </a:cubicBezTo>
                      <a:cubicBezTo>
                        <a:pt x="463" y="138"/>
                        <a:pt x="448" y="103"/>
                        <a:pt x="454" y="100"/>
                      </a:cubicBezTo>
                      <a:cubicBezTo>
                        <a:pt x="460" y="97"/>
                        <a:pt x="488" y="141"/>
                        <a:pt x="495" y="141"/>
                      </a:cubicBezTo>
                      <a:cubicBezTo>
                        <a:pt x="502" y="141"/>
                        <a:pt x="490" y="97"/>
                        <a:pt x="499" y="97"/>
                      </a:cubicBezTo>
                      <a:cubicBezTo>
                        <a:pt x="508" y="97"/>
                        <a:pt x="541" y="134"/>
                        <a:pt x="552" y="142"/>
                      </a:cubicBezTo>
                      <a:cubicBezTo>
                        <a:pt x="563" y="150"/>
                        <a:pt x="565" y="152"/>
                        <a:pt x="567" y="148"/>
                      </a:cubicBezTo>
                      <a:cubicBezTo>
                        <a:pt x="569" y="144"/>
                        <a:pt x="566" y="130"/>
                        <a:pt x="564" y="120"/>
                      </a:cubicBezTo>
                      <a:cubicBezTo>
                        <a:pt x="562" y="110"/>
                        <a:pt x="548" y="87"/>
                        <a:pt x="552" y="85"/>
                      </a:cubicBezTo>
                      <a:cubicBezTo>
                        <a:pt x="556" y="83"/>
                        <a:pt x="577" y="107"/>
                        <a:pt x="586" y="111"/>
                      </a:cubicBezTo>
                      <a:cubicBezTo>
                        <a:pt x="595" y="115"/>
                        <a:pt x="599" y="109"/>
                        <a:pt x="604" y="109"/>
                      </a:cubicBezTo>
                      <a:cubicBezTo>
                        <a:pt x="609" y="109"/>
                        <a:pt x="608" y="103"/>
                        <a:pt x="618" y="111"/>
                      </a:cubicBezTo>
                      <a:cubicBezTo>
                        <a:pt x="628" y="119"/>
                        <a:pt x="664" y="157"/>
                        <a:pt x="666" y="156"/>
                      </a:cubicBezTo>
                      <a:cubicBezTo>
                        <a:pt x="668" y="155"/>
                        <a:pt x="645" y="120"/>
                        <a:pt x="631" y="105"/>
                      </a:cubicBezTo>
                      <a:cubicBezTo>
                        <a:pt x="617" y="90"/>
                        <a:pt x="601" y="76"/>
                        <a:pt x="582" y="63"/>
                      </a:cubicBezTo>
                      <a:cubicBezTo>
                        <a:pt x="563" y="50"/>
                        <a:pt x="541" y="34"/>
                        <a:pt x="519" y="24"/>
                      </a:cubicBezTo>
                      <a:cubicBezTo>
                        <a:pt x="497" y="14"/>
                        <a:pt x="477" y="0"/>
                        <a:pt x="447" y="1"/>
                      </a:cubicBezTo>
                      <a:close/>
                    </a:path>
                  </a:pathLst>
                </a:custGeom>
                <a:solidFill>
                  <a:srgbClr val="f1f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272"/>
            <p:cNvSpPr/>
            <p:nvPr/>
          </p:nvSpPr>
          <p:spPr>
            <a:xfrm>
              <a:off x="10630080" y="4757760"/>
              <a:ext cx="4133160" cy="52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0630080" y="4757760"/>
            <a:ext cx="4133160" cy="5223960"/>
            <a:chOff x="10630080" y="4757760"/>
            <a:chExt cx="4133160" cy="5223960"/>
          </a:xfrm>
        </p:grpSpPr>
        <p:grpSp>
          <p:nvGrpSpPr>
            <p:cNvPr id="313" name=""/>
            <p:cNvGrpSpPr/>
            <p:nvPr/>
          </p:nvGrpSpPr>
          <p:grpSpPr>
            <a:xfrm>
              <a:off x="10921680" y="7416000"/>
              <a:ext cx="3352680" cy="2300400"/>
              <a:chOff x="10921680" y="7416000"/>
              <a:chExt cx="3352680" cy="23004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1765160" y="7481880"/>
                <a:ext cx="216720" cy="140760"/>
                <a:chOff x="11765160" y="7481880"/>
                <a:chExt cx="216720" cy="140760"/>
              </a:xfrm>
            </p:grpSpPr>
            <p:sp>
              <p:nvSpPr>
                <p:cNvPr id="315" name="Freeform 276"/>
                <p:cNvSpPr/>
                <p:nvPr/>
              </p:nvSpPr>
              <p:spPr>
                <a:xfrm rot="603000">
                  <a:off x="11799000" y="7495920"/>
                  <a:ext cx="174240" cy="11196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77"/>
                <p:cNvSpPr/>
                <p:nvPr/>
              </p:nvSpPr>
              <p:spPr>
                <a:xfrm rot="603000">
                  <a:off x="11771280" y="7503120"/>
                  <a:ext cx="190800" cy="8964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278"/>
                <p:cNvSpPr/>
                <p:nvPr/>
              </p:nvSpPr>
              <p:spPr>
                <a:xfrm rot="603000">
                  <a:off x="11769840" y="7530480"/>
                  <a:ext cx="181440" cy="74880"/>
                </a:xfrm>
                <a:custGeom>
                  <a:avLst/>
                  <a:gdLst>
                    <a:gd name="textAreaLeft" fmla="*/ 0 w 181440"/>
                    <a:gd name="textAreaRight" fmla="*/ 181800 w 181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2256920" y="7956720"/>
                <a:ext cx="616680" cy="1759680"/>
                <a:chOff x="12256920" y="7956720"/>
                <a:chExt cx="616680" cy="1759680"/>
              </a:xfrm>
            </p:grpSpPr>
            <p:sp>
              <p:nvSpPr>
                <p:cNvPr id="319" name="Freeform 280"/>
                <p:cNvSpPr/>
                <p:nvPr/>
              </p:nvSpPr>
              <p:spPr>
                <a:xfrm>
                  <a:off x="12256920" y="7956720"/>
                  <a:ext cx="616680" cy="1759680"/>
                </a:xfrm>
                <a:custGeom>
                  <a:avLst/>
                  <a:gdLst>
                    <a:gd name="textAreaLeft" fmla="*/ 0 w 616680"/>
                    <a:gd name="textAreaRight" fmla="*/ 617040 w 616680"/>
                    <a:gd name="textAreaTop" fmla="*/ 0 h 1759680"/>
                    <a:gd name="textAreaBottom" fmla="*/ 1760040 h 1759680"/>
                  </a:gdLst>
                  <a:ahLst/>
                  <a:rect l="textAreaLeft" t="textAreaTop" r="textAreaRight" b="textAreaBottom"/>
                  <a:pathLst>
                    <a:path w="256" h="730">
                      <a:moveTo>
                        <a:pt x="52" y="47"/>
                      </a:moveTo>
                      <a:cubicBezTo>
                        <a:pt x="42" y="94"/>
                        <a:pt x="50" y="230"/>
                        <a:pt x="44" y="309"/>
                      </a:cubicBezTo>
                      <a:cubicBezTo>
                        <a:pt x="38" y="388"/>
                        <a:pt x="21" y="467"/>
                        <a:pt x="14" y="523"/>
                      </a:cubicBezTo>
                      <a:cubicBezTo>
                        <a:pt x="7" y="579"/>
                        <a:pt x="0" y="629"/>
                        <a:pt x="2" y="643"/>
                      </a:cubicBezTo>
                      <a:cubicBezTo>
                        <a:pt x="4" y="657"/>
                        <a:pt x="26" y="603"/>
                        <a:pt x="28" y="605"/>
                      </a:cubicBezTo>
                      <a:cubicBezTo>
                        <a:pt x="30" y="607"/>
                        <a:pt x="17" y="635"/>
                        <a:pt x="14" y="653"/>
                      </a:cubicBezTo>
                      <a:cubicBezTo>
                        <a:pt x="11" y="671"/>
                        <a:pt x="10" y="702"/>
                        <a:pt x="12" y="713"/>
                      </a:cubicBezTo>
                      <a:cubicBezTo>
                        <a:pt x="14" y="724"/>
                        <a:pt x="18" y="730"/>
                        <a:pt x="24" y="721"/>
                      </a:cubicBezTo>
                      <a:cubicBezTo>
                        <a:pt x="30" y="712"/>
                        <a:pt x="44" y="663"/>
                        <a:pt x="46" y="661"/>
                      </a:cubicBezTo>
                      <a:cubicBezTo>
                        <a:pt x="48" y="659"/>
                        <a:pt x="38" y="706"/>
                        <a:pt x="40" y="711"/>
                      </a:cubicBezTo>
                      <a:cubicBezTo>
                        <a:pt x="42" y="716"/>
                        <a:pt x="54" y="705"/>
                        <a:pt x="60" y="693"/>
                      </a:cubicBezTo>
                      <a:cubicBezTo>
                        <a:pt x="66" y="681"/>
                        <a:pt x="69" y="663"/>
                        <a:pt x="74" y="641"/>
                      </a:cubicBezTo>
                      <a:cubicBezTo>
                        <a:pt x="79" y="619"/>
                        <a:pt x="86" y="579"/>
                        <a:pt x="90" y="561"/>
                      </a:cubicBezTo>
                      <a:cubicBezTo>
                        <a:pt x="94" y="543"/>
                        <a:pt x="94" y="528"/>
                        <a:pt x="96" y="533"/>
                      </a:cubicBezTo>
                      <a:cubicBezTo>
                        <a:pt x="98" y="538"/>
                        <a:pt x="98" y="573"/>
                        <a:pt x="100" y="591"/>
                      </a:cubicBezTo>
                      <a:cubicBezTo>
                        <a:pt x="102" y="609"/>
                        <a:pt x="103" y="636"/>
                        <a:pt x="106" y="639"/>
                      </a:cubicBezTo>
                      <a:cubicBezTo>
                        <a:pt x="109" y="642"/>
                        <a:pt x="114" y="624"/>
                        <a:pt x="118" y="611"/>
                      </a:cubicBezTo>
                      <a:cubicBezTo>
                        <a:pt x="122" y="598"/>
                        <a:pt x="127" y="580"/>
                        <a:pt x="130" y="563"/>
                      </a:cubicBezTo>
                      <a:cubicBezTo>
                        <a:pt x="133" y="546"/>
                        <a:pt x="135" y="508"/>
                        <a:pt x="138" y="507"/>
                      </a:cubicBezTo>
                      <a:cubicBezTo>
                        <a:pt x="141" y="506"/>
                        <a:pt x="142" y="550"/>
                        <a:pt x="146" y="555"/>
                      </a:cubicBezTo>
                      <a:cubicBezTo>
                        <a:pt x="150" y="560"/>
                        <a:pt x="159" y="549"/>
                        <a:pt x="164" y="539"/>
                      </a:cubicBezTo>
                      <a:cubicBezTo>
                        <a:pt x="169" y="529"/>
                        <a:pt x="172" y="516"/>
                        <a:pt x="174" y="495"/>
                      </a:cubicBezTo>
                      <a:cubicBezTo>
                        <a:pt x="176" y="474"/>
                        <a:pt x="175" y="420"/>
                        <a:pt x="176" y="411"/>
                      </a:cubicBezTo>
                      <a:cubicBezTo>
                        <a:pt x="177" y="402"/>
                        <a:pt x="179" y="439"/>
                        <a:pt x="182" y="443"/>
                      </a:cubicBezTo>
                      <a:cubicBezTo>
                        <a:pt x="185" y="447"/>
                        <a:pt x="191" y="430"/>
                        <a:pt x="194" y="433"/>
                      </a:cubicBezTo>
                      <a:cubicBezTo>
                        <a:pt x="197" y="436"/>
                        <a:pt x="198" y="460"/>
                        <a:pt x="200" y="459"/>
                      </a:cubicBezTo>
                      <a:cubicBezTo>
                        <a:pt x="202" y="458"/>
                        <a:pt x="204" y="444"/>
                        <a:pt x="206" y="427"/>
                      </a:cubicBezTo>
                      <a:cubicBezTo>
                        <a:pt x="208" y="410"/>
                        <a:pt x="209" y="373"/>
                        <a:pt x="210" y="357"/>
                      </a:cubicBezTo>
                      <a:cubicBezTo>
                        <a:pt x="211" y="341"/>
                        <a:pt x="209" y="338"/>
                        <a:pt x="210" y="331"/>
                      </a:cubicBezTo>
                      <a:cubicBezTo>
                        <a:pt x="211" y="324"/>
                        <a:pt x="218" y="324"/>
                        <a:pt x="218" y="317"/>
                      </a:cubicBezTo>
                      <a:cubicBezTo>
                        <a:pt x="218" y="310"/>
                        <a:pt x="209" y="299"/>
                        <a:pt x="212" y="289"/>
                      </a:cubicBezTo>
                      <a:cubicBezTo>
                        <a:pt x="215" y="279"/>
                        <a:pt x="230" y="276"/>
                        <a:pt x="236" y="255"/>
                      </a:cubicBezTo>
                      <a:cubicBezTo>
                        <a:pt x="242" y="234"/>
                        <a:pt x="256" y="187"/>
                        <a:pt x="246" y="161"/>
                      </a:cubicBezTo>
                      <a:cubicBezTo>
                        <a:pt x="236" y="135"/>
                        <a:pt x="199" y="122"/>
                        <a:pt x="176" y="99"/>
                      </a:cubicBezTo>
                      <a:cubicBezTo>
                        <a:pt x="153" y="76"/>
                        <a:pt x="126" y="33"/>
                        <a:pt x="106" y="25"/>
                      </a:cubicBezTo>
                      <a:cubicBezTo>
                        <a:pt x="86" y="17"/>
                        <a:pt x="62" y="0"/>
                        <a:pt x="52" y="47"/>
                      </a:cubicBezTo>
                      <a:close/>
                    </a:path>
                  </a:pathLst>
                </a:custGeom>
                <a:solidFill>
                  <a:srgbClr val="c2cc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81"/>
                <p:cNvSpPr/>
                <p:nvPr/>
              </p:nvSpPr>
              <p:spPr>
                <a:xfrm>
                  <a:off x="12430440" y="8154360"/>
                  <a:ext cx="414000" cy="776160"/>
                </a:xfrm>
                <a:custGeom>
                  <a:avLst/>
                  <a:gdLst>
                    <a:gd name="textAreaLeft" fmla="*/ 0 w 414000"/>
                    <a:gd name="textAreaRight" fmla="*/ 414360 w 414000"/>
                    <a:gd name="textAreaTop" fmla="*/ 0 h 776160"/>
                    <a:gd name="textAreaBottom" fmla="*/ 776520 h 776160"/>
                  </a:gdLst>
                  <a:ahLst/>
                  <a:rect l="textAreaLeft" t="textAreaTop" r="textAreaRight" b="textAreaBottom"/>
                  <a:pathLst>
                    <a:path w="172" h="322">
                      <a:moveTo>
                        <a:pt x="46" y="21"/>
                      </a:moveTo>
                      <a:cubicBezTo>
                        <a:pt x="38" y="42"/>
                        <a:pt x="18" y="113"/>
                        <a:pt x="10" y="149"/>
                      </a:cubicBezTo>
                      <a:cubicBezTo>
                        <a:pt x="2" y="185"/>
                        <a:pt x="0" y="211"/>
                        <a:pt x="0" y="239"/>
                      </a:cubicBezTo>
                      <a:cubicBezTo>
                        <a:pt x="0" y="267"/>
                        <a:pt x="8" y="308"/>
                        <a:pt x="12" y="315"/>
                      </a:cubicBezTo>
                      <a:cubicBezTo>
                        <a:pt x="16" y="322"/>
                        <a:pt x="18" y="292"/>
                        <a:pt x="22" y="285"/>
                      </a:cubicBezTo>
                      <a:cubicBezTo>
                        <a:pt x="26" y="278"/>
                        <a:pt x="33" y="284"/>
                        <a:pt x="36" y="275"/>
                      </a:cubicBezTo>
                      <a:cubicBezTo>
                        <a:pt x="39" y="266"/>
                        <a:pt x="36" y="236"/>
                        <a:pt x="40" y="229"/>
                      </a:cubicBezTo>
                      <a:cubicBezTo>
                        <a:pt x="44" y="222"/>
                        <a:pt x="56" y="236"/>
                        <a:pt x="60" y="233"/>
                      </a:cubicBezTo>
                      <a:cubicBezTo>
                        <a:pt x="64" y="230"/>
                        <a:pt x="61" y="214"/>
                        <a:pt x="66" y="209"/>
                      </a:cubicBezTo>
                      <a:cubicBezTo>
                        <a:pt x="71" y="204"/>
                        <a:pt x="86" y="207"/>
                        <a:pt x="92" y="201"/>
                      </a:cubicBezTo>
                      <a:cubicBezTo>
                        <a:pt x="98" y="195"/>
                        <a:pt x="91" y="182"/>
                        <a:pt x="100" y="175"/>
                      </a:cubicBezTo>
                      <a:cubicBezTo>
                        <a:pt x="109" y="168"/>
                        <a:pt x="132" y="174"/>
                        <a:pt x="144" y="161"/>
                      </a:cubicBezTo>
                      <a:cubicBezTo>
                        <a:pt x="156" y="148"/>
                        <a:pt x="172" y="120"/>
                        <a:pt x="172" y="97"/>
                      </a:cubicBezTo>
                      <a:cubicBezTo>
                        <a:pt x="172" y="74"/>
                        <a:pt x="161" y="36"/>
                        <a:pt x="142" y="23"/>
                      </a:cubicBezTo>
                      <a:cubicBezTo>
                        <a:pt x="123" y="10"/>
                        <a:pt x="76" y="22"/>
                        <a:pt x="60" y="21"/>
                      </a:cubicBezTo>
                      <a:cubicBezTo>
                        <a:pt x="44" y="20"/>
                        <a:pt x="54" y="0"/>
                        <a:pt x="46" y="21"/>
                      </a:cubicBezTo>
                      <a:close/>
                    </a:path>
                  </a:pathLst>
                </a:custGeom>
                <a:solidFill>
                  <a:srgbClr val="a6b4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Oval 282"/>
              <p:cNvSpPr/>
              <p:nvPr/>
            </p:nvSpPr>
            <p:spPr>
              <a:xfrm>
                <a:off x="11887200" y="7534080"/>
                <a:ext cx="23400" cy="22680"/>
              </a:xfrm>
              <a:prstGeom prst="ellipse">
                <a:avLst/>
              </a:prstGeom>
              <a:solidFill>
                <a:srgbClr val="c2cc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11453760" y="7435080"/>
                <a:ext cx="320760" cy="179280"/>
                <a:chOff x="11453760" y="7435080"/>
                <a:chExt cx="320760" cy="179280"/>
              </a:xfrm>
            </p:grpSpPr>
            <p:sp>
              <p:nvSpPr>
                <p:cNvPr id="323" name="Freeform 284"/>
                <p:cNvSpPr/>
                <p:nvPr/>
              </p:nvSpPr>
              <p:spPr>
                <a:xfrm>
                  <a:off x="11498040" y="7435080"/>
                  <a:ext cx="276480" cy="177120"/>
                </a:xfrm>
                <a:custGeom>
                  <a:avLst/>
                  <a:gdLst>
                    <a:gd name="textAreaLeft" fmla="*/ 0 w 276480"/>
                    <a:gd name="textAreaRight" fmla="*/ 276840 w 276480"/>
                    <a:gd name="textAreaTop" fmla="*/ 0 h 177120"/>
                    <a:gd name="textAreaBottom" fmla="*/ 177120 h 177120"/>
                  </a:gdLst>
                  <a:ahLst/>
                  <a:rect l="textAreaLeft" t="textAreaTop" r="textAreaRight" b="textAreaBottom"/>
                  <a:pathLst>
                    <a:path w="131" h="84">
                      <a:moveTo>
                        <a:pt x="107" y="81"/>
                      </a:moveTo>
                      <a:cubicBezTo>
                        <a:pt x="91" y="78"/>
                        <a:pt x="46" y="44"/>
                        <a:pt x="29" y="35"/>
                      </a:cubicBezTo>
                      <a:cubicBezTo>
                        <a:pt x="12" y="26"/>
                        <a:pt x="0" y="32"/>
                        <a:pt x="2" y="27"/>
                      </a:cubicBezTo>
                      <a:cubicBezTo>
                        <a:pt x="4" y="22"/>
                        <a:pt x="27" y="9"/>
                        <a:pt x="41" y="6"/>
                      </a:cubicBezTo>
                      <a:cubicBezTo>
                        <a:pt x="55" y="3"/>
                        <a:pt x="70" y="0"/>
                        <a:pt x="84" y="8"/>
                      </a:cubicBezTo>
                      <a:cubicBezTo>
                        <a:pt x="98" y="16"/>
                        <a:pt x="125" y="42"/>
                        <a:pt x="128" y="54"/>
                      </a:cubicBezTo>
                      <a:cubicBezTo>
                        <a:pt x="131" y="66"/>
                        <a:pt x="123" y="84"/>
                        <a:pt x="107" y="81"/>
                      </a:cubicBezTo>
                      <a:close/>
                    </a:path>
                  </a:pathLst>
                </a:custGeom>
                <a:solidFill>
                  <a:srgbClr val="91a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85"/>
                <p:cNvSpPr/>
                <p:nvPr/>
              </p:nvSpPr>
              <p:spPr>
                <a:xfrm>
                  <a:off x="11453760" y="7451640"/>
                  <a:ext cx="302400" cy="141480"/>
                </a:xfrm>
                <a:custGeom>
                  <a:avLst/>
                  <a:gdLst>
                    <a:gd name="textAreaLeft" fmla="*/ 0 w 302400"/>
                    <a:gd name="textAreaRight" fmla="*/ 302760 w 302400"/>
                    <a:gd name="textAreaTop" fmla="*/ 0 h 141480"/>
                    <a:gd name="textAreaBottom" fmla="*/ 141840 h 141480"/>
                  </a:gdLst>
                  <a:ahLst/>
                  <a:rect l="textAreaLeft" t="textAreaTop" r="textAreaRight" b="textAreaBottom"/>
                  <a:pathLst>
                    <a:path w="143" h="67">
                      <a:moveTo>
                        <a:pt x="110" y="4"/>
                      </a:moveTo>
                      <a:cubicBezTo>
                        <a:pt x="99" y="3"/>
                        <a:pt x="56" y="11"/>
                        <a:pt x="47" y="10"/>
                      </a:cubicBezTo>
                      <a:cubicBezTo>
                        <a:pt x="38" y="9"/>
                        <a:pt x="59" y="0"/>
                        <a:pt x="54" y="1"/>
                      </a:cubicBezTo>
                      <a:cubicBezTo>
                        <a:pt x="49" y="2"/>
                        <a:pt x="27" y="12"/>
                        <a:pt x="18" y="16"/>
                      </a:cubicBezTo>
                      <a:cubicBezTo>
                        <a:pt x="9" y="20"/>
                        <a:pt x="0" y="24"/>
                        <a:pt x="2" y="28"/>
                      </a:cubicBezTo>
                      <a:cubicBezTo>
                        <a:pt x="4" y="32"/>
                        <a:pt x="18" y="35"/>
                        <a:pt x="30" y="40"/>
                      </a:cubicBezTo>
                      <a:cubicBezTo>
                        <a:pt x="42" y="45"/>
                        <a:pt x="59" y="57"/>
                        <a:pt x="77" y="60"/>
                      </a:cubicBezTo>
                      <a:cubicBezTo>
                        <a:pt x="95" y="63"/>
                        <a:pt x="131" y="67"/>
                        <a:pt x="137" y="60"/>
                      </a:cubicBezTo>
                      <a:cubicBezTo>
                        <a:pt x="143" y="53"/>
                        <a:pt x="115" y="27"/>
                        <a:pt x="111" y="18"/>
                      </a:cubicBezTo>
                      <a:cubicBezTo>
                        <a:pt x="107" y="9"/>
                        <a:pt x="121" y="5"/>
                        <a:pt x="110" y="4"/>
                      </a:cubicBezTo>
                      <a:close/>
                    </a:path>
                  </a:pathLst>
                </a:custGeom>
                <a:solidFill>
                  <a:srgbClr val="506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86"/>
                <p:cNvSpPr/>
                <p:nvPr/>
              </p:nvSpPr>
              <p:spPr>
                <a:xfrm>
                  <a:off x="11457720" y="7496280"/>
                  <a:ext cx="287640" cy="11808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136" h="56">
                      <a:moveTo>
                        <a:pt x="103" y="55"/>
                      </a:moveTo>
                      <a:cubicBezTo>
                        <a:pt x="90" y="56"/>
                        <a:pt x="66" y="40"/>
                        <a:pt x="52" y="34"/>
                      </a:cubicBezTo>
                      <a:cubicBezTo>
                        <a:pt x="38" y="28"/>
                        <a:pt x="16" y="17"/>
                        <a:pt x="16" y="16"/>
                      </a:cubicBezTo>
                      <a:cubicBezTo>
                        <a:pt x="16" y="15"/>
                        <a:pt x="39" y="24"/>
                        <a:pt x="52" y="25"/>
                      </a:cubicBezTo>
                      <a:cubicBezTo>
                        <a:pt x="65" y="26"/>
                        <a:pt x="100" y="25"/>
                        <a:pt x="97" y="22"/>
                      </a:cubicBezTo>
                      <a:cubicBezTo>
                        <a:pt x="94" y="19"/>
                        <a:pt x="46" y="9"/>
                        <a:pt x="31" y="7"/>
                      </a:cubicBezTo>
                      <a:cubicBezTo>
                        <a:pt x="16" y="5"/>
                        <a:pt x="0" y="8"/>
                        <a:pt x="7" y="7"/>
                      </a:cubicBezTo>
                      <a:cubicBezTo>
                        <a:pt x="14" y="6"/>
                        <a:pt x="53" y="0"/>
                        <a:pt x="73" y="4"/>
                      </a:cubicBezTo>
                      <a:cubicBezTo>
                        <a:pt x="93" y="8"/>
                        <a:pt x="124" y="24"/>
                        <a:pt x="130" y="31"/>
                      </a:cubicBezTo>
                      <a:cubicBezTo>
                        <a:pt x="136" y="38"/>
                        <a:pt x="116" y="54"/>
                        <a:pt x="103" y="55"/>
                      </a:cubicBezTo>
                      <a:close/>
                    </a:path>
                  </a:pathLst>
                </a:custGeom>
                <a:solidFill>
                  <a:srgbClr val="3a48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87"/>
              <p:cNvSpPr/>
              <p:nvPr/>
            </p:nvSpPr>
            <p:spPr>
              <a:xfrm>
                <a:off x="11589120" y="7435080"/>
                <a:ext cx="2229480" cy="1967040"/>
              </a:xfrm>
              <a:custGeom>
                <a:avLst/>
                <a:gdLst>
                  <a:gd name="textAreaLeft" fmla="*/ 0 w 2229480"/>
                  <a:gd name="textAreaRight" fmla="*/ 2229480 w 2229480"/>
                  <a:gd name="textAreaTop" fmla="*/ 0 h 1967040"/>
                  <a:gd name="textAreaBottom" fmla="*/ 1967400 h 1967040"/>
                </a:gdLst>
                <a:ahLst/>
                <a:rect l="textAreaLeft" t="textAreaTop" r="textAreaRight" b="textAreaBottom"/>
                <a:pathLst>
                  <a:path w="1055" h="931">
                    <a:moveTo>
                      <a:pt x="167" y="42"/>
                    </a:moveTo>
                    <a:cubicBezTo>
                      <a:pt x="94" y="0"/>
                      <a:pt x="61" y="42"/>
                      <a:pt x="35" y="48"/>
                    </a:cubicBezTo>
                    <a:cubicBezTo>
                      <a:pt x="9" y="54"/>
                      <a:pt x="0" y="63"/>
                      <a:pt x="8" y="78"/>
                    </a:cubicBezTo>
                    <a:cubicBezTo>
                      <a:pt x="16" y="93"/>
                      <a:pt x="57" y="122"/>
                      <a:pt x="80" y="141"/>
                    </a:cubicBezTo>
                    <a:cubicBezTo>
                      <a:pt x="103" y="160"/>
                      <a:pt x="125" y="160"/>
                      <a:pt x="146" y="189"/>
                    </a:cubicBezTo>
                    <a:cubicBezTo>
                      <a:pt x="167" y="218"/>
                      <a:pt x="180" y="274"/>
                      <a:pt x="206" y="315"/>
                    </a:cubicBezTo>
                    <a:cubicBezTo>
                      <a:pt x="232" y="356"/>
                      <a:pt x="254" y="395"/>
                      <a:pt x="302" y="435"/>
                    </a:cubicBezTo>
                    <a:cubicBezTo>
                      <a:pt x="350" y="475"/>
                      <a:pt x="436" y="520"/>
                      <a:pt x="497" y="552"/>
                    </a:cubicBezTo>
                    <a:cubicBezTo>
                      <a:pt x="558" y="584"/>
                      <a:pt x="632" y="610"/>
                      <a:pt x="668" y="627"/>
                    </a:cubicBezTo>
                    <a:cubicBezTo>
                      <a:pt x="704" y="644"/>
                      <a:pt x="695" y="636"/>
                      <a:pt x="710" y="654"/>
                    </a:cubicBezTo>
                    <a:cubicBezTo>
                      <a:pt x="725" y="672"/>
                      <a:pt x="738" y="704"/>
                      <a:pt x="758" y="738"/>
                    </a:cubicBezTo>
                    <a:cubicBezTo>
                      <a:pt x="778" y="772"/>
                      <a:pt x="812" y="829"/>
                      <a:pt x="833" y="858"/>
                    </a:cubicBezTo>
                    <a:cubicBezTo>
                      <a:pt x="854" y="887"/>
                      <a:pt x="877" y="908"/>
                      <a:pt x="884" y="912"/>
                    </a:cubicBezTo>
                    <a:cubicBezTo>
                      <a:pt x="891" y="916"/>
                      <a:pt x="887" y="899"/>
                      <a:pt x="878" y="882"/>
                    </a:cubicBezTo>
                    <a:cubicBezTo>
                      <a:pt x="869" y="865"/>
                      <a:pt x="823" y="802"/>
                      <a:pt x="830" y="807"/>
                    </a:cubicBezTo>
                    <a:cubicBezTo>
                      <a:pt x="837" y="812"/>
                      <a:pt x="898" y="893"/>
                      <a:pt x="920" y="912"/>
                    </a:cubicBezTo>
                    <a:cubicBezTo>
                      <a:pt x="942" y="931"/>
                      <a:pt x="955" y="923"/>
                      <a:pt x="962" y="921"/>
                    </a:cubicBezTo>
                    <a:cubicBezTo>
                      <a:pt x="969" y="919"/>
                      <a:pt x="956" y="897"/>
                      <a:pt x="962" y="897"/>
                    </a:cubicBezTo>
                    <a:cubicBezTo>
                      <a:pt x="968" y="897"/>
                      <a:pt x="984" y="918"/>
                      <a:pt x="998" y="921"/>
                    </a:cubicBezTo>
                    <a:cubicBezTo>
                      <a:pt x="1012" y="924"/>
                      <a:pt x="1040" y="919"/>
                      <a:pt x="1046" y="915"/>
                    </a:cubicBezTo>
                    <a:cubicBezTo>
                      <a:pt x="1052" y="911"/>
                      <a:pt x="1055" y="919"/>
                      <a:pt x="1034" y="894"/>
                    </a:cubicBezTo>
                    <a:cubicBezTo>
                      <a:pt x="1013" y="869"/>
                      <a:pt x="935" y="800"/>
                      <a:pt x="917" y="765"/>
                    </a:cubicBezTo>
                    <a:cubicBezTo>
                      <a:pt x="899" y="730"/>
                      <a:pt x="937" y="712"/>
                      <a:pt x="926" y="684"/>
                    </a:cubicBezTo>
                    <a:cubicBezTo>
                      <a:pt x="915" y="656"/>
                      <a:pt x="926" y="660"/>
                      <a:pt x="851" y="597"/>
                    </a:cubicBezTo>
                    <a:cubicBezTo>
                      <a:pt x="776" y="534"/>
                      <a:pt x="590" y="395"/>
                      <a:pt x="476" y="303"/>
                    </a:cubicBezTo>
                    <a:cubicBezTo>
                      <a:pt x="362" y="211"/>
                      <a:pt x="240" y="84"/>
                      <a:pt x="167" y="42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88"/>
              <p:cNvSpPr/>
              <p:nvPr/>
            </p:nvSpPr>
            <p:spPr>
              <a:xfrm>
                <a:off x="11578320" y="7416000"/>
                <a:ext cx="2696040" cy="1960920"/>
              </a:xfrm>
              <a:custGeom>
                <a:avLst/>
                <a:gdLst>
                  <a:gd name="textAreaLeft" fmla="*/ 0 w 2696040"/>
                  <a:gd name="textAreaRight" fmla="*/ 2696400 w 2696040"/>
                  <a:gd name="textAreaTop" fmla="*/ 0 h 1960920"/>
                  <a:gd name="textAreaBottom" fmla="*/ 1961280 h 1960920"/>
                </a:gdLst>
                <a:ahLst/>
                <a:rect l="textAreaLeft" t="textAreaTop" r="textAreaRight" b="textAreaBottom"/>
                <a:pathLst>
                  <a:path w="1276" h="928">
                    <a:moveTo>
                      <a:pt x="208" y="39"/>
                    </a:moveTo>
                    <a:cubicBezTo>
                      <a:pt x="134" y="10"/>
                      <a:pt x="122" y="11"/>
                      <a:pt x="91" y="6"/>
                    </a:cubicBezTo>
                    <a:cubicBezTo>
                      <a:pt x="60" y="1"/>
                      <a:pt x="34" y="0"/>
                      <a:pt x="19" y="9"/>
                    </a:cubicBezTo>
                    <a:cubicBezTo>
                      <a:pt x="4" y="18"/>
                      <a:pt x="0" y="44"/>
                      <a:pt x="1" y="60"/>
                    </a:cubicBezTo>
                    <a:cubicBezTo>
                      <a:pt x="2" y="76"/>
                      <a:pt x="6" y="93"/>
                      <a:pt x="25" y="105"/>
                    </a:cubicBezTo>
                    <a:cubicBezTo>
                      <a:pt x="44" y="117"/>
                      <a:pt x="89" y="120"/>
                      <a:pt x="115" y="132"/>
                    </a:cubicBezTo>
                    <a:cubicBezTo>
                      <a:pt x="141" y="144"/>
                      <a:pt x="163" y="165"/>
                      <a:pt x="178" y="179"/>
                    </a:cubicBezTo>
                    <a:cubicBezTo>
                      <a:pt x="193" y="193"/>
                      <a:pt x="197" y="211"/>
                      <a:pt x="205" y="215"/>
                    </a:cubicBezTo>
                    <a:cubicBezTo>
                      <a:pt x="213" y="219"/>
                      <a:pt x="213" y="212"/>
                      <a:pt x="226" y="206"/>
                    </a:cubicBezTo>
                    <a:cubicBezTo>
                      <a:pt x="239" y="200"/>
                      <a:pt x="275" y="172"/>
                      <a:pt x="283" y="176"/>
                    </a:cubicBezTo>
                    <a:cubicBezTo>
                      <a:pt x="291" y="180"/>
                      <a:pt x="273" y="212"/>
                      <a:pt x="274" y="231"/>
                    </a:cubicBezTo>
                    <a:cubicBezTo>
                      <a:pt x="275" y="250"/>
                      <a:pt x="265" y="258"/>
                      <a:pt x="286" y="288"/>
                    </a:cubicBezTo>
                    <a:cubicBezTo>
                      <a:pt x="307" y="318"/>
                      <a:pt x="352" y="372"/>
                      <a:pt x="400" y="411"/>
                    </a:cubicBezTo>
                    <a:cubicBezTo>
                      <a:pt x="448" y="450"/>
                      <a:pt x="531" y="495"/>
                      <a:pt x="577" y="522"/>
                    </a:cubicBezTo>
                    <a:cubicBezTo>
                      <a:pt x="623" y="549"/>
                      <a:pt x="656" y="559"/>
                      <a:pt x="679" y="573"/>
                    </a:cubicBezTo>
                    <a:cubicBezTo>
                      <a:pt x="702" y="587"/>
                      <a:pt x="696" y="599"/>
                      <a:pt x="715" y="609"/>
                    </a:cubicBezTo>
                    <a:cubicBezTo>
                      <a:pt x="734" y="619"/>
                      <a:pt x="770" y="629"/>
                      <a:pt x="793" y="633"/>
                    </a:cubicBezTo>
                    <a:cubicBezTo>
                      <a:pt x="816" y="637"/>
                      <a:pt x="851" y="632"/>
                      <a:pt x="856" y="636"/>
                    </a:cubicBezTo>
                    <a:cubicBezTo>
                      <a:pt x="861" y="640"/>
                      <a:pt x="836" y="650"/>
                      <a:pt x="826" y="657"/>
                    </a:cubicBezTo>
                    <a:cubicBezTo>
                      <a:pt x="816" y="664"/>
                      <a:pt x="792" y="665"/>
                      <a:pt x="796" y="678"/>
                    </a:cubicBezTo>
                    <a:cubicBezTo>
                      <a:pt x="800" y="691"/>
                      <a:pt x="819" y="702"/>
                      <a:pt x="850" y="735"/>
                    </a:cubicBezTo>
                    <a:cubicBezTo>
                      <a:pt x="881" y="768"/>
                      <a:pt x="948" y="843"/>
                      <a:pt x="979" y="873"/>
                    </a:cubicBezTo>
                    <a:cubicBezTo>
                      <a:pt x="1010" y="903"/>
                      <a:pt x="1022" y="909"/>
                      <a:pt x="1036" y="918"/>
                    </a:cubicBezTo>
                    <a:cubicBezTo>
                      <a:pt x="1050" y="927"/>
                      <a:pt x="1055" y="927"/>
                      <a:pt x="1063" y="927"/>
                    </a:cubicBezTo>
                    <a:cubicBezTo>
                      <a:pt x="1071" y="927"/>
                      <a:pt x="1075" y="928"/>
                      <a:pt x="1084" y="918"/>
                    </a:cubicBezTo>
                    <a:cubicBezTo>
                      <a:pt x="1071" y="902"/>
                      <a:pt x="989" y="827"/>
                      <a:pt x="988" y="828"/>
                    </a:cubicBezTo>
                    <a:cubicBezTo>
                      <a:pt x="987" y="829"/>
                      <a:pt x="1069" y="902"/>
                      <a:pt x="1093" y="912"/>
                    </a:cubicBezTo>
                    <a:cubicBezTo>
                      <a:pt x="1107" y="896"/>
                      <a:pt x="1111" y="902"/>
                      <a:pt x="1132" y="888"/>
                    </a:cubicBezTo>
                    <a:cubicBezTo>
                      <a:pt x="1103" y="874"/>
                      <a:pt x="1034" y="822"/>
                      <a:pt x="1036" y="822"/>
                    </a:cubicBezTo>
                    <a:cubicBezTo>
                      <a:pt x="1038" y="822"/>
                      <a:pt x="1113" y="870"/>
                      <a:pt x="1147" y="891"/>
                    </a:cubicBezTo>
                    <a:cubicBezTo>
                      <a:pt x="1185" y="890"/>
                      <a:pt x="1203" y="882"/>
                      <a:pt x="1246" y="879"/>
                    </a:cubicBezTo>
                    <a:cubicBezTo>
                      <a:pt x="1227" y="856"/>
                      <a:pt x="1120" y="779"/>
                      <a:pt x="1123" y="777"/>
                    </a:cubicBezTo>
                    <a:cubicBezTo>
                      <a:pt x="1126" y="775"/>
                      <a:pt x="1236" y="858"/>
                      <a:pt x="1261" y="867"/>
                    </a:cubicBezTo>
                    <a:cubicBezTo>
                      <a:pt x="1269" y="856"/>
                      <a:pt x="1273" y="852"/>
                      <a:pt x="1276" y="837"/>
                    </a:cubicBezTo>
                    <a:cubicBezTo>
                      <a:pt x="1243" y="808"/>
                      <a:pt x="1124" y="732"/>
                      <a:pt x="1060" y="690"/>
                    </a:cubicBezTo>
                    <a:cubicBezTo>
                      <a:pt x="996" y="648"/>
                      <a:pt x="935" y="623"/>
                      <a:pt x="892" y="588"/>
                    </a:cubicBezTo>
                    <a:cubicBezTo>
                      <a:pt x="849" y="553"/>
                      <a:pt x="835" y="521"/>
                      <a:pt x="802" y="477"/>
                    </a:cubicBezTo>
                    <a:cubicBezTo>
                      <a:pt x="769" y="433"/>
                      <a:pt x="735" y="373"/>
                      <a:pt x="691" y="324"/>
                    </a:cubicBezTo>
                    <a:cubicBezTo>
                      <a:pt x="647" y="275"/>
                      <a:pt x="619" y="230"/>
                      <a:pt x="538" y="182"/>
                    </a:cubicBezTo>
                    <a:cubicBezTo>
                      <a:pt x="457" y="134"/>
                      <a:pt x="282" y="68"/>
                      <a:pt x="208" y="39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289"/>
              <p:cNvSpPr/>
              <p:nvPr/>
            </p:nvSpPr>
            <p:spPr>
              <a:xfrm>
                <a:off x="11608200" y="7491960"/>
                <a:ext cx="23400" cy="22680"/>
              </a:xfrm>
              <a:prstGeom prst="ellipse">
                <a:avLst/>
              </a:prstGeom>
              <a:solidFill>
                <a:srgbClr val="354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90"/>
              <p:cNvSpPr/>
              <p:nvPr/>
            </p:nvSpPr>
            <p:spPr>
              <a:xfrm>
                <a:off x="10932120" y="7933320"/>
                <a:ext cx="1472760" cy="1538640"/>
              </a:xfrm>
              <a:custGeom>
                <a:avLst/>
                <a:gdLst>
                  <a:gd name="textAreaLeft" fmla="*/ 0 w 1472760"/>
                  <a:gd name="textAreaRight" fmla="*/ 1473120 w 1472760"/>
                  <a:gd name="textAreaTop" fmla="*/ 0 h 1538640"/>
                  <a:gd name="textAreaBottom" fmla="*/ 1539000 h 1538640"/>
                </a:gdLst>
                <a:ahLst/>
                <a:rect l="textAreaLeft" t="textAreaTop" r="textAreaRight" b="textAreaBottom"/>
                <a:pathLst>
                  <a:path w="697" h="728">
                    <a:moveTo>
                      <a:pt x="585" y="7"/>
                    </a:moveTo>
                    <a:cubicBezTo>
                      <a:pt x="550" y="6"/>
                      <a:pt x="519" y="97"/>
                      <a:pt x="487" y="157"/>
                    </a:cubicBezTo>
                    <a:cubicBezTo>
                      <a:pt x="455" y="218"/>
                      <a:pt x="438" y="313"/>
                      <a:pt x="386" y="367"/>
                    </a:cubicBezTo>
                    <a:cubicBezTo>
                      <a:pt x="335" y="420"/>
                      <a:pt x="241" y="434"/>
                      <a:pt x="181" y="481"/>
                    </a:cubicBezTo>
                    <a:cubicBezTo>
                      <a:pt x="122" y="527"/>
                      <a:pt x="44" y="622"/>
                      <a:pt x="29" y="645"/>
                    </a:cubicBezTo>
                    <a:cubicBezTo>
                      <a:pt x="13" y="668"/>
                      <a:pt x="84" y="605"/>
                      <a:pt x="86" y="615"/>
                    </a:cubicBezTo>
                    <a:cubicBezTo>
                      <a:pt x="87" y="625"/>
                      <a:pt x="50" y="690"/>
                      <a:pt x="38" y="709"/>
                    </a:cubicBezTo>
                    <a:cubicBezTo>
                      <a:pt x="25" y="727"/>
                      <a:pt x="0" y="728"/>
                      <a:pt x="8" y="727"/>
                    </a:cubicBezTo>
                    <a:cubicBezTo>
                      <a:pt x="16" y="726"/>
                      <a:pt x="63" y="718"/>
                      <a:pt x="83" y="704"/>
                    </a:cubicBezTo>
                    <a:cubicBezTo>
                      <a:pt x="104" y="690"/>
                      <a:pt x="105" y="665"/>
                      <a:pt x="131" y="643"/>
                    </a:cubicBezTo>
                    <a:cubicBezTo>
                      <a:pt x="157" y="620"/>
                      <a:pt x="202" y="599"/>
                      <a:pt x="241" y="567"/>
                    </a:cubicBezTo>
                    <a:cubicBezTo>
                      <a:pt x="279" y="535"/>
                      <a:pt x="347" y="451"/>
                      <a:pt x="361" y="451"/>
                    </a:cubicBezTo>
                    <a:cubicBezTo>
                      <a:pt x="376" y="451"/>
                      <a:pt x="328" y="548"/>
                      <a:pt x="327" y="567"/>
                    </a:cubicBezTo>
                    <a:cubicBezTo>
                      <a:pt x="326" y="587"/>
                      <a:pt x="342" y="575"/>
                      <a:pt x="352" y="570"/>
                    </a:cubicBezTo>
                    <a:cubicBezTo>
                      <a:pt x="363" y="564"/>
                      <a:pt x="375" y="551"/>
                      <a:pt x="391" y="531"/>
                    </a:cubicBezTo>
                    <a:cubicBezTo>
                      <a:pt x="407" y="510"/>
                      <a:pt x="438" y="464"/>
                      <a:pt x="450" y="444"/>
                    </a:cubicBezTo>
                    <a:cubicBezTo>
                      <a:pt x="463" y="425"/>
                      <a:pt x="465" y="415"/>
                      <a:pt x="466" y="417"/>
                    </a:cubicBezTo>
                    <a:cubicBezTo>
                      <a:pt x="467" y="419"/>
                      <a:pt x="450" y="456"/>
                      <a:pt x="455" y="460"/>
                    </a:cubicBezTo>
                    <a:cubicBezTo>
                      <a:pt x="459" y="465"/>
                      <a:pt x="482" y="455"/>
                      <a:pt x="496" y="442"/>
                    </a:cubicBezTo>
                    <a:cubicBezTo>
                      <a:pt x="510" y="429"/>
                      <a:pt x="522" y="408"/>
                      <a:pt x="537" y="385"/>
                    </a:cubicBezTo>
                    <a:cubicBezTo>
                      <a:pt x="552" y="362"/>
                      <a:pt x="578" y="316"/>
                      <a:pt x="585" y="308"/>
                    </a:cubicBezTo>
                    <a:cubicBezTo>
                      <a:pt x="592" y="300"/>
                      <a:pt x="571" y="337"/>
                      <a:pt x="576" y="339"/>
                    </a:cubicBezTo>
                    <a:cubicBezTo>
                      <a:pt x="580" y="342"/>
                      <a:pt x="600" y="333"/>
                      <a:pt x="610" y="321"/>
                    </a:cubicBezTo>
                    <a:cubicBezTo>
                      <a:pt x="620" y="310"/>
                      <a:pt x="631" y="293"/>
                      <a:pt x="640" y="271"/>
                    </a:cubicBezTo>
                    <a:cubicBezTo>
                      <a:pt x="649" y="249"/>
                      <a:pt x="656" y="199"/>
                      <a:pt x="661" y="192"/>
                    </a:cubicBezTo>
                    <a:cubicBezTo>
                      <a:pt x="666" y="185"/>
                      <a:pt x="664" y="226"/>
                      <a:pt x="669" y="230"/>
                    </a:cubicBezTo>
                    <a:cubicBezTo>
                      <a:pt x="674" y="234"/>
                      <a:pt x="686" y="233"/>
                      <a:pt x="690" y="216"/>
                    </a:cubicBezTo>
                    <a:cubicBezTo>
                      <a:pt x="694" y="199"/>
                      <a:pt x="696" y="162"/>
                      <a:pt x="694" y="129"/>
                    </a:cubicBezTo>
                    <a:cubicBezTo>
                      <a:pt x="692" y="96"/>
                      <a:pt x="697" y="40"/>
                      <a:pt x="679" y="20"/>
                    </a:cubicBezTo>
                    <a:cubicBezTo>
                      <a:pt x="661" y="0"/>
                      <a:pt x="604" y="9"/>
                      <a:pt x="585" y="7"/>
                    </a:cubicBezTo>
                    <a:close/>
                  </a:path>
                </a:pathLst>
              </a:custGeom>
              <a:solidFill>
                <a:srgbClr val="d7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91"/>
              <p:cNvSpPr/>
              <p:nvPr/>
            </p:nvSpPr>
            <p:spPr>
              <a:xfrm>
                <a:off x="10921680" y="7734960"/>
                <a:ext cx="1591200" cy="1815120"/>
              </a:xfrm>
              <a:custGeom>
                <a:avLst/>
                <a:gdLst>
                  <a:gd name="textAreaLeft" fmla="*/ 0 w 1591200"/>
                  <a:gd name="textAreaRight" fmla="*/ 1591560 w 1591200"/>
                  <a:gd name="textAreaTop" fmla="*/ 0 h 1815120"/>
                  <a:gd name="textAreaBottom" fmla="*/ 1815480 h 1815120"/>
                </a:gdLst>
                <a:ahLst/>
                <a:rect l="textAreaLeft" t="textAreaTop" r="textAreaRight" b="textAreaBottom"/>
                <a:pathLst>
                  <a:path w="660" h="753">
                    <a:moveTo>
                      <a:pt x="644" y="93"/>
                    </a:moveTo>
                    <a:cubicBezTo>
                      <a:pt x="660" y="115"/>
                      <a:pt x="621" y="135"/>
                      <a:pt x="611" y="156"/>
                    </a:cubicBezTo>
                    <a:cubicBezTo>
                      <a:pt x="601" y="177"/>
                      <a:pt x="596" y="200"/>
                      <a:pt x="587" y="218"/>
                    </a:cubicBezTo>
                    <a:cubicBezTo>
                      <a:pt x="578" y="236"/>
                      <a:pt x="563" y="255"/>
                      <a:pt x="555" y="262"/>
                    </a:cubicBezTo>
                    <a:cubicBezTo>
                      <a:pt x="547" y="269"/>
                      <a:pt x="544" y="265"/>
                      <a:pt x="541" y="260"/>
                    </a:cubicBezTo>
                    <a:cubicBezTo>
                      <a:pt x="538" y="255"/>
                      <a:pt x="540" y="231"/>
                      <a:pt x="537" y="232"/>
                    </a:cubicBezTo>
                    <a:cubicBezTo>
                      <a:pt x="534" y="233"/>
                      <a:pt x="535" y="247"/>
                      <a:pt x="523" y="268"/>
                    </a:cubicBezTo>
                    <a:cubicBezTo>
                      <a:pt x="511" y="289"/>
                      <a:pt x="490" y="328"/>
                      <a:pt x="465" y="356"/>
                    </a:cubicBezTo>
                    <a:cubicBezTo>
                      <a:pt x="440" y="384"/>
                      <a:pt x="399" y="406"/>
                      <a:pt x="373" y="436"/>
                    </a:cubicBezTo>
                    <a:cubicBezTo>
                      <a:pt x="347" y="466"/>
                      <a:pt x="333" y="497"/>
                      <a:pt x="307" y="534"/>
                    </a:cubicBezTo>
                    <a:cubicBezTo>
                      <a:pt x="281" y="571"/>
                      <a:pt x="239" y="637"/>
                      <a:pt x="217" y="660"/>
                    </a:cubicBezTo>
                    <a:cubicBezTo>
                      <a:pt x="195" y="683"/>
                      <a:pt x="181" y="678"/>
                      <a:pt x="177" y="674"/>
                    </a:cubicBezTo>
                    <a:cubicBezTo>
                      <a:pt x="173" y="670"/>
                      <a:pt x="195" y="638"/>
                      <a:pt x="193" y="638"/>
                    </a:cubicBezTo>
                    <a:cubicBezTo>
                      <a:pt x="191" y="638"/>
                      <a:pt x="177" y="663"/>
                      <a:pt x="165" y="674"/>
                    </a:cubicBezTo>
                    <a:cubicBezTo>
                      <a:pt x="153" y="685"/>
                      <a:pt x="132" y="701"/>
                      <a:pt x="123" y="706"/>
                    </a:cubicBezTo>
                    <a:cubicBezTo>
                      <a:pt x="114" y="711"/>
                      <a:pt x="109" y="707"/>
                      <a:pt x="109" y="702"/>
                    </a:cubicBezTo>
                    <a:cubicBezTo>
                      <a:pt x="109" y="697"/>
                      <a:pt x="123" y="672"/>
                      <a:pt x="121" y="674"/>
                    </a:cubicBezTo>
                    <a:cubicBezTo>
                      <a:pt x="119" y="676"/>
                      <a:pt x="106" y="701"/>
                      <a:pt x="95" y="714"/>
                    </a:cubicBezTo>
                    <a:cubicBezTo>
                      <a:pt x="84" y="727"/>
                      <a:pt x="62" y="747"/>
                      <a:pt x="55" y="750"/>
                    </a:cubicBezTo>
                    <a:cubicBezTo>
                      <a:pt x="48" y="753"/>
                      <a:pt x="47" y="742"/>
                      <a:pt x="51" y="730"/>
                    </a:cubicBezTo>
                    <a:cubicBezTo>
                      <a:pt x="55" y="718"/>
                      <a:pt x="70" y="696"/>
                      <a:pt x="81" y="678"/>
                    </a:cubicBezTo>
                    <a:cubicBezTo>
                      <a:pt x="92" y="660"/>
                      <a:pt x="115" y="621"/>
                      <a:pt x="115" y="620"/>
                    </a:cubicBezTo>
                    <a:cubicBezTo>
                      <a:pt x="115" y="619"/>
                      <a:pt x="92" y="653"/>
                      <a:pt x="79" y="670"/>
                    </a:cubicBezTo>
                    <a:cubicBezTo>
                      <a:pt x="66" y="687"/>
                      <a:pt x="48" y="710"/>
                      <a:pt x="35" y="720"/>
                    </a:cubicBezTo>
                    <a:cubicBezTo>
                      <a:pt x="22" y="730"/>
                      <a:pt x="6" y="734"/>
                      <a:pt x="3" y="730"/>
                    </a:cubicBezTo>
                    <a:cubicBezTo>
                      <a:pt x="0" y="726"/>
                      <a:pt x="9" y="712"/>
                      <a:pt x="19" y="696"/>
                    </a:cubicBezTo>
                    <a:cubicBezTo>
                      <a:pt x="29" y="680"/>
                      <a:pt x="52" y="652"/>
                      <a:pt x="65" y="632"/>
                    </a:cubicBezTo>
                    <a:cubicBezTo>
                      <a:pt x="78" y="612"/>
                      <a:pt x="95" y="575"/>
                      <a:pt x="95" y="574"/>
                    </a:cubicBezTo>
                    <a:cubicBezTo>
                      <a:pt x="95" y="573"/>
                      <a:pt x="76" y="609"/>
                      <a:pt x="63" y="624"/>
                    </a:cubicBezTo>
                    <a:cubicBezTo>
                      <a:pt x="50" y="639"/>
                      <a:pt x="25" y="664"/>
                      <a:pt x="19" y="664"/>
                    </a:cubicBezTo>
                    <a:cubicBezTo>
                      <a:pt x="13" y="664"/>
                      <a:pt x="16" y="649"/>
                      <a:pt x="29" y="624"/>
                    </a:cubicBezTo>
                    <a:cubicBezTo>
                      <a:pt x="42" y="599"/>
                      <a:pt x="69" y="557"/>
                      <a:pt x="97" y="514"/>
                    </a:cubicBezTo>
                    <a:cubicBezTo>
                      <a:pt x="125" y="471"/>
                      <a:pt x="167" y="410"/>
                      <a:pt x="197" y="366"/>
                    </a:cubicBezTo>
                    <a:cubicBezTo>
                      <a:pt x="227" y="322"/>
                      <a:pt x="246" y="284"/>
                      <a:pt x="275" y="248"/>
                    </a:cubicBezTo>
                    <a:cubicBezTo>
                      <a:pt x="304" y="212"/>
                      <a:pt x="339" y="182"/>
                      <a:pt x="373" y="150"/>
                    </a:cubicBezTo>
                    <a:cubicBezTo>
                      <a:pt x="407" y="118"/>
                      <a:pt x="451" y="82"/>
                      <a:pt x="481" y="58"/>
                    </a:cubicBezTo>
                    <a:cubicBezTo>
                      <a:pt x="511" y="34"/>
                      <a:pt x="528" y="0"/>
                      <a:pt x="555" y="6"/>
                    </a:cubicBezTo>
                    <a:cubicBezTo>
                      <a:pt x="582" y="12"/>
                      <a:pt x="625" y="75"/>
                      <a:pt x="644" y="93"/>
                    </a:cubicBezTo>
                    <a:close/>
                  </a:path>
                </a:pathLst>
              </a:custGeom>
              <a:solidFill>
                <a:srgbClr val="f1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Rectangle 292"/>
            <p:cNvSpPr/>
            <p:nvPr/>
          </p:nvSpPr>
          <p:spPr>
            <a:xfrm>
              <a:off x="10630080" y="4757760"/>
              <a:ext cx="4133160" cy="52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7000" y="-82440"/>
            <a:ext cx="9144000" cy="6858000"/>
            <a:chOff x="27000" y="-82440"/>
            <a:chExt cx="9144000" cy="6858000"/>
          </a:xfrm>
        </p:grpSpPr>
        <p:sp>
          <p:nvSpPr>
            <p:cNvPr id="333" name="Rectangle 96"/>
            <p:cNvSpPr/>
            <p:nvPr/>
          </p:nvSpPr>
          <p:spPr>
            <a:xfrm>
              <a:off x="27000" y="5650200"/>
              <a:ext cx="9144000" cy="11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7"/>
            <p:cNvSpPr/>
            <p:nvPr/>
          </p:nvSpPr>
          <p:spPr>
            <a:xfrm>
              <a:off x="27000" y="-82440"/>
              <a:ext cx="9144000" cy="11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98"/>
            <p:cNvSpPr/>
            <p:nvPr/>
          </p:nvSpPr>
          <p:spPr>
            <a:xfrm>
              <a:off x="27000" y="-82440"/>
              <a:ext cx="17928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99"/>
            <p:cNvSpPr/>
            <p:nvPr/>
          </p:nvSpPr>
          <p:spPr>
            <a:xfrm>
              <a:off x="8991720" y="-82440"/>
              <a:ext cx="17928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4280" y="6500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93560" y="2095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态鸽子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" dur="10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-1.66789 -0.91898 E">
                                      <p:cBhvr>
                                        <p:cTn id="5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-1.66789 -0.91898 E">
                                      <p:cBhvr>
                                        <p:cTn id="5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-1.66789 -0.91898 E">
                                      <p:cBhvr>
                                        <p:cTn id="5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1.35833 -1.18611 E">
                                      <p:cBhvr>
                                        <p:cTn id="9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1.35833 -1.18611 E">
                                      <p:cBhvr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1.35833 -1.18611 E">
                                      <p:cBhvr>
                                        <p:cTn id="10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3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40833 -1.05833 E">
                                      <p:cBhvr>
                                        <p:cTn id="14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40833 -1.05833 E">
                                      <p:cBhvr>
                                        <p:cTn id="14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40833 -1.05833 E">
                                      <p:cBhvr>
                                        <p:cTn id="15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9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0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2.31667 -1.56945 E">
                                      <p:cBhvr>
                                        <p:cTn id="206" dur="2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2.31667 -1.56945 E">
                                      <p:cBhvr>
                                        <p:cTn id="208" dur="2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2.31667 -1.56945 E">
                                      <p:cBhvr>
                                        <p:cTn id="210" dur="2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1.96667 -1.35232 E">
                                      <p:cBhvr>
                                        <p:cTn id="244" dur="13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1.96667 -1.35232 E">
                                      <p:cBhvr>
                                        <p:cTn id="246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1.96667 -1.35232 E">
                                      <p:cBhvr>
                                        <p:cTn id="248" dur="13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FC8-F59E-4293-BBAF-E92EFB9485C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23:2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22:05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