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9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6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C2A-A32E-412E-8031-621C83AE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ACD-DCE3-4434-AD61-B0C74982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C10-2DE6-4FA2-BFC7-87BC9B99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6CA-C44F-4E2C-9FE7-FFC850AF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F972-86EF-49B8-88AA-08182B03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E69B-23F3-4CE6-AB46-F7415019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6BBC-CF09-4E67-97EC-163173D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04D-06A8-4ADA-93BF-EF0EE8FC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BA6-358D-4897-A5B8-5BC1193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349-360C-476B-9924-0EED47D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CFA0-3056-446D-A390-FC07BA7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494-AAB0-4956-9FE9-01170575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32A5-7551-4D10-9853-80953A1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DF8-0AED-4945-B231-8187D21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BF4E-1EA8-4003-A3A0-4BD7B7FD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153A-772C-41FE-817E-4772688D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2F37-3991-4511-BC0B-1086C456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149-AB14-488D-876D-BB96BA5D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120-08EB-469D-955A-B77BD90E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4B4-1517-4BCA-8345-6A398AB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0C1-4330-4088-A92C-058C584F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A3D-F0DD-4399-89E9-21118255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B2F-F77D-4DBC-90C4-888C1A7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040-FFAC-410F-807D-FD25FD3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67B-7960-4772-B24E-8EF6A4E035D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282440" y="5589720"/>
            <a:ext cx="1971720" cy="1214640"/>
            <a:chOff x="7282440" y="5589720"/>
            <a:chExt cx="1971720" cy="1214640"/>
          </a:xfrm>
        </p:grpSpPr>
        <p:sp>
          <p:nvSpPr>
            <p:cNvPr id="6" name="Oval 10"/>
            <p:cNvSpPr/>
            <p:nvPr/>
          </p:nvSpPr>
          <p:spPr>
            <a:xfrm rot="21367200">
              <a:off x="7308360" y="5899320"/>
              <a:ext cx="1919160" cy="8406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84313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Picture 11" descr="png-1869"/>
            <p:cNvPicPr/>
            <p:nvPr/>
          </p:nvPicPr>
          <p:blipFill>
            <a:blip r:embed="rId3"/>
            <a:stretch/>
          </p:blipFill>
          <p:spPr>
            <a:xfrm>
              <a:off x="7502400" y="5589720"/>
              <a:ext cx="1219320" cy="107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12" descr="PNG-0957"/>
          <p:cNvPicPr/>
          <p:nvPr/>
        </p:nvPicPr>
        <p:blipFill>
          <a:blip r:embed="rId4"/>
          <a:stretch/>
        </p:blipFill>
        <p:spPr>
          <a:xfrm>
            <a:off x="8310600" y="5602320"/>
            <a:ext cx="46656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A6AB-E118-46CE-943C-187DBBFE14E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4" descr="png-0660"/>
          <p:cNvPicPr/>
          <p:nvPr/>
        </p:nvPicPr>
        <p:blipFill>
          <a:blip r:embed="rId3"/>
          <a:stretch/>
        </p:blipFill>
        <p:spPr>
          <a:xfrm>
            <a:off x="7672320" y="437040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png-0844"/>
          <p:cNvPicPr/>
          <p:nvPr/>
        </p:nvPicPr>
        <p:blipFill>
          <a:blip r:embed="rId4"/>
          <a:stretch/>
        </p:blipFill>
        <p:spPr>
          <a:xfrm>
            <a:off x="7243920" y="5141880"/>
            <a:ext cx="1577880" cy="15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2000160" y="3071880"/>
            <a:ext cx="51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33040" y="1125360"/>
            <a:ext cx="37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动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完整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免费下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http://www.pconline.com.cn/pcjob/rs/zc/0509/pic/kdjfhia7.gif"/>
          <p:cNvPicPr/>
          <p:nvPr/>
        </p:nvPicPr>
        <p:blipFill>
          <a:blip r:embed="rId2"/>
          <a:stretch/>
        </p:blipFill>
        <p:spPr>
          <a:xfrm>
            <a:off x="1042920" y="1773360"/>
            <a:ext cx="3533760" cy="4608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5644440" y="3067560"/>
            <a:ext cx="232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记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每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转转脚</a:t>
            </a:r>
            <a:r>
              <a:rPr b="0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松松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www.pconline.com.cn/pcjob/rs/zc/0509/pic/kdjfhia9.gif"/>
          <p:cNvPicPr/>
          <p:nvPr/>
        </p:nvPicPr>
        <p:blipFill>
          <a:blip r:embed="rId2"/>
          <a:stretch/>
        </p:blipFill>
        <p:spPr>
          <a:xfrm>
            <a:off x="1158840" y="1758960"/>
            <a:ext cx="344016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842800" y="295344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记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每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踢踢腿，拉拉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2951280" y="2635920"/>
            <a:ext cx="330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有健康的人，便有希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有希望的人，便有了一切</a:t>
            </a:r>
            <a:r>
              <a:rPr b="0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2627280" y="4378320"/>
            <a:ext cx="601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SimHei"/>
              </a:rPr>
              <a:t>关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SimHei"/>
              <a:ea typeface="SimHei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3621240" y="4365720"/>
            <a:ext cx="519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SimHei"/>
              </a:rPr>
              <a:t>爱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SimHei"/>
              <a:ea typeface="SimHei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4572000" y="4365720"/>
            <a:ext cx="4096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SimHei"/>
              </a:rPr>
              <a:t>自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SimHei"/>
              <a:ea typeface="SimHei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5450040" y="4432320"/>
            <a:ext cx="49032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SimHei"/>
              </a:rPr>
              <a:t>己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SimHei"/>
              <a:ea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1E3E-6548-4105-A334-2D125D5BE9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895480"/>
            <a:ext cx="827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方正中倩简体"/>
                <a:ea typeface="方正中倩简体"/>
              </a:rPr>
              <a:t>若你一天在电脑前超过</a:t>
            </a:r>
            <a:r>
              <a:rPr b="1" lang="en-US" sz="4800" spc="-1" strike="noStrike">
                <a:solidFill>
                  <a:srgbClr val="00b050"/>
                </a:solidFill>
                <a:latin typeface="方正中倩简体"/>
                <a:ea typeface="方正中倩简体"/>
              </a:rPr>
              <a:t>4</a:t>
            </a:r>
            <a:r>
              <a:rPr b="1" lang="en-US" sz="4800" spc="-1" strike="noStrike">
                <a:solidFill>
                  <a:srgbClr val="00b050"/>
                </a:solidFill>
                <a:latin typeface="方正中倩简体"/>
                <a:ea typeface="方正中倩简体"/>
              </a:rPr>
              <a:t>小时</a:t>
            </a:r>
            <a:br>
              <a:rPr sz="4800"/>
            </a:br>
            <a:r>
              <a:rPr b="1" lang="en-US" sz="4800" spc="-1" strike="noStrike">
                <a:solidFill>
                  <a:srgbClr val="00b050"/>
                </a:solidFill>
                <a:latin typeface="方正中倩简体"/>
                <a:ea typeface="方正中倩简体"/>
              </a:rPr>
              <a:t>一定要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2" descr="png-0816"/>
          <p:cNvPicPr/>
          <p:nvPr/>
        </p:nvPicPr>
        <p:blipFill>
          <a:blip r:embed="rId2"/>
          <a:stretch/>
        </p:blipFill>
        <p:spPr>
          <a:xfrm>
            <a:off x="4067280" y="155736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pconline.com.cn/pcjob/rs/zc/0509/pic/kdjfhia1.gif"/>
          <p:cNvPicPr/>
          <p:nvPr/>
        </p:nvPicPr>
        <p:blipFill>
          <a:blip r:embed="rId2"/>
          <a:stretch/>
        </p:blipFill>
        <p:spPr>
          <a:xfrm>
            <a:off x="1403280" y="1700280"/>
            <a:ext cx="2809800" cy="4390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88720" y="29962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伸伸懒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松松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每小时都要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60930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http://www.pconline.com.cn/pcjob/rs/zc/0509/pic/kdjfhia2.gif"/>
          <p:cNvPicPr/>
          <p:nvPr/>
        </p:nvPicPr>
        <p:blipFill>
          <a:blip r:embed="rId2"/>
          <a:stretch/>
        </p:blipFill>
        <p:spPr>
          <a:xfrm>
            <a:off x="1619280" y="1628640"/>
            <a:ext cx="2766960" cy="4464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276720" y="2510280"/>
            <a:ext cx="687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推下推下推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每小时推松手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pconline.com.cn/pcjob/rs/zc/0509/pic/kdjfhia3.gif"/>
          <p:cNvPicPr/>
          <p:nvPr/>
        </p:nvPicPr>
        <p:blipFill>
          <a:blip r:embed="rId2"/>
          <a:stretch/>
        </p:blipFill>
        <p:spPr>
          <a:xfrm>
            <a:off x="1547640" y="1628640"/>
            <a:ext cx="2586240" cy="4537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5148360" y="29232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不想变硬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得转转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两边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www.pconline.com.cn/pcjob/rs/zc/0509/pic/kdjfhia4.gif"/>
          <p:cNvPicPr/>
          <p:nvPr/>
        </p:nvPicPr>
        <p:blipFill>
          <a:blip r:embed="rId2"/>
          <a:stretch/>
        </p:blipFill>
        <p:spPr>
          <a:xfrm>
            <a:off x="1619280" y="1628640"/>
            <a:ext cx="2903400" cy="4608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5569560" y="3212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千万千万千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每小时转转胳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www.pconline.com.cn/pcjob/rs/zc/0509/pic/kdjfhia5.gif"/>
          <p:cNvPicPr/>
          <p:nvPr/>
        </p:nvPicPr>
        <p:blipFill>
          <a:blip r:embed="rId2"/>
          <a:stretch/>
        </p:blipFill>
        <p:spPr>
          <a:xfrm>
            <a:off x="755640" y="1797120"/>
            <a:ext cx="4537080" cy="429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6294960" y="3643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办公坐姿有讲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http://www.pconline.com.cn/pcjob/rs/zc/0509/pic/kdjfhia6.gif"/>
          <p:cNvPicPr/>
          <p:nvPr/>
        </p:nvPicPr>
        <p:blipFill>
          <a:blip r:embed="rId2"/>
          <a:stretch/>
        </p:blipFill>
        <p:spPr>
          <a:xfrm>
            <a:off x="1576440" y="1616040"/>
            <a:ext cx="2971800" cy="4692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449680" y="3428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拿鼠标有正确姿势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pconline.com.cn/pcjob/rs/zc/0509/pic/kdjfhia8.gif"/>
          <p:cNvPicPr/>
          <p:nvPr/>
        </p:nvPicPr>
        <p:blipFill>
          <a:blip r:embed="rId2"/>
          <a:stretch/>
        </p:blipFill>
        <p:spPr>
          <a:xfrm>
            <a:off x="1547640" y="1700280"/>
            <a:ext cx="3024360" cy="4537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654160" y="2923200"/>
            <a:ext cx="194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记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每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松松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拉拉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10:14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2:00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