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3800" y="427824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8388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616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0852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380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616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0852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312840"/>
            <a:ext cx="67053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8388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3800" y="427824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8388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8616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708520" y="212868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380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8616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708520" y="4278240"/>
            <a:ext cx="221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360" y="312840"/>
            <a:ext cx="67053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83880" y="427824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3880" y="2128680"/>
            <a:ext cx="335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3800" y="4278240"/>
            <a:ext cx="6868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312840"/>
            <a:ext cx="67053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898200"/>
            <a:ext cx="472428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400" y="1362240"/>
            <a:ext cx="5187960" cy="46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24160" y="2698560"/>
            <a:ext cx="396216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47520" y="6443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6040" y="512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动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518760"/>
            <a:ext cx="670536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add tit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3800" y="2128680"/>
            <a:ext cx="6868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lick to add tex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431640" y="5040360"/>
            <a:ext cx="4969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ff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7T02:44:3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36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