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3.png" ContentType="image/png"/>
  <Override PartName="/ppt/media/image18.gif" ContentType="image/gif"/>
  <Override PartName="/ppt/media/image15.gif" ContentType="image/gif"/>
  <Override PartName="/ppt/media/image6.png" ContentType="image/png"/>
  <Override PartName="/ppt/media/image31.png" ContentType="image/png"/>
  <Override PartName="/ppt/media/image29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3.gif" ContentType="image/gif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4.gif" ContentType="image/gif"/>
  <Override PartName="/ppt/media/image16.gif" ContentType="image/gif"/>
  <Override PartName="/ppt/media/image21.png" ContentType="image/png"/>
  <Override PartName="/ppt/media/image1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DF9-365D-46BF-88E7-E71DA44C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4A0-9474-46CF-92F9-3673B5F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2E4-C729-4F9B-9EB6-B34A3D72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67F-8D80-4FE1-BF6F-CF4E24EE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706-FB64-4236-AC19-3795B4C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519-BC04-493C-A4A7-7F99341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75F-8277-4CDA-84AD-EA5C5B3A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995-D36E-4349-A08B-CB58AA9B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9EA-9F20-4E23-ABCC-E049A3AF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04D-23B6-47D2-8EEB-C2CBF64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D78-FAAF-4749-A857-104F302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E44-4691-4B01-8C35-51B7EC8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8DB-4CDB-42B4-9843-8A17E31B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478800" y="946440"/>
            <a:ext cx="8170560" cy="4935960"/>
            <a:chOff x="478800" y="946440"/>
            <a:chExt cx="8170560" cy="493596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 rot="243000">
              <a:off x="696600" y="1212480"/>
              <a:ext cx="7696080" cy="440244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29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478800" y="974520"/>
              <a:ext cx="8170560" cy="4907880"/>
              <a:chOff x="478800" y="974520"/>
              <a:chExt cx="8170560" cy="490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7859880" y="1690560"/>
                <a:ext cx="754200" cy="393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478800" y="1179000"/>
                <a:ext cx="678600" cy="392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780480" y="975240"/>
                <a:ext cx="7868880" cy="87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96800" y="5004360"/>
                <a:ext cx="7863120" cy="87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那年，我们不说再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9320" y="13716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大学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600200" y="281952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参加的考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205740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临考前的通宵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480060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宿舍人一起讨论重点时的画面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1676520" y="4343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曾经有过的挂科和补考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6858000" y="548640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066680" y="12193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记得四年前我们写下的梦想吗，不管它们有没有实现，我们都不要有遗憾，因为我们即将起航，去完成我们新的人生梦想。。。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600200" y="502920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顺利毕业，去到我梦想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考上理想学校的研究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找到自己心仪的对象，嘿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7339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787 L 0.00764 0.08395 L 0.02275 -0.04787 L 0.03872 0.08395 L 0.05469 -0.04787 L 0.06962 0.08395 L 0.08559 -0.04787 L 0.1007 0.08395 L 0.11667 -0.04787 L 0.13264 0.08395 L 0.14775 -0.04787 L 0.16372 0.08395 L 0.17865 -0.04787 L 0.19462 0.08395 L 0.21059 -0.04787 L 0.2257 0.08395 L 0.24167 -0.04787 E">
                                      <p:cBhvr>
                                        <p:cTn id="31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Owner\My Documents\My Pictures\256_498919_ca1e1ed7d466e3f_副本_副本.png"/>
          <p:cNvPicPr/>
          <p:nvPr/>
        </p:nvPicPr>
        <p:blipFill>
          <a:blip r:embed="rId2"/>
          <a:stretch/>
        </p:blipFill>
        <p:spPr>
          <a:xfrm>
            <a:off x="1219320" y="3657600"/>
            <a:ext cx="1019160" cy="166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Owner\My Documents\My Pictures\256_498919_ca1e、e3f_副本_副本.png"/>
          <p:cNvPicPr/>
          <p:nvPr/>
        </p:nvPicPr>
        <p:blipFill>
          <a:blip r:embed="rId3"/>
          <a:stretch/>
        </p:blipFill>
        <p:spPr>
          <a:xfrm>
            <a:off x="2743200" y="3276720"/>
            <a:ext cx="1190520" cy="22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Owner\My Documents\My Pictures\256_498919_ca1d7d66e3f_副本_副本.png"/>
          <p:cNvPicPr/>
          <p:nvPr/>
        </p:nvPicPr>
        <p:blipFill>
          <a:blip r:embed="rId4"/>
          <a:stretch/>
        </p:blipFill>
        <p:spPr>
          <a:xfrm>
            <a:off x="6553080" y="3733920"/>
            <a:ext cx="990720" cy="157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Owner\My Documents\My Pictures\256_498919_ca1d7d466e3f_副本_副本.png"/>
          <p:cNvPicPr/>
          <p:nvPr/>
        </p:nvPicPr>
        <p:blipFill>
          <a:blip r:embed="rId5"/>
          <a:stretch/>
        </p:blipFill>
        <p:spPr>
          <a:xfrm>
            <a:off x="4572000" y="3352680"/>
            <a:ext cx="1467000" cy="2057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852360" y="1066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087E-006 L 0.00052 0.62026 E">
                                      <p:cBhvr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1064 L 0.03385 0.58788 E">
                                      <p:cBhvr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1249 L 0.00417 0.62026 E">
                                      <p:cBhvr>
                                        <p:cTn id="364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232 L 0.02084 0.56846 E">
                                      <p:cBhvr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4"/>
          <p:cNvGrpSpPr/>
          <p:nvPr/>
        </p:nvGrpSpPr>
        <p:grpSpPr>
          <a:xfrm>
            <a:off x="762120" y="1143000"/>
            <a:ext cx="7924680" cy="4495680"/>
            <a:chOff x="762120" y="1143000"/>
            <a:chExt cx="7924680" cy="4495680"/>
          </a:xfrm>
        </p:grpSpPr>
        <p:pic>
          <p:nvPicPr>
            <p:cNvPr id="119" name="Picture 5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447920" y="1676160"/>
              <a:ext cx="655308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组合 8"/>
            <p:cNvGrpSpPr/>
            <p:nvPr/>
          </p:nvGrpSpPr>
          <p:grpSpPr>
            <a:xfrm>
              <a:off x="762120" y="1143000"/>
              <a:ext cx="7924680" cy="4495680"/>
              <a:chOff x="762120" y="1143000"/>
              <a:chExt cx="7924680" cy="4495680"/>
            </a:xfrm>
          </p:grpSpPr>
          <p:pic>
            <p:nvPicPr>
              <p:cNvPr id="121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62120" y="1469520"/>
                <a:ext cx="7924680" cy="37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762120" y="4985640"/>
                <a:ext cx="792468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1194480" y="114300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7779600" y="120816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" name="标题 1"/>
          <p:cNvSpPr/>
          <p:nvPr/>
        </p:nvSpPr>
        <p:spPr>
          <a:xfrm>
            <a:off x="99072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明天，你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149-8F50-4A63-8E2B-722762E86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609480" y="11430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真的就要毕业了吗，昨天还觉得毕业是件很遥远的事，今天却就在眼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343400" y="38098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欢笑和泪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付出和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太多的回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让我永远都不会忘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ppt模板\个人作品\毕业\1c950a7b02087bf4366585adf2d3572c10dfcfed.jpg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886200" y="2057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校花神马的都是浮云，哥从不谈感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DOTA</a:t>
            </a: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才是我的至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95760" y="838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你们听说了吗，有人在追校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9880" y="358128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四儿，我觉得她长得不咋样，你说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355000" y="4495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呼。呼。呼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5655600" y="541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靠，又睡死过去了，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 rot="470400">
            <a:off x="5743080" y="3504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开过的卧谈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ppt模板\个人作品\毕业\62fb850ftw1dmtcec8wncj.jp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362320" y="4648320"/>
            <a:ext cx="63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逃过的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94720" y="4572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又不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好吧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02672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下次一定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ppt模板\个人作品\毕业\cdbf6c81800a19d8b1a82e4333fa828ba71e46c8.jpg"/>
          <p:cNvPicPr/>
          <p:nvPr/>
        </p:nvPicPr>
        <p:blipFill>
          <a:blip r:embed="rId2"/>
          <a:stretch/>
        </p:blipFill>
        <p:spPr>
          <a:xfrm>
            <a:off x="0" y="0"/>
            <a:ext cx="5410080" cy="4432320"/>
          </a:xfrm>
          <a:prstGeom prst="rect">
            <a:avLst/>
          </a:prstGeom>
          <a:ln w="0">
            <a:noFill/>
          </a:ln>
        </p:spPr>
      </p:pic>
      <p:sp>
        <p:nvSpPr>
          <p:cNvPr id="65" name="云形标注 5"/>
          <p:cNvSpPr/>
          <p:nvPr/>
        </p:nvSpPr>
        <p:spPr>
          <a:xfrm rot="1807800">
            <a:off x="5447880" y="185400"/>
            <a:ext cx="35733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62720" y="914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们晒吧，我不晒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天这么好，我再睡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941560" y="517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晒过的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形标注 8"/>
          <p:cNvSpPr/>
          <p:nvPr/>
        </p:nvSpPr>
        <p:spPr>
          <a:xfrm>
            <a:off x="5486400" y="3505320"/>
            <a:ext cx="3429000" cy="18288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6189120" y="40384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我说拿错哥被子的那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毕业了不用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E:\ppt模板\个人作品\毕业\f222334aaec76c18d48dc23982c9a8f4.jpg"/>
          <p:cNvPicPr/>
          <p:nvPr/>
        </p:nvPicPr>
        <p:blipFill>
          <a:blip r:embed="rId2"/>
          <a:stretch/>
        </p:blipFill>
        <p:spPr>
          <a:xfrm>
            <a:off x="1981080" y="380988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云形标注 4"/>
          <p:cNvSpPr/>
          <p:nvPr/>
        </p:nvSpPr>
        <p:spPr>
          <a:xfrm rot="191400">
            <a:off x="69840" y="1239480"/>
            <a:ext cx="35751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121760" y="19810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美的不止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，也有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734720" y="9144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然多数的男生是为找不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件干净衣服而发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69556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失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C:\DOCUME~1\Owner\LOCALS~1\Temp\5BK2}FOHU$7E{24ILNE_L~K.GIF"/>
          <p:cNvPicPr/>
          <p:nvPr/>
        </p:nvPicPr>
        <p:blipFill>
          <a:blip r:embed="rId2"/>
          <a:stretch/>
        </p:blipFill>
        <p:spPr>
          <a:xfrm>
            <a:off x="7345440" y="1523880"/>
            <a:ext cx="1280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13"/>
          <p:cNvGrpSpPr/>
          <p:nvPr/>
        </p:nvGrpSpPr>
        <p:grpSpPr>
          <a:xfrm>
            <a:off x="685800" y="685800"/>
            <a:ext cx="2356200" cy="914400"/>
            <a:chOff x="685800" y="685800"/>
            <a:chExt cx="2356200" cy="914400"/>
          </a:xfrm>
        </p:grpSpPr>
        <p:sp>
          <p:nvSpPr>
            <p:cNvPr id="77" name="TextBox 1"/>
            <p:cNvSpPr/>
            <p:nvPr/>
          </p:nvSpPr>
          <p:spPr>
            <a:xfrm>
              <a:off x="2038320" y="685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咋地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2" descr="C:\DOCUME~1\Owner\LOCALS~1\Temp\4}H]JFF@N3H}K1{78KZ[KXS.GIF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组合 14"/>
          <p:cNvGrpSpPr/>
          <p:nvPr/>
        </p:nvGrpSpPr>
        <p:grpSpPr>
          <a:xfrm>
            <a:off x="762120" y="2895480"/>
            <a:ext cx="4276080" cy="1143000"/>
            <a:chOff x="762120" y="2895480"/>
            <a:chExt cx="4276080" cy="1143000"/>
          </a:xfrm>
        </p:grpSpPr>
        <p:sp>
          <p:nvSpPr>
            <p:cNvPr id="80" name="TextBox 4"/>
            <p:cNvSpPr/>
            <p:nvPr/>
          </p:nvSpPr>
          <p:spPr>
            <a:xfrm>
              <a:off x="2662920" y="312408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上星期不才失恋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3" descr="C:\DOCUME~1\Owner\LOCALS~1\Temp\Q6W_7`0ALYK_0@N4X3$O$QS.gif"/>
            <p:cNvPicPr/>
            <p:nvPr/>
          </p:nvPicPr>
          <p:blipFill>
            <a:blip r:embed="rId4"/>
            <a:stretch/>
          </p:blipFill>
          <p:spPr>
            <a:xfrm>
              <a:off x="762120" y="2895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合 15"/>
          <p:cNvGrpSpPr/>
          <p:nvPr/>
        </p:nvGrpSpPr>
        <p:grpSpPr>
          <a:xfrm>
            <a:off x="5655600" y="4191120"/>
            <a:ext cx="3213720" cy="914400"/>
            <a:chOff x="5655600" y="4191120"/>
            <a:chExt cx="3213720" cy="914400"/>
          </a:xfrm>
        </p:grpSpPr>
        <p:sp>
          <p:nvSpPr>
            <p:cNvPr id="83" name="TextBox 5"/>
            <p:cNvSpPr/>
            <p:nvPr/>
          </p:nvSpPr>
          <p:spPr>
            <a:xfrm>
              <a:off x="5655600" y="42670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这不又了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C:\DOCUME~1\Owner\LOCALS~1\Temp\O`S2XMW2@EQ~L6((0X}3_{6.gif"/>
            <p:cNvPicPr/>
            <p:nvPr/>
          </p:nvPicPr>
          <p:blipFill>
            <a:blip r:embed="rId5"/>
            <a:stretch/>
          </p:blipFill>
          <p:spPr>
            <a:xfrm>
              <a:off x="7772040" y="4191120"/>
              <a:ext cx="1097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16"/>
          <p:cNvGrpSpPr/>
          <p:nvPr/>
        </p:nvGrpSpPr>
        <p:grpSpPr>
          <a:xfrm>
            <a:off x="934560" y="5105520"/>
            <a:ext cx="3256560" cy="990360"/>
            <a:chOff x="934560" y="5105520"/>
            <a:chExt cx="3256560" cy="990360"/>
          </a:xfrm>
        </p:grpSpPr>
        <p:sp>
          <p:nvSpPr>
            <p:cNvPr id="86" name="TextBox 6"/>
            <p:cNvSpPr/>
            <p:nvPr/>
          </p:nvSpPr>
          <p:spPr>
            <a:xfrm>
              <a:off x="934560" y="51055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5" descr="C:\DOCUME~1\Owner\LOCALS~1\Temp\EXB9GEPZ2Q)3VN2FYL~$$_W.GIF"/>
            <p:cNvPicPr/>
            <p:nvPr/>
          </p:nvPicPr>
          <p:blipFill>
            <a:blip r:embed="rId6"/>
            <a:stretch/>
          </p:blipFill>
          <p:spPr>
            <a:xfrm>
              <a:off x="1904760" y="5181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C:\DOCUME~1\Owner\LOCALS~1\Temp\)U0M(X$`FJIEH0L(60JB3U8.GIF"/>
            <p:cNvPicPr/>
            <p:nvPr/>
          </p:nvPicPr>
          <p:blipFill>
            <a:blip r:embed="rId7"/>
            <a:stretch/>
          </p:blipFill>
          <p:spPr>
            <a:xfrm>
              <a:off x="3048120" y="5181480"/>
              <a:ext cx="11430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C:\DOCUME~1\Owner\LOCALS~1\Temp\1TRF@UG4E)W4]9CB0U459LC.jpg"/>
          <p:cNvPicPr/>
          <p:nvPr/>
        </p:nvPicPr>
        <p:blipFill>
          <a:blip r:embed="rId2"/>
          <a:stretch/>
        </p:blipFill>
        <p:spPr>
          <a:xfrm>
            <a:off x="609480" y="3505320"/>
            <a:ext cx="2895840" cy="2692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4259880" y="914400"/>
            <a:ext cx="28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咋就毕业了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还没找对象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448160" y="243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追过的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E:\ppt模板\个人作品\素材\6474443_103759403174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:\ppt模板\个人作品\素材\7675514_192259942000_2_副本_副本_副本_副本_副本.png"/>
          <p:cNvPicPr/>
          <p:nvPr/>
        </p:nvPicPr>
        <p:blipFill>
          <a:blip r:embed="rId2"/>
          <a:stretch/>
        </p:blipFill>
        <p:spPr>
          <a:xfrm>
            <a:off x="838080" y="542880"/>
            <a:ext cx="7599600" cy="5510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226764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科目：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876680" y="236232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时间：</a:t>
            </a:r>
            <a:r>
              <a:rPr b="0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4:00</a:t>
            </a: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5638680" y="1295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按学号坐好不要乱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196272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注意考场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1931400" y="2971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考老师：李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** 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张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290680" y="29718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把书和不相关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都收起来准备考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7:41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4:04:43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