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EC3AF-C736-4AE8-ADD4-329AA389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44AD5-2C56-41BF-86D2-6E5F4863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8D079-CAAF-42F6-A01B-03D14CA6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14333-4253-4A5A-8637-8E2620C5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1904-D324-48B2-8FDF-5EABBF37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EB1F-C291-4A03-8D83-3E4C8643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D70C-DE50-4609-AC4E-A39E1B88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407A-36A3-47E9-8568-394E0F08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C0D9-67A9-48F6-989A-AFC4AC5C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8FD2-8E87-498C-9051-03FA29BC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FB04-DBFA-49EF-BA52-3F9F2FD4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B621C-1D8D-4AA9-A91F-4D350747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BF3D-99C5-42ED-B290-B1507D89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B5EB-E599-452D-845E-2CC8AB89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4C3A-A61A-468B-8FD6-FEE2CCC0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484D-8CF6-469A-90ED-EEF4AE19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BD04-C00F-42D4-9CE5-DE6BF7EB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C09EE-E88D-4303-987E-5FF2C39D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3DCF3-038A-438A-8998-6C31F830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FF63B-7F64-4D5A-8819-F4FF2937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D385-D9A4-4BD9-BA7C-BED0A217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94594-F597-4434-84D2-BDED6CE9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EFC33-F0AB-491F-90C1-09263472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0EEC0-1D34-4F44-ABDC-E8842D3A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2960" y="1308240"/>
            <a:ext cx="9350280" cy="5632560"/>
            <a:chOff x="-102960" y="1308240"/>
            <a:chExt cx="935028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1960" y="1640160"/>
              <a:ext cx="2768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480"/>
              <a:ext cx="32274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160"/>
              <a:ext cx="3565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7240"/>
              <a:ext cx="3930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960"/>
              <a:ext cx="43977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2960" y="2417400"/>
              <a:ext cx="48546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902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600" y="2958120"/>
              <a:ext cx="5951520" cy="972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360" y="3260520"/>
              <a:ext cx="6681600" cy="936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480" y="3634920"/>
              <a:ext cx="732132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6200"/>
              <a:ext cx="82551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6320"/>
              <a:ext cx="8574120" cy="936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50840"/>
              <a:ext cx="7321320" cy="1008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8000"/>
              <a:ext cx="5676840" cy="936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27080" y="5560200"/>
              <a:ext cx="3303000" cy="10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17600" y="6613200"/>
              <a:ext cx="79560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8320"/>
              <a:ext cx="959832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4240"/>
              <a:ext cx="6575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1720" y="5756400"/>
              <a:ext cx="4451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9440"/>
              <a:ext cx="2222640" cy="972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2720" y="5115960"/>
              <a:ext cx="8694720" cy="972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81480"/>
              <a:ext cx="9550440" cy="936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90240"/>
              <a:ext cx="913752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2000"/>
              <a:ext cx="86918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400" y="2512080"/>
              <a:ext cx="789912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840" y="2343960"/>
              <a:ext cx="755496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6280"/>
              <a:ext cx="7234200" cy="936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880" y="2072160"/>
              <a:ext cx="68482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56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840" y="2674080"/>
              <a:ext cx="82612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7160"/>
              <a:ext cx="976284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856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5560"/>
              <a:ext cx="266760" cy="152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801040"/>
              <a:ext cx="311400" cy="1681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6760"/>
              <a:ext cx="247680" cy="133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8160"/>
              <a:ext cx="247680" cy="1429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880" y="4509720"/>
              <a:ext cx="23940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840" y="4218840"/>
              <a:ext cx="237960" cy="133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65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7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5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21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3120" y="3661200"/>
              <a:ext cx="222120" cy="1141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42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6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11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4320" y="2823840"/>
              <a:ext cx="203040" cy="982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48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304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5920"/>
              <a:ext cx="23832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760" y="32209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4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705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511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34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6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602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5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1000" y="2838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74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401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2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520" y="2854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640" y="3018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9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92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800" y="3926160"/>
              <a:ext cx="247320" cy="1414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840" y="3200400"/>
              <a:ext cx="22212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70000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9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880" y="2391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41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12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352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23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76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12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6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2160" y="2394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480" y="2696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96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94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80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9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148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26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3080" y="2701440"/>
              <a:ext cx="203040" cy="79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3480"/>
              <a:ext cx="203400" cy="79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440" y="5802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632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800" y="490788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400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7920"/>
              <a:ext cx="247680" cy="1332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6520"/>
              <a:ext cx="212760" cy="115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89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7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42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800" y="2854080"/>
              <a:ext cx="2044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700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55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1200"/>
              <a:ext cx="203400" cy="810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2680"/>
              <a:ext cx="176400" cy="792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8320" y="2270880"/>
              <a:ext cx="177480" cy="795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760" y="2270880"/>
              <a:ext cx="177480" cy="79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900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4000" y="20516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480" y="1857960"/>
              <a:ext cx="177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224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716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6040" y="2038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960"/>
              <a:ext cx="17640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760" y="22615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70200" y="2038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64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4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4320" y="216756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72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316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316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5012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76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880" y="165924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132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8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7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30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716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68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5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920" y="1765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64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8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4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640" y="1747800"/>
              <a:ext cx="177840" cy="70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1280" y="18450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3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8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9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26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480" y="18356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4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6200" y="1765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920" y="185148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480" y="178020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10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9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680" y="1956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332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400"/>
              <a:ext cx="160200" cy="601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9040" y="160812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40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5040"/>
              <a:ext cx="16848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76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7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480" y="1924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96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5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560"/>
              <a:ext cx="131760" cy="53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560" y="1527480"/>
              <a:ext cx="141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3080"/>
              <a:ext cx="1602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8200" y="639684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3092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4520"/>
              <a:ext cx="24912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2028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308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52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115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400" y="3433680"/>
              <a:ext cx="22032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20200" y="3049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2040" y="28699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32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3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5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668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62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5280"/>
              <a:ext cx="318960" cy="1684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31760"/>
              <a:ext cx="31140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760" y="5394240"/>
              <a:ext cx="266400" cy="15228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95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808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9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3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5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51720"/>
              <a:ext cx="247680" cy="1332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90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52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6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9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6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90280" y="4256640"/>
              <a:ext cx="24732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2960" y="4550760"/>
              <a:ext cx="2379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408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040" y="22806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360" y="6369840"/>
              <a:ext cx="318960" cy="1684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2F9B-E06C-4C31-AD99-8CC6363D97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4760" y="1311120"/>
            <a:ext cx="9350280" cy="5632560"/>
            <a:chOff x="-104760" y="1311120"/>
            <a:chExt cx="935028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3760" y="1643040"/>
              <a:ext cx="2768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360"/>
              <a:ext cx="32274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040"/>
              <a:ext cx="3565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40120"/>
              <a:ext cx="3930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840"/>
              <a:ext cx="43977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4760" y="2420280"/>
              <a:ext cx="48546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31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400" y="2961000"/>
              <a:ext cx="5951520" cy="972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160" y="3263400"/>
              <a:ext cx="6681600" cy="936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280" y="3637800"/>
              <a:ext cx="732132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9080"/>
              <a:ext cx="82551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9200"/>
              <a:ext cx="8574120" cy="936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3720"/>
              <a:ext cx="7321320" cy="1008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80880"/>
              <a:ext cx="5676840" cy="936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25280" y="5563080"/>
              <a:ext cx="3303000" cy="10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5800" y="6616080"/>
              <a:ext cx="79560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51200"/>
              <a:ext cx="959832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7120"/>
              <a:ext cx="6575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520" y="5759280"/>
              <a:ext cx="4451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32320"/>
              <a:ext cx="2222640" cy="972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520" y="5118840"/>
              <a:ext cx="8694720" cy="972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4360"/>
              <a:ext cx="9550440" cy="936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3120"/>
              <a:ext cx="913752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4880"/>
              <a:ext cx="86918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600" y="2514960"/>
              <a:ext cx="789912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70040" y="2346840"/>
              <a:ext cx="755496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9160"/>
              <a:ext cx="7234200" cy="936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9080" y="2075040"/>
              <a:ext cx="68482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44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8040" y="2676960"/>
              <a:ext cx="82612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30040"/>
              <a:ext cx="976284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3144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8440"/>
              <a:ext cx="266760" cy="152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5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3920"/>
              <a:ext cx="311400" cy="1681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9640"/>
              <a:ext cx="247680" cy="133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8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41040"/>
              <a:ext cx="247680" cy="1429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9080" y="4512600"/>
              <a:ext cx="23940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1040" y="4221720"/>
              <a:ext cx="237960" cy="133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94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9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8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3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1320" y="3664080"/>
              <a:ext cx="222120" cy="1141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71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9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39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520" y="2826720"/>
              <a:ext cx="203040" cy="982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76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332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8800"/>
              <a:ext cx="23832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960" y="32238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7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40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63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94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30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8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9200" y="28411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302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30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56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720" y="2856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840" y="3021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25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2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1000" y="3929040"/>
              <a:ext cx="247320" cy="1414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7040" y="3203280"/>
              <a:ext cx="22212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288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2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7080" y="2394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70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40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640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52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805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40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9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360" y="2397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680" y="2699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8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22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3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2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43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55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1280" y="2704320"/>
              <a:ext cx="203040" cy="79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6360"/>
              <a:ext cx="203400" cy="79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640" y="58053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92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7000" y="4910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688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40800"/>
              <a:ext cx="247680" cy="1332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9006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9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9400"/>
              <a:ext cx="212760" cy="115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18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30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5000" y="2856960"/>
              <a:ext cx="2044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28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84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4080"/>
              <a:ext cx="203400" cy="810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5560"/>
              <a:ext cx="176400" cy="792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520" y="2273760"/>
              <a:ext cx="177480" cy="795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960" y="2273760"/>
              <a:ext cx="177480" cy="79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8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2200" y="20545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680" y="1860840"/>
              <a:ext cx="177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51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4004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4240" y="204156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840"/>
              <a:ext cx="17640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960" y="226440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400" y="2041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928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528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520" y="217044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96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604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604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30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64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7080" y="166212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42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7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6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70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8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7004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56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4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7120" y="1768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932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7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840" y="1750680"/>
              <a:ext cx="177840" cy="70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480" y="184788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6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7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8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55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680" y="18385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32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400" y="1768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6120" y="185436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680" y="178308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92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8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880" y="195912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620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2280"/>
              <a:ext cx="160200" cy="601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7240" y="1611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228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920"/>
              <a:ext cx="16848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105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66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680" y="19274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616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5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440"/>
              <a:ext cx="131760" cy="53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760" y="1530360"/>
              <a:ext cx="141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960"/>
              <a:ext cx="1602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400" y="63997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380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60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7400"/>
              <a:ext cx="24912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6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316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37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81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44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600" y="3436560"/>
              <a:ext cx="22032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400" y="3052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50240" y="28728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61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6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8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956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90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8160"/>
              <a:ext cx="318960" cy="1684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4640"/>
              <a:ext cx="31140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960" y="5397120"/>
              <a:ext cx="266400" cy="1522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921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324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6280" y="4566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525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5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8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4600"/>
              <a:ext cx="247680" cy="1332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19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81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88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2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89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480" y="4259520"/>
              <a:ext cx="24732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4760" y="4553640"/>
              <a:ext cx="2379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69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5840" y="22834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560" y="6372720"/>
              <a:ext cx="318960" cy="1684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1537-481B-4E3A-B95D-E0791FBC8D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hyperlink" Target="http://www.yinheedu.com/ad/mcse2003/image/12_5_1.JPG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bijiao.weisuo.cn/newsnet/newsdisplay.php?id=8590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bijiao.weisuo.cn/newsnet/newsdisplay.php?id=8590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bijiao.weisuo.cn/newsnet/newsdisplay.php?id=8590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hyperlink" Target="http://www.yinheedu.com/ad/mcse2003/image/12_5_1.JPG" TargetMode="External"/><Relationship Id="rId4" Type="http://schemas.openxmlformats.org/officeDocument/2006/relationships/hyperlink" Target="http://www.yinheedu.com/ad/mcse2003/image/12_5_1.JPG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www.yinheedu.com/ad/mcse2003/image/12_5_1.JPG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hyperlink" Target="http://www.yinheedu.com/ad/mcse2003/image/12_5_2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yinheedu.com/ad/mcse2003/image/12_5_2.JPG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hyperlink" Target="http://www.yinheedu.com/ad/mcse2003/image/12_5_2.JPG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900"/>
                </a:solidFill>
                <a:latin typeface="Arial"/>
                <a:ea typeface="华文行楷"/>
              </a:rPr>
              <a:t> </a:t>
            </a:r>
            <a:endParaRPr b="0" lang="en-US" sz="9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32000" y="4221000"/>
            <a:ext cx="6400800" cy="16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unction of Wri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333240" y="83664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大学英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50920" y="1484280"/>
            <a:ext cx="8569080" cy="48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7c8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7c80"/>
                </a:solidFill>
                <a:latin typeface="Arial"/>
              </a:rPr>
              <a:t>Directions: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Write a composition entitled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 My View on Multi-media Teaching”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Yo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should write at least 150 wor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based on the follow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</a:rPr>
              <a:t>outline given in Chine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多媒体教学的优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多媒体教学存在的不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我的看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0" y="5229360"/>
            <a:ext cx="5219280" cy="1152360"/>
            <a:chOff x="0" y="5229360"/>
            <a:chExt cx="5219280" cy="1152360"/>
          </a:xfrm>
        </p:grpSpPr>
        <p:pic>
          <p:nvPicPr>
            <p:cNvPr id="520" name="" descr=""/>
            <p:cNvPicPr/>
            <p:nvPr/>
          </p:nvPicPr>
          <p:blipFill>
            <a:blip r:embed="rId2"/>
            <a:stretch/>
          </p:blipFill>
          <p:spPr>
            <a:xfrm>
              <a:off x="0" y="5229360"/>
              <a:ext cx="50184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934560" y="5235120"/>
              <a:ext cx="4284720" cy="1100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584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marL="233280" indent="-233280">
                <a:lnSpc>
                  <a:spcPct val="85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Franklin Gothic Medium"/>
                  <a:ea typeface="Arial"/>
                </a:rPr>
                <a:t>             </a:t>
              </a:r>
              <a:r>
                <a:rPr b="0" lang="en-US" sz="2000" spc="-1" strike="noStrike">
                  <a:solidFill>
                    <a:srgbClr val="00ff00"/>
                  </a:solidFill>
                  <a:latin typeface="Franklin Gothic Medium"/>
                  <a:ea typeface="Arial"/>
                </a:rPr>
                <a:t>advantag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33280" indent="-233280">
                <a:lnSpc>
                  <a:spcPct val="85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Franklin Gothic Medium"/>
                  <a:ea typeface="Arial"/>
                </a:rPr>
                <a:t>             </a:t>
              </a:r>
              <a:r>
                <a:rPr b="0" lang="en-US" sz="2000" spc="-1" strike="noStrike">
                  <a:solidFill>
                    <a:srgbClr val="ff9900"/>
                  </a:solidFill>
                  <a:latin typeface="Franklin Gothic Medium"/>
                  <a:ea typeface="Arial"/>
                </a:rPr>
                <a:t>disadvantag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33280" indent="-233280">
                <a:lnSpc>
                  <a:spcPct val="85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Franklin Gothic Medium"/>
                  <a:ea typeface="Arial"/>
                </a:rPr>
                <a:t>    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Franklin Gothic Medium"/>
                  <a:ea typeface="Arial"/>
                </a:rPr>
                <a:t>comment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0" y="260280"/>
            <a:ext cx="8964000" cy="1152360"/>
            <a:chOff x="0" y="260280"/>
            <a:chExt cx="8964000" cy="1152360"/>
          </a:xfrm>
        </p:grpSpPr>
        <p:pic>
          <p:nvPicPr>
            <p:cNvPr id="523" name="" descr=""/>
            <p:cNvPicPr/>
            <p:nvPr/>
          </p:nvPicPr>
          <p:blipFill>
            <a:blip r:embed="rId3"/>
            <a:stretch/>
          </p:blipFill>
          <p:spPr>
            <a:xfrm>
              <a:off x="0" y="288000"/>
              <a:ext cx="8514000" cy="110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1902960" y="260280"/>
              <a:ext cx="7061040" cy="1152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584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marL="233280" indent="-233280">
                <a:lnSpc>
                  <a:spcPct val="8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7c80"/>
                  </a:solidFill>
                  <a:latin typeface="Arial"/>
                </a:rPr>
                <a:t>   </a:t>
              </a:r>
              <a:r>
                <a:rPr b="1" lang="en-US" sz="2800" spc="-1" strike="noStrike">
                  <a:solidFill>
                    <a:srgbClr val="ff7c80"/>
                  </a:solidFill>
                  <a:latin typeface="Arial"/>
                </a:rPr>
                <a:t>My View on Multi-media Teaching</a:t>
              </a:r>
              <a:r>
                <a:rPr b="0" lang="en-US" sz="4000" spc="-1" strike="noStrike">
                  <a:solidFill>
                    <a:srgbClr val="ff7c80"/>
                  </a:solidFill>
                  <a:latin typeface="Franklin Gothic Medium"/>
                  <a:ea typeface="Arial"/>
                </a:rPr>
                <a:t>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9640" y="333360"/>
            <a:ext cx="1584360" cy="10796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76720" y="2060640"/>
            <a:ext cx="35989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0728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00920" y="266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805040" y="692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11280" y="191628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media teaching is no longer something new to us. To some degree, it has become part of modern educ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0" y="620640"/>
            <a:ext cx="9143280" cy="1152720"/>
            <a:chOff x="0" y="620640"/>
            <a:chExt cx="9143280" cy="1152720"/>
          </a:xfrm>
        </p:grpSpPr>
        <p:pic>
          <p:nvPicPr>
            <p:cNvPr id="532" name="" descr=""/>
            <p:cNvPicPr/>
            <p:nvPr/>
          </p:nvPicPr>
          <p:blipFill>
            <a:blip r:embed="rId2"/>
            <a:stretch/>
          </p:blipFill>
          <p:spPr>
            <a:xfrm>
              <a:off x="0" y="620640"/>
              <a:ext cx="879156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1637280" y="626400"/>
              <a:ext cx="7506000" cy="1100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584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marL="233280" indent="-233280">
                <a:lnSpc>
                  <a:spcPct val="85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33280" indent="-233280">
                <a:lnSpc>
                  <a:spcPct val="8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Franklin Gothic Medium"/>
                  <a:ea typeface="Arial"/>
                </a:rPr>
                <a:t>                           </a:t>
              </a:r>
              <a:r>
                <a:rPr b="1" lang="en-US" sz="4000" spc="-1" strike="noStrike">
                  <a:solidFill>
                    <a:srgbClr val="cc3300"/>
                  </a:solidFill>
                  <a:latin typeface="Franklin Gothic Medium"/>
                  <a:ea typeface="Arial"/>
                </a:rPr>
                <a:t>Phenomenon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3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620640"/>
            <a:ext cx="1511280" cy="115092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684360" y="285264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11280" y="3357720"/>
            <a:ext cx="3240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However, as is the case with many issues, multi-media teaching has both positive and negative asp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95640" y="2997360"/>
            <a:ext cx="4464000" cy="305424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6659640" y="335772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Multi-media Teac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13744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-324000" y="476280"/>
            <a:ext cx="10728000" cy="1152000"/>
            <a:chOff x="-324000" y="476280"/>
            <a:chExt cx="10728000" cy="1152000"/>
          </a:xfrm>
        </p:grpSpPr>
        <p:pic>
          <p:nvPicPr>
            <p:cNvPr id="541" name="" descr=""/>
            <p:cNvPicPr/>
            <p:nvPr/>
          </p:nvPicPr>
          <p:blipFill>
            <a:blip r:embed="rId2"/>
            <a:stretch/>
          </p:blipFill>
          <p:spPr>
            <a:xfrm>
              <a:off x="-324000" y="476280"/>
              <a:ext cx="10728000" cy="115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2436840" y="576720"/>
              <a:ext cx="6510960" cy="935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584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lvl="2" marL="914400">
                <a:lnSpc>
                  <a:spcPct val="85000"/>
                </a:lnSpc>
                <a:spcAft>
                  <a:spcPts val="1001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7c80"/>
                  </a:solidFill>
                  <a:latin typeface="Franklin Gothic Medium"/>
                  <a:ea typeface="Arial"/>
                </a:rPr>
                <a:t>   </a:t>
              </a:r>
              <a:r>
                <a:rPr b="1" lang="en-US" sz="4000" spc="-1" strike="noStrike">
                  <a:solidFill>
                    <a:srgbClr val="ff7c80"/>
                  </a:solidFill>
                  <a:latin typeface="Franklin Gothic Medium"/>
                  <a:ea typeface="Arial"/>
                </a:rPr>
                <a:t>Advantage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43" name=""/>
          <p:cNvGraphicFramePr/>
          <p:nvPr/>
        </p:nvGraphicFramePr>
        <p:xfrm>
          <a:off x="0" y="0"/>
          <a:ext cx="374760" cy="7429680"/>
        </p:xfrm>
        <a:graphic>
          <a:graphicData uri="http://schemas.openxmlformats.org/drawingml/2006/table">
            <a:tbl>
              <a:tblPr/>
              <a:tblGrid>
                <a:gridCol w="223200"/>
                <a:gridCol w="223200"/>
              </a:tblGrid>
              <a:tr h="742968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9999ff"/>
                          </a:solidFill>
                          <a:uFillTx/>
                          <a:latin typeface="Arial"/>
                          <a:hlinkClick r:id="rId3"/>
                        </a:rPr>
                        <a:t>  </a:t>
                      </a:r>
                      <a:r>
                        <a:rPr b="0" lang="en-US" sz="6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40360" y="3500280"/>
            <a:ext cx="4392360" cy="288144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9640" y="476280"/>
            <a:ext cx="1800360" cy="115236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4643280" y="3860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Multi-media Teac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95280" y="162864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dfdef6"/>
                </a:solidFill>
                <a:latin typeface="Times New Roman"/>
              </a:rPr>
              <a:t>On the positive side, with the combination of word, pictures, animation, sound, video and etc. multi-media education creates positive atmosphere in the classroom, thus motivating the learners. Another underl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5280" y="335772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Times New Roman"/>
              </a:rPr>
              <a:t>advantage is that multi-media teaching with its rich contents and colorful screen makes learning both instructive and enjoyab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hlinkClick r:id="rId8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323640" y="1600200"/>
            <a:ext cx="83516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0" y="476280"/>
            <a:ext cx="9430920" cy="1223640"/>
            <a:chOff x="0" y="476280"/>
            <a:chExt cx="9430920" cy="1223640"/>
          </a:xfrm>
        </p:grpSpPr>
        <p:pic>
          <p:nvPicPr>
            <p:cNvPr id="552" name="" descr=""/>
            <p:cNvPicPr/>
            <p:nvPr/>
          </p:nvPicPr>
          <p:blipFill>
            <a:blip r:embed="rId2"/>
            <a:stretch/>
          </p:blipFill>
          <p:spPr>
            <a:xfrm>
              <a:off x="0" y="505800"/>
              <a:ext cx="8957160" cy="117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2002320" y="476280"/>
              <a:ext cx="7428600" cy="1223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584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marL="233280" indent="-233280">
                <a:lnSpc>
                  <a:spcPct val="85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33280" indent="-233280">
                <a:lnSpc>
                  <a:spcPct val="8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7c80"/>
                  </a:solidFill>
                  <a:latin typeface="Franklin Gothic Medium"/>
                  <a:ea typeface="Arial"/>
                </a:rPr>
                <a:t>        </a:t>
              </a:r>
              <a:r>
                <a:rPr b="1" lang="en-US" sz="4000" spc="-1" strike="noStrike">
                  <a:solidFill>
                    <a:srgbClr val="ff7c80"/>
                  </a:solidFill>
                  <a:latin typeface="Franklin Gothic Medium"/>
                  <a:ea typeface="Arial"/>
                </a:rPr>
                <a:t>Disadvantages</a:t>
              </a:r>
              <a:r>
                <a:rPr b="0" lang="en-US" sz="4000" spc="-1" strike="noStrike">
                  <a:solidFill>
                    <a:srgbClr val="ff7c80"/>
                  </a:solidFill>
                  <a:latin typeface="Franklin Gothic Medium"/>
                  <a:ea typeface="Arial"/>
                </a:rPr>
                <a:t>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0360" y="3573360"/>
            <a:ext cx="4392360" cy="280836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611280" y="2924280"/>
            <a:ext cx="51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549360"/>
            <a:ext cx="1656000" cy="107928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468360" y="1700280"/>
            <a:ext cx="82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negative side, multi-media teaching sometimes  lacks classroom interaction between the teacher and learners, which may have a bad effect on improving teaching efficiency. Besides, it takes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3429000"/>
            <a:ext cx="35989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derable amount o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to produce the teaching courseware on the part of teachers, thus drastically multiplying teachers’ working loa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732720" y="4005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Multi-media Teac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-324000" y="476280"/>
            <a:ext cx="10583640" cy="1223640"/>
            <a:chOff x="-324000" y="476280"/>
            <a:chExt cx="10583640" cy="1223640"/>
          </a:xfrm>
        </p:grpSpPr>
        <p:pic>
          <p:nvPicPr>
            <p:cNvPr id="561" name="" descr=""/>
            <p:cNvPicPr/>
            <p:nvPr/>
          </p:nvPicPr>
          <p:blipFill>
            <a:blip r:embed="rId2"/>
            <a:stretch/>
          </p:blipFill>
          <p:spPr>
            <a:xfrm>
              <a:off x="-324000" y="476280"/>
              <a:ext cx="1058364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2399400" y="583200"/>
              <a:ext cx="6423480" cy="993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584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lvl="2" marL="914400">
                <a:lnSpc>
                  <a:spcPct val="85000"/>
                </a:lnSpc>
                <a:spcAft>
                  <a:spcPts val="1001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7c80"/>
                  </a:solidFill>
                  <a:latin typeface="Franklin Gothic Medium"/>
                  <a:ea typeface="Arial"/>
                </a:rPr>
                <a:t>     </a:t>
              </a:r>
              <a:r>
                <a:rPr b="1" lang="en-US" sz="4000" spc="-1" strike="noStrike">
                  <a:solidFill>
                    <a:srgbClr val="ff7c80"/>
                  </a:solidFill>
                  <a:latin typeface="Franklin Gothic Medium"/>
                  <a:ea typeface="Arial"/>
                </a:rPr>
                <a:t>Comment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539640" y="1916280"/>
            <a:ext cx="453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sensible people will deny that multi-media teaching has both benefits and drawbacks but on balance the advantages of multi-media teaching outweigh its disadvantages since such a teaching approach has become an integral part of  modern educ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549360"/>
            <a:ext cx="1656000" cy="107928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5651640" y="2565360"/>
            <a:ext cx="187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" descr="Cellular phone, laptop computer and pagers photo"/>
          <p:cNvPicPr/>
          <p:nvPr/>
        </p:nvPicPr>
        <p:blipFill>
          <a:blip r:embed="rId5"/>
          <a:stretch/>
        </p:blipFill>
        <p:spPr>
          <a:xfrm>
            <a:off x="5219640" y="2060640"/>
            <a:ext cx="3313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2C309-9F3B-4094-AECD-5EB77C2E04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02:55:0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4:12:05Z</dcterms:modified>
  <cp:revision>9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1c05000000000001024140</vt:lpwstr>
  </property>
</Properties>
</file>