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EDA-8CE0-4801-BEE4-31C8E008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1690-ABD8-43FA-B912-6EF0AF41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437-CF05-49B2-BCED-3C7A105D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60B-D9DD-4E08-B43B-B5B5AF36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AB8C-0D73-4519-B9CF-A468A488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301-00AB-465C-BAFB-18DA32A6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637-1FC8-4BAB-B07B-EE7E63B7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B313-0FBF-4615-B715-668963D4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2DA-34E0-4740-B674-D2A06F8B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E3F-EE31-4A2C-ADCF-63969DE2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3EC-3CBB-4C82-ABE4-FE74ABA3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E60-8799-42EB-8EDF-369E2D86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B260-FA49-445A-BABC-810C825EFF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元智能理论与学校教育改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35232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XXX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学校长培训中心书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XXXX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学院书记、副院长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XXX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教授  博士生导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借鉴多元智能理论，开发学生潜能的实验研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实验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让课堂更有活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让教学更富创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让学生更加聪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让发展更为全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语 言 智 能 教 学 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6933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引入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堂讨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录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日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版与交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28350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数理逻辑智能教学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553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算与等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与分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苏格拉底式问答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研究性学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科学素养和科学思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 flipH="1">
            <a:off x="6705720" y="2819520"/>
            <a:ext cx="1768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视觉—空间智能教学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0574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形象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色彩记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画比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思维速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解符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05520" y="3067200"/>
            <a:ext cx="235080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身体运动智能教学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563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肢体回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堂剧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运作意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手思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身体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flipH="1">
            <a:off x="914400" y="2743200"/>
            <a:ext cx="1457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音乐智能教学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8800" y="2285640"/>
            <a:ext cx="5867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节奏和唱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景音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情感音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3048120"/>
            <a:ext cx="160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人际交往智能教学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同学分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体雕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合作小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版游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724280" y="3244680"/>
            <a:ext cx="274320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自我认识智能教学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分钟反应时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联系自我体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选择时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感情色彩时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制定目标时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 flipH="1">
            <a:off x="5781240" y="3352680"/>
            <a:ext cx="1847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讲 座 提 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背景介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多元智能理论的基本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、多元智能理论与智力开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四、多元智能理论对教育改革的启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五、在课堂教学中如何培养学生的多种智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背 景 介 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加德纳：《智力的结构：多元智力理论》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98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世纪主流教育思想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程改革的支柱理论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传统的智力理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单一智能：智力仅与认知有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高度遗传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可塑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高度可评估性：可以脱离具体情景判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以测试：智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i="1" lang="zh-CN" sz="4800" spc="-1" strike="noStrike">
                <a:solidFill>
                  <a:srgbClr val="000000"/>
                </a:solidFill>
                <a:latin typeface="Times New Roman"/>
              </a:rPr>
              <a:t>加德纳关于智力的定义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智力是在特定文化背景或社会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中解决问题或制作产品的能力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八 种 智 能 理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619760" cy="4800600"/>
          </a:xfrm>
          <a:prstGeom prst="rect">
            <a:avLst/>
          </a:prstGeom>
          <a:solidFill>
            <a:srgbClr val="ffcc00"/>
          </a:solidFill>
          <a:ln w="9360">
            <a:solidFill>
              <a:srgbClr val="99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语言智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音乐智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理逻辑智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视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空间智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身体运动智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际交往智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我认识智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智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00600" y="3065400"/>
            <a:ext cx="251460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多元智能理论与智力开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560" y="1828440"/>
            <a:ext cx="5715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脑部定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智力发展轨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方面因素的协调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体不同的智力组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育与智力开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启智力与关闭智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多元智能理论对教育改革的启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素质教育提供了最好的理论诠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正确、全面认识每一个学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形成多样化的教学策略和方法：教上的多元切入点，学上的强项切入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课堂教学中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起点：叙述起点、数量起点、逻辑起点、存在起点、美学起点、亲身实践起点、人际关系起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改进教师的教学行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</a:rPr>
              <a:t>教育过程中如何培养学生的多元智能（美国的实验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学前教育——多彩光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小学教育——重点实验学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初中教育——学校实用智能项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高中教育——艺术推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多元智能 学校 教育</cp:keywords>
  <dc:language>en-US</dc:language>
  <cp:lastModifiedBy/>
  <cp:revision>0</cp:revision>
  <dc:subject/>
  <dc:title/>
</cp:coreProperties>
</file>