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4F16-62B8-4170-A07A-FF84B7D3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E00-1841-4A01-878E-123674D0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A60A-18FF-4BE8-87FF-4694F9CE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2C4-599C-494C-8D1B-9B93A80C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AE7B-E4C7-4575-AA41-9E4B6877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6D50-7184-47EF-80BC-D0C6A7A6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8EF7-482B-4438-B17D-B5471B5F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D1C0-7824-4036-B836-0C59042C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17B7-325B-45C8-A546-1B941F88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E2B8-0C55-4494-BCAB-0EA476DC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5E2C-DCE9-4E66-B4E9-89522A3D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F8B1-4303-486F-B75B-192B151E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3344-43B2-40CD-866A-7B08D567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839F-89D6-4B65-8535-F5224296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DB5C-296F-4CAC-AF68-BC56B998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352E-6133-48FD-9E26-77BA52C5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46E1-9A9B-495D-B603-74118DCB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8EC1-D9C0-45F9-94F2-83B5FF7F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F7C-2FE3-4DD4-9764-B640525A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706E-A394-4BAE-8090-86CB7E6A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DF4-285A-4542-8C5F-72C77F61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B9A8-F7F4-4506-9866-3908D1A1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68CD-B204-45F5-A1A7-9AEE403D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4602-B27C-4D65-BF8F-3CB2AC27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4744-7E06-4273-91A0-9FC205900220}" type="slidenum">
              <a:rPr b="0" lang="zh-TW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5C21-785B-4EB6-A581-94CF1FCED349}" type="slidenum">
              <a:rPr b="0" lang="zh-TW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92360" y="1776240"/>
            <a:ext cx="5790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兒童文學基本理論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149360"/>
            <a:ext cx="64008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作者：</a:t>
            </a:r>
            <a:r>
              <a:rPr b="0" lang="en-US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×××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时间：</a:t>
            </a:r>
            <a:r>
              <a:rPr b="0" lang="en-US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×××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從兒童文學看兒童特質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天真活潑、心性靈敏、想像豐富、勇敢冒險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特徵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一、想像力極為豐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二、好奇心極為敏銳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三、模仿力特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四、意志極不堅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兒童觀念</a:t>
            </a:r>
            <a:br>
              <a:rPr sz="3200"/>
            </a:b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—個別的，類別的，抽象的   三種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1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、數目觀念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2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、空間觀念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3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、時間觀念：</a:t>
            </a: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                             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4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、異同觀念：</a:t>
            </a: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                               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5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、滑稽觀念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6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、宇宙觀念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…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5716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兒童觀念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1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、數目觀念：</a:t>
            </a: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對數目沒有清楚概念，一千、十萬代表很多</a:t>
            </a: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---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                                      </a:t>
            </a: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數目觀念是聽知覺和視知覺混合產生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2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、空間觀念：</a:t>
            </a: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大小、 長短、 距離、 方向、 形狀、 位置　</a:t>
            </a:r>
            <a:r>
              <a:rPr b="0" lang="zh-TW" sz="18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　　　　 　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3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、時間觀念：</a:t>
            </a: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時間過去，去年春天 ，一月以前都不甚清楚，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                                 </a:t>
            </a: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十歲以後才會漸漸正確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4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、異同觀念：</a:t>
            </a: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容易分辨知覺經驗</a:t>
            </a: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(</a:t>
            </a: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蘋果和橘子</a:t>
            </a: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)</a:t>
            </a: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，事物功用不易分別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                                   </a:t>
            </a: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(</a:t>
            </a: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蒼蠅和蜜蜂  </a:t>
            </a: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5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、滑稽觀念：</a:t>
            </a: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了解笑 話，欣賞幽默，看出矛盾的能力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6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、宇宙觀念：</a:t>
            </a: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萬物都有生命</a:t>
            </a: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---</a:t>
            </a: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鳥言獸語—童話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                                  </a:t>
            </a: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萬物都是人造的</a:t>
            </a: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----</a:t>
            </a:r>
            <a:r>
              <a:rPr b="0" lang="zh-TW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神話—傳說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……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兒童思想的四個特色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一、自我中心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--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1c0468"/>
                </a:solidFill>
                <a:latin typeface="Times New Roman"/>
                <a:ea typeface="超研澤特圓"/>
              </a:rPr>
              <a:t>        </a:t>
            </a:r>
            <a:r>
              <a:rPr b="0" lang="zh-TW" sz="2400" spc="-1" strike="noStrike">
                <a:solidFill>
                  <a:srgbClr val="1c0468"/>
                </a:solidFill>
                <a:latin typeface="Times New Roman"/>
                <a:ea typeface="超研澤特圓"/>
              </a:rPr>
              <a:t>一切唯我獨尊，不顧及別人，相對絕對關係不分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二、關係不清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--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1c0468"/>
                </a:solidFill>
                <a:latin typeface="Times New Roman"/>
                <a:ea typeface="超研澤特圓"/>
              </a:rPr>
              <a:t>        </a:t>
            </a:r>
            <a:r>
              <a:rPr b="0" lang="zh-TW" sz="2400" spc="-1" strike="noStrike">
                <a:solidFill>
                  <a:srgbClr val="1c0468"/>
                </a:solidFill>
                <a:latin typeface="Times New Roman"/>
                <a:ea typeface="超研澤特圓"/>
              </a:rPr>
              <a:t>六歲以前對局部和全部不甚了解</a:t>
            </a:r>
            <a:r>
              <a:rPr b="0" lang="zh-TW" sz="2400" spc="-1" strike="noStrike">
                <a:solidFill>
                  <a:srgbClr val="1c0468"/>
                </a:solidFill>
                <a:latin typeface="Times New Roman"/>
                <a:ea typeface="超研澤特圓"/>
              </a:rPr>
              <a:t>(</a:t>
            </a:r>
            <a:r>
              <a:rPr b="0" lang="zh-TW" sz="2400" spc="-1" strike="noStrike">
                <a:solidFill>
                  <a:srgbClr val="1c0468"/>
                </a:solidFill>
                <a:latin typeface="Times New Roman"/>
                <a:ea typeface="超研澤特圓"/>
              </a:rPr>
              <a:t>事物的各種關係</a:t>
            </a:r>
            <a:r>
              <a:rPr b="0" lang="zh-TW" sz="2400" spc="-1" strike="noStrike">
                <a:solidFill>
                  <a:srgbClr val="1c0468"/>
                </a:solidFill>
                <a:latin typeface="Times New Roman"/>
                <a:ea typeface="超研澤特圓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三、觀念散漫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--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1c0468"/>
                </a:solidFill>
                <a:latin typeface="Times New Roman"/>
                <a:ea typeface="超研澤特圓"/>
              </a:rPr>
              <a:t>        </a:t>
            </a:r>
            <a:r>
              <a:rPr b="0" lang="zh-TW" sz="2400" spc="-1" strike="noStrike">
                <a:solidFill>
                  <a:srgbClr val="1c0468"/>
                </a:solidFill>
                <a:latin typeface="Times New Roman"/>
                <a:ea typeface="超研澤特圓"/>
              </a:rPr>
              <a:t>十歲以前缺乏合理連繫，判斷沒有統屬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四、缺少證據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--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1c0468"/>
                </a:solidFill>
                <a:latin typeface="Times New Roman"/>
                <a:ea typeface="超研澤特圓"/>
              </a:rPr>
              <a:t>        </a:t>
            </a:r>
            <a:r>
              <a:rPr b="0" lang="zh-TW" sz="2400" spc="-1" strike="noStrike">
                <a:solidFill>
                  <a:srgbClr val="1c0468"/>
                </a:solidFill>
                <a:latin typeface="Times New Roman"/>
                <a:ea typeface="超研澤特圓"/>
              </a:rPr>
              <a:t>到十一歲兒童語彙能力 有驚人的進步，但判斷力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1c0468"/>
                </a:solidFill>
                <a:latin typeface="Times New Roman"/>
                <a:ea typeface="超研澤特圓"/>
              </a:rPr>
              <a:t>          </a:t>
            </a:r>
            <a:r>
              <a:rPr b="0" lang="zh-TW" sz="2400" spc="-1" strike="noStrike">
                <a:solidFill>
                  <a:srgbClr val="1c0468"/>
                </a:solidFill>
                <a:latin typeface="Times New Roman"/>
                <a:ea typeface="超研澤特圓"/>
              </a:rPr>
              <a:t>極為薄弱，不經嚴格訓練，自己不能改變這個壞習慣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文學性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一、何謂文學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語言文字的藝術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語言文字為形式，媒介，藝術為內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容精神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藉語言文字的形式傳達美感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美感，感性的、渲染的、求美的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二、近代一般文學說明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文學即『人生、表現人生、批評人生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文學是具有思想、想像、情感的實質與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體裁，美質的藝術，所以表現、指導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與批評人生，應人性最高部分的要求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用已豐富生活興趣與擴大喜悅同情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imes New Roman"/>
                <a:ea typeface="超研澤粗隸"/>
              </a:rPr>
              <a:t>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653760" y="1009800"/>
            <a:ext cx="16426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imes New Roman"/>
                <a:ea typeface="超研澤粗隸"/>
              </a:rPr>
              <a:t>    </a:t>
            </a:r>
            <a:r>
              <a:rPr b="0" lang="zh-TW" sz="4800" spc="-1" strike="noStrike">
                <a:solidFill>
                  <a:srgbClr val="ff0066"/>
                </a:solidFill>
                <a:latin typeface="Times New Roman"/>
                <a:ea typeface="超研澤粗隸"/>
              </a:rPr>
              <a:t>文               學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44800" y="861840"/>
            <a:ext cx="54612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超研澤粗隸"/>
              </a:rPr>
              <a:t> </a:t>
            </a: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超研澤粗隸"/>
              </a:rPr>
              <a:t>廣  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9040" y="3200400"/>
            <a:ext cx="9118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imes New Roman"/>
                <a:ea typeface="超研澤粗隸"/>
              </a:rPr>
              <a:t>    </a:t>
            </a: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超研澤粗隸"/>
              </a:rPr>
              <a:t>狹 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861840"/>
            <a:ext cx="5334120" cy="129564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40800" y="379440"/>
            <a:ext cx="9118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1c0468"/>
                </a:solidFill>
                <a:latin typeface="Times New Roman"/>
                <a:ea typeface="超研澤粗隸"/>
              </a:rPr>
              <a:t>形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2720" y="1309680"/>
            <a:ext cx="91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1c0468"/>
                </a:solidFill>
                <a:latin typeface="Times New Roman"/>
                <a:ea typeface="超研澤粗隸"/>
              </a:rPr>
              <a:t>  </a:t>
            </a:r>
            <a:r>
              <a:rPr b="0" lang="zh-TW" sz="2400" spc="-1" strike="noStrike">
                <a:solidFill>
                  <a:srgbClr val="1c0468"/>
                </a:solidFill>
                <a:latin typeface="Times New Roman"/>
                <a:ea typeface="超研澤粗隸"/>
              </a:rPr>
              <a:t>性質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04920"/>
            <a:ext cx="4648320" cy="8380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304920"/>
            <a:ext cx="464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imes New Roman"/>
                <a:ea typeface="超研澤粗隸"/>
              </a:rPr>
              <a:t>  </a:t>
            </a:r>
            <a:r>
              <a:rPr b="0" lang="zh-TW" sz="2400" spc="-1" strike="noStrike">
                <a:solidFill>
                  <a:srgbClr val="ff0066"/>
                </a:solidFill>
                <a:latin typeface="Times New Roman"/>
                <a:ea typeface="超研澤粗隸"/>
              </a:rPr>
              <a:t>會集眾字，以成辭義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imes New Roman"/>
                <a:ea typeface="超研澤粗隸"/>
              </a:rPr>
              <a:t>  </a:t>
            </a:r>
            <a:r>
              <a:rPr b="0" lang="zh-TW" sz="2400" spc="-1" strike="noStrike">
                <a:solidFill>
                  <a:srgbClr val="ff0066"/>
                </a:solidFill>
                <a:latin typeface="Times New Roman"/>
                <a:ea typeface="超研澤粗隸"/>
              </a:rPr>
              <a:t>言以足志，文以足言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1233360"/>
            <a:ext cx="4648320" cy="14335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1509840"/>
            <a:ext cx="464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imes New Roman"/>
                <a:ea typeface="超研澤粗隸"/>
              </a:rPr>
              <a:t>   </a:t>
            </a:r>
            <a:r>
              <a:rPr b="0" lang="zh-TW" sz="2400" spc="-1" strike="noStrike">
                <a:solidFill>
                  <a:srgbClr val="ff0066"/>
                </a:solidFill>
                <a:latin typeface="Times New Roman"/>
                <a:ea typeface="超研澤粗隸"/>
              </a:rPr>
              <a:t>彌淪宇宙   統括古今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imes New Roman"/>
                <a:ea typeface="超研澤粗隸"/>
              </a:rPr>
              <a:t>   </a:t>
            </a:r>
            <a:r>
              <a:rPr b="0" lang="zh-TW" sz="2400" spc="-1" strike="noStrike">
                <a:solidFill>
                  <a:srgbClr val="ff0066"/>
                </a:solidFill>
                <a:latin typeface="Times New Roman"/>
                <a:ea typeface="超研澤粗隸"/>
              </a:rPr>
              <a:t>乾包坤絡   聖作賢述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4191120"/>
            <a:ext cx="1143000" cy="1371600"/>
          </a:xfrm>
          <a:prstGeom prst="bracePair">
            <a:avLst>
              <a:gd name="adj" fmla="val 8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3200400"/>
            <a:ext cx="3353040" cy="21178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28040" y="2916360"/>
            <a:ext cx="91188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1c0468"/>
                </a:solidFill>
                <a:latin typeface="Times New Roman"/>
                <a:ea typeface="超研澤粗隸"/>
              </a:rPr>
              <a:t>外形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3800" y="4307040"/>
            <a:ext cx="546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1c0468"/>
                </a:solidFill>
                <a:latin typeface="Times New Roman"/>
                <a:ea typeface="超研澤粗隸"/>
              </a:rPr>
              <a:t>內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39920" y="2819520"/>
            <a:ext cx="1203480" cy="9144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11640" y="2819520"/>
            <a:ext cx="900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imes New Roman"/>
                <a:ea typeface="超研澤粗隸"/>
              </a:rPr>
              <a:t>美質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imes New Roman"/>
                <a:ea typeface="超研澤粗隸"/>
              </a:rPr>
              <a:t>體裁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6120" y="287820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6c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粗隸"/>
              </a:rPr>
              <a:t>藝術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39920" y="3870360"/>
            <a:ext cx="1203480" cy="1771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3870360"/>
            <a:ext cx="900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imes New Roman"/>
                <a:ea typeface="超研澤粗隸"/>
              </a:rPr>
              <a:t>情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imes New Roman"/>
                <a:ea typeface="超研澤粗隸"/>
              </a:rPr>
              <a:t>藝術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imes New Roman"/>
                <a:ea typeface="超研澤粗隸"/>
              </a:rPr>
              <a:t>想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imes New Roman"/>
                <a:ea typeface="超研澤粗隸"/>
              </a:rPr>
              <a:t>風格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90640" y="431964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6c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粗隸"/>
              </a:rPr>
              <a:t>思想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28440" y="2878200"/>
            <a:ext cx="91188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1c0468"/>
                </a:solidFill>
                <a:latin typeface="Times New Roman"/>
                <a:ea typeface="超研澤粗隸"/>
              </a:rPr>
              <a:t>  </a:t>
            </a:r>
            <a:r>
              <a:rPr b="0" lang="zh-TW" sz="2400" spc="-1" strike="noStrike">
                <a:solidFill>
                  <a:srgbClr val="1c0468"/>
                </a:solidFill>
                <a:latin typeface="Times New Roman"/>
                <a:ea typeface="超研澤粗隸"/>
              </a:rPr>
              <a:t>作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  <a:ea typeface="超研澤粗隸"/>
              </a:rPr>
              <a:t>                  </a:t>
            </a:r>
            <a:r>
              <a:rPr b="0" lang="zh-TW" sz="2400" spc="-1" strike="noStrike">
                <a:solidFill>
                  <a:srgbClr val="1c0468"/>
                </a:solidFill>
                <a:latin typeface="Times New Roman"/>
                <a:ea typeface="超研澤粗隸"/>
              </a:rPr>
              <a:t>用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2703600"/>
            <a:ext cx="2666880" cy="297504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40320" y="2819520"/>
            <a:ext cx="23464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imes New Roman"/>
                <a:ea typeface="超研澤粗隸"/>
              </a:rPr>
              <a:t>引起讀者同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imes New Roman"/>
                <a:ea typeface="超研澤粗隸"/>
              </a:rPr>
              <a:t>批評人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imes New Roman"/>
                <a:ea typeface="超研澤粗隸"/>
              </a:rPr>
              <a:t>表現人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imes New Roman"/>
                <a:ea typeface="超研澤粗隸"/>
              </a:rPr>
              <a:t>指導人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imes New Roman"/>
                <a:ea typeface="超研澤粗隸"/>
              </a:rPr>
              <a:t>豐富生活情趣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224080"/>
            <a:ext cx="68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c3e"/>
                </a:solidFill>
                <a:latin typeface="Times New Roman"/>
                <a:ea typeface="超研澤粗隸"/>
              </a:rPr>
              <a:t>人性最高部分的要求形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009800"/>
            <a:ext cx="1355760" cy="3927240"/>
          </a:xfrm>
          <a:custGeom>
            <a:avLst/>
            <a:gdLst>
              <a:gd name="textAreaLeft" fmla="*/ 866160 w 1355760"/>
              <a:gd name="textAreaRight" fmla="*/ 1355760 w 1355760"/>
              <a:gd name="textAreaTop" fmla="*/ 102240 h 3927240"/>
              <a:gd name="textAreaBottom" fmla="*/ 3825000 h 39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兒童文學的形式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散文形式：童話、故事、預言、少年小說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    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神話、傳記、遊記、日記、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    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話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韻文形式：韻語、童謠、兒歌、童詩、謎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    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語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戲劇形式：話劇、音樂劇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圖畫形式：圖畫書（包括故事書和連環圖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    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畫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兒童文學的內容：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一、能使兒童獲得安全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二、指示兒童使知為團體中的一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三、啟發兒童愛人和被愛的需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四、指示兒童去做值的尊敬的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五、啟發兒童適應環境的能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六、滿足兒童美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兒童文學的特質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一、天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二、自然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三、想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四、純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五、神奇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六、真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七、崇善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八、尚美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壹、何謂兒童文學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廣義：適合兒童閱讀的文學作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狹義：特別為兒童而寫作的文學創作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特別注意：適合兒童閱讀的作品，不只                   文學作品，還有其他各類知識，包括啟蒙教材，通稱為兒童讀物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兒童文學的功用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一、培養兒童品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二、陶融兒童感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三、啟發兒童思想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四、增進兒童知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五、豐富兒童興趣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六、加強兒童能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八、發展兒童人格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兒童文學之創作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一、字彙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二、取材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三、技巧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1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、主旨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2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、結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3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、想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4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、表現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四、批評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關於兒童文學的表現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0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一、擬人法（將有生物或無生物賦予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格化，不違反自然界的定律，且含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豐富的教育意味。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二、自述法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三、對話法（直接對話、敘述對話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四、描繪法（描繪人、描繪物、描繪景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描繪情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五、圖示法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Q &amp; 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5476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谢                          谢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兒童文學相關表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914400"/>
            <a:ext cx="5791320" cy="4876920"/>
          </a:xfrm>
          <a:prstGeom prst="ellipse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286000"/>
            <a:ext cx="2438640" cy="2666880"/>
          </a:xfrm>
          <a:prstGeom prst="ellipse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1494000"/>
            <a:ext cx="2819160" cy="1752480"/>
          </a:xfrm>
          <a:prstGeom prst="ellipse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2332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cc"/>
                </a:solidFill>
                <a:latin typeface="Times New Roman"/>
                <a:ea typeface="超研澤新藝體"/>
              </a:rPr>
              <a:t>啟蒙教材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3246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imes New Roman"/>
                <a:ea typeface="超研澤新藝體"/>
              </a:rPr>
              <a:t>兒童文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49528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cc"/>
                </a:solidFill>
                <a:latin typeface="Times New Roman"/>
                <a:ea typeface="超研澤新藝體"/>
              </a:rPr>
              <a:t>兒童讀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貳、兒童文學意義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一、兒童文學起源於教育兒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二、兒童文學的目的為教育兒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三、最早兒童文學的源頭有三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口傳文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古代典籍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歷代啟蒙教材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參、兒童文學的歷史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68200" indent="-18396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一、兒童文學是發展而來的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68200" indent="-18396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二、兒童文學的發展史是人類對生命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68200" indent="-18396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待的發展史，愈尊重生命的國家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68200" indent="-18396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兒童文學愈發達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68200" indent="-18396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三、十八世紀以後，才有以兒童興趣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68200" indent="-18396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重和教育為主的兒童文學創作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68200" indent="-18396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四、二十世紀以後，兒童文學才不是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68200" indent="-18396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等文學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肆、兒童文學的四個特別屬性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一、兒童性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二、教育性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三、遊戲性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四、文學性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生物學和生理學的生命分期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一、兒童期：身心兩方面發育最快的時期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二、成年期：身心都完全成熟的時期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三、衰老期：身心兩方面都逐漸衰退的時期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兒童期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一、出生到四歲，稱為嬰兒期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二、四歲到六歲，幼兒期，幼稚園教育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三、六歲到十二歲，兒童期，小學教育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四、十二歲到十五歲，少年期，初中教育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五、十五歲到十八歲，前青年期，高中教育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六、十八歲到二十五歲，後青年期，大學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兒童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生理學上童年期：二十五歲以前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兒童文學上的兒童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    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泛指幼稚園和小學而言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    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向下延伸到二、三歲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                    </a:t>
            </a:r>
            <a:r>
              <a:rPr b="0" lang="zh-TW" sz="3200" spc="-1" strike="noStrike">
                <a:solidFill>
                  <a:srgbClr val="006c3e"/>
                </a:solidFill>
                <a:latin typeface="Times New Roman"/>
                <a:ea typeface="超研澤特圓"/>
              </a:rPr>
              <a:t>向上延伸到十四、五歲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兒童 文學 基本 理論</cp:keywords>
  <dc:language>en-US</dc:language>
  <cp:lastModifiedBy/>
  <cp:revision>0</cp:revision>
  <dc:subject/>
  <dc:title/>
</cp:coreProperties>
</file>