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355-9903-4BB8-8014-5E393A7D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40F-0C54-4577-8ED3-B9BD64D9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CE3-6E60-4A72-B27F-0F47CD71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BEF-AB37-4E5A-AB4B-DA91FDD3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220-F168-495B-8EC9-01E43015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62C-C0B3-413D-A2C4-C53E2512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153-37BB-4453-ABCD-6F65498C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DD6-7FCF-4064-8299-1485033B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6D0-C58E-4AE3-BBDC-59C2C991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740-6826-40C0-949F-8F12A36D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C358-E75B-4236-94BE-377DB868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367-82CE-405F-A125-4B1CFC7A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C1F9-8B79-465B-8BD0-3B3F5E14C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hl.net/gb/2000/freshman/philosophy.htm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1" descr="pic_957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600360" y="4292640"/>
            <a:ext cx="19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隶书"/>
              </a:rPr>
              <a:t>莫泊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4960" y="836640"/>
            <a:ext cx="39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福楼拜家的星期天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philosoph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95280" y="1052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位大作家正在谈论着文学方面的事情，这时莫泊桑来了，请你首先对莫泊桑进行外貌、语言、动作的描写，然后想像一下此时这四位作家会用什么样的表情、语言和动作来迎接莫泊桑的到来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39640" y="3716280"/>
            <a:ext cx="784872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．莫泊桑年龄最小，要在描述中注意他这一身份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．由于其他四人的性格各异，所以他们针对莫泊桑的语言与动作也应符合他们各自的性格特点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8" descr="1"/>
          <p:cNvPicPr/>
          <p:nvPr/>
        </p:nvPicPr>
        <p:blipFill>
          <a:blip r:embed="rId3"/>
          <a:stretch/>
        </p:blipFill>
        <p:spPr>
          <a:xfrm>
            <a:off x="260280" y="4537080"/>
            <a:ext cx="972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900000" y="907920"/>
            <a:ext cx="741708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读准红字的音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简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力　   荒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谬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   戏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发　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捋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辨析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┍鉴　　　┍魅　　　┍庞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┕签　　　┕魁　　　┕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9"/>
          <p:cNvSpPr/>
          <p:nvPr/>
        </p:nvSpPr>
        <p:spPr>
          <a:xfrm>
            <a:off x="1692360" y="541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npo000458"/>
          <p:cNvPicPr/>
          <p:nvPr/>
        </p:nvPicPr>
        <p:blipFill>
          <a:blip r:embed="rId1"/>
          <a:srcRect l="0" t="0" r="0" b="8878"/>
          <a:stretch/>
        </p:blipFill>
        <p:spPr>
          <a:xfrm>
            <a:off x="5435640" y="18900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200410384615883"/>
          <p:cNvPicPr/>
          <p:nvPr/>
        </p:nvPicPr>
        <p:blipFill>
          <a:blip r:embed="rId2"/>
          <a:srcRect l="0" t="0" r="0" b="10340"/>
          <a:stretch/>
        </p:blipFill>
        <p:spPr>
          <a:xfrm>
            <a:off x="826920" y="189000"/>
            <a:ext cx="2232360" cy="324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npo000460"/>
          <p:cNvPicPr/>
          <p:nvPr/>
        </p:nvPicPr>
        <p:blipFill>
          <a:blip r:embed="rId3"/>
          <a:srcRect l="19434" t="17478" r="33064" b="44304"/>
          <a:stretch/>
        </p:blipFill>
        <p:spPr>
          <a:xfrm>
            <a:off x="684360" y="3860640"/>
            <a:ext cx="2585880" cy="266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npo00045e"/>
          <p:cNvPicPr/>
          <p:nvPr/>
        </p:nvPicPr>
        <p:blipFill>
          <a:blip r:embed="rId4"/>
          <a:stretch/>
        </p:blipFill>
        <p:spPr>
          <a:xfrm>
            <a:off x="5292720" y="3357720"/>
            <a:ext cx="2739960" cy="3243240"/>
          </a:xfrm>
          <a:prstGeom prst="rect">
            <a:avLst/>
          </a:prstGeom>
          <a:ln w="0">
            <a:noFill/>
          </a:ln>
        </p:spPr>
      </p:pic>
      <p:pic>
        <p:nvPicPr>
          <p:cNvPr id="52" name="WordArt 9" descr=""/>
          <p:cNvPicPr/>
          <p:nvPr/>
        </p:nvPicPr>
        <p:blipFill>
          <a:blip r:embed="rId5"/>
          <a:stretch/>
        </p:blipFill>
        <p:spPr>
          <a:xfrm>
            <a:off x="2840040" y="2041560"/>
            <a:ext cx="30304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676-ED77-4089-990F-464E7E0D60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npo000458"/>
          <p:cNvPicPr/>
          <p:nvPr/>
        </p:nvPicPr>
        <p:blipFill>
          <a:blip r:embed="rId1">
            <a:lum contrast="-6000"/>
          </a:blip>
          <a:srcRect l="0" t="0" r="0" b="8287"/>
          <a:stretch/>
        </p:blipFill>
        <p:spPr>
          <a:xfrm>
            <a:off x="6084720" y="1341360"/>
            <a:ext cx="2482920" cy="3284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336680" y="9079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作者简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68360" y="1916280"/>
            <a:ext cx="526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法国批判现实主义小说家。出身于没落贵族家庭。童年在农村度过。普法战争时曾入伍作战。战后长期在政府部门任职员。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8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起，短短十年间，除一部处女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诗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外，共著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羊脂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等三百多篇短篇小说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漂亮的朋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温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等六部长篇小说。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732720" y="49417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莫泊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npo00045a"/>
          <p:cNvPicPr/>
          <p:nvPr/>
        </p:nvPicPr>
        <p:blipFill>
          <a:blip r:embed="rId1"/>
          <a:srcRect l="0" t="0" r="0" b="8509"/>
          <a:stretch/>
        </p:blipFill>
        <p:spPr>
          <a:xfrm>
            <a:off x="5867280" y="765000"/>
            <a:ext cx="2813040" cy="4392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468360" y="836640"/>
            <a:ext cx="49672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ff9900"/>
                </a:solidFill>
                <a:latin typeface="隶书"/>
                <a:ea typeface="隶书"/>
              </a:rPr>
              <a:t>福楼拜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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821-1880)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世纪中叶法国重要的批判现实主义作家。出生于卢昂著名外科医生家庭。 他在中学时就热心阅读浪漫主义作品，并从事文学习作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4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福楼拜赴巴黎攻读法律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 4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后，埋头于写作，独身终其一生。重要著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包法利夫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描述了爱玛从一个单纯少女 变成放荡女性的堕落过程，反映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48-187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间法国的时代风貌。揭露了丑恶鄙俗的资产 阶级社会。本书因描写性而涉嫌风化遭查禁。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npo00045c"/>
          <p:cNvPicPr/>
          <p:nvPr/>
        </p:nvPicPr>
        <p:blipFill>
          <a:blip r:embed="rId1"/>
          <a:stretch/>
        </p:blipFill>
        <p:spPr>
          <a:xfrm>
            <a:off x="5076720" y="1125360"/>
            <a:ext cx="3780000" cy="4537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468360" y="549360"/>
            <a:ext cx="43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8000"/>
                </a:solidFill>
                <a:latin typeface="Times New Roman"/>
                <a:ea typeface="楷体_GB2312"/>
              </a:rPr>
              <a:t>屠格涅夫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81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～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88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俄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世纪批判现实主义作家，出生于世袭贵族之家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3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进莫斯科大学文学系，一年后转入彼得堡大学哲学系语文专业，毕业后到德国柏林大学攻读哲学、历史和希腊与拉丁文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屠格涅夫是一位有独特艺术风格的作家，他既擅长细腻的心理描写，又长于抒情。小说结构严整，情节紧凑，人物形象生动，尤其善于细致雕琢女性艺术形象，而他对旖旎的大自然的描写也充满诗情画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89080" y="44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npo00045e"/>
          <p:cNvPicPr/>
          <p:nvPr/>
        </p:nvPicPr>
        <p:blipFill>
          <a:blip r:embed="rId1"/>
          <a:stretch/>
        </p:blipFill>
        <p:spPr>
          <a:xfrm>
            <a:off x="5724360" y="1052640"/>
            <a:ext cx="3162600" cy="3743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50920" y="476280"/>
            <a:ext cx="5273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隶书"/>
              </a:rPr>
              <a:t>都 德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(1840─1897) 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十九世纪下半叶法国现实主义作家。出身法国南方一个破落的丝绸商人家庭，迫于穷困，十五岁起就独自谋生。先在一所小学校里担任学生自修辅导员。后来到巴黎，从事文艺创作，过着清苦的青年文人生活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866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年，发表了短篇小说集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磨坊文札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，才引起人们注意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868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年，长篇小说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小东西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出版，获得巨大成功，都德因此赢得了著名小说家的声誉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磨坊文札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以都德故乡普罗旺斯的日常生活为题材，描写资本主义社会里小人物的苦恼和不幸，抒发作者对家乡自然景色和风土人情的怀恋之情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小东西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半自传式地记叙了作者青少年时期因家道中落，不得不为生计而奔波的经历，以俏皮和幽默的笔调描绘资本主义社会人与人之间的冷酷关系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6381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npo000460"/>
          <p:cNvPicPr/>
          <p:nvPr/>
        </p:nvPicPr>
        <p:blipFill>
          <a:blip r:embed="rId1"/>
          <a:stretch/>
        </p:blipFill>
        <p:spPr>
          <a:xfrm>
            <a:off x="5580000" y="836640"/>
            <a:ext cx="3335400" cy="4267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95280" y="981000"/>
            <a:ext cx="4816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8000"/>
                </a:solidFill>
                <a:latin typeface="Times New Roman"/>
                <a:ea typeface="楷体_GB2312"/>
              </a:rPr>
              <a:t>左 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l84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90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世纪后半期法国重要的批判现实主义作家，自然主义文学理论的主要倡导者，一生写成数十部长篇小说，代表作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萌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左拉的创作和世界观充满矛盾：一方面对现存的制度进行毁灭性的批判，一方面又对资本主义社会抱有不切实际的幻想。他的创作从理论到实践都有其特色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，法兰西共和国政府以左拉生前对法国文学的卓越贡献，为他补行国葬，并使之进入伟人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1054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771640" y="1125360"/>
            <a:ext cx="3745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写作秘笈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042920" y="2349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抓住特点，对人物进行各有侧重的描写是本文第一个写作的特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116000" y="4149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与议论、抒情的结合来抓住人物的性格特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6T06:58:01Z</dcterms:created>
  <dc:creator/>
  <dc:description/>
  <cp:keywords>幻灯片之家 http:/www.eeppt.com</cp:keywords>
  <dc:language>en-US</dc:language>
  <cp:lastModifiedBy/>
  <dcterms:modified xsi:type="dcterms:W3CDTF">2015-07-03T13:31:25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