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C71-3A85-4A50-A4B2-D16347B9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012-684B-462E-B99F-94902A1D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E829-CF65-416F-AC84-A04232A7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706-302C-46F2-98AB-2B905650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7912E-EB72-4723-930A-30C2422A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461E3-43B9-4E64-9278-40F2ED96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F4F55-CEA7-4D51-AFB0-A099D395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089F2-17E4-421E-9A52-68029720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DEA22-2EF5-4CC5-8D71-737FC227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E34E6-BFA1-4B95-8E4E-75721884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659CA-E6B1-4B42-9742-E6096E96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D829-CAF9-462A-BD9B-909CBF65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F74BF-0265-42B8-B38C-6F09C72F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ABC2F-00CA-4D3B-ABFA-7D91D8D5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848EC-29BB-405F-A40F-93069DB1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B1B89-7BE7-4F5A-A1F4-9A09598D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304D4-E0A6-41E3-94C4-22247E4C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FC5-7823-4CC4-BB67-8D0EF884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D8A-65A7-4246-AB6D-0A0CEB06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AD3-C99F-4F85-811C-F526966B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664-6CF1-4C12-BD9A-124C68AB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FC3-E3FD-47A4-8643-258272B6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080-E304-4A84-A744-4E8620C5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75D-2E0A-4299-A231-F816C112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74DA-5C75-476D-998D-0A0974EA0E3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9DEE-B3CB-4A30-AC2B-D881E7544D1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ahoma"/>
              </a:rPr>
              <a:t>服务器选择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---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介绍服务器选择的几种架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DNS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选择的优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速度快，代价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方便统一的管理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N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和服务器选择模块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有效的利用资源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N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服务器负载小，性能要求不高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可靠性高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实现简单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DNS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选择的缺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N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缓存可能会影响解析结果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解决方案：动态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TT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N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服务器可能成为分布式系统的单一集中点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基于客户端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特点：客户端需要维护一张服务器列表以及软件上的支持（浏览器插件，代理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实例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燕捷系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105520" y="2819520"/>
            <a:ext cx="45720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客户端选择流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99072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971800"/>
            <a:ext cx="1371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3886200"/>
            <a:ext cx="1828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er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2286000"/>
            <a:ext cx="1828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Serve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34290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24280" y="2743200"/>
            <a:ext cx="12956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723920" y="2895480"/>
            <a:ext cx="12956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3429000"/>
            <a:ext cx="13716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724280" y="3580920"/>
            <a:ext cx="1371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320040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4191120"/>
            <a:ext cx="3200400" cy="1523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ep 1:Address Request( UR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ep 2:Get Current Load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ep 3:Return Current Load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ep 4:Sleep some tim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ep 5:Wake up First is  Be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我们采用的算法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服务器负载（设置各个级别的阈值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内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硬盘空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等待队列的任务个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服务进程运行情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是否开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在线人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网络距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客户端选择的优缺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优点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完全消除了分布式系统中的集中成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实现针对服务类型选择服务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速度较快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缺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给系统带来了额外的网络开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需要用户安装客户端（比如燕捷系统里的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BHO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插件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在我们的实现方案中还没完全实现透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多服务器并发上载（续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实现方案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客户端探测，选择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1-3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台最优的服务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把用户要上载的文件放进任务队列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调度器把任务分发给空闲的服务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上载操作如果被中断，把任务交还任务队列，重新调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可以研究的问题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算法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随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轮询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网络距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负载情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架构（√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基于客户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基于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基于分配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基于服务器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各种架构的衡量标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结果的正确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开销大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是否透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基于分配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特点：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URL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层次上处理，分配器有一个虚拟地址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P_SV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各种路由算法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cc00"/>
                </a:solidFill>
                <a:uFillTx/>
                <a:latin typeface="Tahoma"/>
              </a:rPr>
              <a:t>包地址重写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Tahoma"/>
              </a:rPr>
              <a:t>(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Tahoma"/>
              </a:rPr>
              <a:t>Magicrouter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Tahoma"/>
              </a:rPr>
              <a:t>, Local Direct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cc00"/>
                </a:solidFill>
                <a:uFillTx/>
                <a:latin typeface="Tahoma"/>
              </a:rPr>
              <a:t>包转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cc00"/>
                </a:solidFill>
                <a:uFillTx/>
                <a:latin typeface="Tahoma"/>
              </a:rPr>
              <a:t>http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Tahoma"/>
              </a:rPr>
              <a:t>重定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包地址重写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包转发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http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重定向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基于服务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特点：两层选择机制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N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选择和重定向的组合；服务器间自动调整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两种重定向方法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http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the scalable server World Wide We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Packet (Distributed Packet Rewrit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基于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D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特点：由权威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N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服务器选择当前较好的服务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实例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系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服务器 选择</cp:keywords>
  <dc:language>en-US</dc:language>
  <cp:lastModifiedBy/>
  <cp:revision>0</cp:revision>
  <dc:subject/>
  <dc:title/>
</cp:coreProperties>
</file>