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B78-E718-43FB-9605-E15DA3E2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B67-4178-4B93-9AB5-69B65A91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D3B-C950-48AD-96A2-D71B0684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E6C-9F30-44CD-84ED-4685B567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9F8D-36A9-480F-B44D-D186CEDE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3655-89F9-452F-9BFA-023450E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4B80-74CD-49D8-8117-2C608472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F2C4-81C1-4B51-8E46-767BD2FE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AC74-2989-45AC-9AD0-D8379462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7ADD-2FF6-4EE7-AB57-6BA248C8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CF0F-89B6-4694-ACD0-24EEB5C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696-0178-4945-9BBB-DA90F501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6E05-84CC-497B-B2E0-EF43968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AFFB-219B-4B01-B37F-6324A333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543A-826B-48C2-BDE7-AA3719FE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0C6E-9E43-414E-A09F-A6BA75C4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8377-59C9-4211-8831-B1285A16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F9B-C2E1-4CFE-9DAA-42267F14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5A0-7AC4-4AC2-B32D-7DFAC781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DD0-1C89-4108-BDEF-8455461F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FFE-9FEF-495D-99D5-B319F9B6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ADE-72CF-450F-8258-09346AD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83C-BE66-4409-84CD-7D08DD8B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C9B-ACAC-4A65-B6DF-7D58805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54BB-A493-41CB-9185-193D4E3DDD1D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FA6D-4653-4DB7-B530-A0D3B7AC2A46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第一章  管理导论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XXXX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大学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XX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学院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目的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任何没有目的的行为不能被称为管理行为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没有目的就没有组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没有目的就没有方向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没有方向就不可能有效率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推论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一个没有明确目标的企业不可能成为一个好企业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一个没有人生目标的人会浪费自己的生命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有效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资源是有限的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若资源无限则不需要管理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没有效率压力就不需要管理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可以提高效率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他人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需要他人的努力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只会管理自己不叫管理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的原理也可以用来管理自己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指挥他人是管理的一大挑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多样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对象包括人财物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过程包括计划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组织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控制等活动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部门包括生产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财务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销售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人事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任何组织都有管理问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有界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是组织内资源的配置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对组织外的资源无调动权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是一个等级链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官职有大小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的原则有相同之处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科学性和艺术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的科学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的艺术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是科学与艺术的结合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正确认识管理科学与艺术性的重要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科学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科学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反映自然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社会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思维等客观规律的分科的知识体系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有规律吗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管理的统一指挥原则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线性规划问题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形成了一个体系吗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艺术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艺术的三个定义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用形象来反映现实但比现实有典型性的社会意识形态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指富有创造性的方式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方法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形状独特而美观的样子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是艺术是因为管理需要创造性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不能机械照搬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是科学与艺术的结合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0.9 vs 0.1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0.7 vs 0.3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0.5 vs  0.5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0.3 vs 0.7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0.1 vs 0.9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是科学与艺术的结合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层次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上级与下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工作内容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计划员与推销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工作对象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人与物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不确定因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主要内容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的定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的基本特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的科学性与艺术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学习管理的作用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正确认识管理的重要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只是一门艺术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学习管理没有用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管理在中国的命运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只用一门科学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教条主义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数学游戏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学习管理的重要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美国为什么领先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MBA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年薪比博士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破产企业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90%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是由于管理不善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国有企业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80%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是管理问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学习管理的作用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观念的转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学会思考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开阔思维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掌握一些基本方法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以后怎样学好管理的其他课程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使自己生活的更幸福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案例讨论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小兵的裤子被剪了三次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2. CZ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学院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作业及讨论题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我是怎样认识管理的定义的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结合实际谈谈自己对管理基本特性的认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我是怎样看待管理的科学性和艺术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分析一个管理不善的例子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分析一个管理成功的例子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定义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两字的由来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泰勒的定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法约尔的定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美国管理协会的定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我们的定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由来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竹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官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文官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通过文化来统治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制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理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土地之王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理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条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通过文化来达到条理化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Management: Man+age+me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有年纪的人可做官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泰勒的定义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是一门怎样建立目标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然后用最好的方法经过他人的努力来达到的艺术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 (Management is the art of knowing what you want to do and then seeing that it is done in the best and cheapest way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法约尔的定义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就是计划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组织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控制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指挥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协调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美国管理协会的定义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是通过他人的努力来达到目标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 (Management is the accomplishment of results through the efforts of other peopl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我们的定义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管理是为了达到组织目标而对组织内的各种资源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人财物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进行合理配置的综合性活动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管理的基本特性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目的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有效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他人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多样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有界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 导论</cp:keywords>
  <dc:language>en-US</dc:language>
  <cp:lastModifiedBy/>
  <cp:revision>0</cp:revision>
  <dc:subject/>
  <dc:title/>
</cp:coreProperties>
</file>