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EB38-8FFA-4CA9-ADEE-7E58CED47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7920" y="2057400"/>
            <a:ext cx="7307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447920" y="4206240"/>
            <a:ext cx="7307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9869-F2B6-4E1E-B2DA-37BF61AC2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47920" y="2057400"/>
            <a:ext cx="35658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192280" y="2057400"/>
            <a:ext cx="35658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447920" y="4206240"/>
            <a:ext cx="35658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192280" y="4206240"/>
            <a:ext cx="35658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58E9-D41B-492E-A6F6-D1A04C180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47920" y="2057400"/>
            <a:ext cx="23526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918600" y="2057400"/>
            <a:ext cx="23526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389280" y="2057400"/>
            <a:ext cx="23526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447920" y="4206240"/>
            <a:ext cx="23526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918600" y="4206240"/>
            <a:ext cx="23526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389280" y="4206240"/>
            <a:ext cx="23526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C384-642D-4D2E-9725-CE144A085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341B8-B86A-4615-B4E3-486628AFE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47920" y="2057400"/>
            <a:ext cx="73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D5BD8-69F4-4D12-8AF8-85F76E1D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7920" y="2057400"/>
            <a:ext cx="73072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37310-9CBD-4044-AC31-143E9F387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47920" y="2057400"/>
            <a:ext cx="3565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92280" y="2057400"/>
            <a:ext cx="3565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12499-FC51-49FC-83E1-B2D5436EB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80FE2-2DFB-4E6D-A578-54113CC6F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294920" y="3805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81BA7-FD4A-40BE-A22D-1385793E9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47920" y="2057400"/>
            <a:ext cx="35658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2280" y="2057400"/>
            <a:ext cx="3565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47920" y="4206240"/>
            <a:ext cx="35658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A618D-BE48-4B84-805F-8E3CC513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447920" y="2057400"/>
            <a:ext cx="73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9929-6EF1-4124-ABE2-41603686D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47920" y="2057400"/>
            <a:ext cx="3565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2280" y="2057400"/>
            <a:ext cx="35658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92280" y="4206240"/>
            <a:ext cx="35658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D676D-4161-4038-80FD-64967AFC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7920" y="2057400"/>
            <a:ext cx="35658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92280" y="2057400"/>
            <a:ext cx="35658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47920" y="4206240"/>
            <a:ext cx="7307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4FAD9-EA0A-48A8-846F-CE98E04A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7920" y="2057400"/>
            <a:ext cx="7307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47920" y="4206240"/>
            <a:ext cx="7307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3BA44-F4BC-488B-ABB8-43B8F1A59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47920" y="2057400"/>
            <a:ext cx="35658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92280" y="2057400"/>
            <a:ext cx="35658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47920" y="4206240"/>
            <a:ext cx="35658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92280" y="4206240"/>
            <a:ext cx="35658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F209D-91E7-4620-BD18-8C9D68FD4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47920" y="2057400"/>
            <a:ext cx="23526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18600" y="2057400"/>
            <a:ext cx="23526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389280" y="2057400"/>
            <a:ext cx="23526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47920" y="4206240"/>
            <a:ext cx="23526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918600" y="4206240"/>
            <a:ext cx="23526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389280" y="4206240"/>
            <a:ext cx="23526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96505-FFD5-4C3A-833D-5BA8FDFCF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920" y="2057400"/>
            <a:ext cx="73072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17F2-D0E9-4FA4-8585-65B4D2634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47920" y="2057400"/>
            <a:ext cx="3565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2280" y="2057400"/>
            <a:ext cx="3565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1D92-4978-4BF9-A808-182E70BF5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D538-41BE-4531-9C14-FA6C09D51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294920" y="3805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86C9-8F56-4BD2-93BA-6C682D157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920" y="2057400"/>
            <a:ext cx="35658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92280" y="2057400"/>
            <a:ext cx="3565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7920" y="4206240"/>
            <a:ext cx="35658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6A6E-561E-4261-A158-06DDCC0A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920" y="2057400"/>
            <a:ext cx="3565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2280" y="2057400"/>
            <a:ext cx="35658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92280" y="4206240"/>
            <a:ext cx="35658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983A-22BE-4262-9210-11F80ACD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920" y="2057400"/>
            <a:ext cx="35658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92280" y="2057400"/>
            <a:ext cx="35658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47920" y="4206240"/>
            <a:ext cx="7307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6566-04A2-419F-B0FA-31FD9BF4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952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C1D9F-3911-480B-9FDC-83985F9A8040}" type="slidenum">
              <a:rPr b="0" lang="zh-CN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990720" y="1676520"/>
            <a:ext cx="7772400" cy="12996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447920" y="2057400"/>
            <a:ext cx="73072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76320"/>
            <a:ext cx="1042920" cy="287280"/>
          </a:xfrm>
          <a:prstGeom prst="ellipse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章目录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316080" y="434160"/>
            <a:ext cx="300960" cy="1443240"/>
            <a:chOff x="316080" y="434160"/>
            <a:chExt cx="300960" cy="1443240"/>
          </a:xfrm>
        </p:grpSpPr>
        <p:sp>
          <p:nvSpPr>
            <p:cNvPr id="9" name="">
              <a:hlinkClick r:id="" action="ppaction://hlinkshowjump?jump=previousslide"/>
            </p:cNvPr>
            <p:cNvSpPr/>
            <p:nvPr/>
          </p:nvSpPr>
          <p:spPr>
            <a:xfrm flipH="1" rot="16136400">
              <a:off x="108720" y="650520"/>
              <a:ext cx="715680" cy="287640"/>
            </a:xfrm>
            <a:prstGeom prst="leftArrow">
              <a:avLst>
                <a:gd name="adj1" fmla="val 50000"/>
                <a:gd name="adj2" fmla="val 158732"/>
              </a:avLst>
            </a:prstGeom>
            <a:solidFill>
              <a:srgbClr val="ffffff"/>
            </a:solidFill>
            <a:ln cap="sq" w="12600">
              <a:solidFill>
                <a:srgbClr val="66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>
              <a:hlinkClick r:id="" action="ppaction://hlinkshowjump?jump=nextslide"/>
            </p:cNvPr>
            <p:cNvSpPr/>
            <p:nvPr/>
          </p:nvSpPr>
          <p:spPr>
            <a:xfrm flipH="1" rot="16249200">
              <a:off x="153000" y="1416960"/>
              <a:ext cx="627840" cy="289080"/>
            </a:xfrm>
            <a:prstGeom prst="rightArrow">
              <a:avLst>
                <a:gd name="adj1" fmla="val 50000"/>
                <a:gd name="adj2" fmla="val 138576"/>
              </a:avLst>
            </a:prstGeom>
            <a:solidFill>
              <a:srgbClr val="ffffff"/>
            </a:solidFill>
            <a:ln cap="sq" w="12600">
              <a:solidFill>
                <a:srgbClr val="66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561960" y="641880"/>
            <a:ext cx="42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上一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547920" y="1408680"/>
            <a:ext cx="42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deb32"/>
                </a:solidFill>
                <a:latin typeface="Times New Roman"/>
              </a:rPr>
              <a:t>下一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71280" y="1949400"/>
            <a:ext cx="900360" cy="289080"/>
          </a:xfrm>
          <a:prstGeom prst="ellipse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节目录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" name="" descr=""/>
          <p:cNvPicPr/>
          <p:nvPr/>
        </p:nvPicPr>
        <p:blipFill>
          <a:blip r:embed="rId7"/>
          <a:stretch/>
        </p:blipFill>
        <p:spPr>
          <a:xfrm>
            <a:off x="3713040" y="3078000"/>
            <a:ext cx="1710000" cy="703440"/>
          </a:xfrm>
          <a:prstGeom prst="rect">
            <a:avLst/>
          </a:prstGeom>
          <a:ln w="0">
            <a:noFill/>
          </a:ln>
        </p:spPr>
      </p:pic>
      <p:sp>
        <p:nvSpPr>
          <p:cNvPr id="15" name=""/>
          <p:cNvSpPr/>
          <p:nvPr/>
        </p:nvSpPr>
        <p:spPr>
          <a:xfrm>
            <a:off x="-238680" y="2590920"/>
            <a:ext cx="12769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fd6c3"/>
                </a:solidFill>
                <a:latin typeface="华文行楷"/>
                <a:ea typeface="华文行楷"/>
              </a:rPr>
              <a:t>管理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39EDA-C574-4E33-8D8B-C4B1EDA21345}" type="slidenum">
              <a:rPr b="0" lang="zh-CN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5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6705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第二章     管理原理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6858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第一节   管理原理概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第二节   系统管理原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第三节   人本管理原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第四节   权变管理原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第五节   创新管理原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6096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人本管理原理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三、人本管理原理的内容与方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人本管理原理主要包括人本管理的理想、人本管理的方针和人本管理的战略。具体内容和形式如下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（一）人本管理思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①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管理活动坚持以人为本，强调新生人，充分信任员工，紧紧依靠员工实现组织发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②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做好人的工作，首先要抓好人的思想，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99840" y="45720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人本管理原理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47920" y="2057400"/>
            <a:ext cx="73072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调动员工积极性的根本途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③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组织为人的需要而存在，为人的需要而产生，主张人和组织的共同发展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（二）人本管理方针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人本管理方针多体现为在管理实践中，贯彻全员参与管理、依靠全体员工推动组织发展的方针，在组织的舆导向、体制安排、政策规定和作风形成等方面，都要与此方针相一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人本管理原理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47920" y="2057400"/>
            <a:ext cx="73072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（三）人本管理战略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人本管理战略主要表现为全面开发人力资源的战备，主要任务包括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人才的吸引和补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保持组织正常运转所需人才和合格劳动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员工的培训和专门人才的储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充分发挥既有人才的作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完成以上全面开发人力资源的战略任务，应从组织的公共关系策略、组织策略、人事策略及全体策略等方面入手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第四节   权变管理原理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一、权变管理的涵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权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即权衡变化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权变管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指管理要根据组织的内、外部条件的变化情况作相应的调整，即管理无定式，应因地、因时、因人而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二、权变管理的依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一）权变管理是人类长期实践经验的总结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二）实行权变管理，是由组织系统的特点及其运行规律决定的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三）实行权变管理是大势所趋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权变管理原理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47920" y="2057400"/>
            <a:ext cx="73072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三、权变的环境因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一）技术革命、经济动荡、市场变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二）经济体制改革和制度变迁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三）跨文化管理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四）价值观的变化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权变管理原理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47920" y="2057400"/>
            <a:ext cx="73072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四、权变管理的主要内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权变管理的实践要解决两个问题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第一，环境的变化要求组织作出反应，组织能够作业哪些改变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第二，组织如何根据内外环境的变化特点选择相应的管理策略模式？有学者认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权变管理原理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23880" y="1982520"/>
            <a:ext cx="73072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应从以下四个方面制定权变策略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思想观念与技能的权变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管理体制的权变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领导方式的权变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竞争策略的权变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第五节   创新管理原理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23880" y="1766520"/>
            <a:ext cx="730728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创新管理与权变管理一脉相承，只有树立了权变的观念，才能理解创新的必要性和重要性；只有通过创新，才能使权变管理的思想变成现实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666600"/>
                </a:solidFill>
                <a:latin typeface="Times New Roman"/>
              </a:rPr>
              <a:t>一、创新的涵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666600"/>
                </a:solidFill>
                <a:latin typeface="Times New Roman"/>
              </a:rPr>
              <a:t>从哲学的范畴看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创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一种否定，是积极的、辩正的否定，是“扬弃”旧事物、生成新事物的过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666600"/>
                </a:solidFill>
                <a:latin typeface="Times New Roman"/>
              </a:rPr>
              <a:t>管理领域阶段的创新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指一种思想和原则以及在这种思想、原则指导下，组织所从事的不断适应环境变化、满足社会需求的实践活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创新管理原理</a:t>
            </a:r>
            <a:r>
              <a:rPr b="0" lang="zh-CN" sz="4400" spc="-1" strike="noStrike">
                <a:solidFill>
                  <a:srgbClr val="4824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47920" y="2057400"/>
            <a:ext cx="73072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二、创新的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一）创新是组织适应环境变化的基本途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二）创新是保持组织活动力，提高组织竞争力的保证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三）创新与维持相结合，实现组织最优化的存在状态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6858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创新管理原理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47920" y="2057400"/>
            <a:ext cx="73072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三、创新的类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按不同的依据，从不同的角度，可以将创新分为不同的类型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一）从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创新的程度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看，可分为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局部创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整体创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二）从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组织的处境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看，可分为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防御型创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积极建设型创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599840" y="1447560"/>
            <a:ext cx="716292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一、管理原理范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管理原理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是指管理活动的根本依据和准则，是管理学的基本理论，它是管理学在不同业务领域都需应用的概念、理论、准则和方法，反映了管理的基本规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00"/>
                </a:solidFill>
                <a:latin typeface="Times New Roman"/>
              </a:rPr>
              <a:t>第一节    管理原理概述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创新管理原理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47920" y="2057400"/>
            <a:ext cx="73072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三）从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创新的组织工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看，可分为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自发的创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有组织的创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四）从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创新所对应的组织寿命周期阶段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看，可分为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初创时期的创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运营时期的创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创新管理原理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73072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6600"/>
                </a:solidFill>
                <a:latin typeface="Times New Roman"/>
              </a:rPr>
              <a:t>四、创新管理的内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现代管理认为，创新的内容可以为组织外部环境的创新和组织内部条件的创新；而组织外部环境的创新相对困难，这里仅就组织内部创新的内容作一定的操作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一）组织制度创新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二）组织目标创新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三）技术创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四）观念及文化创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创新管理原理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47920" y="2057400"/>
            <a:ext cx="73072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作为重要的管理原理，创新已成为组织发展的重要保证，是组织的灵魂。在管理实践中，各种组织既要牢固树立创新的思想，又要采取切实步骤进行创新活动；既要看到创新为组织发展提供了强大的动力，又要注意分析和防范创新的风险，没有无风险的创新；另外，还要将创新纳入组织制度的体系，使其有章可循，获得保障。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600200" y="1193760"/>
            <a:ext cx="7010280" cy="32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二、管理原理的重要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一）管理原理阐明了管理的实质及基本任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二）管理原理蕴涵着管理的基本观念和基本指导思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三）管理原理突出了管理的关键和重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四）管理原理提供了管理的基本手段和途径、基本方法和技巧。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00"/>
                </a:solidFill>
                <a:latin typeface="Times New Roman"/>
              </a:rPr>
              <a:t>管理原理概述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523880" y="1447560"/>
            <a:ext cx="7391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6600"/>
                </a:solidFill>
                <a:latin typeface="Times New Roman"/>
              </a:rPr>
              <a:t>三、管理原理体系</a:t>
            </a:r>
            <a:r>
              <a:rPr b="0" lang="zh-CN" sz="3200" spc="-1" strike="noStrike">
                <a:solidFill>
                  <a:srgbClr val="6666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当今的社会技术经济环境下，管理原理体系应包括以下四个基本组成部分，即：系统管理原理、人本管理原理、权变管理原理及创新管理原理。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zh-CN" sz="2400" spc="-1" strike="noStrike">
                <a:solidFill>
                  <a:srgbClr val="482400"/>
                </a:solidFill>
                <a:latin typeface="Times New Roman"/>
              </a:rPr>
              <a:t>以上构成管理原理体系的四个基本管理原理，都是现代管理不可缺少的指导思想和管理哲学，是不可违背的管理的基本规律，它们既相互独立，又相互联系、相互渗透，从而构成一个有机的体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1600200" y="304920"/>
            <a:ext cx="6019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00"/>
                </a:solidFill>
                <a:latin typeface="Times New Roman"/>
              </a:rPr>
              <a:t>管理原理概述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447920" y="2057400"/>
            <a:ext cx="73072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</a:rPr>
              <a:t>              </a:t>
            </a:r>
            <a:r>
              <a:rPr b="1" lang="zh-CN" sz="2000" spc="-1" strike="noStrike">
                <a:solidFill>
                  <a:srgbClr val="993300"/>
                </a:solidFill>
                <a:latin typeface="Times New Roman"/>
              </a:rPr>
              <a:t>系统管理原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可以表述为：组织是一个复杂的、动态的社会经济技术学说，管理就是为了达到一定的目的、实现组织目标而设计并运作好这个系统的活动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一、系统及其特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</a:rPr>
              <a:t>（一） 系统的含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系统是指由若干相互联系、相互作用的部分组成，在一定的环境中具有特定功能的有机整体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</a:rPr>
              <a:t>（二） 系统的特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系统的一般特征包括整体性、层次性、相关性、具有特定的功能、环境适应性和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523520" y="151920"/>
            <a:ext cx="6324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第二节  系统管理原理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系统管理原理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73072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二、系统分析方法的内在要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注意事物的整体性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研究事物的内部结构及联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强调系统的开放性和动态性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系统管理原理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3880" y="1523880"/>
            <a:ext cx="7307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6600"/>
                </a:solidFill>
                <a:latin typeface="Times New Roman"/>
              </a:rPr>
              <a:t>三、系统管理模式的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一）管理优化的整体性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二）管理目标的系统性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三）管理过程的完整性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四）管理主体的全员性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五）管理职能的综合性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六）管理方法的先进性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七）管理程序的循环性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6600"/>
                </a:solidFill>
                <a:latin typeface="Times New Roman"/>
              </a:rPr>
              <a:t>四、系统原理对管理工作的指导意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00"/>
                </a:solidFill>
                <a:latin typeface="Times New Roman"/>
              </a:rPr>
              <a:t>第三节   人本管理原理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4756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6600"/>
                </a:solidFill>
                <a:latin typeface="Times New Roman"/>
              </a:rPr>
              <a:t>一、人本管理原理的实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2400" spc="-1" strike="noStrike">
                <a:solidFill>
                  <a:srgbClr val="666600"/>
                </a:solidFill>
                <a:latin typeface="Times New Roman"/>
              </a:rPr>
              <a:t>人本管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就是以人为本的管理。人本管理原理可以表述为：管理的本质是激励、引导人们去实现预定的目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人本管理原理的</a:t>
            </a:r>
            <a:r>
              <a:rPr b="1" lang="zh-CN" sz="2400" spc="-1" strike="noStrike">
                <a:solidFill>
                  <a:srgbClr val="666600"/>
                </a:solidFill>
                <a:latin typeface="Times New Roman"/>
              </a:rPr>
              <a:t>实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于：在管理中，应当把人看作最主要的管理对象和发重要的资源，确立以人为本的指导思想及依靠广大员工实现组织发展，运用各种激励手段，调动和充分发挥人的积极性和创造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523880" y="304920"/>
            <a:ext cx="723924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人本管理原理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47920" y="2057400"/>
            <a:ext cx="73072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二、坚持人本原理的必然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一）人的主观能动性以及其具有的决定性作用，要求在管理中必须坚持人本管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二）管理的科学性和艺术性的统一，要求必须做好人的工作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三）心理科学和行为科学理论的发展，为实施人本提供了理解支持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管理 原理</cp:keywords>
  <dc:language>en-US</dc:language>
  <cp:lastModifiedBy/>
  <cp:revision>0</cp:revision>
  <dc:subject/>
  <dc:title/>
</cp:coreProperties>
</file>