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150ED-BC97-4D05-A1A5-3FBD4D3F5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E3214-F823-438E-8E14-33A43D863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B3F79-AD7B-4921-BC2E-41E3A5C34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2A27E-4F1F-4842-BEF4-D209EFD8D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BBC097-99A0-4047-93D3-9DFAE3308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769548-D8F4-40D0-9488-07ABB1D5A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B1D42A-C36F-4895-9135-B0430ED84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B56AB7-CBC2-46F0-BF46-330757DDA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2FC62F-1D6B-4C8B-965E-A5BD68FFA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E19819-8958-4C24-9032-857F35B28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DD7C0D-5C03-437E-A976-766893920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112CF-012C-4628-B175-B5CEA561C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0249B7-1A60-4CC2-8615-A8890343A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2ADF7E-9225-4A0F-A361-CFE36BD5A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3895F6-2AA1-4488-9A56-1032BAD3D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A678A5-1E18-41A9-912F-8553804AF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7969D4-E254-473D-B468-838706CDC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3987C-8A42-4F92-BA42-118269C41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AF654-C8C6-46FF-899C-D81629F36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D5A41-DF02-4616-8FA0-31C0A61EE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12FF0-D034-4691-982A-06978EF82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0AE98-CEB4-44E9-9032-177C958BF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61391-2CC7-4EF2-85C1-4D3B526C8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253AE-DE70-4749-B370-AB6A4EC32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2FE56-67CF-4112-AE7D-7E260723AE83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F8E7D-D961-4B1D-91FD-9FCFCEC3BFAD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86920" y="764640"/>
            <a:ext cx="754380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00"/>
                </a:solidFill>
                <a:latin typeface="Arial"/>
                <a:ea typeface="华文行楷"/>
              </a:rPr>
              <a:t>感受高中新课程</a:t>
            </a:r>
            <a:br>
              <a:rPr sz="4000"/>
            </a:br>
            <a:br>
              <a:rPr sz="4000"/>
            </a:br>
            <a:r>
              <a:rPr b="0" lang="zh-CN" sz="4000" spc="-1" strike="noStrike">
                <a:solidFill>
                  <a:srgbClr val="e3e3ff"/>
                </a:solidFill>
                <a:latin typeface="Arial"/>
              </a:rPr>
              <a:t> </a:t>
            </a:r>
            <a:r>
              <a:rPr b="0" lang="zh-CN" sz="4400" spc="-1" strike="noStrike">
                <a:solidFill>
                  <a:srgbClr val="ffcc66"/>
                </a:solidFill>
                <a:latin typeface="黑体"/>
                <a:ea typeface="黑体"/>
              </a:rPr>
              <a:t>——关于课程方案、课程标   </a:t>
            </a:r>
            <a:br>
              <a:rPr sz="4400"/>
            </a:br>
            <a:r>
              <a:rPr b="0" lang="zh-CN" sz="4400" spc="-1" strike="noStrike">
                <a:solidFill>
                  <a:srgbClr val="ffcc66"/>
                </a:solidFill>
                <a:latin typeface="黑体"/>
                <a:ea typeface="黑体"/>
              </a:rPr>
              <a:t>    准与管理者的对话</a:t>
            </a:r>
            <a:br>
              <a:rPr sz="4400"/>
            </a:br>
            <a:r>
              <a:rPr b="0" lang="zh-CN" sz="4400" spc="-1" strike="noStrike">
                <a:solidFill>
                  <a:srgbClr val="ffcc66"/>
                </a:solidFill>
                <a:latin typeface="黑体"/>
                <a:ea typeface="黑体"/>
              </a:rPr>
              <a:t>                   </a:t>
            </a:r>
            <a:br>
              <a:rPr sz="4000"/>
            </a:br>
            <a:r>
              <a:rPr b="0" lang="zh-CN" sz="4000" spc="-1" strike="noStrike">
                <a:solidFill>
                  <a:srgbClr val="e3e3ff"/>
                </a:solidFill>
                <a:latin typeface="Arial"/>
              </a:rPr>
              <a:t>     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896472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3e3ff"/>
                </a:solidFill>
                <a:latin typeface="Arial"/>
              </a:rPr>
              <a:t>  </a:t>
            </a:r>
            <a:br>
              <a:rPr sz="4000"/>
            </a:br>
            <a:r>
              <a:rPr b="1" lang="zh-CN" sz="4000" spc="-1" strike="noStrike">
                <a:solidFill>
                  <a:srgbClr val="e3e3ff"/>
                </a:solidFill>
                <a:latin typeface="Arial"/>
              </a:rPr>
              <a:t>        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楷体_GB2312"/>
              </a:rPr>
              <a:t>新课程因其设计理念的先进性、触及问题的尖锐性、影响所及的广泛性，引起了全社会的高度重视，也不同程度的引发了学术观点的碰撞和讨论。</a:t>
            </a:r>
            <a:br>
              <a:rPr sz="4000"/>
            </a:b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楷体_GB2312"/>
              </a:rPr>
              <a:t>        新课程本身并不十全十美，尤其是在新旧课程并行交替的阶段更面临观念上和制度上的挑战。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47404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3e3ff"/>
                </a:solidFill>
                <a:latin typeface="Arial"/>
              </a:rPr>
              <a:t>1</a:t>
            </a:r>
            <a:r>
              <a:rPr b="1" lang="zh-CN" sz="4400" spc="-1" strike="noStrike">
                <a:solidFill>
                  <a:srgbClr val="e3e3ff"/>
                </a:solidFill>
                <a:latin typeface="Arial"/>
              </a:rPr>
              <a:t>．组织保障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23640" y="198108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楷体_GB2312"/>
              </a:rPr>
              <a:t>值得反思的倒挂现象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楷体_GB2312"/>
              </a:rPr>
              <a:t>教师—校长—教研员—局长—县、市长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楷体_GB2312"/>
              </a:rPr>
              <a:t>问题：如何使课程改革成为行政管理部                             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楷体_GB2312"/>
              </a:rPr>
              <a:t>               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楷体_GB2312"/>
              </a:rPr>
              <a:t>门的内在自觉需求？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3e3ff"/>
                </a:solidFill>
                <a:latin typeface="Arial"/>
              </a:rPr>
              <a:t>2</a:t>
            </a:r>
            <a:r>
              <a:rPr b="1" lang="zh-CN" sz="4400" spc="-1" strike="noStrike">
                <a:solidFill>
                  <a:srgbClr val="e3e3ff"/>
                </a:solidFill>
                <a:latin typeface="Arial"/>
              </a:rPr>
              <a:t>．制度建设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68360" y="1989000"/>
            <a:ext cx="8424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文化滋养制度，制度促进文化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楷体_GB2312"/>
              </a:rPr>
              <a:t>问题：在新旧课程交替过程中，如何通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楷体_GB2312"/>
              </a:rPr>
              <a:t>               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楷体_GB2312"/>
              </a:rPr>
              <a:t>过制度建设，促进新课程的理念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楷体_GB2312"/>
              </a:rPr>
              <a:t>               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楷体_GB2312"/>
              </a:rPr>
              <a:t>深入人心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楷体_GB2312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3e3ff"/>
                </a:solidFill>
                <a:latin typeface="Arial"/>
              </a:rPr>
              <a:t>3</a:t>
            </a:r>
            <a:r>
              <a:rPr b="1" lang="zh-CN" sz="4400" spc="-1" strike="noStrike">
                <a:solidFill>
                  <a:srgbClr val="e3e3ff"/>
                </a:solidFill>
                <a:latin typeface="Arial"/>
              </a:rPr>
              <a:t>．评价考试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424720" cy="46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楷体_GB2312"/>
              </a:rPr>
              <a:t>成长记录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楷体_GB2312"/>
              </a:rPr>
              <a:t>学业考试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楷体_GB2312"/>
              </a:rPr>
              <a:t>综合素质评定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楷体_GB2312"/>
              </a:rPr>
              <a:t>高考改革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楷体_GB2312"/>
              </a:rPr>
              <a:t>问题：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楷体_GB2312"/>
              </a:rPr>
              <a:t>是课程决定评价还是评价决定课程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楷体_GB2312"/>
              </a:rPr>
              <a:t>?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楷体_GB2312"/>
              </a:rPr>
              <a:t>如何建立与新课程相适 应的考试制度？                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3e3ff"/>
                </a:solidFill>
                <a:latin typeface="Arial"/>
              </a:rPr>
              <a:t>4</a:t>
            </a:r>
            <a:r>
              <a:rPr b="1" lang="zh-CN" sz="4400" spc="-1" strike="noStrike">
                <a:solidFill>
                  <a:srgbClr val="e3e3ff"/>
                </a:solidFill>
                <a:latin typeface="Arial"/>
              </a:rPr>
              <a:t>．师资队伍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23640" y="198108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楷体_GB2312"/>
              </a:rPr>
              <a:t>教师专业化是教师教育的核心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楷体_GB2312"/>
              </a:rPr>
              <a:t>建立以校为本的教研制度是促进教师专业发展的基本制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楷体_GB2312"/>
              </a:rPr>
              <a:t>问题：如何建立课程改革与教师成长的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楷体_GB2312"/>
              </a:rPr>
              <a:t>               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楷体_GB2312"/>
              </a:rPr>
              <a:t>相互促进机制？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3e3ff"/>
                </a:solidFill>
                <a:latin typeface="Arial"/>
              </a:rPr>
              <a:t>5</a:t>
            </a:r>
            <a:r>
              <a:rPr b="1" lang="zh-CN" sz="4400" spc="-1" strike="noStrike">
                <a:solidFill>
                  <a:srgbClr val="e3e3ff"/>
                </a:solidFill>
                <a:latin typeface="Arial"/>
              </a:rPr>
              <a:t>．专业支持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89647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课程改革实践呼唤理论研究的深入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5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——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如何把师生互动、自主探究、合作学习、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5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生动活泼与教学上的散漫、随意、肤浅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5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热闹区别开来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5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——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随着新课程的推进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新奇、兴奋感减弱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5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因挑战而生困惑、因习以为常而生厌倦，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5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教师需要持续的专业支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610920" y="1484280"/>
            <a:ext cx="784692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3e3ff"/>
                </a:solidFill>
                <a:latin typeface="Arial"/>
                <a:ea typeface="楷体_GB2312"/>
              </a:rPr>
              <a:t>课堂教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楷体_GB2312"/>
              </a:rPr>
              <a:t>            “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楷体_GB2312"/>
              </a:rPr>
              <a:t>新课程，关注教学的生成性”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楷体_GB2312"/>
              </a:rPr>
              <a:t>            “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楷体_GB2312"/>
              </a:rPr>
              <a:t>新课程，不需要预设吗”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楷体_GB2312"/>
              </a:rPr>
              <a:t>            “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楷体_GB2312"/>
              </a:rPr>
              <a:t>要处理好预设与生成的关系”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楷体_GB2312"/>
              </a:rPr>
              <a:t>            “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楷体_GB2312"/>
              </a:rPr>
              <a:t>预设，为了更好地生成”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611280" y="126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162000">
              <a:spcBef>
                <a:spcPts val="799"/>
              </a:spcBef>
              <a:buClr>
                <a:srgbClr val="e3e3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楷体_GB2312"/>
              </a:rPr>
              <a:t>问题：如何建立有效、持续的专业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楷体_GB2312"/>
              </a:rPr>
              <a:t>               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楷体_GB2312"/>
              </a:rPr>
              <a:t>支持系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162000">
              <a:spcBef>
                <a:spcPts val="799"/>
              </a:spcBef>
              <a:buClr>
                <a:srgbClr val="e3e3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国家和省两级基础教育教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指导委员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162000">
              <a:spcBef>
                <a:spcPts val="799"/>
              </a:spcBef>
              <a:buClr>
                <a:srgbClr val="e3e3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大力推进以校为本教研制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162000">
              <a:spcBef>
                <a:spcPts val="799"/>
              </a:spcBef>
              <a:buClr>
                <a:srgbClr val="e3e3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网络平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60948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901"/>
              </a:spcBef>
              <a:buClr>
                <a:srgbClr val="ff99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教师成长的关键要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901"/>
              </a:spcBef>
              <a:buClr>
                <a:srgbClr val="00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楷体_GB2312"/>
              </a:rPr>
              <a:t>学生时代的经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901"/>
              </a:spcBef>
              <a:buClr>
                <a:srgbClr val="00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楷体_GB2312"/>
              </a:rPr>
              <a:t>在职培训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901"/>
              </a:spcBef>
              <a:buClr>
                <a:srgbClr val="00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楷体_GB2312"/>
              </a:rPr>
              <a:t>自身的教学经验与反思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901"/>
              </a:spcBef>
              <a:buClr>
                <a:srgbClr val="00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楷体_GB2312"/>
              </a:rPr>
              <a:t>和同事的日常交流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901"/>
              </a:spcBef>
              <a:buClr>
                <a:srgbClr val="00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楷体_GB2312"/>
              </a:rPr>
              <a:t>参加有效的专业活动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726200" y="765000"/>
            <a:ext cx="3678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黑体"/>
                <a:ea typeface="黑体"/>
              </a:rPr>
              <a:t>关于以校为本教研制度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黑体"/>
                <a:ea typeface="黑体"/>
              </a:rPr>
              <a:t>       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539280" y="1125360"/>
            <a:ext cx="8207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3e3ff"/>
                </a:solidFill>
                <a:latin typeface="黑体"/>
                <a:ea typeface="黑体"/>
              </a:rPr>
              <a:t>1.</a:t>
            </a:r>
            <a:r>
              <a:rPr b="1" lang="zh-CN" sz="3800" spc="-1" strike="noStrike">
                <a:solidFill>
                  <a:srgbClr val="ffff00"/>
                </a:solidFill>
                <a:latin typeface="黑体"/>
                <a:ea typeface="黑体"/>
              </a:rPr>
              <a:t>目标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5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ffff"/>
                </a:solidFill>
                <a:latin typeface="Arial"/>
                <a:ea typeface="楷体_GB2312"/>
              </a:rPr>
              <a:t>使研究成为每一位教师的职业特征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e3e3ff"/>
                </a:solidFill>
                <a:latin typeface="黑体"/>
                <a:ea typeface="黑体"/>
              </a:rPr>
              <a:t>2.</a:t>
            </a:r>
            <a:r>
              <a:rPr b="1" lang="zh-CN" sz="3800" spc="-1" strike="noStrike">
                <a:solidFill>
                  <a:srgbClr val="ffff00"/>
                </a:solidFill>
                <a:latin typeface="黑体"/>
                <a:ea typeface="黑体"/>
              </a:rPr>
              <a:t>关键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5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ffff"/>
                </a:solidFill>
                <a:latin typeface="Arial"/>
                <a:ea typeface="楷体_GB2312"/>
              </a:rPr>
              <a:t>问题来源于教师的日常教学过程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5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ffff"/>
                </a:solidFill>
                <a:latin typeface="Arial"/>
                <a:ea typeface="楷体_GB2312"/>
              </a:rPr>
              <a:t>教师是教学研究的主体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5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ffff"/>
                </a:solidFill>
                <a:latin typeface="Arial"/>
                <a:ea typeface="楷体_GB2312"/>
              </a:rPr>
              <a:t>目的在于解决教学实际问题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914040" y="1125000"/>
            <a:ext cx="725796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楷体_GB2312"/>
              </a:rPr>
              <a:t>一、改革的背景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楷体_GB2312"/>
              </a:rPr>
              <a:t>二、普通高中课程方案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楷体_GB2312"/>
              </a:rPr>
              <a:t>       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楷体_GB2312"/>
              </a:rPr>
              <a:t>及课程标准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楷体_GB2312"/>
              </a:rPr>
              <a:t>三、回顾与反思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0" name=""/>
          <p:cNvGraphicFramePr/>
          <p:nvPr/>
        </p:nvGraphicFramePr>
        <p:xfrm>
          <a:off x="1219320" y="1523880"/>
          <a:ext cx="6553080" cy="4402080"/>
        </p:xfrm>
        <a:graphic>
          <a:graphicData uri="http://schemas.openxmlformats.org/drawingml/2006/table">
            <a:tbl>
              <a:tblPr/>
              <a:tblGrid>
                <a:gridCol w="3235320"/>
                <a:gridCol w="3317760"/>
              </a:tblGrid>
              <a:tr h="4592160">
                <a:tc>
                  <a:txBody>
                    <a:bodyPr lIns="92160" rIns="92160" tIns="46080" bIns="46080" anchor="t">
                      <a:noAutofit/>
                    </a:bodyPr>
                    <a:p>
                      <a:pPr marL="533520" indent="-533520">
                        <a:lnSpc>
                          <a:spcPct val="90000"/>
                        </a:lnSpc>
                        <a:spcBef>
                          <a:spcPts val="2625"/>
                        </a:spcBef>
                        <a:buClr>
                          <a:srgbClr val="e3e3ff"/>
                        </a:buClr>
                        <a:buSzPct val="80000"/>
                        <a:buFont typeface="Arial"/>
                        <a:buAutoNum type="arabicPeriod" startAt="3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核心要素</a:t>
                      </a:r>
                      <a:endParaRPr b="0" lang="en-US" sz="4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90000"/>
                        </a:lnSpc>
                        <a:spcBef>
                          <a:spcPts val="2500"/>
                        </a:spcBef>
                        <a:buClr>
                          <a:srgbClr val="e3e3ff"/>
                        </a:buClr>
                        <a:buSzPct val="8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ffffff"/>
                          </a:solidFill>
                          <a:latin typeface="Arial"/>
                          <a:ea typeface="楷体_GB2312"/>
                        </a:rPr>
                        <a:t>教师个体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90000"/>
                        </a:lnSpc>
                        <a:spcBef>
                          <a:spcPts val="2500"/>
                        </a:spcBef>
                        <a:buClr>
                          <a:srgbClr val="e3e3ff"/>
                        </a:buClr>
                        <a:buSzPct val="8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ffffff"/>
                          </a:solidFill>
                          <a:latin typeface="Arial"/>
                          <a:ea typeface="楷体_GB2312"/>
                        </a:rPr>
                        <a:t>教师同伴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90000"/>
                        </a:lnSpc>
                        <a:spcBef>
                          <a:spcPts val="2500"/>
                        </a:spcBef>
                        <a:buClr>
                          <a:srgbClr val="e3e3ff"/>
                        </a:buClr>
                        <a:buSzPct val="8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ffffff"/>
                          </a:solidFill>
                          <a:latin typeface="Arial"/>
                          <a:ea typeface="楷体_GB2312"/>
                        </a:rPr>
                        <a:t>专业人员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marL="533520" indent="-533520">
                        <a:lnSpc>
                          <a:spcPct val="90000"/>
                        </a:lnSpc>
                        <a:spcBef>
                          <a:spcPts val="2625"/>
                        </a:spcBef>
                        <a:buClr>
                          <a:srgbClr val="e3e3ff"/>
                        </a:buClr>
                        <a:buSzPct val="80000"/>
                        <a:buFont typeface="Arial"/>
                        <a:buAutoNum type="arabicPeriod" startAt="4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基本策略</a:t>
                      </a:r>
                      <a:endParaRPr b="0" lang="en-US" sz="4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90000"/>
                        </a:lnSpc>
                        <a:spcBef>
                          <a:spcPts val="2500"/>
                        </a:spcBef>
                        <a:buClr>
                          <a:srgbClr val="e3e3ff"/>
                        </a:buClr>
                        <a:buSzPct val="8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ffffff"/>
                          </a:solidFill>
                          <a:latin typeface="Arial"/>
                          <a:ea typeface="楷体_GB2312"/>
                        </a:rPr>
                        <a:t>实践与反思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90000"/>
                        </a:lnSpc>
                        <a:spcBef>
                          <a:spcPts val="2500"/>
                        </a:spcBef>
                        <a:buClr>
                          <a:srgbClr val="e3e3ff"/>
                        </a:buClr>
                        <a:buSzPct val="8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ffffff"/>
                          </a:solidFill>
                          <a:latin typeface="Arial"/>
                          <a:ea typeface="楷体_GB2312"/>
                        </a:rPr>
                        <a:t>交流与合作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90000"/>
                        </a:lnSpc>
                        <a:spcBef>
                          <a:spcPts val="2500"/>
                        </a:spcBef>
                        <a:buClr>
                          <a:srgbClr val="e3e3ff"/>
                        </a:buClr>
                        <a:buSzPct val="8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ffffff"/>
                          </a:solidFill>
                          <a:latin typeface="Arial"/>
                          <a:ea typeface="楷体_GB2312"/>
                        </a:rPr>
                        <a:t>引领与创新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87280" indent="-287280">
              <a:buClr>
                <a:srgbClr val="00ffcc"/>
              </a:buClr>
              <a:buFont typeface="Wingdings" charset="2"/>
              <a:buChar char=""/>
              <a:tabLst>
                <a:tab algn="l" pos="0"/>
                <a:tab algn="l" pos="378000"/>
                <a:tab algn="l" pos="484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楷体_GB2312"/>
              </a:rPr>
              <a:t>教师个体的实践与反思是实施以校为本教研制度的基础与前提；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33520" y="24382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楷体_GB2312"/>
              </a:rPr>
              <a:t>教师同伴的交流与合作是实施以校为本教研制度的标志与灵魂；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539280" y="4076640"/>
            <a:ext cx="75438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楷体_GB2312"/>
              </a:rPr>
              <a:t>专业人员的有效参与是以校为本教研制度可持续、向纵深发展的关键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3e3ff"/>
                </a:solidFill>
                <a:latin typeface="Arial"/>
              </a:rPr>
              <a:t>6</a:t>
            </a:r>
            <a:r>
              <a:rPr b="1" lang="zh-CN" sz="4400" spc="-1" strike="noStrike">
                <a:solidFill>
                  <a:srgbClr val="e3e3ff"/>
                </a:solidFill>
                <a:latin typeface="Arial"/>
              </a:rPr>
              <a:t>．社会环境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23640" y="198108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家长、社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学术界、企业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舆论界：报纸、杂志、电视、广播、网络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民间：学术团体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楷体_GB2312"/>
              </a:rPr>
              <a:t>问题：如何形成课程发展与社区环境的良性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楷体_GB2312"/>
              </a:rPr>
              <a:t>               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楷体_GB2312"/>
              </a:rPr>
              <a:t>互动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01520" y="1341360"/>
            <a:ext cx="886320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反思三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3e3ff"/>
                </a:solidFill>
                <a:latin typeface="楷体_GB2312"/>
                <a:ea typeface="楷体_GB2312"/>
              </a:rPr>
              <a:t>  </a:t>
            </a:r>
            <a:r>
              <a:rPr b="1" lang="zh-CN" sz="4000" spc="-1" strike="noStrike">
                <a:solidFill>
                  <a:srgbClr val="e3e3ff"/>
                </a:solidFill>
                <a:latin typeface="楷体_GB2312"/>
                <a:ea typeface="楷体_GB2312"/>
              </a:rPr>
              <a:t>挑战自我</a:t>
            </a:r>
            <a:r>
              <a:rPr b="1" lang="zh-CN" sz="4000" spc="-1" strike="noStrike">
                <a:solidFill>
                  <a:srgbClr val="e3e3ff"/>
                </a:solidFill>
                <a:latin typeface="Times New Roman"/>
                <a:ea typeface="楷体_GB2312"/>
              </a:rPr>
              <a:t>—进一步增进对课程改革的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3e3ff"/>
                </a:solidFill>
                <a:latin typeface="Times New Roman"/>
                <a:ea typeface="楷体_GB2312"/>
              </a:rPr>
              <a:t>                        </a:t>
            </a:r>
            <a:r>
              <a:rPr b="1" lang="zh-CN" sz="4000" spc="-1" strike="noStrike">
                <a:solidFill>
                  <a:srgbClr val="e3e3ff"/>
                </a:solidFill>
                <a:latin typeface="Times New Roman"/>
                <a:ea typeface="楷体_GB2312"/>
              </a:rPr>
              <a:t>责任感、紧迫感和使命感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ll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71280" y="2204640"/>
            <a:ext cx="705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3e3ff"/>
                </a:solidFill>
                <a:latin typeface="Arial"/>
              </a:rPr>
              <a:t>        </a:t>
            </a:r>
            <a:r>
              <a:rPr b="1" lang="zh-CN" sz="4000" spc="-1" strike="noStrike">
                <a:solidFill>
                  <a:srgbClr val="e3e3ff"/>
                </a:solidFill>
                <a:latin typeface="Arial"/>
              </a:rPr>
              <a:t>冷静分析国际经济和教育发展生态，进一步增强课程改革的紧迫感，坚定课程改革的信心。</a:t>
            </a:r>
            <a:br>
              <a:rPr sz="4000"/>
            </a:b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71640" y="1484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692360" y="1413000"/>
            <a:ext cx="289548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知识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技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解题能力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认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勤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刻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踏实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谨慎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……</a:t>
            </a: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	</a:t>
            </a:r>
            <a:r>
              <a:rPr b="0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765760" y="1341360"/>
            <a:ext cx="1155960" cy="539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实践能力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创造性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好奇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兴趣爱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自尊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自信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人生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价值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…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cc00"/>
                </a:solidFill>
                <a:latin typeface="Arial"/>
              </a:rPr>
              <a:t>教育发展生态图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7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2" dur="5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2" dur="5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7" dur="500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2" dur="500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7" dur="500"/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2" dur="500"/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7" dur="500"/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685800" y="762120"/>
            <a:ext cx="7772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-541440" y="692280"/>
            <a:ext cx="10009440" cy="75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801720" indent="-317520">
              <a:lnSpc>
                <a:spcPct val="90000"/>
              </a:lnSpc>
              <a:spcBef>
                <a:spcPts val="799"/>
              </a:spcBef>
              <a:buClr>
                <a:srgbClr val="33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优势与问题同样突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801720" indent="-317520">
              <a:lnSpc>
                <a:spcPct val="90000"/>
              </a:lnSpc>
              <a:spcBef>
                <a:spcPts val="799"/>
              </a:spcBef>
              <a:buClr>
                <a:srgbClr val="33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我们的优势正是西方教育所力图解决的问题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801720" indent="-317520">
              <a:lnSpc>
                <a:spcPct val="90000"/>
              </a:lnSpc>
              <a:spcBef>
                <a:spcPts val="799"/>
              </a:spcBef>
              <a:buClr>
                <a:srgbClr val="33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我们的问题也正是西方教育的优势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801720" indent="-317520">
              <a:lnSpc>
                <a:spcPct val="90000"/>
              </a:lnSpc>
              <a:spcBef>
                <a:spcPts val="799"/>
              </a:spcBef>
              <a:buClr>
                <a:srgbClr val="33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无论是优势还是问题，都与文化背景密切相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801720" indent="-317520">
              <a:lnSpc>
                <a:spcPct val="90000"/>
              </a:lnSpc>
              <a:spcBef>
                <a:spcPts val="799"/>
              </a:spcBef>
              <a:buClr>
                <a:srgbClr val="33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从发展的角度看，我们面临更严峻的挑战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801720" indent="-317520">
              <a:lnSpc>
                <a:spcPct val="100000"/>
              </a:lnSpc>
              <a:spcBef>
                <a:spcPts val="799"/>
              </a:spcBef>
              <a:buClr>
                <a:srgbClr val="33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我们的优势需要在认真分析的基础上继承与发扬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801720" indent="-317520">
              <a:lnSpc>
                <a:spcPct val="90000"/>
              </a:lnSpc>
              <a:spcBef>
                <a:spcPts val="799"/>
              </a:spcBef>
              <a:buClr>
                <a:srgbClr val="33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华文行楷"/>
                <a:ea typeface="华文行楷"/>
              </a:rPr>
              <a:t>关键词：寻找平衡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cccc"/>
              </a:buClr>
              <a:buSzPct val="175000"/>
              <a:buFont typeface="华文行楷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2" marL="801720" indent="-31752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801720" indent="-31752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801720" indent="-31752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801720" indent="-31752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00"/>
                </a:solidFill>
                <a:latin typeface="Arial"/>
                <a:ea typeface="隶书"/>
              </a:rPr>
              <a:t>我们的共同追求：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-360" y="1989000"/>
            <a:ext cx="982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10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使每一位高中生成功！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使每一位高中教师成功！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使每一所高中学校成功！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3276720" y="2421000"/>
            <a:ext cx="3311280" cy="23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谢谢！</a:t>
            </a:r>
            <a:endParaRPr b="0" lang="en-US" sz="7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0" y="1295280"/>
            <a:ext cx="9144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90640" indent="0" algn="ctr">
              <a:lnSpc>
                <a:spcPct val="13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Arial"/>
                <a:ea typeface="楷体_GB2312"/>
              </a:rPr>
              <a:t>一、改革的背景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890640" indent="0" algn="ctr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890640" indent="0" algn="ctr">
              <a:lnSpc>
                <a:spcPct val="16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楷体_GB2312"/>
              </a:rPr>
              <a:t>1. 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楷体_GB2312"/>
              </a:rPr>
              <a:t>普通高中课程实施现状调查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24000" y="475920"/>
            <a:ext cx="820872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楷体_GB2312"/>
              </a:rPr>
              <a:t>二、普通高中课程方案与课程标准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133360" y="1752120"/>
            <a:ext cx="56386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38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楷体_GB2312"/>
              </a:rPr>
              <a:t>1. 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楷体_GB2312"/>
              </a:rPr>
              <a:t>课程改革的具体目标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238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楷体_GB2312"/>
              </a:rPr>
              <a:t>2. 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楷体_GB2312"/>
              </a:rPr>
              <a:t>普通高中培养目标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23880" indent="-623880">
              <a:lnSpc>
                <a:spcPct val="120000"/>
              </a:lnSpc>
              <a:spcBef>
                <a:spcPts val="901"/>
              </a:spcBef>
              <a:buClr>
                <a:srgbClr val="e3e3ff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楷体_GB2312"/>
              </a:rPr>
              <a:t>课程结构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23880" indent="-623880">
              <a:lnSpc>
                <a:spcPct val="120000"/>
              </a:lnSpc>
              <a:spcBef>
                <a:spcPts val="901"/>
              </a:spcBef>
              <a:buClr>
                <a:srgbClr val="e3e3ff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楷体_GB2312"/>
              </a:rPr>
              <a:t>课程标准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238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395280" y="2205000"/>
            <a:ext cx="829152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00"/>
                </a:solidFill>
                <a:latin typeface="Arial"/>
                <a:ea typeface="楷体_GB2312"/>
              </a:rPr>
              <a:t>三、回顾与反思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539640" y="1341360"/>
            <a:ext cx="792504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反思一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3e3ff"/>
                </a:solidFill>
                <a:latin typeface="楷体_GB2312"/>
                <a:ea typeface="楷体_GB2312"/>
              </a:rPr>
              <a:t>   </a:t>
            </a:r>
            <a:r>
              <a:rPr b="1" lang="zh-CN" sz="4000" spc="-1" strike="noStrike">
                <a:solidFill>
                  <a:srgbClr val="e3e3ff"/>
                </a:solidFill>
                <a:latin typeface="Times New Roman"/>
                <a:ea typeface="楷体_GB2312"/>
              </a:rPr>
              <a:t>追问—新课程“新”在哪里？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ll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0" y="761760"/>
            <a:ext cx="9144000" cy="55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3e3ff"/>
                </a:solidFill>
                <a:latin typeface="Arial"/>
              </a:rPr>
              <a:t>新课程“新”在哪里？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课程文化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课堂文化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教研文化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管理文化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楷体_GB2312"/>
              </a:rPr>
              <a:t>民主、开放、科学，平等、对话、协商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93560" y="266400"/>
            <a:ext cx="815832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3e3ff"/>
                </a:solidFill>
                <a:latin typeface="Arial"/>
              </a:rPr>
              <a:t>问题：实施新课程需要多久？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1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zh-CN" sz="4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-3 </a:t>
            </a:r>
            <a:r>
              <a:rPr b="1" lang="zh-CN" sz="4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年？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00"/>
              </a:spcBef>
              <a:buClr>
                <a:srgbClr val="e3e3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r>
              <a:rPr b="1" lang="zh-CN" sz="4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5-8 </a:t>
            </a:r>
            <a:r>
              <a:rPr b="1" lang="zh-CN" sz="4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年？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00"/>
              </a:spcBef>
              <a:buClr>
                <a:srgbClr val="e3e3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</a:t>
            </a:r>
            <a:r>
              <a:rPr b="1" lang="zh-CN" sz="4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50-100 </a:t>
            </a:r>
            <a:r>
              <a:rPr b="1" lang="zh-CN" sz="4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年？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539640" y="1341360"/>
            <a:ext cx="792504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反思二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3e3ff"/>
                </a:solidFill>
                <a:latin typeface="楷体_GB2312"/>
                <a:ea typeface="楷体_GB2312"/>
              </a:rPr>
              <a:t>   </a:t>
            </a:r>
            <a:r>
              <a:rPr b="1" lang="zh-CN" sz="4000" spc="-1" strike="noStrike">
                <a:solidFill>
                  <a:srgbClr val="e3e3ff"/>
                </a:solidFill>
                <a:latin typeface="Times New Roman"/>
                <a:ea typeface="楷体_GB2312"/>
              </a:rPr>
              <a:t>倾听—来自课程实践的呼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ll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>新课程 方案 课程标准</cp:keywords>
  <dc:language>en-US</dc:language>
  <cp:lastModifiedBy/>
  <cp:revision>0</cp:revision>
  <dc:subject/>
  <dc:title/>
</cp:coreProperties>
</file>