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10D-2008-4BE7-AC36-86FD2982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6768-2F23-47BE-8E01-E1346BC9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B86E-B583-4356-8C13-FA901260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1C6E-6830-45BD-A811-C8074889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AA3B-62A8-45A0-947F-461FA22E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6011-EB7D-4D1E-AFF2-3164FBE7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32B3-A1B4-4D63-B230-98FD8697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D1FE-5F35-41A5-B172-646E386A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549B-3A7F-4C86-BD6A-74F3D9A6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D776-667F-4699-A717-DFC0A236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BE1B-0B00-41CB-B8F5-517762C2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CE25-E015-4896-91C1-1A5DD027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0884-3CEB-4750-9FE7-101C1792563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FE077A5-C06B-4DCD-A5B9-4B242452BDE8}" type="datetime10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0:0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DCD3-847C-4FBD-9B7D-45E48C0C8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格式化和美化演示文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制作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、幻灯片格式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可以重新设置幻灯片文字和段落的格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文字格式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文字格式化操作一般是在幻灯片视图方式下进行，具体操作过程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对象格式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幻灯片中的对象除文字、段落外，还包括图片、文本框、表格等，对它们的格式化操作可通过“图片”工具栏、“绘图”工具栏或“格式”菜单的相应命令完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对象格式的复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可用“格式刷”按钮直接完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30001" b="88673"/>
          <a:stretch/>
        </p:blipFill>
        <p:spPr>
          <a:xfrm>
            <a:off x="685800" y="4762440"/>
            <a:ext cx="7772400" cy="1028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581280" y="5410080"/>
            <a:ext cx="304920" cy="3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4343400"/>
            <a:ext cx="380880" cy="1066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二、设置幻灯片外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使用母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幻灯片母版用于设置标题和主要文字的格式，包括其中文本的字体、字号、颜色和阴影等特殊效果。母版是为所有幻灯片设置默认的版式和格式，可以在每张幻灯片设定的位置上，出现默认的字体和图片，例如放在每张幻灯片或标题幻灯片上的图形。母版上的更改将反映在每张幻灯片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下只介绍“幻灯片母板”的设置，它用来控制除标题幻灯片以外的所有幻灯片的格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果要为幻灯片添加日期、编号等信息，可在“视图”菜单中打开“页眉和页脚”对话框进行相应设置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8001000" cy="4257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重新配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“格式”菜单中执行“幻灯片配色方案”命令，在出现的对话框中可对文本、背景、文字进行重新配色，单击“应用”只对当前幻灯片有效，而“全部应用”则对所有幻灯片起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0" r="0" b="9591"/>
          <a:stretch/>
        </p:blipFill>
        <p:spPr>
          <a:xfrm>
            <a:off x="609480" y="2666880"/>
            <a:ext cx="7925040" cy="3591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果对标准配色方案不满意，还可以在“自定义”中进行重新设置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480" y="1514520"/>
            <a:ext cx="8001000" cy="4429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应用设计模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打开“格式”菜单，选择“应用设计模板”出现下图所示的对话框，从中可以选择一种设计模板或已有的幻灯片，以此来选择统一的背景和配色方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2619360"/>
            <a:ext cx="8001000" cy="3705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操作练习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为所建立的自我演示文稿重新设置外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将文字设为红色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为幻灯片添加会自动更新的日期和时间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在“页脚区”输入作者姓名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为幻灯片添加编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采用空演示文稿的“文本和剪贴画”版式，建立演示文稿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3.PP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标题处填入“通告”，文本处内容自定，剪贴画处选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eeting.wm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图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对建立的演示文稿重新配色或应用一种模板来配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格式化 美化 演示文稿</cp:keywords>
  <dc:language>en-US</dc:language>
  <cp:lastModifiedBy/>
  <cp:revision>0</cp:revision>
  <dc:subject/>
  <dc:title/>
</cp:coreProperties>
</file>