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65530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590560" y="5001480"/>
            <a:ext cx="65530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48640" y="297144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590560" y="500148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948640" y="500148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210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6360" y="2971440"/>
            <a:ext cx="210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022160" y="2971440"/>
            <a:ext cx="210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590560" y="5001480"/>
            <a:ext cx="210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6360" y="5001480"/>
            <a:ext cx="210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022160" y="5001480"/>
            <a:ext cx="210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590560" y="297144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319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948640" y="2971440"/>
            <a:ext cx="319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Imprint MT Shad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998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48640" y="2971440"/>
            <a:ext cx="319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590560" y="500148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319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8640" y="297144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48640" y="500148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8640" y="297144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90560" y="5001480"/>
            <a:ext cx="65530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rint MT Shadow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90560" y="297144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00000"/>
              <a:buBlip>
                <a:blip r:embed="rId3"/>
              </a:buBlip>
            </a:pPr>
            <a:r>
              <a:rPr b="0" lang="en-US" sz="3200" spc="-1" strike="noStrike">
                <a:solidFill>
                  <a:srgbClr val="000000"/>
                </a:solidFill>
                <a:latin typeface="Imprint MT Shad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  <a:p>
            <a:pPr lvl="1" marL="676080" indent="-259920">
              <a:spcBef>
                <a:spcPts val="799"/>
              </a:spcBef>
              <a:buSzPct val="100000"/>
              <a:buBlip>
                <a:blip r:embed="rId4"/>
              </a:buBlip>
            </a:pPr>
            <a:r>
              <a:rPr b="0" lang="en-US" sz="3200" spc="-1" strike="noStrike">
                <a:solidFill>
                  <a:srgbClr val="000000"/>
                </a:solidFill>
                <a:latin typeface="Imprint MT Shad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  <a:p>
            <a:pPr lvl="2" marL="1040040" indent="-207720">
              <a:spcBef>
                <a:spcPts val="799"/>
              </a:spcBef>
              <a:buSzPct val="100000"/>
              <a:buBlip>
                <a:blip r:embed="rId5"/>
              </a:buBlip>
            </a:pPr>
            <a:r>
              <a:rPr b="0" lang="en-US" sz="3200" spc="-1" strike="noStrike">
                <a:solidFill>
                  <a:srgbClr val="000000"/>
                </a:solidFill>
                <a:latin typeface="Imprint MT Shad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  <a:p>
            <a:pPr lvl="3" marL="1455840" indent="-207720">
              <a:spcBef>
                <a:spcPts val="799"/>
              </a:spcBef>
              <a:buSzPct val="100000"/>
              <a:buBlip>
                <a:blip r:embed="rId6"/>
              </a:buBlip>
            </a:pPr>
            <a:r>
              <a:rPr b="0" lang="en-US" sz="3200" spc="-1" strike="noStrike">
                <a:solidFill>
                  <a:srgbClr val="000000"/>
                </a:solidFill>
                <a:latin typeface="Imprint MT Shad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  <a:p>
            <a:pPr lvl="4" marL="1872000" indent="-207720">
              <a:spcBef>
                <a:spcPts val="799"/>
              </a:spcBef>
              <a:buSzPct val="100000"/>
              <a:buBlip>
                <a:blip r:embed="rId7"/>
              </a:buBlip>
            </a:pPr>
            <a:r>
              <a:rPr b="0" lang="en-US" sz="3200" spc="-1" strike="noStrike">
                <a:solidFill>
                  <a:srgbClr val="000000"/>
                </a:solidFill>
                <a:latin typeface="Imprint MT Shad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  <a:p>
            <a:pPr lvl="5" marL="1872000" indent="-207720">
              <a:spcBef>
                <a:spcPts val="799"/>
              </a:spcBef>
              <a:buSzPct val="100000"/>
              <a:buBlip>
                <a:blip r:embed="rId8"/>
              </a:buBlip>
            </a:pPr>
            <a:r>
              <a:rPr b="0" lang="en-US" sz="3200" spc="-1" strike="noStrike">
                <a:solidFill>
                  <a:srgbClr val="000000"/>
                </a:solidFill>
                <a:latin typeface="Imprint MT Shad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  <a:p>
            <a:pPr lvl="6" marL="1872000" indent="-207720">
              <a:spcBef>
                <a:spcPts val="799"/>
              </a:spcBef>
              <a:buSzPct val="100000"/>
              <a:buBlip>
                <a:blip r:embed="rId9"/>
              </a:buBlip>
            </a:pPr>
            <a:r>
              <a:rPr b="0" lang="en-US" sz="3200" spc="-1" strike="noStrike">
                <a:solidFill>
                  <a:srgbClr val="000000"/>
                </a:solidFill>
                <a:latin typeface="Imprint MT Shad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51460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Imprint MT Shadow"/>
                <a:ea typeface="宋体"/>
              </a:rPr>
              <a:t>Theater</a:t>
            </a:r>
            <a:r>
              <a:rPr b="0" lang="en-US" sz="5400" spc="-1" strike="noStrike">
                <a:solidFill>
                  <a:srgbClr val="ffffff"/>
                </a:solidFill>
                <a:latin typeface="Imprint MT Shadow"/>
                <a:ea typeface="宋体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Imprint MT Shadow"/>
                <a:ea typeface="宋体"/>
              </a:rPr>
              <a:t>Presentation</a:t>
            </a:r>
            <a:endParaRPr b="0" lang="en-US" sz="54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39" name=""/>
          <p:cNvSpPr/>
          <p:nvPr/>
        </p:nvSpPr>
        <p:spPr>
          <a:xfrm>
            <a:off x="25236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6600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6600"/>
                </a:solidFill>
                <a:latin typeface="Times New Roman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220280" y="1125360"/>
            <a:ext cx="49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黑白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9840" y="837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rint MT Shadow"/>
                <a:ea typeface="宋体"/>
              </a:rPr>
              <a:t>Second Title Page</a:t>
            </a:r>
            <a:endParaRPr b="0" lang="en-US" sz="66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</a:pPr>
            <a:r>
              <a:rPr b="0" lang="en-US" sz="3200" spc="-1" strike="noStrike">
                <a:solidFill>
                  <a:srgbClr val="000000"/>
                </a:solidFill>
                <a:latin typeface="Imprint MT Shadow"/>
                <a:ea typeface="宋体"/>
              </a:rPr>
              <a:t>Add Subtopics Here</a:t>
            </a:r>
            <a:endParaRPr b="0" lang="en-US" sz="32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43" name=""/>
          <p:cNvSpPr/>
          <p:nvPr/>
        </p:nvSpPr>
        <p:spPr>
          <a:xfrm>
            <a:off x="2629080" y="602136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Imprint MT Shadow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rint MT Shadow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rint MT Shad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rint MT Shadow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Imprint MT Shadow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Imprint MT Shadow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Imprint MT Shad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rint MT Shadow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Imprint MT Shad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rint MT Shadow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Imprint MT Shad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rint MT Shadow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Imprint MT Shad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rint MT Shadow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Imprint MT Shad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rint MT Shadow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Imprint MT Shad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rint MT Shadow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Imprint MT Shadow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Imprint MT Shadow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Imprint MT Shadow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Imprint MT Shadow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Imprint MT Shadow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Imprint MT Shadow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Imprint MT Shadow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rint MT Shadow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rint MT Shadow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Imprint MT Shad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rint MT Shadow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rint MT Shadow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Imprint MT Shad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422440" y="657360"/>
            <a:ext cx="62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rint MT Shadow"/>
              </a:rPr>
              <a:t>Use This Page For Prin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Z:\newtek\_backgrounds_1.02\Ryan\Power Point Templates\Theater Presentation\Black_mask_element.jpg"/>
          <p:cNvPicPr/>
          <p:nvPr/>
        </p:nvPicPr>
        <p:blipFill>
          <a:blip r:embed="rId1"/>
          <a:stretch/>
        </p:blipFill>
        <p:spPr>
          <a:xfrm>
            <a:off x="5791320" y="0"/>
            <a:ext cx="1831680" cy="2590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Z:\newtek\_backgrounds_1.02\Ryan\Power Point Templates\Theater Presentation\mask_bullet.gif"/>
          <p:cNvPicPr/>
          <p:nvPr/>
        </p:nvPicPr>
        <p:blipFill>
          <a:blip r:embed="rId2"/>
          <a:stretch/>
        </p:blipFill>
        <p:spPr>
          <a:xfrm>
            <a:off x="2743200" y="2209680"/>
            <a:ext cx="2397240" cy="2590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Z:\newtek\_backgrounds_1.02\Ryan\Power Point Templates\Theater Presentation\Master_backround.jpg"/>
          <p:cNvPicPr/>
          <p:nvPr/>
        </p:nvPicPr>
        <p:blipFill>
          <a:blip r:embed="rId3"/>
          <a:stretch/>
        </p:blipFill>
        <p:spPr>
          <a:xfrm>
            <a:off x="0" y="2209680"/>
            <a:ext cx="2743200" cy="2194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Z:\newtek\_backgrounds_1.02\Ryan\Power Point Templates\Theater Presentation\Printable_backround.jpg"/>
          <p:cNvPicPr/>
          <p:nvPr/>
        </p:nvPicPr>
        <p:blipFill>
          <a:blip r:embed="rId4"/>
          <a:stretch/>
        </p:blipFill>
        <p:spPr>
          <a:xfrm>
            <a:off x="0" y="4419720"/>
            <a:ext cx="2743200" cy="219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Z:\newtek\_backgrounds_1.02\Ryan\Power Point Templates\Theater Presentation\Title_backround2.jpg"/>
          <p:cNvPicPr/>
          <p:nvPr/>
        </p:nvPicPr>
        <p:blipFill>
          <a:blip r:embed="rId5"/>
          <a:stretch/>
        </p:blipFill>
        <p:spPr>
          <a:xfrm>
            <a:off x="2743200" y="0"/>
            <a:ext cx="2743200" cy="219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Z:\newtek\_backgrounds_1.02\Ryan\Power Point Templates\Theater Presentation\Transition_backround.jpg"/>
          <p:cNvPicPr/>
          <p:nvPr/>
        </p:nvPicPr>
        <p:blipFill>
          <a:blip r:embed="rId6"/>
          <a:stretch/>
        </p:blipFill>
        <p:spPr>
          <a:xfrm>
            <a:off x="0" y="0"/>
            <a:ext cx="2743200" cy="2195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Z:\newtek\_backgrounds_1.02\Ryan\Power Point Templates\Theater Presentation\White_mask_element.jpg"/>
          <p:cNvPicPr/>
          <p:nvPr/>
        </p:nvPicPr>
        <p:blipFill>
          <a:blip r:embed="rId7"/>
          <a:stretch/>
        </p:blipFill>
        <p:spPr>
          <a:xfrm>
            <a:off x="5943600" y="2666880"/>
            <a:ext cx="1790640" cy="2514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4494600" y="579132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lements For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06:08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0:25:4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